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46E-E49B-4ADD-A05C-1753045B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18B-AF8E-4520-9E29-CFE2BBC5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34B7-659C-4F35-AB4C-6995F4B4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8CF0-BDB6-4B32-A20F-E6D0A5F5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A477-3907-43DB-BFA4-DB9F505F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4DDE-E2CE-4996-97EE-9C0FEA90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4DA1-C939-445D-82E8-CF890378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8755-208E-452D-9B09-078C93B8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4A67-F777-4F81-AD8D-2F6B24D8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156C-2082-4903-896A-0192D2B6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E514-965C-4D98-89DD-8E72EE93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9A5-4F24-4483-8984-645B9567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A147-31CC-49F4-A456-0E3A008E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D576-3B8A-47A6-91A1-9320A19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2D2B2-9CEC-47B2-AA12-56DBC257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D67F-2D6A-437A-926F-DB43A97F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F00-7F44-4A9C-BF49-DBBFA2D3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DBD-790C-463A-BE5B-5C107B76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B2E-773E-454B-84FC-7C32B371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5E0-D35F-4F9E-AFFE-9C4A3B72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37E5-E975-468F-9FE0-6C495657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FF0-215F-4161-92C0-899251A6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DA59-42F1-4C26-959A-77337EC4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6960-4C9D-4774-A045-2DC67A2A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B22E-D347-4B9E-934D-8E35994297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802C-1CD3-4F49-95CC-50707BC4F5A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The World Census of Agriculture 2010 Programme :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 Modular Approa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5157720"/>
            <a:ext cx="35290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Jack Colwell</a:t>
            </a:r>
            <a:br>
              <a:rPr sz="1800"/>
            </a:br>
            <a:r>
              <a:rPr b="1" lang="en-GB" sz="1800" spc="-1" strike="noStrike">
                <a:solidFill>
                  <a:srgbClr val="003366"/>
                </a:solidFill>
                <a:latin typeface="Arial"/>
              </a:rPr>
              <a:t>Hiek Som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O Statistics Divis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XSAI, November 2004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635280" y="5300640"/>
            <a:ext cx="1411560" cy="141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C606-FEDF-4EA1-BED5-95846C8E9E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ssues for countries in developing core and supplementary mod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5640" y="2781360"/>
            <a:ext cx="71946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ore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recommended minimum set of 16 core item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additional items from recommended sample items as required for national nee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clude additional items needed for sampling frame purpos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Supplementary mod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 topics for survey(s) from recommended  headings and items, according to data need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ne survey may cover items from different heading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lect sample based on census frame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848-6756-4FEC-866F-6D94118B87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unity-level d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2010 will include community-level data, such a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hether the community is prone to natural disast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vailability of services such as roads, electricity, health facilities and school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presence of agricultural produce market and agricultural input supplier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conomic activities in the communit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existence of farmers’ organizations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vailability of public grazing lan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Community-level data are of interest in their own right, as well as for analysis of relationships with agricultural holding data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724-9214-46F1-9061-8431FC3BB1F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anges in the sc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0000" y="256500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st items in previous programmes will be included in the 2010 round. Some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tems are included for the first time: Community-level data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,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ervice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ther changes concern concepts and definitions, for instance 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gricultural holding: reviewed to ensure consistency with national accounting standard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activity status and employment: changed to better reflect the structure of employment in rural areas and to be consistent with ILO standa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ructured classifications provided for crop type and, for the first time, for livestock type and type of machiner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59B-01A0-4C24-8E42-AE63EA84016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ordination of agricultural census and population cens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CA 2010 encourages countries to coordinate population and agricultural censu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of standard concepts and definition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haring of operational materials such as map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Use of population census as frame for agricultural censu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llecting additional data in the population census to help 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agricultural census.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ordinating the two data collection oper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nking data from the two census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39B-0729-44A2-A401-03671AC3E4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79250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tegy for agricultural survey program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urvey programme inclu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rveys for current agricultural statistics such as cro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od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pecial in-depth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urveys to be done using agricultural census as a fra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mes to be developed for the survey program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need for these surveys to be taken into account in design of core census modul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0490-68C6-4C4F-B97D-AC21D9CB4D0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836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tages of the WCA 2010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55280" y="2349360"/>
            <a:ext cx="381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Previous probl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 cost and demands on resources.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ifficulty meeting demands for more da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mplexity of some census topic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ordination with population cens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ntegration with agricultural statistics program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lusion of all rural househol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2349360"/>
            <a:ext cx="396072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WCA 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odular approach: small core module plus sample modu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an collect more data through use of sampl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ver in more depth in supplementary module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uidelines for coordination provide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ensus and survey development integrated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tion provided to expand scop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350028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407664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98560" y="4653000"/>
            <a:ext cx="777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00000" y="515772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5734080"/>
            <a:ext cx="777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B66-E5D3-49F2-8A43-BE7ED7CA94F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C05-FEDB-4472-8840-F9FC09C30CBA}" type="slidenum">
              <a:t>16</a:t>
            </a:fld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is WCA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50840" y="2707920"/>
            <a:ext cx="76248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is a world-wide programme of agricultural censuses promoted by FA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Over 100 countries participate in the programm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WCA is a ten-yearly program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started in 1930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2000 programme covers 1996-2005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</a:rPr>
              <a:t>now preparing 2010 programme covering 2006-2015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AO Role in WC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ssues guidelines on data items, concepts, classifications, tables, etc. for countr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rovides technical assistance for countries in conducting agricultural census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1209600" indent="-49536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ummarizes census data obtained from countries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7FA-6E35-4D44-AAD3-5476A09865C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in aims of an agricultural cens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50480" y="2978280"/>
            <a:ext cx="7194600" cy="26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data on the structure of agricultural holdings for policy-making and planning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a sampling frame for agricultural survey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data for small administrative units and other finely classified data such as minor crop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52440" indent="-3524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 provide benchmarks to improve current crop and livestock production estimat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C927-6C2E-4DBE-BA1C-AC46993E749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62028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Issues in past WCA programm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2420640"/>
            <a:ext cx="8202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igh cost and demands on technical and other resourc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to satisfy demand for more data, such as food security and gend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mplexity of topics such as food security, and difficulties in collecting these in an agricultural census.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ed for coordination with population censu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eed for integration of agricultural census with current agricultural statistic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ther agricultural census should cover agricultural holdings or all rural househol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tistical terminology in “censuses” based on sample enumeration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389C-394D-4177-B4FC-6A8FBEBA91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approach for WCA 201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census to be undertaken within the framework of the whole agricultural survey programm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Agricultural census: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provides basic structural data and sampling frames for agricultural surveys. Census to be done in modules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re census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ensus supplementary modu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Agricultural survey programme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: covers various ongoing and in-depth surveys to be undertaken after the agricultural census, using the census as a fram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7E9-DEBC-41CE-BA01-647D35663352}" type="slidenum">
              <a:t>5</a:t>
            </a:fld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05680" y="1031040"/>
            <a:ext cx="810180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utline of WCA 2010 programm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14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349360"/>
          <a:ext cx="5488200" cy="411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349360"/>
                    <a:ext cx="5488200" cy="41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4221000"/>
            <a:ext cx="10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Data topics or them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619280" y="3573000"/>
            <a:ext cx="360360" cy="5763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653000"/>
            <a:ext cx="360360" cy="720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EED1-5E0F-4172-92FD-D1F10FF98F7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1052640"/>
            <a:ext cx="79250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trategy for agricultural census compon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8055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ore census modu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one on complete enumeration or large sample basi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mited data to be included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key data required by the count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needed for sampling frames for agricultural surv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for international comparis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+  data to be finely classified – e.g., by administrative uni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66"/>
                </a:solidFill>
                <a:uFillTx/>
                <a:latin typeface="Arial"/>
              </a:rPr>
              <a:t>Census supplementary module(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llection of more detailed data for sub-samples selected from core census modul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ountries select topics for census supplementary modules according to need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07172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EBC-C8CF-41F3-9F5A-0C0A8BE6AAB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ricultural census componen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minimum items for core mod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7440" y="2614680"/>
            <a:ext cx="338328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dentification/location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ype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ex of ho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e of ho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usehold siz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in purpose of produ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rea of holding according to land use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otal area of hol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and tenure typ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61080" y="2565360"/>
            <a:ext cx="338292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temporary crops by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permanent crops by type and whether in compact pla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number of animals by livestock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resence of aquacult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esence of forest trees and other wooded la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 economic activiti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ether holding is a “farm household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352-2B61-48F8-A4D8-02BF2968697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76464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gricultural census component: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commended items for sample enume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69480" y="3139920"/>
            <a:ext cx="376884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and (7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ater (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Crops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ivestock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practices (8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gricultural services (1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emography (6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8920" y="3139920"/>
            <a:ext cx="37688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conomic activity of household members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usehold food security (6)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quaculture (5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orestry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Management of the holding (4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71640" y="2565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80 proposed items under 12 main head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395-C9D8-4F16-A646-0701BBA2AB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09:49:41Z</dcterms:created>
  <dc:creator>Colwell, Jack (ESSS)</dc:creator>
  <dc:description/>
  <dc:language>en-US</dc:language>
  <cp:lastModifiedBy>Som, Hiek (ESSS)</cp:lastModifiedBy>
  <dcterms:modified xsi:type="dcterms:W3CDTF">2004-10-29T13:28:25Z</dcterms:modified>
  <cp:revision>56</cp:revision>
  <dc:subject/>
  <dc:title>WORLD CENSUS OF AGRICULTURE PROGRAM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58331461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2</vt:lpwstr>
  </property>
</Properties>
</file>