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AEF-D7AB-4C61-B988-D9B02D33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F63-D5E5-44A7-9638-81C0935A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C54-EC17-4FBE-B5C8-223F8A2B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37C-F2F7-4985-BFB3-3883A3F8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4AB6-EFF4-48FF-9205-D49B8B2C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B025-99D0-4E31-BAD5-FB432CA2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46E7-EEAF-46C2-A011-78D630CB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BAA1-7074-4405-9EF3-164523B3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0E63-3BBF-48A0-B216-5ACDBF4F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0FFF-76F3-495A-A967-2B245B6B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67B9-2E48-4C03-81D8-14654912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985-A603-4D23-A785-910CBD2A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7A6B-0C80-45B0-8BEF-EA52561C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D055-8C72-4020-A13F-88807B5C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8D50-ED7A-4033-A69A-1A1BB9F0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8D06-5289-46B4-AEFA-BBBCD532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8EC1-D604-4AE9-8AD5-E83A77C2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2D7A-00A2-4406-8E81-5638AF6F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2B3-D310-4C17-B7A0-3FD7D4AD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30B0-53E8-4E41-A24D-E56F55A4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E1F-24D1-453C-8B69-0BB724BE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AB6-E8A9-4CC1-A248-0A13B24B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1E58-8BE5-4528-926E-30E0A5A0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A24-D1CF-4D90-AA4C-4E0AB63B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FC3A-993D-48E2-9566-9F1D8AA47C8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1C07-5C5A-4137-BF2A-B565FE5DE5F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The World Census of Agriculture 2010 Programme :</a:t>
            </a:r>
            <a:br>
              <a:rPr sz="3600"/>
            </a:b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a Modular Approa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5157720"/>
            <a:ext cx="3529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Jack Colwell</a:t>
            </a:r>
            <a:br>
              <a:rPr sz="1800"/>
            </a:b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Hiek So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AO Statistics Divis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XSAI, November 200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635280" y="530064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C38E-4384-46E5-9B9A-B43971EC1B9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ssues for countries in developing core and supplementary mod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5640" y="2781360"/>
            <a:ext cx="7194600" cy="35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</a:rPr>
              <a:t>Core modu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lude recommended minimum set of 16 core item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lude additional items from recommended sample items as required for national need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lude additional items needed for sampling frame purpos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</a:rPr>
              <a:t>Supplementary modu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lect topics for survey(s) from recommended  headings and items, according to data need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ne survey may cover items from different heading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lect sample based on census frame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81B-C242-42AC-B80A-B12396CC6E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unity-level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WCA 2010 will include community-level data, such a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whether the community is prone to natural disast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vailability of services such as roads, electricity, health facilities and schoo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resence of agricultural produce market and agricultural input suppli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economic activities in the commun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existence of farmers’ organization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vailability of public grazing la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mmunity-level data are of interest in their own right, as well as for analysis of relationships with agricultural holding data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476-9E36-43EE-9A82-49126082727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es in the sco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st items in previous programmes will be included in the 2010 round. Some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tems are included for the first time: Community-level dat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,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gricultural servic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ther changes concern concepts and definitions, for instance 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gricultural holding: reviewed to ensure consistency with national accounting standard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ctivity status and employment: changed to better reflect the structure of employment in rural areas and to be consistent with ILO standa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tructured classifications provided for crop type and, for the first time, for livestock type and type of machine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ADA8-1AB7-49F1-BACD-A7A53ECDFED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ordination of agricultural census and population cens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CA 2010 encourages countries to coordinate population and agricultural census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Use of standard concepts and defini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haring of operational materials such as map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Use of population census as frame for agricultural censu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llecting additional data in the population census to help 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he agricultural census.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ordinating the two data collection opera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ing data from the two census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572D-BA1C-4C35-8C68-A706F8016DA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920" y="1052640"/>
            <a:ext cx="792504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rategy for agricultural survey program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gricultural survey programme include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urveys for current agricultural statistics such as crop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odu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pecial in-depth surve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urveys to be done using agricultural census as a fram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hemes to be developed for the survey programm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he need for these surveys to be taken into account in design of core census modul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C3F-E335-4624-880F-F8914F8E20F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tages of the WCA 2010 approa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280" y="2349360"/>
            <a:ext cx="38163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</a:rPr>
              <a:t>Previous proble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igh cost and demands on resources.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ifficulty meeting demands for more dat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mplexity of some census topic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ordination with population censu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tegration with agricultural statistics programm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lusion of all rural household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2360" y="2349360"/>
            <a:ext cx="3960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</a:rPr>
              <a:t>WCA 20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odular approach: small core module plus sample modu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an collect more data through use of sampling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ver in more depth in supplementary modu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Guidelines for coordination provided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ensus and survey development integrated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tion provided to expand scop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500280"/>
            <a:ext cx="777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4076640"/>
            <a:ext cx="777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98560" y="4653000"/>
            <a:ext cx="7777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5157720"/>
            <a:ext cx="777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5734080"/>
            <a:ext cx="777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1BC-2170-4203-B203-02A1EC9A569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02A-B41C-4441-BC2F-F5F18B1C11FE}" type="slidenum">
              <a:t>16</a:t>
            </a:fld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hat is WCA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50840" y="2707920"/>
            <a:ext cx="76248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WCA is a world-wide programme of agricultural censuses promoted by FA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Over 100 countries participate in the programm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WCA is a ten-yearly program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1209600" indent="-4953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started in 193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209600" indent="-4953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2000 programme covers 1996-2005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209600" indent="-4953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now preparing 2010 programme covering 2006-20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AO Role in WCA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1209600" indent="-4953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ssues guidelines on data items, concepts, classifications, tables, etc. for countri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209600" indent="-4953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vides technical assistance for countries in conducting agricultural census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209600" indent="-4953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ummarizes census data obtained from countri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03F-467C-4530-92F4-4E0514A0541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in aims of an agricultural cens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50480" y="2978280"/>
            <a:ext cx="7194600" cy="26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o provide data on the structure of agricultural holdings for policy-making and planning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2440" indent="-3524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o provide a sampling frame for agricultural survey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2440" indent="-3524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o provide data for small administrative units and other finely classified data such as minor crop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2440" indent="-3524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o provide benchmarks to improve current crop and livestock production estimat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AB9-2C77-46AA-A6C5-64101E2C881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620280"/>
            <a:ext cx="82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ssues in past WCA program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2420640"/>
            <a:ext cx="8202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igh cost and demands on technical and other resourc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ow to satisfy demand for more data, such as food security and gend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mplexity of topics such as food security, and difficulties in collecting these in an agricultural census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eed for coordination with population censu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eed for integration of agricultural census with current agricultural statistic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ther agricultural census should cover agricultural holdings or all rural household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tistical terminology in “censuses” based on sample enumera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740-A58F-4948-A1BE-4FD4AB6A02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ic approach for WCA 201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gricultural census to be undertaken within the framework of the whole agricultural survey programm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</a:rPr>
              <a:t>Agricultural censu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provides basic structural data and sampling frames for agricultural surveys. Census to be done in module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re census modu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ensus supplementary modu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</a:rPr>
              <a:t>Agricultural survey programme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covers various ongoing and in-depth surveys to be undertaken after the agricultural census, using the census as a fram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4E4-C10E-49B3-82E0-DA576E00541D}" type="slidenum">
              <a:t>5</a:t>
            </a:fld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05680" y="1031040"/>
            <a:ext cx="810180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utline of WCA 2010 program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14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349360"/>
          <a:ext cx="5488200" cy="411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349360"/>
                    <a:ext cx="5488200" cy="41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4221000"/>
            <a:ext cx="10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Data topics or them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619280" y="3573000"/>
            <a:ext cx="360360" cy="5763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4653000"/>
            <a:ext cx="360360" cy="7207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767-3D63-43B7-8422-E3A962EE657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1052640"/>
            <a:ext cx="792504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rategy for agricultural census compon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</a:rPr>
              <a:t>Core census modu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one on complete enumeration or large sample basi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mited data to be included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+  key data required by the count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+  data needed for sampling frames for agricultural surve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+  data for international compariso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+  data to be finely classified – e.g., by administrative uni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</a:rPr>
              <a:t>Census supplementary module(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llection of more detailed data for sub-samples selected from core census modu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untries select topics for census supplementary modules according to need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3AB-2364-46D2-AA89-D814B8D25E3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5327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ricultural census component: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ommended minimum items for core mod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7440" y="2614680"/>
            <a:ext cx="3383280" cy="35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dentification/location of hold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ype of hold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x of hold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ge of hold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ousehold siz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in purpose of produ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rea of holding according to land use typ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otal area of hold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and tenure typ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61080" y="2565360"/>
            <a:ext cx="338292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esence of temporary crops by typ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esence of permanent crops by type and whether in compact pla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umber of animals by livestock typ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esence of aquacul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esence of forest trees and other wooded l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her economic activiti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ther holding is a “farm household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704-A782-4D12-82F4-85AC0AC1752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ricultural census component: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ommended items for sample enume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69480" y="3139920"/>
            <a:ext cx="376884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and (7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ater (6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rops (1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vestock (1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gricultural practices (8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gricultural services (1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emography (6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58920" y="3139920"/>
            <a:ext cx="37688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conomic activity of household members (4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ousehold food security (6)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quaculture (5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Forestry (4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agement of the holding (4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2565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0 proposed items under 12 main heading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7B99-6767-4218-BBC1-5DD849E5D79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09:49:41Z</dcterms:created>
  <dc:creator>Colwell, Jack (ESSS)</dc:creator>
  <dc:description/>
  <dc:language>en-US</dc:language>
  <cp:lastModifiedBy>Som, Hiek (ESSS)</cp:lastModifiedBy>
  <dcterms:modified xsi:type="dcterms:W3CDTF">2004-10-29T13:28:25Z</dcterms:modified>
  <cp:revision>56</cp:revision>
  <dc:subject/>
  <dc:title>WORLD CENSUS OF AGRICULTURE PROGRAM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3314618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11:30 room 2</vt:lpwstr>
  </property>
</Properties>
</file>