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E8C-169C-4E38-85DF-AFFA345A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3E5-1950-44D1-96E2-287F48C5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90BD-C4F7-4BEA-899F-FA1595E4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B93-14B9-4E47-999B-2F0CB928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1A0C-DD21-46D5-8D1A-87EA0D84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898E-DA26-463F-8F77-BC53F0DF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B545-17D3-4C37-8A2B-FF9CDC0F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B471-2088-4EFE-88CB-3DF26C2D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60B4-C070-4E8A-92A6-D2C63617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3CB7-8AA4-4693-9FFA-E9A1EE38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55ED-A66C-49BF-A98C-3801C6BA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1265-2898-4DB1-A26B-92B80839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9EF2-EA3D-49FA-AEFF-E32AE5EB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A6E7B-0320-4817-AFC7-56938612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96D5-381F-4A2D-B195-4DCA3D80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8925-DB06-49D2-9FC3-96B2523B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1EF5-EB33-4D21-999C-8C9C24A0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123-F7DB-4379-AD3D-25E34CF5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D9B-F9F0-4B30-9548-48D509E1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AB9-2A54-4B4F-98A7-014A6EF5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753-4EB2-48AA-A8DB-56445D6B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275C-6A30-49D3-90B5-582E9D8A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7625-BAAA-46F0-9BDC-904CCE94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757-A797-4A46-99C8-83944D8F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FBAC-3F84-415F-AE8B-92401D5E29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3CAD-3EB7-461B-8C68-2F111997967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483920"/>
            <a:ext cx="8785440" cy="5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WCA 2000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3141720"/>
            <a:ext cx="76312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PRESENTATION OUTL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Improved data collection regarding human and socio-economic facto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Unicode MS"/>
              </a:rPr>
              <a:t>Results from selected countr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0010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684360" y="1680120"/>
            <a:ext cx="76690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3 - Distribution of areas cultivated by crop and by sex of Head of   Household and Plot Managers</a:t>
            </a:r>
            <a:r>
              <a:rPr b="0" lang="en-GB" sz="14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RKINA FAS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ource: ENSA 1993, Burkina Fa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83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Impact of introduction of sub-holder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00000" y="2421000"/>
          <a:ext cx="7667280" cy="3598560"/>
        </p:xfrm>
        <a:graphic>
          <a:graphicData uri="http://schemas.openxmlformats.org/drawingml/2006/table">
            <a:tbl>
              <a:tblPr/>
              <a:tblGrid>
                <a:gridCol w="1376280"/>
                <a:gridCol w="1048320"/>
                <a:gridCol w="1049040"/>
                <a:gridCol w="1048320"/>
                <a:gridCol w="1048680"/>
                <a:gridCol w="1048320"/>
                <a:gridCol w="1048320"/>
              </a:tblGrid>
              <a:tr h="7189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d of Household/sex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llective cultiv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ot Manager/se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dividual cultivatio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m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ll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oundn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uandzu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ite sorgh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 sorgh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b)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499"/>
              </a:spcBef>
              <a:buClr>
                <a:srgbClr val="cc0000"/>
              </a:buClr>
              <a:buSzPct val="65000"/>
              <a:buFont typeface="Verdan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Urgent need to overcome general lack of gender specific dat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WFS, 1996, recognised fundamental contribution women to food security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hanging role Government: central decision maker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facilitator of private sector involvement and decentralised decision-mak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ed to respond to recent emergencies: poverty, food insecurity, HIV/AI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6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mproved data collection regarding human and socio-economic factors</a:t>
            </a:r>
            <a:r>
              <a:rPr b="1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ender-sensitive data reflects diverse situation of men and women in the agrarian economy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need to verify gender biases i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Agricultural holding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concept of sub-holder / field manag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Head of Household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minimum presence of 6 months/year &amp; interviewer trai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Agricultural labour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difficulty to distinguish between women’s productive and household activ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2472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esults from selected countries</a:t>
            </a:r>
            <a:r>
              <a:rPr b="1" lang="en-GB" sz="3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nclude need for gender specific data in census obj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ed for fine-tuning sub-holder concept, training and revision of analytical framework with regard to gender concer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Sub-holder concept one of most important innovations in 2000 WCA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allows for intra-household gender analysis of agricultural produ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ata producers and users need further training in gender concepts to increase demand for / use of gender specific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1120" y="333000"/>
            <a:ext cx="864252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FIRST</a:t>
            </a:r>
            <a:r>
              <a:rPr b="0" lang="en-GB" sz="2000" spc="-1" strike="noStrike">
                <a:solidFill>
                  <a:srgbClr val="cc0000"/>
                </a:solidFill>
                <a:latin typeface="Verdana"/>
              </a:rPr>
              <a:t>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eed to strengthen capacities of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Statistician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for gender explicit analysis of agricultural da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Verdana"/>
              </a:rPr>
              <a:t>Development planner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use available data for gender specific plann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7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Verdana"/>
              </a:rPr>
              <a:t>SECOND –</a:t>
            </a:r>
            <a:r>
              <a:rPr b="0" lang="en-GB" sz="2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COGNITION NEED FOR DATA AT SUB-NATIONAL 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is will illustrate regional differences i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gricultural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eminisation of agricultural sector  in Af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475880" y="1814400"/>
            <a:ext cx="4330800" cy="3681000"/>
            <a:chOff x="4475880" y="1814400"/>
            <a:chExt cx="4330800" cy="3681000"/>
          </a:xfrm>
        </p:grpSpPr>
        <p:sp>
          <p:nvSpPr>
            <p:cNvPr id="99" name=""/>
            <p:cNvSpPr/>
            <p:nvPr/>
          </p:nvSpPr>
          <p:spPr>
            <a:xfrm>
              <a:off x="6409800" y="1814400"/>
              <a:ext cx="72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9400" y="2146320"/>
              <a:ext cx="109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85+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14760" y="231912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80 - 8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14760" y="250056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75 - 7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41760" y="2676240"/>
              <a:ext cx="180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70 -7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14760" y="285264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65 - 6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14760" y="302616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60 - 6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14760" y="320832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55 - 5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14760" y="338184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50 - 5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14760" y="356184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45 - 4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14760" y="373536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40 - 4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14760" y="391752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35 - 3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14760" y="409068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30 - 3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14760" y="426924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25 - 2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14760" y="4441320"/>
              <a:ext cx="198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20 - 2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41760" y="4622760"/>
              <a:ext cx="1807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15 -1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87040" y="4797720"/>
              <a:ext cx="2170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.10 - 1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87840" y="4978440"/>
              <a:ext cx="14688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.5 - 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70280" y="5149800"/>
              <a:ext cx="921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&gt; 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17120" y="2098080"/>
              <a:ext cx="50760" cy="177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3800" y="2275560"/>
              <a:ext cx="77400" cy="176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52680" y="2452320"/>
              <a:ext cx="151560" cy="176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93280" y="2628720"/>
              <a:ext cx="252000" cy="177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33880" y="2805840"/>
              <a:ext cx="375480" cy="176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87800" y="2982960"/>
              <a:ext cx="518760" cy="176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46040" y="3159360"/>
              <a:ext cx="546120" cy="177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05360" y="3336480"/>
              <a:ext cx="761400" cy="176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00680" y="3513600"/>
              <a:ext cx="848160" cy="176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97160" y="3690000"/>
              <a:ext cx="852840" cy="177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60440" y="3867120"/>
              <a:ext cx="1096200" cy="176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6560" y="4044240"/>
              <a:ext cx="931320" cy="176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74120" y="4220640"/>
              <a:ext cx="1008720" cy="176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04560" y="4397400"/>
              <a:ext cx="1004760" cy="177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77240" y="4574520"/>
              <a:ext cx="1633320" cy="176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72080" y="4750920"/>
              <a:ext cx="2954160" cy="1767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44680" y="4928040"/>
              <a:ext cx="3762000" cy="17712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05280" y="5105160"/>
              <a:ext cx="2683440" cy="1760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7049160" y="2098080"/>
              <a:ext cx="360" cy="3183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96080" y="5321880"/>
              <a:ext cx="1911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M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920720" y="5323320"/>
              <a:ext cx="293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Fema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75880" y="5419080"/>
              <a:ext cx="7034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Scale maximum = 9000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468360" y="981000"/>
            <a:ext cx="842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Figure 1 - Sex and age disaggregation of agricultural population – Gui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ource: Recensement national agricole, 2000 -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0" y="1773360"/>
            <a:ext cx="4344480" cy="3841560"/>
            <a:chOff x="0" y="1773360"/>
            <a:chExt cx="4344480" cy="3841560"/>
          </a:xfrm>
        </p:grpSpPr>
        <p:sp>
          <p:nvSpPr>
            <p:cNvPr id="142" name=""/>
            <p:cNvSpPr/>
            <p:nvPr/>
          </p:nvSpPr>
          <p:spPr>
            <a:xfrm>
              <a:off x="2358360" y="1773360"/>
              <a:ext cx="80244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3240" y="2112480"/>
              <a:ext cx="12276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85+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600" y="228960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80 - 8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600" y="247284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75 - 7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9120" y="2649960"/>
              <a:ext cx="20484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70 -7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00" y="283392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65 - 6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00" y="300996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60 - 6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600" y="319392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55 - 5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600" y="337104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50 - 5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600" y="355428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45 - 4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9600" y="373140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40 - 4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600" y="391536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35 - 3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9600" y="409176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30 - 3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600" y="427572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25 - 2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600" y="4452480"/>
              <a:ext cx="2250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20 - 2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120" y="4636080"/>
              <a:ext cx="20484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15 -1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080" y="4812840"/>
              <a:ext cx="24516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.10 - 14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9160" y="4997160"/>
              <a:ext cx="16452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.5 - 9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7720" y="5173200"/>
              <a:ext cx="10224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&gt; 5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44640" y="2062800"/>
              <a:ext cx="5472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39240" y="2243160"/>
              <a:ext cx="6912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04680" y="2423520"/>
              <a:ext cx="108720" cy="179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60040" y="2603520"/>
              <a:ext cx="19332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00640" y="2783880"/>
              <a:ext cx="27288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541600" y="2964600"/>
              <a:ext cx="435600" cy="179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61040" y="3144240"/>
              <a:ext cx="38592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07040" y="3324960"/>
              <a:ext cx="57456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37560" y="3505320"/>
              <a:ext cx="697680" cy="179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51960" y="3684960"/>
              <a:ext cx="81252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46920" y="3865680"/>
              <a:ext cx="93636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42600" y="4046040"/>
              <a:ext cx="965520" cy="179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63400" y="4225680"/>
              <a:ext cx="119808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13360" y="4406400"/>
              <a:ext cx="109008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72360" y="4586760"/>
              <a:ext cx="1664640" cy="179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36120" y="4766760"/>
              <a:ext cx="223416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5080" y="4947120"/>
              <a:ext cx="3299400" cy="18036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7360" y="5127840"/>
              <a:ext cx="2744640" cy="179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774160" y="2062440"/>
              <a:ext cx="360" cy="324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28200" y="5349960"/>
              <a:ext cx="34488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Ma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6280" y="5349960"/>
              <a:ext cx="606240" cy="23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</a:rPr>
                <a:t>Fema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5448960"/>
              <a:ext cx="83664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500" spc="-1" strike="noStrike">
                  <a:solidFill>
                    <a:srgbClr val="000000"/>
                  </a:solidFill>
                  <a:latin typeface="Arial"/>
                </a:rPr>
                <a:t>Scale maximum = 800000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8000" y="1628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ui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56360" y="162864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be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350028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458136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98640" y="164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250920" y="1773360"/>
          <a:ext cx="8610480" cy="4044960"/>
        </p:xfrm>
        <a:graphic>
          <a:graphicData uri="http://schemas.openxmlformats.org/drawingml/2006/table">
            <a:tbl>
              <a:tblPr/>
              <a:tblGrid>
                <a:gridCol w="687240"/>
                <a:gridCol w="358920"/>
                <a:gridCol w="360360"/>
                <a:gridCol w="361800"/>
                <a:gridCol w="358920"/>
                <a:gridCol w="360360"/>
                <a:gridCol w="360360"/>
                <a:gridCol w="358560"/>
                <a:gridCol w="362160"/>
                <a:gridCol w="360360"/>
                <a:gridCol w="358560"/>
                <a:gridCol w="362160"/>
                <a:gridCol w="358560"/>
                <a:gridCol w="360360"/>
                <a:gridCol w="360360"/>
                <a:gridCol w="358920"/>
                <a:gridCol w="361800"/>
                <a:gridCol w="358920"/>
                <a:gridCol w="358560"/>
                <a:gridCol w="362160"/>
                <a:gridCol w="360360"/>
                <a:gridCol w="360360"/>
                <a:gridCol w="360360"/>
              </a:tblGrid>
              <a:tr h="246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group/ Provi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 – female ratio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reme 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mao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to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-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-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– 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– 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–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– 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– 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–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 5 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250920" y="98100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1 – Distribution of agricultural population by sex, by age group and per province – CAMEROON           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ource: Agricultural census 1984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24000" y="1989000"/>
          <a:ext cx="8496000" cy="3745080"/>
        </p:xfrm>
        <a:graphic>
          <a:graphicData uri="http://schemas.openxmlformats.org/drawingml/2006/table">
            <a:tbl>
              <a:tblPr/>
              <a:tblGrid>
                <a:gridCol w="1603080"/>
                <a:gridCol w="1459080"/>
                <a:gridCol w="1087560"/>
                <a:gridCol w="1085760"/>
                <a:gridCol w="1085760"/>
                <a:gridCol w="1087560"/>
                <a:gridCol w="1087200"/>
              </a:tblGrid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vi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 of hol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icultural Census 19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 of hol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icultural survey ’85 – ‘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ead of hol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ricultural survey’89 – ‘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m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reme – 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amao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t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th-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–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t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7240" y="4677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0010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ender concerns in agricultural census in Afr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981000"/>
            <a:ext cx="849636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Table 2- Heads of agricultural holdings by sex and per province – CAMEROON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Source: Agricultural census 1984 ; Agricultural surveys, 1985 – 86 and 1989 – ‘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11:02:27Z</dcterms:created>
  <dc:creator>RAF</dc:creator>
  <dc:description/>
  <dc:language>en-US</dc:language>
  <cp:lastModifiedBy>CoviRo</cp:lastModifiedBy>
  <dcterms:modified xsi:type="dcterms:W3CDTF">2005-03-25T19:13:31Z</dcterms:modified>
  <cp:revision>54</cp:revision>
  <dc:subject/>
  <dc:title>Integration “Gender” in WCA 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22306813</vt:r8>
  </property>
  <property fmtid="{D5CDD505-2E9C-101B-9397-08002B2CF9AE}" pid="3" name="_AuthorEmail">
    <vt:lpwstr>Naman.Keita@fao.org</vt:lpwstr>
  </property>
  <property fmtid="{D5CDD505-2E9C-101B-9397-08002B2CF9AE}" pid="4" name="_AuthorEmailDisplayName">
    <vt:lpwstr>Keita, Naman (FAORAF)</vt:lpwstr>
  </property>
  <property fmtid="{D5CDD505-2E9C-101B-9397-08002B2CF9AE}" pid="5" name="_EmailSubject">
    <vt:lpwstr>Contributed Paper for MEXSAI</vt:lpwstr>
  </property>
  <property fmtid="{D5CDD505-2E9C-101B-9397-08002B2CF9AE}" pid="6" name="_PreviousAdHocReviewCycleID">
    <vt:r8>476204938</vt:r8>
  </property>
  <property fmtid="{D5CDD505-2E9C-101B-9397-08002B2CF9AE}" pid="7" name="_ReviewingToolsShownOnce">
    <vt:lpwstr/>
  </property>
</Properties>
</file>