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DAF-3953-4354-B2AA-9105133C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5F4-2DF2-4F0C-90FD-0036581F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249-A677-49B2-A09E-EB9D160D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C41-EAD1-4416-9EA7-664633B4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8CCB-D069-4E44-BE3C-F183169B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7F83-3AD7-4D2A-9027-C7EBB758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CB12-ED22-4962-BC6E-5AA853D4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112F-0E69-46CF-8BBD-9DFA0ACD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F2F9-FD78-43E9-8BFB-FA480919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34F7-A310-41AB-B1FD-B1B003C6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FC62-E922-4351-8575-3C2C286E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99A-7CA8-44B6-A896-DB5A40F1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8B4C-842A-420F-8D43-5AB5287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1310-5C0A-4605-B6E1-D7F9DA8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210D-AE0B-4B9A-8478-0441D238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DD0A-503F-4D8B-8388-C59DA7CF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4F09-4946-4757-80BC-6DF0D69A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C67-9B82-44E4-93AE-2202B55E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BE4-B308-4D2B-86BE-F6AFCDB6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C2E-B82D-43C1-80DD-A333F135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2B2-C86F-49F0-891D-A30D43EC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790-8273-4FDC-A547-618D00C5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BE4-4ACD-4111-8737-F16C009C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69C-D866-4775-86CC-33860DE5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E1C2-CB8F-4C46-94F5-37F5AD0FDE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5A6C-7E0F-4DDC-AAE4-A41DB631CC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878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WCA 2000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3141720"/>
            <a:ext cx="7631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RESENTATION O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Improved data collection regarding human and socio-economic facto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Results from selected countr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01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680120"/>
            <a:ext cx="76690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3 - Distribution of areas cultivated by crop and by sex of Head of   Household and Plot Managers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RKINA FAS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ource: ENSA 1993, Burkina Fa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Impact of introduction of sub-holder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00000" y="2421000"/>
          <a:ext cx="7667280" cy="3598560"/>
        </p:xfrm>
        <a:graphic>
          <a:graphicData uri="http://schemas.openxmlformats.org/drawingml/2006/table">
            <a:tbl>
              <a:tblPr/>
              <a:tblGrid>
                <a:gridCol w="1376280"/>
                <a:gridCol w="1048320"/>
                <a:gridCol w="1049040"/>
                <a:gridCol w="1048320"/>
                <a:gridCol w="1048680"/>
                <a:gridCol w="1048320"/>
                <a:gridCol w="1048320"/>
              </a:tblGrid>
              <a:tr h="718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 of Household/sex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llective cultiv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ot Manager/s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dividual cultiv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l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undn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uandzu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ite sorgh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sorgh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b)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rgent need to overcome general lack of gender specific dat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FS, 1996, recognised fundamental contribution women to food security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hanging role Government: central decision maker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facilitator of private sector involvement and decentralised decision-ma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ed to respond to recent emergencies: poverty, food insecurity, HIV/AI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mproved data collection regarding human and socio-economic factors</a:t>
            </a:r>
            <a:r>
              <a:rPr b="1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nder-sensitive data reflects diverse situation of men and women in the agrarian economy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need to verify gender biases i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Agricultural holdin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concept of sub-holder / field mana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Head of Househol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minimum presence of 6 months/year &amp; interviewer trai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Agricultural labou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difficulty to distinguish between women’s productive and household activ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sults from selected countries</a:t>
            </a:r>
            <a:r>
              <a:rPr b="1" lang="en-GB" sz="3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lude need for gender specific data in census 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ed for fine-tuning sub-holder concept, training and revision of analytical framework with regard to gender concer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b-holder concept one of most important innovations in 2000 WCA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llows for intra-household gender analysis of agricultural p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a producers and users need further training in gender concepts to increase demand for / use of gender specific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1120" y="333000"/>
            <a:ext cx="86425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FIRST</a:t>
            </a:r>
            <a:r>
              <a:rPr b="0" lang="en-GB" sz="2000" spc="-1" strike="noStrike">
                <a:solidFill>
                  <a:srgbClr val="cc0000"/>
                </a:solidFill>
                <a:latin typeface="Verdana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ed to strengthen capacities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Statistician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for gender explicit analysis of agricultural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Development planne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use available data for gender specific plan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SECOND –</a:t>
            </a:r>
            <a:r>
              <a:rPr b="0" lang="en-GB" sz="2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OGNITION NEED FOR DATA AT SUB-NATIONAL 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is will illustrate regional differences i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gricultural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eminisation of agricultural sector  in Af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75880" y="1814400"/>
            <a:ext cx="4330800" cy="3681000"/>
            <a:chOff x="4475880" y="1814400"/>
            <a:chExt cx="4330800" cy="3681000"/>
          </a:xfrm>
        </p:grpSpPr>
        <p:sp>
          <p:nvSpPr>
            <p:cNvPr id="99" name=""/>
            <p:cNvSpPr/>
            <p:nvPr/>
          </p:nvSpPr>
          <p:spPr>
            <a:xfrm>
              <a:off x="6409800" y="1814400"/>
              <a:ext cx="7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9400" y="2146320"/>
              <a:ext cx="10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85+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14760" y="231912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80 - 8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14760" y="250056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75 - 7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1760" y="2676240"/>
              <a:ext cx="180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70 -7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14760" y="285264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65 - 6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14760" y="302616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60 - 6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4760" y="320832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55 - 5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338184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50 - 5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14760" y="356184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45 - 4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14760" y="373536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40 - 4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14760" y="391752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35 - 3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14760" y="409068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30 - 3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14760" y="426924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25 - 2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14760" y="444132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20 - 2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41760" y="4622760"/>
              <a:ext cx="180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15 -1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87040" y="4797720"/>
              <a:ext cx="21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.10 - 1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87840" y="4978440"/>
              <a:ext cx="14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.5 - 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70280" y="5149800"/>
              <a:ext cx="92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&gt; 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7120" y="2098080"/>
              <a:ext cx="50760" cy="177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3800" y="2275560"/>
              <a:ext cx="77400" cy="176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52680" y="2452320"/>
              <a:ext cx="151560" cy="176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93280" y="2628720"/>
              <a:ext cx="252000" cy="177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33880" y="2805840"/>
              <a:ext cx="375480" cy="176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87800" y="2982960"/>
              <a:ext cx="518760" cy="176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46040" y="3159360"/>
              <a:ext cx="546120" cy="177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5360" y="3336480"/>
              <a:ext cx="761400" cy="176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0680" y="3513600"/>
              <a:ext cx="848160" cy="176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97160" y="3690000"/>
              <a:ext cx="852840" cy="177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60440" y="3867120"/>
              <a:ext cx="1096200" cy="176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6560" y="4044240"/>
              <a:ext cx="931320" cy="176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74120" y="4220640"/>
              <a:ext cx="1008720" cy="176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04560" y="4397400"/>
              <a:ext cx="1004760" cy="177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7240" y="4574520"/>
              <a:ext cx="1633320" cy="176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72080" y="4750920"/>
              <a:ext cx="2954160" cy="176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4680" y="4928040"/>
              <a:ext cx="3762000" cy="177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05280" y="5105160"/>
              <a:ext cx="2683440" cy="176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049160" y="2098080"/>
              <a:ext cx="360" cy="318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96080" y="532188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M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20720" y="532332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Fem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75880" y="5419080"/>
              <a:ext cx="703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Scale maximum = 9000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68360" y="981000"/>
            <a:ext cx="842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igure 1 - Sex and age disaggregation of agricultural population – Gui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ource: Recensement national agricole, 2000 -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1773360"/>
            <a:ext cx="4344480" cy="3841560"/>
            <a:chOff x="0" y="1773360"/>
            <a:chExt cx="4344480" cy="3841560"/>
          </a:xfrm>
        </p:grpSpPr>
        <p:sp>
          <p:nvSpPr>
            <p:cNvPr id="142" name=""/>
            <p:cNvSpPr/>
            <p:nvPr/>
          </p:nvSpPr>
          <p:spPr>
            <a:xfrm>
              <a:off x="2358360" y="1773360"/>
              <a:ext cx="802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3240" y="2112480"/>
              <a:ext cx="12276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85+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600" y="228960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80 - 8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600" y="247284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75 - 7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20" y="2649960"/>
              <a:ext cx="20484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70 -7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00" y="283392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65 - 6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00" y="300996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60 - 6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00" y="319392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55 - 5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600" y="337104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50 - 5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00" y="355428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45 - 4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600" y="373140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40 - 4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00" y="391536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35 - 3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00" y="409176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30 - 3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600" y="427572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25 - 2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600" y="445248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20 - 2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120" y="4636080"/>
              <a:ext cx="20484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15 -1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080" y="4812840"/>
              <a:ext cx="24516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.10 - 1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9160" y="4997160"/>
              <a:ext cx="16452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.5 - 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7720" y="5173200"/>
              <a:ext cx="10224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&gt; 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44640" y="2062800"/>
              <a:ext cx="5472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39240" y="2243160"/>
              <a:ext cx="6912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04680" y="2423520"/>
              <a:ext cx="108720" cy="179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60040" y="2603520"/>
              <a:ext cx="19332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00640" y="2783880"/>
              <a:ext cx="27288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41600" y="2964600"/>
              <a:ext cx="435600" cy="179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61040" y="3144240"/>
              <a:ext cx="38592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07040" y="3324960"/>
              <a:ext cx="57456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7560" y="3505320"/>
              <a:ext cx="697680" cy="179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51960" y="3684960"/>
              <a:ext cx="81252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46920" y="3865680"/>
              <a:ext cx="93636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42600" y="4046040"/>
              <a:ext cx="965520" cy="179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3400" y="4225680"/>
              <a:ext cx="119808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13360" y="4406400"/>
              <a:ext cx="109008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2360" y="4586760"/>
              <a:ext cx="1664640" cy="179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36120" y="4766760"/>
              <a:ext cx="223416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5080" y="4947120"/>
              <a:ext cx="329940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7360" y="5127840"/>
              <a:ext cx="2744640" cy="179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774160" y="2062440"/>
              <a:ext cx="360" cy="324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28200" y="5349960"/>
              <a:ext cx="3448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Ma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6280" y="5349960"/>
              <a:ext cx="60624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Fema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5448960"/>
              <a:ext cx="83664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Scale maximum = 80000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8000" y="1628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ui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56360" y="162864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b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350028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458136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98640" y="164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773360"/>
          <a:ext cx="8610480" cy="4044960"/>
        </p:xfrm>
        <a:graphic>
          <a:graphicData uri="http://schemas.openxmlformats.org/drawingml/2006/table">
            <a:tbl>
              <a:tblPr/>
              <a:tblGrid>
                <a:gridCol w="687240"/>
                <a:gridCol w="358920"/>
                <a:gridCol w="360360"/>
                <a:gridCol w="361800"/>
                <a:gridCol w="358920"/>
                <a:gridCol w="360360"/>
                <a:gridCol w="360360"/>
                <a:gridCol w="358560"/>
                <a:gridCol w="362160"/>
                <a:gridCol w="360360"/>
                <a:gridCol w="358560"/>
                <a:gridCol w="362160"/>
                <a:gridCol w="358560"/>
                <a:gridCol w="360360"/>
                <a:gridCol w="360360"/>
                <a:gridCol w="358920"/>
                <a:gridCol w="361800"/>
                <a:gridCol w="358920"/>
                <a:gridCol w="358560"/>
                <a:gridCol w="362160"/>
                <a:gridCol w="360360"/>
                <a:gridCol w="360360"/>
                <a:gridCol w="360360"/>
              </a:tblGrid>
              <a:tr h="246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group/ Provi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 – female ratio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reme 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mao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to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-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-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– 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– 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–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– 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5 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250920" y="98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 – Distribution of agricultural population by sex, by age group and per province – CAMEROON           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ource: Agricultural census 1984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24000" y="1989000"/>
          <a:ext cx="8496000" cy="3745080"/>
        </p:xfrm>
        <a:graphic>
          <a:graphicData uri="http://schemas.openxmlformats.org/drawingml/2006/table">
            <a:tbl>
              <a:tblPr/>
              <a:tblGrid>
                <a:gridCol w="1603080"/>
                <a:gridCol w="1459080"/>
                <a:gridCol w="1087560"/>
                <a:gridCol w="1085760"/>
                <a:gridCol w="1085760"/>
                <a:gridCol w="1087560"/>
                <a:gridCol w="108720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 of hol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icultural Census 1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 of hol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icultural survey ’85 – ‘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 of hol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icultural survey’89 – ‘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reme – 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mao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t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-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–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7240" y="4677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981000"/>
            <a:ext cx="84963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2- Heads of agricultural holdings by sex and per province – CAMERO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ource: Agricultural census 1984 ; Agricultural surveys, 1985 – 86 and 1989 – ‘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11:02:27Z</dcterms:created>
  <dc:creator>RAF</dc:creator>
  <dc:description/>
  <dc:language>en-US</dc:language>
  <cp:lastModifiedBy>CoviRo</cp:lastModifiedBy>
  <dcterms:modified xsi:type="dcterms:W3CDTF">2005-03-25T19:13:31Z</dcterms:modified>
  <cp:revision>54</cp:revision>
  <dc:subject/>
  <dc:title>Integration “Gender” in WCA 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22306813</vt:r8>
  </property>
  <property fmtid="{D5CDD505-2E9C-101B-9397-08002B2CF9AE}" pid="3" name="_AuthorEmail">
    <vt:lpwstr>Naman.Keita@fao.org</vt:lpwstr>
  </property>
  <property fmtid="{D5CDD505-2E9C-101B-9397-08002B2CF9AE}" pid="4" name="_AuthorEmailDisplayName">
    <vt:lpwstr>Keita, Naman (FAORAF)</vt:lpwstr>
  </property>
  <property fmtid="{D5CDD505-2E9C-101B-9397-08002B2CF9AE}" pid="5" name="_EmailSubject">
    <vt:lpwstr>Contributed Paper for MEXSAI</vt:lpwstr>
  </property>
  <property fmtid="{D5CDD505-2E9C-101B-9397-08002B2CF9AE}" pid="6" name="_PreviousAdHocReviewCycleID">
    <vt:r8>476204938</vt:r8>
  </property>
  <property fmtid="{D5CDD505-2E9C-101B-9397-08002B2CF9AE}" pid="7" name="_ReviewingToolsShownOnce">
    <vt:lpwstr/>
  </property>
</Properties>
</file>