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71785C0-C6E0-4B4E-9C1D-51F711178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F61114-F287-44A4-9923-FBF8A7A71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467901E-F382-4ED2-AB24-999488EA8EB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E162F4-29FE-4D65-89AD-36560768B1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06BEFF-6E1A-4905-933E-370A1B94E3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9DB82-5F4E-4879-B85F-13B11652D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AA286A-FE03-4C55-93CC-337295AA11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F0B55-1B7F-4A7B-92DF-63BDE4FA72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212E1-816E-48E3-81B9-4B434D9C36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A6D9C-6063-484A-A72E-CF2CF4B9B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11885-A711-4DD7-9F5D-CC29042DD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99F91E-B80F-414A-8A99-0ACFA5092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F9083-AB51-43D8-8C19-45B7E6C77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2CD6F-E9CA-45F0-B3B8-229CCD553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81651-2140-4BC8-9CE7-902DF5BD7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16332-0523-486C-87BF-30F1EE1696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D5A72E-BFAB-4E30-B7BC-D8280163C6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262059-D5CE-4166-8495-8A04B3FCC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0634BD-4BFB-4953-A20E-BA972F67E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2C41FE-B0FB-4DDF-8060-63223680CC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DE8082-19A1-4777-9067-0AAAF7F23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405CAF-CF99-41F0-B348-F3EDCCA7E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E58C40-86AE-44C8-B41D-68D3F57F73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B2A7F0-0289-43CC-ACB3-64BF6FB1E3C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F6824-05AA-4328-9A93-306CD6ADC69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9F07-8E99-451C-9EF8-C37E9C6096DA}"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a:rPr>
              <a:t>Agricultural and environmental indicators and models</a:t>
            </a:r>
            <a:endParaRPr b="0" lang="en-US" sz="4600" spc="-1" strike="noStrike">
              <a:solidFill>
                <a:srgbClr val="ffffff"/>
              </a:solidFill>
              <a:latin typeface="Arial"/>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po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Rubén De la Sierr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99"/>
                </a:solidFill>
                <a:latin typeface="Arial"/>
              </a:rPr>
              <a:t>Rosario Peyro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31760" y="692280"/>
            <a:ext cx="8955000" cy="5779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Identify agricultural priorities in different regions in terms of limiting factors that restrict the capacity for conservation and economic development</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Arial"/>
              </a:rPr>
              <a:t>Develop and structure an information system</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ea typeface="Times New Roman"/>
              </a:rPr>
              <a:t>Obtain meaningful indices through the interaction of useful variables</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Create models </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Understand cycles (economic, climatic and political) under which different indicators perform</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easure current conditions and compare them with given baselines</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It is important to know what par of current policies facilitate orderly development, and what proportion of it is indeed applied</a:t>
            </a:r>
            <a:endParaRPr b="0" lang="en-US" sz="2000" spc="-1" strike="noStrike">
              <a:solidFill>
                <a:srgbClr val="000000"/>
              </a:solidFill>
              <a:latin typeface="Times New Roman"/>
            </a:endParaRPr>
          </a:p>
          <a:p>
            <a:pPr marL="457200" indent="-457200">
              <a:lnSpc>
                <a:spcPct val="100000"/>
              </a:lnSpc>
              <a:spcBef>
                <a:spcPts val="1250"/>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here are several intangible variables of sociological and cultural nature in Mexico that contribute system noise for the evaluation of indicators that would best reflect reality.  Therefore it is essential to “measure” the “Weltanschauung” in the population.  This is the precursor sine qua non of every other circumstance presently affecting the Country</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7360" y="716040"/>
            <a:ext cx="891540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Arial"/>
                <a:ea typeface="Arial"/>
              </a:rPr>
              <a:t>CONCLUSION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Social and production components of the Mexican agricultural system make it very complex at all levels.  This situation is aggravated due to the transition in progress.</a:t>
            </a: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n its current format, an integrated idea of the state of general agricultural and environmental conditions for the Country cannot be attain; let alone if it is used to assess vulnerabilities, thresholds, or anticipate scenarios.</a:t>
            </a: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f external factors, such as trade, migration, global circulation, global change, etc., are not taken into consideration, it would be impossible to obtain an integrated diagnostic about the quality of the conditions present in Mexico</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04920" y="1096920"/>
            <a:ext cx="853416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OBSERV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There is some headway in the field of indicators and models that have been done to meet some compromises with international organizations such as the OECD, IADB, IBRD, and so forth.  However, they do not address a systemic assessment of agro-environmental conditions. </a:t>
            </a:r>
            <a:endParaRPr b="0" lang="en-US" sz="2400" spc="-1" strike="noStrike">
              <a:solidFill>
                <a:srgbClr val="000000"/>
              </a:solidFill>
              <a:latin typeface="Times New Roman"/>
            </a:endParaRPr>
          </a:p>
          <a:p>
            <a:pPr>
              <a:lnSpc>
                <a:spcPct val="100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There is a major need for experience and of innovation in the topic.  The limited sensibility about the political and economic importance in the use of resources, by ignoring the rate of use, stocks present, and future needs, prevents a better use of them.</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2944800" y="711360"/>
            <a:ext cx="3252960" cy="3227400"/>
          </a:xfrm>
          <a:prstGeom prst="rect">
            <a:avLst/>
          </a:prstGeom>
          <a:ln w="0">
            <a:noFill/>
          </a:ln>
        </p:spPr>
      </p:pic>
      <p:sp>
        <p:nvSpPr>
          <p:cNvPr id="121" name=""/>
          <p:cNvSpPr/>
          <p:nvPr/>
        </p:nvSpPr>
        <p:spPr>
          <a:xfrm>
            <a:off x="1593720" y="4551480"/>
            <a:ext cx="5942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Times New Roman"/>
              </a:rPr>
              <a:t>THANK YO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71680" y="1116000"/>
            <a:ext cx="800100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Object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To generate agro-environmental indicators to assess the state of the agriculture and environment in the Country, analyze its evolution, know strengths and weaknesses, develop scenarios, and propose alternative solutions for the several transitions that underway in Mexico</a:t>
            </a:r>
            <a:r>
              <a:rPr b="0" lang="en-US" sz="2400" spc="-1" strike="noStrike">
                <a:solidFill>
                  <a:srgbClr val="000099"/>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Arial"/>
                <a:ea typeface="Times New Roman"/>
              </a:rPr>
              <a:t>Once </a:t>
            </a:r>
            <a:r>
              <a:rPr b="0" lang="en-US" sz="2400" spc="-1" strike="noStrike">
                <a:solidFill>
                  <a:srgbClr val="000099"/>
                </a:solidFill>
                <a:latin typeface="Arial"/>
              </a:rPr>
              <a:t>these indicators help understand the meaning of economic performance, standards of living, and short and long term implications, they can help outline strategies that can use present conditions to generate resources and wealth at the least cost possible.</a:t>
            </a:r>
            <a:r>
              <a:rPr b="0" lang="es-ES" sz="2400" spc="-1" strike="noStrike">
                <a:solidFill>
                  <a:srgbClr val="000099"/>
                </a:solidFill>
                <a:latin typeface="Arial"/>
              </a:rPr>
              <a:t>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ssues to address </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y are agricultural and environmental performance following its current path?</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Where are current policy, decisions, and strategy leading us?</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How can future prospects be improved?</a:t>
            </a:r>
            <a:endParaRPr b="0" lang="en-US" sz="2400" spc="-1" strike="noStrike">
              <a:solidFill>
                <a:srgbClr val="000000"/>
              </a:solidFill>
              <a:latin typeface="Arial"/>
            </a:endParaRPr>
          </a:p>
          <a:p>
            <a:pPr marL="343080" indent="-343080">
              <a:lnSpc>
                <a:spcPct val="80000"/>
              </a:lnSpc>
              <a:spcBef>
                <a:spcPts val="15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The key to achieving success is the ability to develop and sustain critical resources and capabilities, leveraging what we have today to grow more of what we will need tomorrow</a:t>
            </a:r>
            <a:r>
              <a:rPr b="0" lang="es-ES" sz="2400" spc="-1" strike="noStrike">
                <a:solidFill>
                  <a:srgbClr val="000099"/>
                </a:solidFill>
                <a:latin typeface="Arial"/>
              </a:rPr>
              <a:t> </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22120" y="487440"/>
            <a:ext cx="8777520" cy="626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Definitions</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t is critical not to confuse the meaning of various figures used to measure, asses, and understand conditions under which a very complex system, such as the agro-environmental one, operates.  For this reason, it is important to start with term definitions useful to express different quantities.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The main terms that must be defined and understood are:</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Variable</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ndicator</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Lead indicator</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Lag indicator</a:t>
            </a:r>
            <a:endParaRPr b="0" lang="en-US" sz="2400" spc="-1" strike="noStrike">
              <a:solidFill>
                <a:srgbClr val="000000"/>
              </a:solidFill>
              <a:latin typeface="Times New Roman"/>
            </a:endParaRPr>
          </a:p>
          <a:p>
            <a:pPr lvl="1" marL="914400" indent="-457200" algn="just">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ndex</a:t>
            </a:r>
            <a:endParaRPr b="0" lang="en-US" sz="2400" spc="-1" strike="noStrike">
              <a:solidFill>
                <a:srgbClr val="000000"/>
              </a:solidFill>
              <a:latin typeface="Times New Roman"/>
            </a:endParaRPr>
          </a:p>
          <a:p>
            <a:pPr lvl="1" marL="914400" indent="-457200" algn="just">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Model</a:t>
            </a:r>
            <a:endParaRPr b="0" lang="en-US" sz="2400" spc="-1" strike="noStrike">
              <a:solidFill>
                <a:srgbClr val="000000"/>
              </a:solidFill>
              <a:latin typeface="Times New Roman"/>
            </a:endParaRPr>
          </a:p>
          <a:p>
            <a:pPr lvl="1" marL="914400" indent="-457200">
              <a:lnSpc>
                <a:spcPct val="100000"/>
              </a:lnSpc>
              <a:spcBef>
                <a:spcPts val="751"/>
              </a:spcBef>
              <a:buClr>
                <a:srgbClr val="0000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Agro-environmental concept</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1782720"/>
            <a:ext cx="761976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Agro-environmental Concept </a:t>
            </a:r>
            <a:r>
              <a:rPr b="0" lang="en-US" sz="2400" spc="-1" strike="noStrike" u="sng">
                <a:solidFill>
                  <a:srgbClr val="666699"/>
                </a:solidFill>
                <a:uFillTx/>
                <a:latin typeface="Arial"/>
                <a:ea typeface="Arial"/>
                <a:hlinkClick r:id="rId1" action="ppaction://hlinksldjump"/>
              </a:rPr>
              <a:t>[1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Is the dynamic interaction between agriculture and the environment.  This relationship is considered highly complex, since it includes process involved with economic activities, agricultural and livestock services, including externalities (positive or negative) present in the syste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u="sng">
                <a:solidFill>
                  <a:srgbClr val="666699"/>
                </a:solidFill>
                <a:uFillTx/>
                <a:latin typeface="Arial"/>
                <a:ea typeface="Arial"/>
                <a:hlinkClick r:id="rId2" action="ppaction://hlinksldjump"/>
              </a:rPr>
              <a:t>[1]</a:t>
            </a:r>
            <a:r>
              <a:rPr b="0" lang="en-US" sz="2400" spc="-1" strike="noStrike">
                <a:solidFill>
                  <a:srgbClr val="000099"/>
                </a:solidFill>
                <a:latin typeface="Arial"/>
                <a:ea typeface="Arial"/>
              </a:rPr>
              <a:t> Towards agri-environmental indicators. European Environment Agenc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465120"/>
            <a:ext cx="9144000" cy="642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300" spc="-1" strike="noStrike">
                <a:solidFill>
                  <a:srgbClr val="000099"/>
                </a:solidFill>
                <a:latin typeface="Arial"/>
                <a:ea typeface="Times New Roman"/>
              </a:rPr>
              <a:t>INDICATORS</a:t>
            </a:r>
            <a:endParaRPr b="0" lang="en-US" sz="2300" spc="-1" strike="noStrike">
              <a:solidFill>
                <a:srgbClr val="000000"/>
              </a:solidFill>
              <a:latin typeface="Times New Roman"/>
            </a:endParaRPr>
          </a:p>
          <a:p>
            <a:pPr marL="457200" indent="-457200">
              <a:lnSpc>
                <a:spcPct val="100000"/>
              </a:lnSpc>
              <a:spcBef>
                <a:spcPts val="1437"/>
              </a:spcBef>
              <a:spcAft>
                <a:spcPts val="1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Times New Roman"/>
              </a:rPr>
              <a:t>     </a:t>
            </a:r>
            <a:r>
              <a:rPr b="0" lang="en-US" sz="2300" spc="-1" strike="noStrike">
                <a:solidFill>
                  <a:srgbClr val="000099"/>
                </a:solidFill>
                <a:latin typeface="Arial"/>
                <a:ea typeface="Times New Roman"/>
              </a:rPr>
              <a:t>In the case of Mexico it is imperative to develop dynamic indicators that describe transition processes underway in several sectors of the Country.  It is not enough to gather data in the form of statistics or parameters without having them provide a more complete idea on the dynamics of the system as a whole. </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      </a:t>
            </a:r>
            <a:r>
              <a:rPr b="0" lang="en-US" sz="2300" spc="-1" strike="noStrike">
                <a:solidFill>
                  <a:srgbClr val="000099"/>
                </a:solidFill>
                <a:latin typeface="Arial"/>
                <a:ea typeface="Arial"/>
              </a:rPr>
              <a:t>With the development and use of quality indicators one can arrive to an understanding of</a:t>
            </a:r>
            <a:r>
              <a:rPr b="0" lang="es-ES" sz="2300" spc="-1" strike="noStrike">
                <a:solidFill>
                  <a:srgbClr val="000099"/>
                </a:solidFill>
                <a:latin typeface="Arial"/>
                <a:ea typeface="Arial"/>
              </a:rPr>
              <a:t>:</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The difference between variables, indices, indicators and models</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The concepts of threshold, externality, opportunity cost, and re-conversion, among others</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Contextual, reference, and baseline information </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Environmental, financial, social, demographic, cultural, health and schooling indicators in an agro-environmental context</a:t>
            </a:r>
            <a:endParaRPr b="0" lang="en-US" sz="2300" spc="-1" strike="noStrike">
              <a:solidFill>
                <a:srgbClr val="000000"/>
              </a:solidFill>
              <a:latin typeface="Times New Roman"/>
            </a:endParaRPr>
          </a:p>
          <a:p>
            <a:pPr marL="457200" indent="-457200">
              <a:lnSpc>
                <a:spcPct val="100000"/>
              </a:lnSpc>
              <a:spcBef>
                <a:spcPts val="57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99"/>
                </a:solidFill>
                <a:latin typeface="Arial"/>
                <a:ea typeface="Arial"/>
              </a:rPr>
              <a:t>Aggregation and dis-aggregation of data and indicators, in terms of space and time</a:t>
            </a:r>
            <a:endParaRPr b="0" lang="en-US" sz="2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571680" y="449280"/>
            <a:ext cx="8001000" cy="44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392040" y="1060560"/>
            <a:ext cx="8359920" cy="36298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Arial"/>
                <a:ea typeface="Times New Roman"/>
              </a:rPr>
              <a:t>CONDITIONS THAT MUST BE COSIDERED FOR THE DEVELOPMENT OF AGRO-ENVIRONMENTAL INDICATORS</a:t>
            </a:r>
            <a:endParaRPr b="0" lang="en-US" sz="2400" spc="-1" strike="noStrike">
              <a:solidFill>
                <a:srgbClr val="000000"/>
              </a:solidFill>
              <a:latin typeface="Times New Roman"/>
            </a:endParaRPr>
          </a:p>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Indicators must describe:   </a:t>
            </a:r>
            <a:endParaRPr b="0" lang="en-US" sz="2400" spc="-1" strike="noStrike">
              <a:solidFill>
                <a:srgbClr val="000000"/>
              </a:solidFill>
              <a:latin typeface="Times New Roman"/>
            </a:endParaRPr>
          </a:p>
          <a:p>
            <a:pPr marL="457200" indent="-457200" algn="just">
              <a:lnSpc>
                <a:spcPct val="10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Proximal and tangible manifestations, as well as,</a:t>
            </a:r>
            <a:endParaRPr b="0" lang="en-US" sz="2400" spc="-1" strike="noStrike">
              <a:solidFill>
                <a:srgbClr val="000000"/>
              </a:solidFill>
              <a:latin typeface="Times New Roman"/>
            </a:endParaRPr>
          </a:p>
          <a:p>
            <a:pPr marL="457200" indent="-457200" algn="just">
              <a:lnSpc>
                <a:spcPct val="10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distal and intangible causes that give rise to current conditions</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1120" y="334800"/>
            <a:ext cx="9002880" cy="6534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One of the main goals is that when indicators are assessed and processed they become able to provide answer issues such as: </a:t>
            </a:r>
            <a:endParaRPr b="0"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f the situation continues  as is then, </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How long will it last?</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is the weakest link/component in the system?</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alternatives exist to avoid decadence?</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If decadence is unavoidable, then:</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What is the best way to use resources and stretch the window of opportunity?</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Is the system in a homeostatic balance?</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prevents the system from achieving an stable balance?</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are the causes of uncertainty?</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At what cost could the region be recovered or reconverted?</a:t>
            </a:r>
            <a:endParaRPr b="0" lang="en-US" sz="2400" spc="-1" strike="noStrike">
              <a:solidFill>
                <a:srgbClr val="000000"/>
              </a:solidFill>
              <a:latin typeface="Times New Roman"/>
            </a:endParaRPr>
          </a:p>
          <a:p>
            <a:pPr marL="457200" indent="-457200">
              <a:lnSpc>
                <a:spcPct val="10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What is needed to prevent adverse situation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571680" y="1477800"/>
            <a:ext cx="80010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Arial"/>
              </a:rPr>
              <a:t>ACTIVITIES TO BE CONDUCTED</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Times New Roman"/>
              </a:rPr>
              <a:t>To understand the following items,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Economic forces</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Long and short term environmental processes</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Shift in expectations from stakeholders</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Sustainable agricultural productive capacity</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Global and local change</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ea typeface="Arial"/>
              </a:rPr>
              <a:t>Cycles and decay</a:t>
            </a:r>
            <a:endParaRPr b="0" lang="en-US" sz="2400" spc="-1" strike="noStrike">
              <a:solidFill>
                <a:srgbClr val="000000"/>
              </a:solidFill>
              <a:latin typeface="Times New Roman"/>
            </a:endParaRPr>
          </a:p>
          <a:p>
            <a:pPr marL="457200" indent="-457200">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one must conduct </a:t>
            </a:r>
            <a:r>
              <a:rPr b="1" lang="en-US" sz="2400" spc="-1" strike="noStrike">
                <a:solidFill>
                  <a:srgbClr val="000099"/>
                </a:solidFill>
                <a:latin typeface="Arial"/>
                <a:ea typeface="Arial"/>
              </a:rPr>
              <a:t>the following action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5T19:56:13Z</dcterms:created>
  <dc:creator>Juan Dobarganes</dc:creator>
  <dc:description/>
  <dc:language>en-US</dc:language>
  <cp:lastModifiedBy>CoviRo</cp:lastModifiedBy>
  <dcterms:modified xsi:type="dcterms:W3CDTF">2005-03-02T18:59:47Z</dcterms:modified>
  <cp:revision>696</cp:revision>
  <dc:subject>Huracán Isidore</dc:subject>
  <dc:title>Presentación de PowerPoint</dc:title>
</cp:coreProperties>
</file>