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902825" cy="6858000"/>
  <p:notesSz cx="6710363" cy="9845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10400" cy="9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1800" y="-324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01960" y="-324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-1800" y="9350280"/>
            <a:ext cx="29113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3801960" y="9350280"/>
            <a:ext cx="29116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6FB12318-D185-42D2-9FDA-83DD8BA700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701280" y="744480"/>
            <a:ext cx="5313240" cy="367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896400" y="4676400"/>
            <a:ext cx="5170680" cy="44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96400" y="4676400"/>
            <a:ext cx="517068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96760" y="4676400"/>
            <a:ext cx="4918320" cy="44276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01640" y="744480"/>
            <a:ext cx="5313240" cy="3679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530280" y="4770360"/>
            <a:ext cx="5764320" cy="46180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880" bIns="47880" anchor="t">
            <a:noAutofit/>
          </a:bodyPr>
          <a:p>
            <a:pPr marL="228600" indent="0">
              <a:spcBef>
                <a:spcPts val="176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70140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21680" y="116316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8112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670140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221680" y="3779640"/>
            <a:ext cx="144756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0720" y="476280"/>
            <a:ext cx="92440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85120" y="377964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81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85120" y="1163160"/>
            <a:ext cx="21938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81120" y="3779640"/>
            <a:ext cx="4496040" cy="23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1120" y="1163160"/>
            <a:ext cx="449604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3508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90560" indent="-228600">
              <a:spcBef>
                <a:spcPts val="437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37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486080" indent="-228600">
              <a:spcBef>
                <a:spcPts val="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753240" y="3251160"/>
            <a:ext cx="2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68280" y="6553080"/>
            <a:ext cx="953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047080" y="6654960"/>
            <a:ext cx="1855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48520" y="6649920"/>
            <a:ext cx="3457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6320" y="50760"/>
            <a:ext cx="270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84320" y="39852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13720" y="109440"/>
            <a:ext cx="29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ll-Russia Agricultural Census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51814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cow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main1x1e" descr=""/>
          <p:cNvPicPr/>
          <p:nvPr/>
        </p:nvPicPr>
        <p:blipFill>
          <a:blip r:embed="rId1"/>
          <a:stretch/>
        </p:blipFill>
        <p:spPr>
          <a:xfrm>
            <a:off x="0" y="380880"/>
            <a:ext cx="5886360" cy="914400"/>
          </a:xfrm>
          <a:prstGeom prst="rect">
            <a:avLst/>
          </a:prstGeom>
          <a:ln w="0">
            <a:noFill/>
          </a:ln>
        </p:spPr>
      </p:pic>
      <p:pic>
        <p:nvPicPr>
          <p:cNvPr id="55" name="main1x12" descr=""/>
          <p:cNvPicPr/>
          <p:nvPr/>
        </p:nvPicPr>
        <p:blipFill>
          <a:blip r:embed="rId2"/>
          <a:stretch/>
        </p:blipFill>
        <p:spPr>
          <a:xfrm>
            <a:off x="0" y="1295280"/>
            <a:ext cx="156528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4320" y="6392880"/>
            <a:ext cx="953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0880"/>
            <a:ext cx="953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838080"/>
            <a:ext cx="990288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slative basi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paration of the Federal law o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90760" y="2058840"/>
            <a:ext cx="53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48006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476280"/>
            <a:ext cx="9389880" cy="112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-Russia agricultural census program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n household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in demographic characteristics of owner and his household f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al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al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machinery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ructions and othe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FD00592_(p)" descr="Click To Download"/>
          <p:cNvPicPr/>
          <p:nvPr/>
        </p:nvPicPr>
        <p:blipFill>
          <a:blip r:embed="rId1"/>
          <a:stretch/>
        </p:blipFill>
        <p:spPr>
          <a:xfrm>
            <a:off x="7924680" y="40384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jects of agricultural censu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8686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ubjects of agricultural census ar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al bodies 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agricultural plo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using them or having agricultural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s o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 agricultural plo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hem or having agricultural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50292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267120"/>
            <a:ext cx="924408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4120" y="782280"/>
            <a:ext cx="449568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5" idx="0"/>
            <a:endCxn id="96" idx="0"/>
          </p:cNvCxnSpPr>
          <p:nvPr/>
        </p:nvCxnSpPr>
        <p:spPr>
          <a:xfrm flipV="1">
            <a:off x="2018880" y="1170720"/>
            <a:ext cx="1359720" cy="42948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8" idx="0"/>
            <a:endCxn id="99" idx="2"/>
          </p:cNvCxnSpPr>
          <p:nvPr/>
        </p:nvCxnSpPr>
        <p:spPr>
          <a:xfrm flipH="1" flipV="1">
            <a:off x="4762080" y="1161360"/>
            <a:ext cx="38880" cy="4388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0"/>
            <a:endCxn id="96" idx="1"/>
          </p:cNvCxnSpPr>
          <p:nvPr/>
        </p:nvCxnSpPr>
        <p:spPr>
          <a:xfrm flipH="1" flipV="1">
            <a:off x="5841720" y="1170720"/>
            <a:ext cx="1854720" cy="42948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0"/>
            <a:endCxn id="104" idx="0"/>
          </p:cNvCxnSpPr>
          <p:nvPr/>
        </p:nvCxnSpPr>
        <p:spPr>
          <a:xfrm flipV="1">
            <a:off x="1333080" y="2323800"/>
            <a:ext cx="297720" cy="12578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0"/>
            <a:endCxn id="95" idx="2"/>
          </p:cNvCxnSpPr>
          <p:nvPr/>
        </p:nvCxnSpPr>
        <p:spPr>
          <a:xfrm flipH="1" flipV="1">
            <a:off x="2018520" y="2285640"/>
            <a:ext cx="686520" cy="129600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8" idx="0"/>
            <a:endCxn id="104" idx="1"/>
          </p:cNvCxnSpPr>
          <p:nvPr/>
        </p:nvCxnSpPr>
        <p:spPr>
          <a:xfrm flipH="1" flipV="1">
            <a:off x="2408040" y="2323800"/>
            <a:ext cx="1699200" cy="125784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10" idx="0"/>
            <a:endCxn id="111" idx="0"/>
          </p:cNvCxnSpPr>
          <p:nvPr/>
        </p:nvCxnSpPr>
        <p:spPr>
          <a:xfrm flipH="1" flipV="1">
            <a:off x="4495320" y="2400120"/>
            <a:ext cx="1067760" cy="118152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112" name=""/>
          <p:cNvCxnSpPr/>
          <p:nvPr/>
        </p:nvCxnSpPr>
        <p:spPr>
          <a:xfrm flipH="1" flipV="1">
            <a:off x="5257440" y="2361960"/>
            <a:ext cx="1448640" cy="1219680"/>
          </a:xfrm>
          <a:prstGeom prst="straightConnector1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553080" y="1600200"/>
            <a:ext cx="228600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vate (peasant) far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vidual enterpren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3581280"/>
            <a:ext cx="1143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rg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-siz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3581280"/>
            <a:ext cx="11430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87680" y="3581280"/>
            <a:ext cx="123660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rm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househol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-agricultur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z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3581280"/>
            <a:ext cx="1066680" cy="1828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v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useh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3581280"/>
            <a:ext cx="2209680" cy="274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cd9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ticulturist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chengarner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ttagers and thei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tizens which have pl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dividual 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vestock farmers and the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un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371600" y="685800"/>
            <a:ext cx="6781680" cy="485640"/>
            <a:chOff x="1371600" y="685800"/>
            <a:chExt cx="6781680" cy="485640"/>
          </a:xfrm>
        </p:grpSpPr>
        <p:sp>
          <p:nvSpPr>
            <p:cNvPr id="99" name=""/>
            <p:cNvSpPr/>
            <p:nvPr/>
          </p:nvSpPr>
          <p:spPr>
            <a:xfrm>
              <a:off x="1371600" y="685800"/>
              <a:ext cx="6781680" cy="456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5ffe3"/>
                </a:gs>
              </a:gsLst>
              <a:lin ang="54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fferent categories of agricultural produc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78240" y="1171440"/>
              <a:ext cx="2463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62120" y="1600200"/>
            <a:ext cx="2514600" cy="723960"/>
            <a:chOff x="762120" y="1600200"/>
            <a:chExt cx="2514600" cy="723960"/>
          </a:xfrm>
        </p:grpSpPr>
        <p:sp>
          <p:nvSpPr>
            <p:cNvPr id="95" name=""/>
            <p:cNvSpPr/>
            <p:nvPr/>
          </p:nvSpPr>
          <p:spPr>
            <a:xfrm>
              <a:off x="762120" y="1600200"/>
              <a:ext cx="2514600" cy="68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c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ricutural organiz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30440" y="2324160"/>
              <a:ext cx="777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581280" y="1600200"/>
            <a:ext cx="2438280" cy="800280"/>
            <a:chOff x="3581280" y="1600200"/>
            <a:chExt cx="2438280" cy="800280"/>
          </a:xfrm>
        </p:grpSpPr>
        <p:sp>
          <p:nvSpPr>
            <p:cNvPr id="98" name=""/>
            <p:cNvSpPr/>
            <p:nvPr/>
          </p:nvSpPr>
          <p:spPr>
            <a:xfrm>
              <a:off x="3581280" y="1600200"/>
              <a:ext cx="243828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ecd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ousehold far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95680" y="2400480"/>
              <a:ext cx="762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523880" y="2819160"/>
            <a:ext cx="68580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zation and methodology of pilot agricultural census co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1828800"/>
            <a:ext cx="8759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m of the pilot census is an examination of organizational and methodological principles  of All-Russia agricultural census conduc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data processing technology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ring the pilot agricultural census it’s necessary to provid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8800" y="4572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ilot agricultural census ai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FD00592_(p)" descr="Click To Download"/>
          <p:cNvPicPr/>
          <p:nvPr/>
        </p:nvPicPr>
        <p:blipFill>
          <a:blip r:embed="rId1"/>
          <a:stretch/>
        </p:blipFill>
        <p:spPr>
          <a:xfrm>
            <a:off x="7620120" y="480060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9067680" cy="500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pprob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program and methodology of agricultural census conduct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approbat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of agricultural census conducting terms, duration and methods of data collection from different agricultural producer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kit testing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sal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 load measurin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FD00592_(p)" descr="Click To Download"/>
          <p:cNvPicPr/>
          <p:nvPr/>
        </p:nvPicPr>
        <p:blipFill>
          <a:blip r:embed="rId1"/>
          <a:stretch/>
        </p:blipFill>
        <p:spPr>
          <a:xfrm>
            <a:off x="7924680" y="5105520"/>
            <a:ext cx="138744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8800" y="6858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495288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991720" cy="500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ewin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ssue of requirements for agricultural producers during All-Russia agricultural censu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bation of selection and employment of different population groups as  censal staff. Their labor compens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agricultural organization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8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io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e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duct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on of capital stock between shareholders (establishers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0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BD06639_" descr=""/>
          <p:cNvPicPr/>
          <p:nvPr/>
        </p:nvPicPr>
        <p:blipFill>
          <a:blip r:embed="rId1"/>
          <a:stretch/>
        </p:blipFill>
        <p:spPr>
          <a:xfrm>
            <a:off x="7772400" y="50292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private (peasant) farm and individual enterpreneu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9217080" cy="41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io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e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duct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BD06639_" descr=""/>
          <p:cNvPicPr/>
          <p:nvPr/>
        </p:nvPicPr>
        <p:blipFill>
          <a:blip r:embed="rId1"/>
          <a:stretch/>
        </p:blipFill>
        <p:spPr>
          <a:xfrm>
            <a:off x="8001000" y="502920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990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 of  required organizational and methodological arrangements for agricultural census conducting is determined by the Mid-term Prospects Social-Economic Development Program of the Russian Federation (2002-2004), (2003-2005)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FD00592_(p)" descr="Click To Download"/>
          <p:cNvPicPr/>
          <p:nvPr/>
        </p:nvPicPr>
        <p:blipFill>
          <a:blip r:embed="rId1"/>
          <a:stretch/>
        </p:blipFill>
        <p:spPr>
          <a:xfrm>
            <a:off x="8153280" y="502920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2376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private household farms and other individual household farm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991360" cy="45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   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 for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demographic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ricultural production s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mea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duction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75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supplied to private household far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D06639_" descr=""/>
          <p:cNvPicPr/>
          <p:nvPr/>
        </p:nvPicPr>
        <p:blipFill>
          <a:blip r:embed="rId1"/>
          <a:stretch/>
        </p:blipFill>
        <p:spPr>
          <a:xfrm>
            <a:off x="7772400" y="49528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estionnai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“on horticultura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tchen garde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cottage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commercial communitie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763120" cy="378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55680" indent="-355680">
              <a:spcBef>
                <a:spcPts val="624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eneral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resource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ir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312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wn area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agricultural cr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pulation of agricultural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50000"/>
              </a:lnSpc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spcBef>
                <a:spcPts val="624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BD06639_" descr=""/>
          <p:cNvPicPr/>
          <p:nvPr/>
        </p:nvPicPr>
        <p:blipFill>
          <a:blip r:embed="rId1"/>
          <a:stretch/>
        </p:blipFill>
        <p:spPr>
          <a:xfrm>
            <a:off x="7924680" y="4800600"/>
            <a:ext cx="1524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9244080" cy="17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ata collection methods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5905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 algn="just">
              <a:lnSpc>
                <a:spcPct val="90000"/>
              </a:lnSpc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 agricultural organizations the respondents filled the questionnaires themse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for other census subjects the general request meth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use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FD00592_(p)" descr="Click To Download"/>
          <p:cNvPicPr/>
          <p:nvPr/>
        </p:nvPicPr>
        <p:blipFill>
          <a:blip r:embed="rId1"/>
          <a:stretch/>
        </p:blipFill>
        <p:spPr>
          <a:xfrm>
            <a:off x="7620120" y="4876920"/>
            <a:ext cx="1463400" cy="1463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38280" y="1905120"/>
            <a:ext cx="541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61760" y="2590560"/>
            <a:ext cx="89154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 actuality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FD00592_(p)" descr="Click To Download"/>
          <p:cNvPicPr/>
          <p:nvPr/>
        </p:nvPicPr>
        <p:blipFill>
          <a:blip r:embed="rId1"/>
          <a:stretch/>
        </p:blipFill>
        <p:spPr>
          <a:xfrm>
            <a:off x="7924680" y="46483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390760" y="2058840"/>
            <a:ext cx="5391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0720" y="4762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9244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in agricultural production structure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 different household categories</a:t>
            </a:r>
            <a:br>
              <a:rPr sz="20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all category household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00080" y="1573200"/>
          <a:ext cx="962964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80" y="1573200"/>
                    <a:ext cx="9629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936936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ing sampling method for agricultural activity survey of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ivat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asan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rm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-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useholds farms</a:t>
            </a:r>
            <a:br>
              <a:rPr sz="36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677520" y="914400"/>
            <a:ext cx="225360" cy="24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5000"/>
          </a:bodyPr>
          <a:p>
            <a:pPr indent="0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FD00592_(p)" descr="Click To Download"/>
          <p:cNvPicPr/>
          <p:nvPr/>
        </p:nvPicPr>
        <p:blipFill>
          <a:blip r:embed="rId1"/>
          <a:stretch/>
        </p:blipFill>
        <p:spPr>
          <a:xfrm>
            <a:off x="8077320" y="49528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75920"/>
            <a:ext cx="931392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ricultural censuses in Russ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9524880" cy="346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agricultural census was conducted i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16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1917,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19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riculture crops sown area census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96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76, 198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 all categories of househol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uit berries and grapes crop censu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1970, 198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in all categories of household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10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ensus on livestock population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January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99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population house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FD00592_(p)" descr="Click To Download"/>
          <p:cNvPicPr/>
          <p:nvPr/>
        </p:nvPicPr>
        <p:blipFill>
          <a:blip r:embed="rId1"/>
          <a:stretch/>
        </p:blipFill>
        <p:spPr>
          <a:xfrm>
            <a:off x="7848720" y="502920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42640" y="26668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-Russia agricultural cen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s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FD00592_(p)" descr="Click To Download"/>
          <p:cNvPicPr/>
          <p:nvPr/>
        </p:nvPicPr>
        <p:blipFill>
          <a:blip r:embed="rId1"/>
          <a:stretch/>
        </p:blipFill>
        <p:spPr>
          <a:xfrm>
            <a:off x="8001000" y="4800600"/>
            <a:ext cx="1463760" cy="1463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8280" y="2209680"/>
            <a:ext cx="53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947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gricultural census will involv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br>
              <a:rPr sz="8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thousands of large and medium agricultural organiz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housands of small enterpri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4 thousands of private (peasant) fa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millions of  private household far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 millions families which have collective and individual kitchen garde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than 5 millions families which have plots for individual constru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other agricultural produc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FD00592_(p)" descr="Click To Download"/>
          <p:cNvPicPr/>
          <p:nvPr/>
        </p:nvPicPr>
        <p:blipFill>
          <a:blip r:embed="rId1"/>
          <a:stretch/>
        </p:blipFill>
        <p:spPr>
          <a:xfrm>
            <a:off x="8153280" y="4952880"/>
            <a:ext cx="146376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9389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-Russia agricultural census ai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601200" cy="37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on mai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agricultural productio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ualization of general totalities to organize sample surve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 of statistical survey indicators on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abase on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dministrative entities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-23508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ail characteristics agricultural producti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just">
              <a:lnSpc>
                <a:spcPct val="90000"/>
              </a:lnSpc>
              <a:spcBef>
                <a:spcPts val="4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FD00592_(p)" descr="Click To Download"/>
          <p:cNvPicPr/>
          <p:nvPr/>
        </p:nvPicPr>
        <p:blipFill>
          <a:blip r:embed="rId1"/>
          <a:stretch/>
        </p:blipFill>
        <p:spPr>
          <a:xfrm>
            <a:off x="8077320" y="495288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1:12:27Z</dcterms:created>
  <dc:creator>Andrey Slyusarenko</dc:creator>
  <dc:description/>
  <dc:language>en-US</dc:language>
  <cp:lastModifiedBy>User</cp:lastModifiedBy>
  <cp:lastPrinted>2000-11-29T10:51:11Z</cp:lastPrinted>
  <dcterms:modified xsi:type="dcterms:W3CDTF">2004-10-19T05:55:37Z</dcterms:modified>
  <cp:revision>19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9942653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3</vt:lpwstr>
  </property>
</Properties>
</file>