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902825" cy="6858000"/>
  <p:notesSz cx="6710363" cy="9845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10400" cy="984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1800" y="-324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01960" y="-3240"/>
            <a:ext cx="29116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-1800" y="935028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01960" y="9350280"/>
            <a:ext cx="29116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62F99DF-30B5-4D54-98C6-92201A75C1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896760" y="4676400"/>
            <a:ext cx="4918320" cy="4427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701280" y="744480"/>
            <a:ext cx="5313240" cy="367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96760" y="4676400"/>
            <a:ext cx="4918320" cy="44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96760" y="4676400"/>
            <a:ext cx="4918320" cy="44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6400" y="4676400"/>
            <a:ext cx="5170680" cy="44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96400" y="4676400"/>
            <a:ext cx="5170680" cy="4427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96760" y="4676400"/>
            <a:ext cx="4918320" cy="4427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6760" y="4676400"/>
            <a:ext cx="4918320" cy="4427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6760" y="4676400"/>
            <a:ext cx="4918320" cy="4427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96760" y="4676400"/>
            <a:ext cx="4918320" cy="4427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30280" y="4770360"/>
            <a:ext cx="5764320" cy="46180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marL="228600" indent="0">
              <a:spcBef>
                <a:spcPts val="176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44960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1120" y="3779640"/>
            <a:ext cx="44960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81120" y="377964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85120" y="377964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701400" y="116316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21680" y="116316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81120" y="377964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701400" y="377964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221680" y="377964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81120" y="1163160"/>
            <a:ext cx="44960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44960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0720" y="476280"/>
            <a:ext cx="9244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1120" y="377964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85120" y="377964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81120" y="3779640"/>
            <a:ext cx="44960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81120" y="1163160"/>
            <a:ext cx="44960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3508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0560" indent="-22860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37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486080" indent="-228600">
              <a:spcBef>
                <a:spcPts val="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486080" indent="-228600">
              <a:spcBef>
                <a:spcPts val="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486080" indent="-228600">
              <a:spcBef>
                <a:spcPts val="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753240" y="3251160"/>
            <a:ext cx="2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68280" y="6553080"/>
            <a:ext cx="953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47080" y="6654960"/>
            <a:ext cx="18558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248520" y="6649920"/>
            <a:ext cx="34574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6320" y="50760"/>
            <a:ext cx="27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84320" y="398520"/>
            <a:ext cx="953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13720" y="109440"/>
            <a:ext cx="299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l-Russia Agricultural Census 200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5181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cow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main1x1e" descr=""/>
          <p:cNvPicPr/>
          <p:nvPr/>
        </p:nvPicPr>
        <p:blipFill>
          <a:blip r:embed="rId1"/>
          <a:stretch/>
        </p:blipFill>
        <p:spPr>
          <a:xfrm>
            <a:off x="0" y="380880"/>
            <a:ext cx="588636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main1x12" descr=""/>
          <p:cNvPicPr/>
          <p:nvPr/>
        </p:nvPicPr>
        <p:blipFill>
          <a:blip r:embed="rId2"/>
          <a:stretch/>
        </p:blipFill>
        <p:spPr>
          <a:xfrm>
            <a:off x="0" y="1295280"/>
            <a:ext cx="156528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4320" y="6392880"/>
            <a:ext cx="953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80880"/>
            <a:ext cx="953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838080"/>
            <a:ext cx="99028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islative basi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-Russia agricultural cen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 of the Federal law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-Russia agricultural cen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90760" y="2058840"/>
            <a:ext cx="539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FD00592_(p)" descr="Click To Download"/>
          <p:cNvPicPr/>
          <p:nvPr/>
        </p:nvPicPr>
        <p:blipFill>
          <a:blip r:embed="rId1"/>
          <a:stretch/>
        </p:blipFill>
        <p:spPr>
          <a:xfrm>
            <a:off x="8001000" y="480060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476280"/>
            <a:ext cx="938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-Russia agricultural census program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on household 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demographic characteristics of owner and his household 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ricultural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ricultural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machinery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uctions and other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FD00592_(p)" descr="Click To Download"/>
          <p:cNvPicPr/>
          <p:nvPr/>
        </p:nvPicPr>
        <p:blipFill>
          <a:blip r:embed="rId1"/>
          <a:stretch/>
        </p:blipFill>
        <p:spPr>
          <a:xfrm>
            <a:off x="7924680" y="40384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s of agricultural censu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bjects of agricultural census ar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l bodies o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 agricultural plo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using them or having agricultural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s o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 agricultural plo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em or having agricultural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FD00592_(p)" descr="Click To Download"/>
          <p:cNvPicPr/>
          <p:nvPr/>
        </p:nvPicPr>
        <p:blipFill>
          <a:blip r:embed="rId1"/>
          <a:stretch/>
        </p:blipFill>
        <p:spPr>
          <a:xfrm>
            <a:off x="8001000" y="502920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267120"/>
            <a:ext cx="924408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4120" y="782280"/>
            <a:ext cx="449568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5" idx="0"/>
            <a:endCxn id="96" idx="0"/>
          </p:cNvCxnSpPr>
          <p:nvPr/>
        </p:nvCxnSpPr>
        <p:spPr>
          <a:xfrm flipV="1">
            <a:off x="2018880" y="1170720"/>
            <a:ext cx="1359720" cy="42948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8" idx="0"/>
            <a:endCxn id="99" idx="2"/>
          </p:cNvCxnSpPr>
          <p:nvPr/>
        </p:nvCxnSpPr>
        <p:spPr>
          <a:xfrm flipH="1" flipV="1">
            <a:off x="4762080" y="1161360"/>
            <a:ext cx="38880" cy="43884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0"/>
            <a:endCxn id="96" idx="1"/>
          </p:cNvCxnSpPr>
          <p:nvPr/>
        </p:nvCxnSpPr>
        <p:spPr>
          <a:xfrm flipH="1" flipV="1">
            <a:off x="5841720" y="1170720"/>
            <a:ext cx="1854720" cy="42948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0"/>
            <a:endCxn id="104" idx="0"/>
          </p:cNvCxnSpPr>
          <p:nvPr/>
        </p:nvCxnSpPr>
        <p:spPr>
          <a:xfrm flipV="1">
            <a:off x="1333080" y="2323800"/>
            <a:ext cx="297720" cy="125784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0"/>
            <a:endCxn id="95" idx="2"/>
          </p:cNvCxnSpPr>
          <p:nvPr/>
        </p:nvCxnSpPr>
        <p:spPr>
          <a:xfrm flipH="1" flipV="1">
            <a:off x="2018520" y="2285640"/>
            <a:ext cx="686520" cy="129600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8" idx="0"/>
            <a:endCxn id="104" idx="1"/>
          </p:cNvCxnSpPr>
          <p:nvPr/>
        </p:nvCxnSpPr>
        <p:spPr>
          <a:xfrm flipH="1" flipV="1">
            <a:off x="2408040" y="2323800"/>
            <a:ext cx="1699200" cy="125784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10" idx="0"/>
            <a:endCxn id="111" idx="0"/>
          </p:cNvCxnSpPr>
          <p:nvPr/>
        </p:nvCxnSpPr>
        <p:spPr>
          <a:xfrm flipH="1" flipV="1">
            <a:off x="4495320" y="2400120"/>
            <a:ext cx="1067760" cy="118152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12" name=""/>
          <p:cNvCxnSpPr/>
          <p:nvPr/>
        </p:nvCxnSpPr>
        <p:spPr>
          <a:xfrm flipH="1" flipV="1">
            <a:off x="5257440" y="2361960"/>
            <a:ext cx="1448640" cy="121968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6553080" y="1600200"/>
            <a:ext cx="228600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cd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vate (peasant) far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vidual enterpren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581280"/>
            <a:ext cx="1143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cd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rg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-s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3581280"/>
            <a:ext cx="1143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cd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m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87680" y="3581280"/>
            <a:ext cx="12366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cd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usehol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rm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househ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agricultur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581280"/>
            <a:ext cx="106668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cd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use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3581280"/>
            <a:ext cx="2209680" cy="274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cd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ticulturists and the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chengarners and the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ttagers and thei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un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tizens which have pl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ndividual co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vestock farmers and the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un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371600" y="685800"/>
            <a:ext cx="6781680" cy="485640"/>
            <a:chOff x="1371600" y="685800"/>
            <a:chExt cx="6781680" cy="485640"/>
          </a:xfrm>
        </p:grpSpPr>
        <p:sp>
          <p:nvSpPr>
            <p:cNvPr id="99" name=""/>
            <p:cNvSpPr/>
            <p:nvPr/>
          </p:nvSpPr>
          <p:spPr>
            <a:xfrm>
              <a:off x="1371600" y="685800"/>
              <a:ext cx="6781680" cy="45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5ffe3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fferent categories of agricultural produc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78240" y="1171440"/>
              <a:ext cx="2463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62120" y="1600200"/>
            <a:ext cx="2514600" cy="723960"/>
            <a:chOff x="762120" y="1600200"/>
            <a:chExt cx="2514600" cy="723960"/>
          </a:xfrm>
        </p:grpSpPr>
        <p:sp>
          <p:nvSpPr>
            <p:cNvPr id="95" name=""/>
            <p:cNvSpPr/>
            <p:nvPr/>
          </p:nvSpPr>
          <p:spPr>
            <a:xfrm>
              <a:off x="762120" y="1600200"/>
              <a:ext cx="2514600" cy="68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ecd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ricutural organiz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0440" y="2324160"/>
              <a:ext cx="777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581280" y="1600200"/>
            <a:ext cx="2438280" cy="800280"/>
            <a:chOff x="3581280" y="1600200"/>
            <a:chExt cx="2438280" cy="800280"/>
          </a:xfrm>
        </p:grpSpPr>
        <p:sp>
          <p:nvSpPr>
            <p:cNvPr id="98" name=""/>
            <p:cNvSpPr/>
            <p:nvPr/>
          </p:nvSpPr>
          <p:spPr>
            <a:xfrm>
              <a:off x="3581280" y="1600200"/>
              <a:ext cx="243828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ecd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ousehold fa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95680" y="2400480"/>
              <a:ext cx="762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523880" y="28191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ization and methodology of pilot agricultural census co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828800"/>
            <a:ext cx="8759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m of the pilot census is an examination of organizational and methodological principles  of All-Russia agricultural census conduc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ata processing technology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ing the pilot agricultural census it’s necessary to provid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8800" y="45720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ilot agricultural census ai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FD00592_(p)" descr="Click To Download"/>
          <p:cNvPicPr/>
          <p:nvPr/>
        </p:nvPicPr>
        <p:blipFill>
          <a:blip r:embed="rId1"/>
          <a:stretch/>
        </p:blipFill>
        <p:spPr>
          <a:xfrm>
            <a:off x="7620120" y="4800600"/>
            <a:ext cx="14634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9067680" cy="500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pprob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program and methodology of agricultural census conductin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pprob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gricultural census conducting terms, duration and methods of data collection from different agricultural producer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kit testing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sal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 load measurin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FD00592_(p)" descr="Click To Download"/>
          <p:cNvPicPr/>
          <p:nvPr/>
        </p:nvPicPr>
        <p:blipFill>
          <a:blip r:embed="rId1"/>
          <a:stretch/>
        </p:blipFill>
        <p:spPr>
          <a:xfrm>
            <a:off x="7924680" y="5105520"/>
            <a:ext cx="138744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8800" y="68580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FD00592_(p)" descr="Click To Download"/>
          <p:cNvPicPr/>
          <p:nvPr/>
        </p:nvPicPr>
        <p:blipFill>
          <a:blip r:embed="rId1"/>
          <a:stretch/>
        </p:blipFill>
        <p:spPr>
          <a:xfrm>
            <a:off x="8001000" y="495288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99172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ewin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ssue of requirements for agricultural producers during All-Russia agricultural censu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bation of selection and employment of different population groups as  censal staff. Their labor compens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estionnai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on agricultural organization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-355680"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eral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for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s demographic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resourc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i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wn area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gricultural c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of agricultural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production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mea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roduction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ion of capital stock between shareholders (establishers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BD06639_" descr=""/>
          <p:cNvPicPr/>
          <p:nvPr/>
        </p:nvPicPr>
        <p:blipFill>
          <a:blip r:embed="rId1"/>
          <a:stretch/>
        </p:blipFill>
        <p:spPr>
          <a:xfrm>
            <a:off x="7772400" y="5029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estionnai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on private (peasant) farm and individual enterpreneur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9217080" cy="41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eral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for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s demographic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resourc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i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wn area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gricultural c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of agricultural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production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mea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roduction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BD06639_" descr=""/>
          <p:cNvPicPr/>
          <p:nvPr/>
        </p:nvPicPr>
        <p:blipFill>
          <a:blip r:embed="rId1"/>
          <a:stretch/>
        </p:blipFill>
        <p:spPr>
          <a:xfrm>
            <a:off x="8001000" y="50292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990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lementation  of  required organizational and methodological arrangements for agricultural census conducting is determined by the Mid-term Prospects Social-Economic Development Program of the Russian Federation (2002-2004), (2003-2005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D00592_(p)" descr="Click To Download"/>
          <p:cNvPicPr/>
          <p:nvPr/>
        </p:nvPicPr>
        <p:blipFill>
          <a:blip r:embed="rId1"/>
          <a:stretch/>
        </p:blipFill>
        <p:spPr>
          <a:xfrm>
            <a:off x="8153280" y="502920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923760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estionnai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on private household farms and other individual household farm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991360" cy="45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  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eral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for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s demographic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resourc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i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wn area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gricultural c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of agricultural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production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mea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roduction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supplied to private household far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BD06639_" descr=""/>
          <p:cNvPicPr/>
          <p:nvPr/>
        </p:nvPicPr>
        <p:blipFill>
          <a:blip r:embed="rId1"/>
          <a:stretch/>
        </p:blipFill>
        <p:spPr>
          <a:xfrm>
            <a:off x="7772400" y="49528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estionnai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on horticultura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tchen garde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cottage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commercial communiti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763120" cy="37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-355680"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eral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resourc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i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312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wn area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gricultural c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of agricultural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BD06639_" descr=""/>
          <p:cNvPicPr/>
          <p:nvPr/>
        </p:nvPicPr>
        <p:blipFill>
          <a:blip r:embed="rId1"/>
          <a:stretch/>
        </p:blipFill>
        <p:spPr>
          <a:xfrm>
            <a:off x="7924680" y="48006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720" y="475920"/>
            <a:ext cx="9244080" cy="17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 collection methods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indent="0" algn="just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agricultural organizations the respondents filled the questionnaires themse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other census subjects the general request metho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use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FD00592_(p)" descr="Click To Download"/>
          <p:cNvPicPr/>
          <p:nvPr/>
        </p:nvPicPr>
        <p:blipFill>
          <a:blip r:embed="rId1"/>
          <a:stretch/>
        </p:blipFill>
        <p:spPr>
          <a:xfrm>
            <a:off x="7620120" y="4876920"/>
            <a:ext cx="1463400" cy="1463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38280" y="1905120"/>
            <a:ext cx="541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1760" y="2590560"/>
            <a:ext cx="8915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-Russia agricultural census actuality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FD00592_(p)" descr="Click To Download"/>
          <p:cNvPicPr/>
          <p:nvPr/>
        </p:nvPicPr>
        <p:blipFill>
          <a:blip r:embed="rId1"/>
          <a:stretch/>
        </p:blipFill>
        <p:spPr>
          <a:xfrm>
            <a:off x="7924680" y="4648320"/>
            <a:ext cx="1463760" cy="146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90760" y="2058840"/>
            <a:ext cx="539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agricultural production structure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 different household categories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all category household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0080" y="1573200"/>
          <a:ext cx="962964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573200"/>
                    <a:ext cx="9629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93693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ing sampling method for agricultural activity survey of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ivat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asa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rm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-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seholds farms</a:t>
            </a:r>
            <a:br>
              <a:rPr sz="36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77520" y="914400"/>
            <a:ext cx="225360" cy="24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5000"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FD00592_(p)" descr="Click To Download"/>
          <p:cNvPicPr/>
          <p:nvPr/>
        </p:nvPicPr>
        <p:blipFill>
          <a:blip r:embed="rId1"/>
          <a:stretch/>
        </p:blipFill>
        <p:spPr>
          <a:xfrm>
            <a:off x="8077320" y="4952880"/>
            <a:ext cx="14634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931392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ricultural censuses in Russ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9524880" cy="346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agricultural census was conducted i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16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1917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19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riculture crops sown area censuse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196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76, 198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 all categories of househol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uit berries and grapes crop censu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1970, 198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 all categories of househol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sus on livestock population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anuary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9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population house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FD00592_(p)" descr="Click To Download"/>
          <p:cNvPicPr/>
          <p:nvPr/>
        </p:nvPicPr>
        <p:blipFill>
          <a:blip r:embed="rId1"/>
          <a:stretch/>
        </p:blipFill>
        <p:spPr>
          <a:xfrm>
            <a:off x="7848720" y="5029200"/>
            <a:ext cx="14634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6668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-Russia agricultural cen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m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FD00592_(p)" descr="Click To Download"/>
          <p:cNvPicPr/>
          <p:nvPr/>
        </p:nvPicPr>
        <p:blipFill>
          <a:blip r:embed="rId1"/>
          <a:stretch/>
        </p:blipFill>
        <p:spPr>
          <a:xfrm>
            <a:off x="8001000" y="480060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38280" y="2209680"/>
            <a:ext cx="53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9472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gricultural census will involv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br>
              <a:rPr sz="8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thousands of large and medium agricultural organiz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thousands of small enterpris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4 thousands of private (peasant) far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millions of  private household far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 millions families which have collective and individual kitchen garde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5 millions families which have plots for individual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ther agricultural produc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FD00592_(p)" descr="Click To Download"/>
          <p:cNvPicPr/>
          <p:nvPr/>
        </p:nvPicPr>
        <p:blipFill>
          <a:blip r:embed="rId1"/>
          <a:stretch/>
        </p:blipFill>
        <p:spPr>
          <a:xfrm>
            <a:off x="8153280" y="49528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9389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-Russia agricultural census a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601200" cy="37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25520" indent="-23508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n main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agricultural productio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ualization of general totalities to organize sample surve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of statistical survey indicators on agricul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 on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administrative entitie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 characteristics agricultural producti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FD00592_(p)" descr="Click To Download"/>
          <p:cNvPicPr/>
          <p:nvPr/>
        </p:nvPicPr>
        <p:blipFill>
          <a:blip r:embed="rId1"/>
          <a:stretch/>
        </p:blipFill>
        <p:spPr>
          <a:xfrm>
            <a:off x="8077320" y="4952880"/>
            <a:ext cx="14634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11:12:27Z</dcterms:created>
  <dc:creator>Andrey Slyusarenko</dc:creator>
  <dc:description/>
  <dc:language>en-US</dc:language>
  <cp:lastModifiedBy>User</cp:lastModifiedBy>
  <cp:lastPrinted>2000-11-29T10:51:11Z</cp:lastPrinted>
  <dcterms:modified xsi:type="dcterms:W3CDTF">2004-10-19T05:55:37Z</dcterms:modified>
  <cp:revision>19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9942653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11:30 room 3</vt:lpwstr>
  </property>
</Properties>
</file>