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818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D3F7-C127-4A88-B630-AD65E5BEC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4D69-E1FB-4D54-917F-ACC9A049B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0CA4-E25B-43E6-8562-AA2667103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03D9-2998-4492-AB65-706D810290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CDBD-992C-425E-8985-7199A7BCC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B576-276A-4DB2-B07D-E6159FBDE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0EE1F-49B8-48CD-87A5-77848A78A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35B2-DE72-4B00-9C6B-D8355B7D1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DE8A-6F6E-4DFE-8293-1B34F90C2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61CE-5E36-4094-BBE5-5CA4664690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20F8-F9E5-4DE0-99D8-BCB0A547B5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9FBF-5E81-474B-BB96-1A683BC75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74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5419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69B-F8D2-40F1-8D13-DED48250875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5680" y="6572160"/>
            <a:ext cx="2209680" cy="228600"/>
          </a:xfrm>
          <a:prstGeom prst="rect">
            <a:avLst/>
          </a:prstGeom>
          <a:solidFill>
            <a:srgbClr val="8593c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2066760" y="6571800"/>
            <a:ext cx="277920" cy="228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9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B9B9-A2C6-4A50-A4BA-78B80066ED89}" type="slidenum">
              <a:rPr b="0" lang="en-US" sz="9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305000" y="-76320"/>
            <a:ext cx="90295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542880" y="533520"/>
            <a:ext cx="0" cy="624816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 rot="16800">
            <a:off x="75600" y="6552720"/>
            <a:ext cx="2438280" cy="214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7520" bIns="4752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JRC – Isp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62000" y="1981080"/>
            <a:ext cx="331560" cy="356868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9360" y="0"/>
            <a:ext cx="2590920" cy="65232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4"/>
          <a:stretch/>
        </p:blipFill>
        <p:spPr>
          <a:xfrm>
            <a:off x="8229600" y="6156360"/>
            <a:ext cx="758880" cy="6033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981080"/>
            <a:ext cx="8153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523880"/>
            <a:ext cx="8153280" cy="34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rea frames for land cover estimation: Improving the European LUCAS surve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vier Gall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Jacques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Delinc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2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with different photo-interpretation accuracy level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hoto-interpretation (=ground ob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-interpretation with errors estimated from the 2004 experience in Gree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1887" t="31843" r="13209" b="20983"/>
          <a:stretch/>
        </p:blipFill>
        <p:spPr>
          <a:xfrm>
            <a:off x="1752480" y="3886200"/>
            <a:ext cx="5562720" cy="24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3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cation efficiency computed comparing the estimated variances with a modified Matern estimato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3773" t="24767" r="5660" b="30418"/>
          <a:stretch/>
        </p:blipFill>
        <p:spPr>
          <a:xfrm>
            <a:off x="838080" y="3048120"/>
            <a:ext cx="8001000" cy="3166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772400" y="4191120"/>
            <a:ext cx="838080" cy="2133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st land cover types, 70%-90% of the variance comes the variability between P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 improvement by increasing the number of points in the PSU or mapping the whole PS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ing the variance, the current 10 points of a PSU 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valent to 3-4 uncluster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ences in Italy and Greece suggest that the cost of 3-4 unclustered point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a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visit than the current cluster of 1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priorities of the EU, a possi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ear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CAS survey should focus 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nual crop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recom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atif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photo-interpretation of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pre-sample of points on ortho-photograp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ives better efficiency than previously tested approaches in Europe (2-4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ification of unclustered points is expected to give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itional reduction of 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a factor between 1.1 and 1.5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48769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298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09480"/>
            <a:ext cx="7010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Area Frames: remi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ing units are parts of a cartographic representation of a territory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l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ular shape (e.g.: square segments in MAST, Spai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cal boundaries: roads, rivers…(e.g.: US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ects: Straight lines of a certa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ten used in environmental studies (estimation of species abundanc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. In practice they are “small” pieces of land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6094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sample design of LUCAS 2001-200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(Land Use/Cover Area-frame Surve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stratified systematic sample: clusters (PSUs) every 18 k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cluster: 10 points (SSUs) + 1 trans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76920" y="3352680"/>
            <a:ext cx="4267080" cy="2743200"/>
            <a:chOff x="4876920" y="3352680"/>
            <a:chExt cx="4267080" cy="27432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4876920" y="3352680"/>
              <a:ext cx="426708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398920" y="4411440"/>
              <a:ext cx="3042720" cy="2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299200" y="4316400"/>
              <a:ext cx="177840" cy="174240"/>
              <a:chOff x="5299200" y="4316400"/>
              <a:chExt cx="177840" cy="174240"/>
            </a:xfrm>
          </p:grpSpPr>
          <p:sp>
            <p:nvSpPr>
              <p:cNvPr id="63" name=""/>
              <p:cNvSpPr/>
              <p:nvPr/>
            </p:nvSpPr>
            <p:spPr>
              <a:xfrm>
                <a:off x="5299200" y="43164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>
                <a:off x="5299200" y="43164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077160" y="4324680"/>
              <a:ext cx="177840" cy="174240"/>
              <a:chOff x="6077160" y="4324680"/>
              <a:chExt cx="177840" cy="174240"/>
            </a:xfrm>
          </p:grpSpPr>
          <p:sp>
            <p:nvSpPr>
              <p:cNvPr id="66" name=""/>
              <p:cNvSpPr/>
              <p:nvPr/>
            </p:nvSpPr>
            <p:spPr>
              <a:xfrm>
                <a:off x="6077160" y="432468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6077160" y="432468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833520" y="4327920"/>
              <a:ext cx="177840" cy="174240"/>
              <a:chOff x="6833520" y="4327920"/>
              <a:chExt cx="177840" cy="174240"/>
            </a:xfrm>
          </p:grpSpPr>
          <p:sp>
            <p:nvSpPr>
              <p:cNvPr id="69" name=""/>
              <p:cNvSpPr/>
              <p:nvPr/>
            </p:nvSpPr>
            <p:spPr>
              <a:xfrm>
                <a:off x="6833520" y="43279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6833520" y="43279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7587000" y="4330800"/>
              <a:ext cx="177840" cy="174240"/>
              <a:chOff x="7587000" y="4330800"/>
              <a:chExt cx="177840" cy="174240"/>
            </a:xfrm>
          </p:grpSpPr>
          <p:sp>
            <p:nvSpPr>
              <p:cNvPr id="72" name=""/>
              <p:cNvSpPr/>
              <p:nvPr/>
            </p:nvSpPr>
            <p:spPr>
              <a:xfrm>
                <a:off x="7587000" y="43308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7587000" y="43308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8360280" y="4312440"/>
              <a:ext cx="177840" cy="174240"/>
              <a:chOff x="8360280" y="4312440"/>
              <a:chExt cx="177840" cy="174240"/>
            </a:xfrm>
          </p:grpSpPr>
          <p:sp>
            <p:nvSpPr>
              <p:cNvPr id="75" name=""/>
              <p:cNvSpPr/>
              <p:nvPr/>
            </p:nvSpPr>
            <p:spPr>
              <a:xfrm>
                <a:off x="8360280" y="4312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>
                <a:off x="8360280" y="4312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299200" y="5019480"/>
              <a:ext cx="177840" cy="174600"/>
              <a:chOff x="5299200" y="5019480"/>
              <a:chExt cx="177840" cy="174600"/>
            </a:xfrm>
          </p:grpSpPr>
          <p:sp>
            <p:nvSpPr>
              <p:cNvPr id="78" name=""/>
              <p:cNvSpPr/>
              <p:nvPr/>
            </p:nvSpPr>
            <p:spPr>
              <a:xfrm>
                <a:off x="5299200" y="5019480"/>
                <a:ext cx="177840" cy="174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5299200" y="5019480"/>
                <a:ext cx="177840" cy="1746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6066000" y="5011200"/>
              <a:ext cx="177840" cy="174240"/>
              <a:chOff x="6066000" y="5011200"/>
              <a:chExt cx="177840" cy="174240"/>
            </a:xfrm>
          </p:grpSpPr>
          <p:sp>
            <p:nvSpPr>
              <p:cNvPr id="81" name=""/>
              <p:cNvSpPr/>
              <p:nvPr/>
            </p:nvSpPr>
            <p:spPr>
              <a:xfrm>
                <a:off x="6066000" y="50112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6066000" y="501120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6832800" y="5031720"/>
              <a:ext cx="177840" cy="174240"/>
              <a:chOff x="6832800" y="5031720"/>
              <a:chExt cx="177840" cy="174240"/>
            </a:xfrm>
          </p:grpSpPr>
          <p:sp>
            <p:nvSpPr>
              <p:cNvPr id="84" name=""/>
              <p:cNvSpPr/>
              <p:nvPr/>
            </p:nvSpPr>
            <p:spPr>
              <a:xfrm>
                <a:off x="6832800" y="50317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6832800" y="503172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7599240" y="5023440"/>
              <a:ext cx="177840" cy="174240"/>
              <a:chOff x="7599240" y="5023440"/>
              <a:chExt cx="177840" cy="174240"/>
            </a:xfrm>
          </p:grpSpPr>
          <p:sp>
            <p:nvSpPr>
              <p:cNvPr id="87" name=""/>
              <p:cNvSpPr/>
              <p:nvPr/>
            </p:nvSpPr>
            <p:spPr>
              <a:xfrm>
                <a:off x="7599240" y="5023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7599240" y="502344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8357040" y="5027760"/>
              <a:ext cx="177840" cy="174240"/>
              <a:chOff x="8357040" y="5027760"/>
              <a:chExt cx="177840" cy="174240"/>
            </a:xfrm>
          </p:grpSpPr>
          <p:sp>
            <p:nvSpPr>
              <p:cNvPr id="90" name=""/>
              <p:cNvSpPr/>
              <p:nvPr/>
            </p:nvSpPr>
            <p:spPr>
              <a:xfrm>
                <a:off x="8357040" y="502776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8357040" y="5027760"/>
                <a:ext cx="177840" cy="174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85800" y="3397320"/>
            <a:ext cx="411480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6440" y="103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6094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UCAS two-stage var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572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stion: How much can we reduce the variance by increasing the sample in the 1500x900m PS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to 90% of the variance is between PS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e mapping of the whole PSU only reduces 10 to 30% of the var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3773" t="15331" r="49060" b="20983"/>
          <a:stretch/>
        </p:blipFill>
        <p:spPr>
          <a:xfrm>
            <a:off x="5264280" y="1523880"/>
            <a:ext cx="38797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Effect of the number of SSUs per PS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uld happen if we keep only one SSU instead of 10 in each PSU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arger would be the vari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85800" y="3429000"/>
                <a:ext cx="685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447920" y="3429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oportion of land cover c in PSU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41148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-1 variable for land cover c in PSU i – SSU 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85800" y="4114800"/>
                <a:ext cx="762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762120" y="4648320"/>
                <a:ext cx="323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1447920" y="46483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riance for land cover c using the whole P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62120" y="5149800"/>
                <a:ext cx="4572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447920" y="5181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variance for land cover c using only SSU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685800" y="5715000"/>
                <a:ext cx="1981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verag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286000" y="6019920"/>
                <a:ext cx="633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819520" y="6095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quivalent number of points of a P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62320" y="380880"/>
            <a:ext cx="6019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Ratio of variances EU15. Largest land cover typ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1752480"/>
          <a:ext cx="7238880" cy="4422960"/>
        </p:xfrm>
        <a:graphic>
          <a:graphicData uri="http://schemas.openxmlformats.org/drawingml/2006/table">
            <a:tbl>
              <a:tblPr/>
              <a:tblGrid>
                <a:gridCol w="4140000"/>
                <a:gridCol w="1619280"/>
                <a:gridCol w="1479600"/>
              </a:tblGrid>
              <a:tr h="644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rea *1000 ha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rianc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iferous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5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 gr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vd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9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xed for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rub no tr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m grass+tre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on w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2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t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. pas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91440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Equivalent number of points of a PSU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SU with 10 points is equivalent to approx. 3-4 unclustered poi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3-4 unclustered points more expensive or cheaper to visit than the 10 points of a LUCAS PSU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ent experiences in Italy and Greece indicate that 3-4 unclustered points are che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al ques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ratification more efficient when applied to unclustered poi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09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algn="ct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3500" spc="-1" strike="noStrike">
                <a:solidFill>
                  <a:srgbClr val="3333cc"/>
                </a:solidFill>
                <a:latin typeface="Arial"/>
              </a:rPr>
              <a:t>Stratific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160020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ason for non-stratified sampling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looking at all the land cover types, not only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s for stratified samp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ble land must be visited every year. Other land cover types can be visited every 5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cision requirements for annual crops are more restrictive than for other land cover typ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99"/>
                </a:solidFill>
                <a:latin typeface="Arial"/>
              </a:rPr>
              <a:t>Stratification efficiency (1)</a:t>
            </a:r>
            <a:endParaRPr b="0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ion on LUCAS 2001 da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800 LUCAS PSUs are seen as first-phas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trata by “simulated photointerpretation”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able land, permanent crops, pastures, non agrigultur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tointerpretation simulated by adding noise to ground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by PSUs: each PSU is attributed to the stratum corresponding to the most frequent class in photo-interpr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ification by unclustered poi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one point per PSU is kep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hoto-interpreted class determines directly the strat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0T09:24:43Z</dcterms:created>
  <dc:creator>Martin</dc:creator>
  <dc:description/>
  <dc:language>en-US</dc:language>
  <cp:lastModifiedBy>Jacques Delince</cp:lastModifiedBy>
  <cp:lastPrinted>2003-01-21T08:27:51Z</cp:lastPrinted>
  <dcterms:modified xsi:type="dcterms:W3CDTF">2004-11-02T12:43:08Z</dcterms:modified>
  <cp:revision>180</cp:revision>
  <dc:subject/>
  <dc:title>JOINT RESEARCH CENT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9496369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3</vt:lpwstr>
  </property>
</Properties>
</file>