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0D14-8EB8-41AD-A118-DE5643CBA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70A8-F907-4742-94A9-A6E9FA08A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56EC-47D1-4630-82C3-DF144DA5C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8B55-5B81-4E3C-8DA5-FCC07A155F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A42F-DB53-4F27-BEA0-633259BA3F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BA39-0240-422B-8ABB-E739C7FEC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0BE2-5285-4642-B208-AF33ACA92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A226-B141-4D9C-809F-AF8FBA4F4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A921-4A0E-4CCB-920A-1A52D0FC6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3484-8714-458B-8900-BB11BE516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AA7E-E768-4225-A748-7D9C3297E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7C87-C34F-444B-B3C0-CD238148A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174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5419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2C2A-9B26-4C89-A0B8-38F31B5B0D4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5680" y="6572160"/>
            <a:ext cx="2209680" cy="228600"/>
          </a:xfrm>
          <a:prstGeom prst="rect">
            <a:avLst/>
          </a:prstGeom>
          <a:solidFill>
            <a:srgbClr val="8593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2066760" y="6571800"/>
            <a:ext cx="277920" cy="228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84758-A878-4DF6-88D2-B54EA4422092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05000" y="-76320"/>
            <a:ext cx="90295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542880" y="533520"/>
            <a:ext cx="0" cy="62481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 rot="16800">
            <a:off x="75600" y="6552720"/>
            <a:ext cx="2438280" cy="214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RC – Isp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62000" y="1981080"/>
            <a:ext cx="331560" cy="35686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9360" y="0"/>
            <a:ext cx="2590920" cy="6523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8229600" y="6156360"/>
            <a:ext cx="758880" cy="603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81080"/>
            <a:ext cx="8153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523880"/>
            <a:ext cx="815328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ea frames for land cover estimation: Improving the European LUCAS surve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Javier Gall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Jacques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Delinc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Stratification efficiency (2)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with different photo-interpretation accuracy level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 photo-interpretation (=ground observ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-interpretation with errors estimated from the 2004 experience in Gree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887" t="31843" r="13209" b="20983"/>
          <a:stretch/>
        </p:blipFill>
        <p:spPr>
          <a:xfrm>
            <a:off x="1752480" y="3886200"/>
            <a:ext cx="556272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Stratification efficiency (3)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ification efficiency computed comparing the estimated variances with a modified Matern estimato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3773" t="24767" r="5660" b="30418"/>
          <a:stretch/>
        </p:blipFill>
        <p:spPr>
          <a:xfrm>
            <a:off x="838080" y="3048120"/>
            <a:ext cx="8001000" cy="3166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772400" y="4191120"/>
            <a:ext cx="838080" cy="2133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land cover types, 70%-90% of the variance comes the variability between P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improvement by increasing the number of points in the PSU or mapping the whole P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ing the variance, the current 10 points of a PSU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valent to 3-4 unclustered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in Italy and Greece suggest that the cost of 3-4 unclustered point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visit than the current cluster of 1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riorities of the EU, a possi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a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CAS survey should focu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cro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ification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if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photo-interpretation of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pre-sample of points on ortho-photogra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s better efficiency than previously tested approaches in Europe (2-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ification of unclustered points is expected to give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reduction of var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 factor between 1.1 and 1.5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64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64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876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298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094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rea Frames: remin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mpling units are parts of a cartographic representation of a territory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l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r shape (e.g.: square segments in MAST, Spai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boundaries: roads, rivers…(e.g.: US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ects: Straight lines of a certain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ten used in environmental studies (estimation of species abundan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s. In practice they are “small” pieces of lan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64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64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60948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e sample design of LUCAS 2001-200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Land Use/Cover Area-frame Surv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stratified systematic sample: clusters (PSUs) every 18 k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luster: 10 points (SSUs) + 1 trans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876920" y="3352680"/>
            <a:ext cx="4267080" cy="2743200"/>
            <a:chOff x="4876920" y="3352680"/>
            <a:chExt cx="4267080" cy="27432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4876920" y="3352680"/>
              <a:ext cx="42670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398920" y="4411440"/>
              <a:ext cx="3042720" cy="2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299200" y="4316400"/>
              <a:ext cx="177840" cy="174240"/>
              <a:chOff x="5299200" y="4316400"/>
              <a:chExt cx="177840" cy="174240"/>
            </a:xfrm>
          </p:grpSpPr>
          <p:sp>
            <p:nvSpPr>
              <p:cNvPr id="63" name=""/>
              <p:cNvSpPr/>
              <p:nvPr/>
            </p:nvSpPr>
            <p:spPr>
              <a:xfrm>
                <a:off x="5299200" y="431640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5299200" y="431640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6077160" y="4324680"/>
              <a:ext cx="177840" cy="174240"/>
              <a:chOff x="6077160" y="4324680"/>
              <a:chExt cx="177840" cy="174240"/>
            </a:xfrm>
          </p:grpSpPr>
          <p:sp>
            <p:nvSpPr>
              <p:cNvPr id="66" name=""/>
              <p:cNvSpPr/>
              <p:nvPr/>
            </p:nvSpPr>
            <p:spPr>
              <a:xfrm>
                <a:off x="6077160" y="432468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6077160" y="432468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6833520" y="4327920"/>
              <a:ext cx="177840" cy="174240"/>
              <a:chOff x="6833520" y="4327920"/>
              <a:chExt cx="177840" cy="174240"/>
            </a:xfrm>
          </p:grpSpPr>
          <p:sp>
            <p:nvSpPr>
              <p:cNvPr id="69" name=""/>
              <p:cNvSpPr/>
              <p:nvPr/>
            </p:nvSpPr>
            <p:spPr>
              <a:xfrm>
                <a:off x="6833520" y="432792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6833520" y="432792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7587000" y="4330800"/>
              <a:ext cx="177840" cy="174240"/>
              <a:chOff x="7587000" y="4330800"/>
              <a:chExt cx="177840" cy="174240"/>
            </a:xfrm>
          </p:grpSpPr>
          <p:sp>
            <p:nvSpPr>
              <p:cNvPr id="72" name=""/>
              <p:cNvSpPr/>
              <p:nvPr/>
            </p:nvSpPr>
            <p:spPr>
              <a:xfrm>
                <a:off x="7587000" y="433080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7587000" y="433080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8360280" y="4312440"/>
              <a:ext cx="177840" cy="174240"/>
              <a:chOff x="8360280" y="4312440"/>
              <a:chExt cx="177840" cy="174240"/>
            </a:xfrm>
          </p:grpSpPr>
          <p:sp>
            <p:nvSpPr>
              <p:cNvPr id="75" name=""/>
              <p:cNvSpPr/>
              <p:nvPr/>
            </p:nvSpPr>
            <p:spPr>
              <a:xfrm>
                <a:off x="8360280" y="431244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8360280" y="431244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299200" y="5019480"/>
              <a:ext cx="177840" cy="174600"/>
              <a:chOff x="5299200" y="5019480"/>
              <a:chExt cx="177840" cy="174600"/>
            </a:xfrm>
          </p:grpSpPr>
          <p:sp>
            <p:nvSpPr>
              <p:cNvPr id="78" name=""/>
              <p:cNvSpPr/>
              <p:nvPr/>
            </p:nvSpPr>
            <p:spPr>
              <a:xfrm>
                <a:off x="5299200" y="5019480"/>
                <a:ext cx="177840" cy="174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5299200" y="5019480"/>
                <a:ext cx="177840" cy="174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6066000" y="5011200"/>
              <a:ext cx="177840" cy="174240"/>
              <a:chOff x="6066000" y="5011200"/>
              <a:chExt cx="177840" cy="174240"/>
            </a:xfrm>
          </p:grpSpPr>
          <p:sp>
            <p:nvSpPr>
              <p:cNvPr id="81" name=""/>
              <p:cNvSpPr/>
              <p:nvPr/>
            </p:nvSpPr>
            <p:spPr>
              <a:xfrm>
                <a:off x="6066000" y="501120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6066000" y="501120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832800" y="5031720"/>
              <a:ext cx="177840" cy="174240"/>
              <a:chOff x="6832800" y="5031720"/>
              <a:chExt cx="177840" cy="174240"/>
            </a:xfrm>
          </p:grpSpPr>
          <p:sp>
            <p:nvSpPr>
              <p:cNvPr id="84" name=""/>
              <p:cNvSpPr/>
              <p:nvPr/>
            </p:nvSpPr>
            <p:spPr>
              <a:xfrm>
                <a:off x="6832800" y="503172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832800" y="503172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599240" y="5023440"/>
              <a:ext cx="177840" cy="174240"/>
              <a:chOff x="7599240" y="5023440"/>
              <a:chExt cx="177840" cy="174240"/>
            </a:xfrm>
          </p:grpSpPr>
          <p:sp>
            <p:nvSpPr>
              <p:cNvPr id="87" name=""/>
              <p:cNvSpPr/>
              <p:nvPr/>
            </p:nvSpPr>
            <p:spPr>
              <a:xfrm>
                <a:off x="7599240" y="502344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7599240" y="502344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8357040" y="5027760"/>
              <a:ext cx="177840" cy="174240"/>
              <a:chOff x="8357040" y="5027760"/>
              <a:chExt cx="177840" cy="174240"/>
            </a:xfrm>
          </p:grpSpPr>
          <p:sp>
            <p:nvSpPr>
              <p:cNvPr id="90" name=""/>
              <p:cNvSpPr/>
              <p:nvPr/>
            </p:nvSpPr>
            <p:spPr>
              <a:xfrm>
                <a:off x="8357040" y="502776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357040" y="502776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3397320"/>
            <a:ext cx="41148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64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64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0948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UCAS two-stage vari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: How much can we reduce the variance by increasing the sample in the 1500x900m PS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% to 90% of the variance is between P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e mapping of the whole PSU only reduces 10 to 30% of the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3773" t="15331" r="49060" b="20983"/>
          <a:stretch/>
        </p:blipFill>
        <p:spPr>
          <a:xfrm>
            <a:off x="5264280" y="1523880"/>
            <a:ext cx="38797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Effect of the number of SSUs per PSU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happen if we keep only one SSU instead of 10 in each PSU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arger would be the vari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85800" y="3429000"/>
                <a:ext cx="685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447920" y="3429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oportion of land cover c in PSU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41148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-1 variable for land cover c in PSU i – SSU 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85800" y="4114800"/>
                <a:ext cx="762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62120" y="4648320"/>
                <a:ext cx="323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447920" y="4648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ariance for land cover c using the whole P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514980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447920" y="5181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ariance for land cover c using only SSU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85800" y="5715000"/>
                <a:ext cx="1981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erag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86000" y="6019920"/>
                <a:ext cx="633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819520" y="6095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quivalent number of points of a P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62320" y="380880"/>
            <a:ext cx="6019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atio of variances EU15. Largest land cover typ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1752480"/>
          <a:ext cx="7238880" cy="4422960"/>
        </p:xfrm>
        <a:graphic>
          <a:graphicData uri="http://schemas.openxmlformats.org/drawingml/2006/table">
            <a:tbl>
              <a:tblPr/>
              <a:tblGrid>
                <a:gridCol w="4140000"/>
                <a:gridCol w="1619280"/>
                <a:gridCol w="1479600"/>
              </a:tblGrid>
              <a:tr h="64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*1000 h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nce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iferous for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5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m gr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vd for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xed for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7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rub no t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m grass+tre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on wh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2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t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. pas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9144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Equivalent number of points of a PS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SU with 10 points is equivalent to approx. 3-4 unclustered poi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3-4 unclustered points more expensive or cheaper to visit than the 10 points of a LUCAS PSU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cent experiences in Italy and Greece indicate that 3-4 unclustered points are chea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ditional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tratification more efficient when applied to unclustered poi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6094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Stratific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60020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ason for non-stratified sampling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looking at all the land cover types, not only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stratified samp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ble land must be visited every year. Other land cover types can be visited every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cision requirements for annual crops are more restrictive than for other land cover typ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Stratification efficiency (1)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on LUCAS 2001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00 LUCAS PSUs are seen as first-phas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trata by “simulated photointerpretation”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able land, permanent crops, pastures, non agrigultu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interpretation simulated by adding noise to ground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ification by PSUs: each PSU is attributed to the stratum corresponding to the most frequent class in photo-interpre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ification by unclustered poi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point per PSU is kep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hoto-interpreted class determines directly the strat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0T09:24:43Z</dcterms:created>
  <dc:creator>Martin</dc:creator>
  <dc:description/>
  <dc:language>en-US</dc:language>
  <cp:lastModifiedBy>Jacques Delince</cp:lastModifiedBy>
  <cp:lastPrinted>2003-01-21T08:27:51Z</cp:lastPrinted>
  <dcterms:modified xsi:type="dcterms:W3CDTF">2004-11-02T12:43:08Z</dcterms:modified>
  <cp:revision>180</cp:revision>
  <dc:subject/>
  <dc:title>JOINT RESEARCH CENT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496369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3 11:30 room 3</vt:lpwstr>
  </property>
</Properties>
</file>