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24000" y="1487520"/>
            <a:ext cx="8497800" cy="395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20720" y="2565360"/>
            <a:ext cx="5902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00"/>
                </a:solidFill>
                <a:latin typeface="Arial Black"/>
              </a:rPr>
              <a:t>MODELO DE ESTIMACIÓN  DE POB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623700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ORDINACIÓN GENERAL DE PAD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7680" y="1066680"/>
            <a:ext cx="8667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66"/>
                </a:solidFill>
                <a:latin typeface="Arial"/>
              </a:rPr>
              <a:t>INFORMACION SOCIOECONOMICA 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66"/>
                </a:solidFill>
                <a:latin typeface="Arial"/>
              </a:rPr>
              <a:t>AREAS RU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66"/>
                </a:solidFill>
                <a:latin typeface="Arial"/>
              </a:rPr>
              <a:t>Javier Suárez M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5891040"/>
            <a:ext cx="1752480" cy="58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25200" y="3530520"/>
            <a:ext cx="74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0066"/>
                </a:solidFill>
                <a:latin typeface="Arial"/>
              </a:rPr>
              <a:t>Tercera Conferencia Internacional so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0066"/>
                </a:solidFill>
                <a:latin typeface="Arial"/>
              </a:rPr>
              <a:t>Estadísticas Agríco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0066"/>
                </a:solidFill>
                <a:latin typeface="Arial"/>
              </a:rPr>
              <a:t>MEXS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2640" y="5257800"/>
            <a:ext cx="303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0066"/>
                </a:solidFill>
                <a:latin typeface="Arial"/>
              </a:rPr>
              <a:t>Cancun, Q. Ro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66"/>
                </a:solidFill>
                <a:latin typeface="Arial Black"/>
              </a:rPr>
              <a:t>INTEGRACION DEL SISTEMA DE INFORMACION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 la información estadística y geográfica se construyó el Sistema de Informacion Social utilizando como base un sistema de información ge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información censal se tiene georreferenciada a nivel de manzana para localidades urbanas y a nivel de localidad para las comunidades rurales. Los padrones de beneficiarios están georreferenciados a nivel de lo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información de las diferentes fuentes fue georreferenciada aon distintos mecanismos que fueron desde el envío de croquis de ubicación de los servicios hasta el uso de 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66"/>
                </a:solidFill>
                <a:latin typeface="Arial Black"/>
              </a:rPr>
              <a:t>CUALIDADES DEL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mite conocer con mayor precisión las áreas de concentración de distintos tipos de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tiliza criterios homogéneos para la medición de la pobreza de las distintas pob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imina los criterios “de juicio” en la selección de beneficiarios de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419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66"/>
                </a:solidFill>
                <a:latin typeface="Arial Black"/>
              </a:rPr>
              <a:t>UTILIDAD DE LA INFOR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mite realizar una planeación estratégica con un criterio metodológico sólido y susten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 una herramienta que contribuye a lograr los objetiv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gr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lementar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1905120"/>
            <a:ext cx="655344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66"/>
                </a:solidFill>
                <a:latin typeface="Arial Black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66"/>
                </a:solidFill>
                <a:latin typeface="Arial Black"/>
              </a:rPr>
              <a:t>jsuarez@sedesol.gob.m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66"/>
                </a:solidFill>
                <a:latin typeface="Arial Black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38240" y="1699920"/>
            <a:ext cx="706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Secretaría de Desarrollo Social (SEDESOL) es la institución del gobierno Federal de Méxicoa cargo de diseñar y conducir los programas para la superación de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no de sus retos es contar con información confiable para la planeación estratégica de los program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exico tiene una población de más de 100 millones de habitantes distribuidos en 200 mil loc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71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66"/>
                </a:solidFill>
                <a:latin typeface="Arial Black"/>
              </a:rPr>
              <a:t>CARACTERISTICAS DE LA POBL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res de cada cuatro habitantes viven en localidades urbanas de más de 2,500 habitantes entre ellas la Ciudad de México, una de las más pobladas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na cuarta parte de la población vive en 196 mil localidades rurales distribuidas a lo largo del territori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población rural tiene diferentes complejidades para su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Hay 150 mil localidades con menos de 100 hab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mplicada geografía del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371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66"/>
                </a:solidFill>
                <a:latin typeface="Arial Black"/>
              </a:rPr>
              <a:t>PROGRAMAS SOCIALES DE SEDE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SEDESOL cuenta con estrategias para disminuir los distintos tipos de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os programas van desde los programas alimentarios hasta aquellos que contribuyen a mejorar la vivienda, pasando por aquellos que apoyan el desarrollo de 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no de los retos de la SEDESOL es conocer la distribución y magnitud de la pobreza  de manera para lograr mayor eficiencia en la entrega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371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66"/>
                </a:solidFill>
                <a:latin typeface="Arial Black"/>
              </a:rPr>
              <a:t>MEDICION DE LA POB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da la variedad de programas de apoyo SEDESOL requiere nuevas mediciones de pobr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vocó a un grupo de especialistas e investigadores en un comité para determinar las definiciones y  niveles de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o resultado de este comité se definieron tres niveles de pobre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limentaria: 18.6% de hogares en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capacidades: 25.3% de hogares en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patrimonio: 45.9% de hogares en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371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66"/>
                </a:solidFill>
                <a:latin typeface="Arial Black"/>
              </a:rPr>
              <a:t>MODELO PARA LA ESTIMACIÓN DE POB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probaron distintas técnicas estadística multivari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técnica que mejor resultados dio es el Análisis  Discrim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fuente de información inicial para el modelo fue la Encuesta Nacional de Ingreso y Gasto de los Hogares 2000 (EN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a encuesta cuenta con las mejores estimaciones del ingreso y gasto de los hogares incluyendo el ingreso no mon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66"/>
                </a:solidFill>
                <a:latin typeface="Arial Black"/>
              </a:rPr>
              <a:t>VARIABLES DEL MOD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84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e todas las variables incluidas, el modelo discriminante considera las siguientes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amaño de loca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Material del pi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enencia de sani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colaridad del je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dad del je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dice de depen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dice de haci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056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xo del jefe de hog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guridad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Niños que no asisten a esc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Niños 12 a 15 que trabaj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Niños menores de 12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enencia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Videocasse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tufa de g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Refriger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v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Vehíc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66"/>
                </a:solidFill>
                <a:latin typeface="Arial Black"/>
              </a:rPr>
              <a:t>APLICACIÓN DEL MODELO A LA POBL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na vez conocido el modelo de discriminante se aplicó a cada hogar enumerado en el censo del 2000 en la totalidad de las localidades  del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recibió la información agrupada a nivel de manzana para localidades urbanas y para el total de la localidad para aquellas r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dicionalmente se incluyeron las variables para la aplicación del modelo en los instrumentos de recolección de información de los beneficiarios potenciales de los program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66"/>
                </a:solidFill>
                <a:latin typeface="Arial Black"/>
              </a:rPr>
              <a:t>INFORMACION ADI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emás de la informacion del censo y de los registros administrativos de los padrones SEDESOL cuenta con información adicional que contribuye al funcionamiento de los program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ntro de esta información se cuenta c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ervicios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ervicios edu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iendas rurales de DICO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echerías de LICO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stituciones de crédito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onalmente se cuenta con información geográfica como son carreteras, ríos, cuerpos de agua, curvas de nivel, etc. Que permiten hacer un mejor análisis de cobertura de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3:13:20Z</dcterms:created>
  <dc:creator>jsuarez</dc:creator>
  <dc:description/>
  <dc:language>en-US</dc:language>
  <cp:lastModifiedBy>CoviRo</cp:lastModifiedBy>
  <dcterms:modified xsi:type="dcterms:W3CDTF">2005-03-25T18:55:32Z</dcterms:modified>
  <cp:revision>21</cp:revision>
  <dc:subject/>
  <dc:title>MODELO DE ESTIMACIÓN DE POBREZA</dc:title>
</cp:coreProperties>
</file>