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A93-5C6F-4919-9619-D2C91D25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D5B-C6D5-4425-B5B6-E1011A1D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14F-8779-4678-AB15-48B20383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9767-4C8F-4675-B582-6E24C065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7F5-17FC-469F-949D-A5D342DB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45E9-BE4A-4801-88E8-AB90C80B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500E-CBDF-4908-B122-3A2807D6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B0A4-98A6-400A-9615-DD40925A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45F-7556-466C-8AEB-E67CCE3A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780-A80B-4B41-AB65-1C688384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084-97F3-47C6-9D24-3EB66CFA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60BE-B763-40C4-A904-ACF8586B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27B2-2271-4426-AF69-682A9EE251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ome Poverty and Hunger in Asia: </a:t>
            </a: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Role of Inform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. Chatterjee, B. Prakash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. Ta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Distribution of Foo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gregate food availability hides distribution issues and food availability of poor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dden scarcities can cause food prices to shoot up, making food unaffordable by p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ed for reliable and timely information of food prices and st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blic distribution must target poor b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ender, Caste , Ethnicity and Hunge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nder deprivations in Asia-Paci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Asia-Pacific’s income poor are fem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privations in education and heal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thin-household distribution of f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ually skewed against fe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ste and ethnic discrim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fferences not reflected in national stat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idden Hunge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unger, the broad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orie as well as other essential nutrients for health, education and produ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5 billion people in Asia-Pacific suffer from nutrition deficiency (3/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nutritionally deficient in worl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gnificant number of above poor (by income) also suffer hidden hunger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idden Hunger (Cont’d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ritical nutrition defici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ron deficiency anemia (I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0% pregnant women, 50% women in reproductive age, 40% pre-school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ngladesh study – 2% loss of G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odine de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in cause of preventable mental retar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nually over 13 million Asian births aff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tamin A deficienc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aired vision and weakened immun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ffects 25% of child population in 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catter Diagram: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Poverty Incidence and Iron Deficiency Anemia in Children Under 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42674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idden Hunger (Cont’d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ow progress in reducing hidden hun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come poverty and nutrition deficiency indicated e.g. by child anemia and underweight children often not correlated (Indonesia, Malaysia, Thailand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gnation in underweight children situation in South Asia and increase in Central Asia and South Pacifi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olicy Implic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le of accurate information in curbing hun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formation on price and distribution of food; not merely average per-capita availabilities (e.g. case of Indi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aggregation of information to cover rural-urban; unreported areas; gender and other deprived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idden hunger issues go beyond food availabilities alone and need repor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teracy, diets and public awar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olicy Implications (Cont’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od distrib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tter targeting of public food distribu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od fort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gulations, incentives and edu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tool-k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ventions combining income increases with: better food supply, potable water,maternal education, access to maternal and child health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le of ministries other than agricul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c works, education, heal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ank You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hatterjee@adb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verty and hun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ome poverty associated with calorie intake; hunger associated with nutrition in addition to cal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ia’s overall record in reducing poverty is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gricultural growth played major 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roduction (Cont’d)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general picture hides crucial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verty reduction and nutritional intake not unifor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verages conc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od distrib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nder, Caste, Ethnicity and Hu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idden Hu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icy im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overty and Food Availability in Asia-Pacifi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reduction in income poverty by $1 a day mea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verage food availability and macro-nutrient consumption have increased significantly in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er Capita Food Availability Tren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38080" y="1676520"/>
          <a:ext cx="746784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4678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lorie Consumption Trend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762120"/>
          <a:ext cx="754380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543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ra-regional Variations</a:t>
            </a:r>
            <a:br>
              <a:rPr sz="32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verty reduction not uniform (Number of Poor T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od availability and nutrient intake increases also not uni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ral countries fared badly in food availability and nutr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uth A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at Averages Concea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rban-rural div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income poverty estimates (Table 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kely also in calorie and nutrient consump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ar po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pulation between $1-$2 a day (Table 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ographical pockets of food in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ronic or periodic deficits owing to clim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gravated by absence of commun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ta defici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9:35:06Z</dcterms:created>
  <dc:creator>OIST</dc:creator>
  <dc:description/>
  <dc:language>en-US</dc:language>
  <cp:lastModifiedBy>OIST</cp:lastModifiedBy>
  <dcterms:modified xsi:type="dcterms:W3CDTF">2004-11-03T21:13:20Z</dcterms:modified>
  <cp:revision>28</cp:revision>
  <dc:subject/>
  <dc:title>Income Poverty and Hunger in As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92905581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3 11:30 room 1</vt:lpwstr>
  </property>
</Properties>
</file>