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DAB5-82C9-4C26-840E-8326C409A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E2FF-994D-424C-A3A0-CD3388A2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19B9-D199-4F12-A36C-B0A588F91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E3C2-961D-4A6D-8B9B-63C5398C0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356C-9ED3-409A-A522-E5FA3BB2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8F79-994E-4E5A-975F-82BCE75A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F5B1-F99D-477F-9048-8651A81D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A796-4FDA-4E78-BBAD-4EA0402D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39F4-A87E-4AD2-BA76-19213AF1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D7F9-6E2C-4C33-A79A-7CC0FB6F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38E0-4567-4B4F-9D42-2349E611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9C40-DB09-440F-A126-0FE9D8DA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4FA5-844C-4005-846B-578709A476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come Poverty and Hunger in Asia: </a:t>
            </a:r>
            <a:br>
              <a:rPr sz="44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Role of Informa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. Chatterjee, B. Prakash a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. Tab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 Distribution of Food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ggregate food availability hides distribution issues and food availability of poor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udden scarcities can cause food prices to shoot up, making food unaffordable by po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ed for reliable and timely information of food prices and stoc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blic distribution must target poor bet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Gender, Caste , Ethnicity and Hunger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ender deprivations in Asia-Pacif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/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of Asia-Pacific’s income poor are fem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privations in education and heal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thin-household distribution of f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sually skewed against fem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ste and ethnic discrimin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fferences not reflected in national statist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idden Hunger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unger, the broad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lorie as well as other essential nutrients for health, education and produ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5 billion people in Asia-Pacific suffer from nutrition deficiency (3/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of nutritionally deficient in worl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gnificant number of above poor (by income) also suffer hidden hunger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idden Hunger (Cont’d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ritical nutrition deficienc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ron deficiency anemia (ID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60% pregnant women, 50% women in reproductive age, 40% pre-school 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ngladesh study – 2% loss of GD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odine deficien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in cause of preventable mental retard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nually over 13 million Asian births affec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itamin A deficienc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paired vision and weakened immun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ffects 25% of child population in As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catter Diagram: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Arial"/>
              </a:rPr>
              <a:t>Poverty Incidence and Iron Deficiency Anemia in Children Under 5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6248160" cy="426744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Hidden Hunger (Cont’d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low progress in reducing hidden hun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come poverty and nutrition deficiency indicated e.g. by child anemia and underweight children often not correlated (Indonesia, Malaysia, Thailand)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agnation in underweight children situation in South Asia and increase in Central Asia and South Pacific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olicy Implica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ole of accurate information in curbing hun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formation on price and distribution of food; not merely average per-capita availabilities (e.g. case of Indi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saggregation of information to cover rural-urban; unreported areas; gender and other deprived gro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idden hunger issues go beyond food availabilities alone and need repor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teracy, diets and public awar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olicy Implications (Cont’d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od distrib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etter targeting of public food distribu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od fortif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gulations, incentives and edu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ew tool-k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rventions combining income increases with: better food supply, potable water,maternal education, access to maternal and child health c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ole of ministries other than agricul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c works, education, healt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ank You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chatterjee@adb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troduc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overty and hung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come poverty associated with calorie intake; hunger associated with nutrition in addition to calo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sia’s overall record in reducing poverty is g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gricultural growth played major ro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troduction (Cont’d)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general picture hides crucial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verty reduction and nutritional intake not unifor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verages conce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ood distrib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ender, Caste, Ethnicity and Hu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idden Hu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licy impl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overty and Food Availability in Asia-Pacific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jor reduction in income poverty by $1 a day meas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verage food availability and macro-nutrient consumption have increased significantly in gen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0773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er Capita Food Availability Trend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838080" y="1676520"/>
          <a:ext cx="7467840" cy="44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76520"/>
                    <a:ext cx="746784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alorie Consumption Trend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62120" y="762120"/>
          <a:ext cx="7543800" cy="54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762120"/>
                    <a:ext cx="75438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tra-regional Variations</a:t>
            </a:r>
            <a:br>
              <a:rPr sz="32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overty reduction not uniform (Number of Poor Tabl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od availability and nutrient intake increases also not uni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veral countries fared badly in food availability and nutr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uth As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hat Averages Conceal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rban-rural div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income poverty estimates (Table 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ikely also in calorie and nutrient consump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ear poo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pulation between $1-$2 a day (Table 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eographical pockets of food insecu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ronic or periodic deficits owing to clim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ggravated by absence of communic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ata deficien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9:35:06Z</dcterms:created>
  <dc:creator>OIST</dc:creator>
  <dc:description/>
  <dc:language>en-US</dc:language>
  <cp:lastModifiedBy>OIST</cp:lastModifiedBy>
  <dcterms:modified xsi:type="dcterms:W3CDTF">2004-11-03T21:13:20Z</dcterms:modified>
  <cp:revision>28</cp:revision>
  <dc:subject/>
  <dc:title>Income Poverty and Hunger in As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92905581</vt:r8>
  </property>
  <property fmtid="{D5CDD505-2E9C-101B-9397-08002B2CF9AE}" pid="3" name="_AuthorEmail">
    <vt:lpwstr>xfernandez@siap.sagarpa.gob.mx</vt:lpwstr>
  </property>
  <property fmtid="{D5CDD505-2E9C-101B-9397-08002B2CF9AE}" pid="4" name="_AuthorEmailDisplayName">
    <vt:lpwstr>Ximena Fernández Martínez</vt:lpwstr>
  </property>
  <property fmtid="{D5CDD505-2E9C-101B-9397-08002B2CF9AE}" pid="5" name="_EmailSubject">
    <vt:lpwstr>Presentations day 3 11:30 room 1</vt:lpwstr>
  </property>
</Properties>
</file>