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C16-5012-4FB0-AEB0-35239CCB6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3B1-01B4-4523-8C23-FF39885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AF0B-B914-45CB-982E-30B730B50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294-1C1B-4C89-96DC-02EF9E13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6D04-9B77-4F2C-ABBE-DBD497C3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D1B8-ED05-42C8-B55F-EAD79536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DB81-86FF-49D7-8520-E55F1187E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D559-8E8E-48AA-B798-BFF9AA6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C91C-B321-45EB-91D3-05A13A96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E7A1-92DD-438E-AF13-7E30DE29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9E70-55F0-45DC-8276-5B0AF18F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B19F-1971-450A-912D-D3942C942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4550-53B5-4D6D-9621-11B2FAA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AF63-CB4B-4999-B84C-3CD895CB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0B11-308F-483E-A860-B0DD5097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63ED-77EF-46E5-BCAA-1DCA98C8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3D68-2018-4961-8BB9-1C7B76AD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23E9-420A-44C4-BEBF-F7C8C3B5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658-5B9C-48F6-960C-B08432DC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20A-3E51-4BBF-AF99-700532BB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667-6286-412D-9F4F-1600409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457-2A5B-4A8B-B9CE-B3A24FE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5927-2129-4BEA-848C-8955B90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E8B-2BB0-4BD8-BC59-4B5905AB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E5BE-AC30-4617-9DAF-FE1F96D92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FC14-3EAE-4680-83FC-DF006024F8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20400" y="3239640"/>
            <a:ext cx="8458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Federica Piersimon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STAT - Italian National Institute of Stat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Roberto Benedet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mic Sans MS"/>
              </a:rPr>
              <a:t>University “G.d’Annunzio” of Chieti-Pescara, Ita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Giuseppe Es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ffffff"/>
                </a:solidFill>
                <a:latin typeface="Comic Sans MS"/>
              </a:rPr>
              <a:t>Universy of Trento, Ita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Comic Sans MS"/>
              </a:rPr>
              <a:t>On the use of auxiliary variables </a:t>
            </a:r>
            <a:r>
              <a:rPr b="0" lang="it-IT" sz="4800" spc="-1" strike="noStrike">
                <a:solidFill>
                  <a:srgbClr val="ffcc66"/>
                </a:solidFill>
                <a:latin typeface="Comic Sans MS"/>
              </a:rPr>
              <a:t>in agricultural surveys desig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519120" y="895320"/>
            <a:ext cx="7993080" cy="49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omic Sans MS"/>
              </a:rPr>
              <a:t>Sampling fram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= 2.211 units (enterprises) and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12 variables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umber of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attle,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igs,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heep and goats,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lvl="2" marL="914400" algn="just">
              <a:lnSpc>
                <a:spcPct val="110000"/>
              </a:lnSpc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quines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laughtered at the census surveys of 1999,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000 e 2001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60280" y="388800"/>
            <a:ext cx="859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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2000 samples of size 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= 200…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…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using as auxiliary information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 the complete frame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t 1999 and at 2000 to obtain estimates at 2001!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stimates obtained through the Horvitz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Thompson expansion estimator and the calibration estimator (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PV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) by Deville and Särndal (1992)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698920" y="4489560"/>
                <a:ext cx="262080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in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r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G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sSub>
                                        <m:e>
                                          <m:r>
                                            <m:t xml:space="preserve">w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  <m:r>
                                        <m:t xml:space="preserve">,</m:t>
                                      </m:r>
                                      <m:sSub>
                                        <m:e>
                                          <m:r>
                                            <m:t xml:space="preserve">d</m:t>
                                          </m:r>
                                        </m:e>
                                        <m:sub>
                                          <m:r>
                                            <m:t xml:space="preserve">s</m:t>
                                          </m:r>
                                        </m:sub>
                                      </m:sSub>
                                    </m:e>
                                  </m:d>
                                </m:e>
                              </m:nary>
                            </m:e>
                          </m:mr>
                          <m:mr>
                            <m:e>
                              <m:r>
                                <m:t xml:space="preserve">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o </m:t>
                              </m:r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s</m:t>
                                  </m:r>
                                  <m:r>
                                    <m:t xml:space="preserve">∈</m:t>
                                  </m:r>
                                  <m:r>
                                    <m:t xml:space="preserve">r</m:t>
                                  </m:r>
                                </m:sub>
                                <m:sup/>
                                <m:e>
                                  <m:sSub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s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177840" y="4114800"/>
            <a:ext cx="2247840" cy="493560"/>
          </a:xfrm>
          <a:prstGeom prst="wedgeRectCallout">
            <a:avLst>
              <a:gd name="adj1" fmla="val 112569"/>
              <a:gd name="adj2" fmla="val 26203"/>
            </a:avLst>
          </a:prstGeom>
          <a:solidFill>
            <a:srgbClr val="ff9900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Distance function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80" name=""/>
          <p:cNvSpPr/>
          <p:nvPr/>
        </p:nvSpPr>
        <p:spPr>
          <a:xfrm>
            <a:off x="5969160" y="3975120"/>
            <a:ext cx="3009600" cy="658800"/>
          </a:xfrm>
          <a:prstGeom prst="wedgeRectCallout">
            <a:avLst>
              <a:gd name="adj1" fmla="val -75421"/>
              <a:gd name="adj2" fmla="val 161324"/>
            </a:avLst>
          </a:prstGeom>
          <a:solidFill>
            <a:srgbClr val="ff9900"/>
          </a:solidFill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Vector of the totals of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3366ff"/>
                </a:solidFill>
                <a:latin typeface="Comic Sans MS"/>
              </a:rPr>
              <a:t>the auxiliary variables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09520" y="401760"/>
            <a:ext cx="8775720" cy="515340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mples selection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ple random sampling (SRS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tratified sampling (ST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ked set sampling (RSS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ability proportional to size (</a:t>
            </a:r>
            <a:r>
              <a:rPr b="1" lang="it-IT" sz="3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)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d sampling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</a:t>
            </a:r>
            <a:r>
              <a:rPr b="1" lang="it-IT" sz="35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d sampling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84320" y="465120"/>
            <a:ext cx="8775360" cy="496980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RS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r>
              <a:rPr b="1" i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ect estimate doesn’t use                   auxiliary information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 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T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auxiliary information is used </a:t>
            </a: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ex ante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the strata setting up;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ve planned strata;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ltivariate allocation model by Bethel (1989).</a:t>
            </a:r>
            <a:r>
              <a:rPr b="1" lang="it-IT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35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71360" y="160200"/>
            <a:ext cx="8775720" cy="533628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RSS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iginal formulation: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lection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S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out reinsertion of a first sample of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nits;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king in increasing order of the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units of the sample with respect to an auxiliary variable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known for every population unit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terest variable 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measured on the first unit only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econd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RS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drawn and ranked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interest variable 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measured on the second unit only;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and so on till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replications.</a:t>
            </a:r>
            <a:r>
              <a:rPr b="1" lang="it-IT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184320" y="465120"/>
            <a:ext cx="8775360" cy="503172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anking </a:t>
            </a:r>
            <a:r>
              <a:rPr b="1" lang="it-IT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ariable:</a:t>
            </a:r>
            <a:endParaRPr b="0" lang="en-US" sz="36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ith k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,…,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,4 and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=1999, 2000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r the units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452600" y="1965240"/>
                <a:ext cx="101124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840040" y="1576440"/>
                <a:ext cx="346392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092400" y="4667400"/>
                <a:ext cx="1238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689440" y="4624560"/>
                <a:ext cx="12733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84320" y="465120"/>
            <a:ext cx="8775360" cy="253224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S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f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y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sitive auxiliary variable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election with probability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ch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 ant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robability is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4673520" y="2076480"/>
                <a:ext cx="6476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84320" y="465120"/>
            <a:ext cx="8775360" cy="4970520"/>
          </a:xfrm>
          <a:prstGeom prst="rect">
            <a:avLst/>
          </a:prstGeom>
          <a:solidFill>
            <a:srgbClr val="33ccff"/>
          </a:solidFill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LANCED SAMPLING and </a:t>
            </a:r>
            <a:r>
              <a:rPr b="1" i="1" lang="it-IT" sz="40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i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S + BALANCED SAMPLING</a:t>
            </a:r>
            <a:r>
              <a:rPr b="1" lang="it-IT" sz="4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balance constraint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has been imposed for the four variables to be estimated. 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he difference between the two criteria: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 the second case the constraint is imposed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x 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to </a:t>
            </a:r>
            <a:r>
              <a:rPr b="1" i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S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sample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591080" y="2009880"/>
                <a:ext cx="3436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1201680" y="471600"/>
          <a:ext cx="6948720" cy="5661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01680" y="471600"/>
                    <a:ext cx="6948720" cy="5661000"/>
                  </a:xfrm>
                  <a:prstGeom prst="rect">
                    <a:avLst/>
                  </a:prstGeom>
                  <a:ln w="5724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4362480" y="1866960"/>
            <a:ext cx="3809880" cy="457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4" name=""/>
          <p:cNvSpPr/>
          <p:nvPr/>
        </p:nvSpPr>
        <p:spPr>
          <a:xfrm>
            <a:off x="4387680" y="4184640"/>
            <a:ext cx="3797640" cy="266760"/>
          </a:xfrm>
          <a:prstGeom prst="rect">
            <a:avLst/>
          </a:prstGeom>
          <a:noFill/>
          <a:ln w="572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5" name=""/>
          <p:cNvSpPr/>
          <p:nvPr/>
        </p:nvSpPr>
        <p:spPr>
          <a:xfrm>
            <a:off x="4400640" y="2787480"/>
            <a:ext cx="3708360" cy="266760"/>
          </a:xfrm>
          <a:prstGeom prst="rect">
            <a:avLst/>
          </a:prstGeom>
          <a:noFill/>
          <a:ln w="572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6" name=""/>
          <p:cNvSpPr/>
          <p:nvPr/>
        </p:nvSpPr>
        <p:spPr>
          <a:xfrm>
            <a:off x="4349880" y="4425840"/>
            <a:ext cx="3797280" cy="266760"/>
          </a:xfrm>
          <a:prstGeom prst="rect">
            <a:avLst/>
          </a:prstGeom>
          <a:noFill/>
          <a:ln w="57240">
            <a:solidFill>
              <a:srgbClr val="23a9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7" name=""/>
          <p:cNvSpPr/>
          <p:nvPr/>
        </p:nvSpPr>
        <p:spPr>
          <a:xfrm>
            <a:off x="4362480" y="3029040"/>
            <a:ext cx="3797280" cy="266760"/>
          </a:xfrm>
          <a:prstGeom prst="rect">
            <a:avLst/>
          </a:prstGeom>
          <a:noFill/>
          <a:ln w="57240">
            <a:solidFill>
              <a:srgbClr val="23a9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8" name=""/>
          <p:cNvSpPr/>
          <p:nvPr/>
        </p:nvSpPr>
        <p:spPr>
          <a:xfrm>
            <a:off x="4387680" y="4680000"/>
            <a:ext cx="3708720" cy="2667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29" name=""/>
          <p:cNvSpPr/>
          <p:nvPr/>
        </p:nvSpPr>
        <p:spPr>
          <a:xfrm>
            <a:off x="4400640" y="5632560"/>
            <a:ext cx="3708360" cy="2667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30" name=""/>
          <p:cNvSpPr/>
          <p:nvPr/>
        </p:nvSpPr>
        <p:spPr>
          <a:xfrm>
            <a:off x="4387680" y="1866960"/>
            <a:ext cx="3810240" cy="45720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31" name=""/>
          <p:cNvSpPr/>
          <p:nvPr/>
        </p:nvSpPr>
        <p:spPr>
          <a:xfrm>
            <a:off x="4375080" y="5168880"/>
            <a:ext cx="3810240" cy="457200"/>
          </a:xfrm>
          <a:prstGeom prst="rect">
            <a:avLst/>
          </a:prstGeom>
          <a:noFill/>
          <a:ln w="5724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689040" y="307800"/>
          <a:ext cx="7769160" cy="5484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9040" y="307800"/>
                    <a:ext cx="7769160" cy="548496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888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Conten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9480" y="1641600"/>
            <a:ext cx="7027560" cy="31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ctual situation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posal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stimator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ampling design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Data description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imulation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nalysis of the resul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clusion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838080" y="274680"/>
          <a:ext cx="7780320" cy="54910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74680"/>
                    <a:ext cx="7780320" cy="549108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765000" y="345960"/>
          <a:ext cx="7777440" cy="5489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000" y="345960"/>
                    <a:ext cx="7777440" cy="548964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809640" y="504720"/>
          <a:ext cx="7670880" cy="5415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9640" y="504720"/>
                    <a:ext cx="7670880" cy="5415120"/>
                  </a:xfrm>
                  <a:prstGeom prst="rect">
                    <a:avLst/>
                  </a:prstGeom>
                  <a:ln w="3816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8435880" y="6124680"/>
          <a:ext cx="511200" cy="50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5880" y="6124680"/>
                    <a:ext cx="511200" cy="50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288120" y="6213600"/>
          <a:ext cx="1967040" cy="38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88120" y="6213600"/>
                    <a:ext cx="19670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277920" y="1289160"/>
          <a:ext cx="8650080" cy="4219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7920" y="1289160"/>
                    <a:ext cx="8650080" cy="42195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2" name=""/>
          <p:cNvSpPr/>
          <p:nvPr/>
        </p:nvSpPr>
        <p:spPr>
          <a:xfrm>
            <a:off x="3340080" y="380880"/>
            <a:ext cx="2032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3124080" y="190440"/>
            <a:ext cx="2629080" cy="74952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66"/>
                </a:solidFill>
                <a:latin typeface="Comic Sans MS"/>
              </a:rPr>
              <a:t>Conclusions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68" name=""/>
          <p:cNvSpPr/>
          <p:nvPr/>
        </p:nvSpPr>
        <p:spPr>
          <a:xfrm>
            <a:off x="1549440" y="1270080"/>
            <a:ext cx="6197400" cy="120636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It is better to impose the balance constraints in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design phase, than in 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ex post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(cf. RMSE SRS - RMSE BAL)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0" y="2654280"/>
            <a:ext cx="4699080" cy="703800"/>
          </a:xfrm>
          <a:prstGeom prst="rect">
            <a:avLst/>
          </a:prstGeom>
          <a:solidFill>
            <a:srgbClr val="ff9900"/>
          </a:solidFill>
          <a:ln w="3816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Best performances: balanced </a:t>
            </a:r>
            <a:r>
              <a:rPr b="1" i="1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PS 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selections and </a:t>
            </a:r>
            <a:r>
              <a:rPr b="1" i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PS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with calibration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3987720"/>
            <a:ext cx="6807240" cy="152424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a joint use of complex estimators together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ith efficient sampling designs may reduce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siderably the variability of the estimate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1" name=""/>
          <p:cNvSpPr/>
          <p:nvPr/>
        </p:nvSpPr>
        <p:spPr>
          <a:xfrm>
            <a:off x="3749040" y="58366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omic Sans MS"/>
              </a:rPr>
              <a:t>but…...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2" name=""/>
          <p:cNvSpPr/>
          <p:nvPr/>
        </p:nvSpPr>
        <p:spPr>
          <a:xfrm>
            <a:off x="4610160" y="3441600"/>
            <a:ext cx="0" cy="4827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419040" y="1079640"/>
            <a:ext cx="8331120" cy="78732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S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nd </a:t>
            </a:r>
            <a:r>
              <a:rPr b="1" i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1" i="1" lang="en-GB" sz="2800" spc="-1" strike="noStrike">
                <a:solidFill>
                  <a:srgbClr val="ffffff"/>
                </a:solidFill>
                <a:latin typeface="Comic Sans MS"/>
              </a:rPr>
              <a:t>PS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with calibration selection criteria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8" name=""/>
          <p:cNvSpPr/>
          <p:nvPr/>
        </p:nvSpPr>
        <p:spPr>
          <a:xfrm>
            <a:off x="4014720" y="230760"/>
            <a:ext cx="17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omic Sans MS"/>
              </a:rPr>
              <a:t>but…...</a:t>
            </a:r>
            <a:endParaRPr b="0" lang="en-US" sz="32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79" name=""/>
          <p:cNvSpPr/>
          <p:nvPr/>
        </p:nvSpPr>
        <p:spPr>
          <a:xfrm>
            <a:off x="622440" y="2514600"/>
            <a:ext cx="2958840" cy="927000"/>
          </a:xfrm>
          <a:prstGeom prst="ellipse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0" name=""/>
          <p:cNvSpPr/>
          <p:nvPr/>
        </p:nvSpPr>
        <p:spPr>
          <a:xfrm>
            <a:off x="1017720" y="2714760"/>
            <a:ext cx="2152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more efficient</a:t>
            </a:r>
            <a:endParaRPr b="0" lang="en-US" sz="22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1" name=""/>
          <p:cNvSpPr/>
          <p:nvPr/>
        </p:nvSpPr>
        <p:spPr>
          <a:xfrm>
            <a:off x="3848040" y="2527200"/>
            <a:ext cx="5067360" cy="978120"/>
          </a:xfrm>
          <a:prstGeom prst="ellipse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2" name=""/>
          <p:cNvSpPr/>
          <p:nvPr/>
        </p:nvSpPr>
        <p:spPr>
          <a:xfrm>
            <a:off x="4245120" y="2689200"/>
            <a:ext cx="441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less robust of the others when</a:t>
            </a:r>
            <a:endParaRPr b="0" lang="en-US" sz="22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200" spc="-1" strike="noStrike">
                <a:solidFill>
                  <a:srgbClr val="ffffff"/>
                </a:solidFill>
                <a:latin typeface="Comic Sans MS"/>
              </a:rPr>
              <a:t>outliers are present</a:t>
            </a:r>
            <a:endParaRPr b="0" lang="en-US" sz="22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273400" y="1917720"/>
            <a:ext cx="457200" cy="571320"/>
          </a:xfrm>
          <a:prstGeom prst="line">
            <a:avLst/>
          </a:prstGeom>
          <a:ln w="5724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4" name=""/>
          <p:cNvSpPr/>
          <p:nvPr/>
        </p:nvSpPr>
        <p:spPr>
          <a:xfrm>
            <a:off x="5892840" y="1917720"/>
            <a:ext cx="228600" cy="622440"/>
          </a:xfrm>
          <a:prstGeom prst="line">
            <a:avLst/>
          </a:prstGeom>
          <a:ln w="5724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5" name=""/>
          <p:cNvSpPr/>
          <p:nvPr/>
        </p:nvSpPr>
        <p:spPr>
          <a:xfrm>
            <a:off x="2273400" y="3708360"/>
            <a:ext cx="5054400" cy="60948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ad performance of </a:t>
            </a:r>
            <a:r>
              <a:rPr b="1" i="1" lang="en-GB" sz="2400" spc="-1" strike="noStrike">
                <a:solidFill>
                  <a:srgbClr val="ffffff"/>
                </a:solidFill>
                <a:latin typeface="Comic Sans MS"/>
              </a:rPr>
              <a:t>RS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6" name=""/>
          <p:cNvSpPr/>
          <p:nvPr/>
        </p:nvSpPr>
        <p:spPr>
          <a:xfrm>
            <a:off x="1028880" y="4978440"/>
            <a:ext cx="7137360" cy="723960"/>
          </a:xfrm>
          <a:prstGeom prst="rect">
            <a:avLst/>
          </a:prstGeom>
          <a:solidFill>
            <a:srgbClr val="ff9900"/>
          </a:solidFill>
          <a:ln w="28440">
            <a:solidFill>
              <a:srgbClr val="23a9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forced univariate use of the auxiliary information</a:t>
            </a: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for the ranking setting up when linear independence is present</a:t>
            </a: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737240" y="4343040"/>
            <a:ext cx="12600" cy="609480"/>
          </a:xfrm>
          <a:prstGeom prst="line">
            <a:avLst/>
          </a:prstGeom>
          <a:ln w="57240">
            <a:solidFill>
              <a:srgbClr val="3366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2" name="" descr=""/>
          <p:cNvPicPr/>
          <p:nvPr/>
        </p:nvPicPr>
        <p:blipFill>
          <a:blip r:embed="rId5"/>
          <a:stretch/>
        </p:blipFill>
        <p:spPr>
          <a:xfrm>
            <a:off x="352440" y="1996920"/>
            <a:ext cx="8448840" cy="35434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2 estimates in the case of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with calibration estimator based on auxiliary variables of 2000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294" name=""/>
          <p:cNvSpPr/>
          <p:nvPr/>
        </p:nvSpPr>
        <p:spPr>
          <a:xfrm>
            <a:off x="6840360" y="2209680"/>
            <a:ext cx="1846440" cy="621000"/>
          </a:xfrm>
          <a:prstGeom prst="wedgeRectCallout">
            <a:avLst>
              <a:gd name="adj1" fmla="val -238393"/>
              <a:gd name="adj2" fmla="val -48722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3 estimates in the case of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with calibration estimator based on auxiliary variables of 1999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5"/>
          <a:stretch/>
        </p:blipFill>
        <p:spPr>
          <a:xfrm>
            <a:off x="612720" y="2122560"/>
            <a:ext cx="8010720" cy="34513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769080" y="1878120"/>
            <a:ext cx="1846440" cy="620640"/>
          </a:xfrm>
          <a:prstGeom prst="wedgeRectCallout">
            <a:avLst>
              <a:gd name="adj1" fmla="val -309500"/>
              <a:gd name="adj2" fmla="val 37212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4 direct estimates in the case of balanced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based on auxiliary variables of 1999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187200" y="1963800"/>
            <a:ext cx="8577360" cy="36036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072200" y="1819440"/>
            <a:ext cx="1846440" cy="620640"/>
          </a:xfrm>
          <a:prstGeom prst="wedgeRectCallout">
            <a:avLst>
              <a:gd name="adj1" fmla="val -305546"/>
              <a:gd name="adj2" fmla="val 25703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649440" y="289080"/>
            <a:ext cx="7084800" cy="1191240"/>
          </a:xfrm>
          <a:prstGeom prst="rect">
            <a:avLst/>
          </a:prstGeom>
          <a:solidFill>
            <a:srgbClr val="ffcc66"/>
          </a:solidFill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Simulated sampling distribution of the tc2 direct estimates in the case of balanced </a:t>
            </a:r>
            <a:r>
              <a:rPr b="0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</a:t>
            </a: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ps, based on auxiliary variables of 2000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00040" y="2097000"/>
            <a:ext cx="7707240" cy="31971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072200" y="1819440"/>
            <a:ext cx="1846440" cy="620640"/>
          </a:xfrm>
          <a:prstGeom prst="wedgeRectCallout">
            <a:avLst>
              <a:gd name="adj1" fmla="val -244583"/>
              <a:gd name="adj2" fmla="val 32606"/>
            </a:avLst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mic Sans MS"/>
              </a:rPr>
              <a:t>TRUE VALUE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419040" y="1035000"/>
          <a:ext cx="7715160" cy="4448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040" y="1035000"/>
                    <a:ext cx="7715160" cy="444816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260280" y="6004080"/>
            <a:ext cx="2452680" cy="649080"/>
          </a:xfrm>
          <a:prstGeom prst="wedgeRectCallout">
            <a:avLst>
              <a:gd name="adj1" fmla="val -31680"/>
              <a:gd name="adj2" fmla="val -1612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Population uni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19" name=""/>
          <p:cNvSpPr/>
          <p:nvPr/>
        </p:nvSpPr>
        <p:spPr>
          <a:xfrm>
            <a:off x="2836800" y="5983200"/>
            <a:ext cx="1990800" cy="649440"/>
          </a:xfrm>
          <a:prstGeom prst="wedgeRectCallout">
            <a:avLst>
              <a:gd name="adj1" fmla="val -129666"/>
              <a:gd name="adj2" fmla="val -4592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ample uni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20" name=""/>
          <p:cNvSpPr/>
          <p:nvPr/>
        </p:nvSpPr>
        <p:spPr>
          <a:xfrm>
            <a:off x="1790640" y="266760"/>
            <a:ext cx="5461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omic Sans MS"/>
              </a:rPr>
              <a:t>Actual situation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177840" y="152280"/>
            <a:ext cx="8813880" cy="51771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References</a:t>
            </a:r>
            <a:endParaRPr b="0" lang="en-US" sz="18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Al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Saleh M.F., Al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Omari A.I. (2002) Multistage ranked set sampling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02, 273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286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Bai Z., Chen Z. (2003) On the theory of ranked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set sampling and its ramification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09, 81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99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Bethel J. (1989) Sample allocation in multivariate survey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Survey Methodology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5, 47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57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Deville J.C., Särndal C.E. (1992) Calibration Estimators in Survey Sampling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the American Statistical Associatio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87, 418, 376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82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Dorfman A.H., Valliant R. (2000) Stratification by size revised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Official Statistics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6, 2, 139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154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Espa G., Benedetti R., Piersimoni F. (2001) Prospettive e soluzioni per il </a:t>
            </a:r>
            <a:r>
              <a:rPr b="0" lang="it-IT" sz="1100" spc="-1" strike="noStrike">
                <a:solidFill>
                  <a:srgbClr val="ffff66"/>
                </a:solidFill>
                <a:latin typeface="Comic Sans MS"/>
              </a:rPr>
              <a:t>data editing</a:t>
            </a: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 nelle rilevazioni in agricoltura,</a:t>
            </a:r>
            <a:r>
              <a:rPr b="0" lang="it-IT" sz="1100" spc="-1" strike="noStrike">
                <a:solidFill>
                  <a:srgbClr val="ffff66"/>
                </a:solidFill>
                <a:latin typeface="Comic Sans MS"/>
              </a:rPr>
              <a:t> Statistica Applicata</a:t>
            </a: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, 13, 4, 363</a:t>
            </a:r>
            <a:r>
              <a:rPr b="0" i="1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i="1" lang="it-IT" sz="1100" spc="-1" strike="noStrike">
                <a:solidFill>
                  <a:srgbClr val="ffff66"/>
                </a:solidFill>
                <a:latin typeface="Comic Sans MS"/>
              </a:rPr>
              <a:t>39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Hidiroglou M.A. (1986) The construction of a self-representing stratum of large units in survey design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The American Statisticia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40, 1, 27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Li D., Sinha B.K., Perron F. (1999) Random selection in ranked set sampling and its application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76, 185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20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McIntyre G.A. (1952) A method for unbiased selective sampling, using ranked set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The Australian Journal of Agricultural and Resource Economics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3, 385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90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Patil G.P., Sinha A.K., Taillie C. (1994a) Ranked set sampling, in G.P. Patil and C.R. Rao (eds) 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Handbook of Statistics, Volume 12, Environmental Statistics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, North Holland Elsevier, New York, 167–200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Patil G.P., Sinha A.K., Taillie C. (1994b) Ranked set sampling for multiple characteristics, 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International Journal of Ecology and Environmental Sciences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, 20, 94–109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Ridout M.S. (2003) On ranked set sampling for multiple characteristics, 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Environmental and Ecological Statistics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, 10, 255–262. 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sén B. (1997) On sampling with probability proportional to size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Statistical Planning and Inference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62, 159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191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 (1970) On finite population sampling theory under certain linear regression model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Biometrika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57, 2, 377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387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 (1992) Robustness and optimal design under prediction models for finite populations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Survey Methodology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18, 179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185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, Herson J. (1973a) Robust estimation in finite populations I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the American Statistical Associatio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68, 344, 880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889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Royall R.M., Herson J. (1973b) Robust estimation in finite population II: stratification on a size variable, </a:t>
            </a:r>
            <a:r>
              <a:rPr b="0" i="1" lang="en-GB" sz="1100" spc="-1" strike="noStrike">
                <a:solidFill>
                  <a:srgbClr val="ffff66"/>
                </a:solidFill>
                <a:latin typeface="Comic Sans MS"/>
              </a:rPr>
              <a:t>Journal of the American Statistical Association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, 68, 344, 890</a:t>
            </a:r>
            <a:r>
              <a:rPr b="0" lang="en-GB" sz="1100" spc="-1" strike="noStrike">
                <a:solidFill>
                  <a:srgbClr val="ffff66"/>
                </a:solidFill>
                <a:latin typeface="Symbol"/>
                <a:ea typeface="Symbol"/>
              </a:rPr>
              <a:t></a:t>
            </a: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893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66"/>
                </a:solidFill>
                <a:latin typeface="Comic Sans MS"/>
              </a:rPr>
              <a:t>Särndal C-E, Swensson B., Wretman J. (1992) Model Assisted Survey Sampling, Springer Verlag, New York.</a:t>
            </a:r>
            <a:endParaRPr b="0" lang="en-US" sz="11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2882880" y="1455840"/>
            <a:ext cx="5342040" cy="40971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 flipH="1">
            <a:off x="274320" y="1852560"/>
            <a:ext cx="1322280" cy="13590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Comic Sans MS"/>
              </a:rPr>
              <a:t>THANK YOU FOR YOUR ATTENTION!</a:t>
            </a:r>
            <a:endParaRPr b="0" lang="en-US" sz="44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395280" y="3865680"/>
            <a:ext cx="115236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246320" y="1494000"/>
          <a:ext cx="6703920" cy="4203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46320" y="1494000"/>
                    <a:ext cx="6703920" cy="4203360"/>
                  </a:xfrm>
                  <a:prstGeom prst="rect">
                    <a:avLst/>
                  </a:prstGeom>
                  <a:ln w="38160">
                    <a:solidFill>
                      <a:srgbClr val="0099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5845320" y="345960"/>
            <a:ext cx="2957400" cy="779400"/>
          </a:xfrm>
          <a:prstGeom prst="wedgeRectCallout">
            <a:avLst>
              <a:gd name="adj1" fmla="val -69643"/>
              <a:gd name="adj2" fmla="val 162625"/>
            </a:avLst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 sample survey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5309640" y="1800360"/>
            <a:ext cx="38732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2001 scatter plot matrix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1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cattle 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2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sheep and goats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        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3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pigs 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4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equines slaughterings 2001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176040" y="401760"/>
            <a:ext cx="5083200" cy="5102280"/>
          </a:xfrm>
          <a:prstGeom prst="rect">
            <a:avLst/>
          </a:prstGeom>
          <a:ln w="284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173560" y="1774800"/>
            <a:ext cx="40104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2000 scatter plot matrix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1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cattle 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2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sheep and goats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          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3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pigs 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40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equines slaughterings 2000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165240" y="449280"/>
            <a:ext cx="5083200" cy="5103720"/>
          </a:xfrm>
          <a:prstGeom prst="rect">
            <a:avLst/>
          </a:prstGeom>
          <a:ln w="284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255280" y="1800360"/>
            <a:ext cx="401040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ff"/>
                </a:solidFill>
                <a:latin typeface="Comic Sans MS"/>
              </a:rPr>
              <a:t>1999 scatter plot matrix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1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cattle 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2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sheep and goats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          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3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pigs 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ff00"/>
                </a:solidFill>
                <a:latin typeface="Comic Sans MS"/>
              </a:rPr>
              <a:t>tc49</a:t>
            </a:r>
            <a:r>
              <a:rPr b="0" lang="it-IT" sz="1900" spc="-1" strike="noStrike">
                <a:solidFill>
                  <a:srgbClr val="00ff00"/>
                </a:solidFill>
                <a:latin typeface="Comic Sans MS"/>
              </a:rPr>
              <a:t>= equines slaughterings 1999</a:t>
            </a:r>
            <a:endParaRPr b="0" lang="en-US" sz="19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219240" y="446040"/>
            <a:ext cx="5099040" cy="5116680"/>
          </a:xfrm>
          <a:prstGeom prst="rect">
            <a:avLst/>
          </a:prstGeom>
          <a:ln w="28440">
            <a:solidFill>
              <a:srgbClr val="33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210960" y="28440"/>
            <a:ext cx="3272040" cy="16509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17440" y="1693800"/>
            <a:ext cx="3257640" cy="164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209520" y="3344760"/>
            <a:ext cx="3279960" cy="16574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220680" y="5019840"/>
            <a:ext cx="3265560" cy="1649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041720" y="21744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CATTER PLOTS</a:t>
            </a:r>
            <a:endParaRPr b="0" lang="en-US" sz="24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55" name=""/>
          <p:cNvSpPr/>
          <p:nvPr/>
        </p:nvSpPr>
        <p:spPr>
          <a:xfrm>
            <a:off x="3687840" y="782640"/>
            <a:ext cx="5234040" cy="14086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1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ttle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2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heep and goat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3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ig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4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quine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1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56" name=""/>
          <p:cNvSpPr/>
          <p:nvPr/>
        </p:nvSpPr>
        <p:spPr>
          <a:xfrm>
            <a:off x="3700440" y="2459160"/>
            <a:ext cx="5240520" cy="14086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1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ttle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2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heep and goat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3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ig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40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quine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2000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57" name=""/>
          <p:cNvSpPr/>
          <p:nvPr/>
        </p:nvSpPr>
        <p:spPr>
          <a:xfrm>
            <a:off x="3713400" y="4097160"/>
            <a:ext cx="5223600" cy="140868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1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ttle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2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heep and goat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3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ig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 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  <a:p>
            <a:pPr algn="just"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tc49: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quines slaughterings</a:t>
            </a:r>
            <a:r>
              <a:rPr b="0" lang="it-IT" sz="2000" spc="-1" strike="noStrike">
                <a:solidFill>
                  <a:srgbClr val="ffffff"/>
                </a:solidFill>
                <a:latin typeface="Lucida Casual"/>
              </a:rPr>
              <a:t> 1999</a:t>
            </a:r>
            <a:endParaRPr b="0" lang="en-US" sz="2000" spc="-1" strike="noStrike">
              <a:solidFill>
                <a:srgbClr val="ffffff"/>
              </a:solidFill>
              <a:latin typeface="Lucida Casu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8234280" y="5648400"/>
          <a:ext cx="731880" cy="71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34280" y="5648400"/>
                    <a:ext cx="73188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114960" y="5952960"/>
          <a:ext cx="1967040" cy="38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4960" y="5952960"/>
                    <a:ext cx="19670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686560" y="92376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Year 2001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63" name=""/>
          <p:cNvSpPr/>
          <p:nvPr/>
        </p:nvSpPr>
        <p:spPr>
          <a:xfrm>
            <a:off x="5715000" y="309708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Year 2000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sp>
        <p:nvSpPr>
          <p:cNvPr id="164" name=""/>
          <p:cNvSpPr/>
          <p:nvPr/>
        </p:nvSpPr>
        <p:spPr>
          <a:xfrm>
            <a:off x="5716440" y="5154480"/>
            <a:ext cx="21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Comic Sans MS"/>
              </a:rPr>
              <a:t>Year 1999</a:t>
            </a:r>
            <a:endParaRPr b="0" lang="en-US" sz="2800" spc="-1" strike="noStrike">
              <a:solidFill>
                <a:srgbClr val="ffffff"/>
              </a:solidFill>
              <a:latin typeface="Lucida Casu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574560" y="252360"/>
            <a:ext cx="4422960" cy="17575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571680" y="2389320"/>
            <a:ext cx="4414680" cy="1716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536400" y="4441680"/>
            <a:ext cx="443736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13:03:45Z</dcterms:created>
  <dc:creator>Laura MARTINO</dc:creator>
  <dc:description/>
  <dc:language>en-US</dc:language>
  <cp:lastModifiedBy>Robi</cp:lastModifiedBy>
  <dcterms:modified xsi:type="dcterms:W3CDTF">2004-10-30T15:34:33Z</dcterms:modified>
  <cp:revision>121</cp:revision>
  <dc:subject/>
  <dc:title>An integrated system to improve quality in official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2476732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2</vt:lpwstr>
  </property>
</Properties>
</file>