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AE6-ED95-4A1B-B52C-7D7B6252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0B8-165F-477C-9AE1-6BB8AE6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FE9-6018-4CA9-9931-86A0EC6B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D22-919D-4470-9EC8-7FAB06C6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1C4-207B-4A17-8259-4DCF1E29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0AD-A6FF-4C09-ABCE-D115B57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FA86-C345-4F8C-BD28-F28D8B2B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733E-70C9-43CD-8DA0-3221839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0DB-CAEB-4274-A822-0E7051E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D3E-8DF1-4166-AE5D-304E3789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61CD-3D46-49AF-8744-3A74CC1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7EA-1F82-4D4D-AA87-EBBE35B9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87D-29C6-4DCD-A629-D2FFA38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64C2-2661-425E-A311-397075F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07F-3FFA-4EE0-A091-B071661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8834-0E3B-4530-8F7C-62643E5C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BDFA-F576-42F4-8A73-4A495DB5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30C-6C87-4375-A1F8-931A584B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D13-B9E4-46D5-9620-48C67A93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DD8-6685-4631-B7A8-659CD779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F71-865B-4E16-B7EB-2A1A547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370-F51C-49A7-93F2-F2D7D33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3BB-AFDE-4270-A295-58B9C20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B99-DEBB-4959-8A59-84F0B1B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2B7-3E33-44A0-852C-C76CB9B54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8EB1-A5A0-424C-BCAA-5FE2C3D64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0400" y="323964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Federica Piersim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STAT - Italian National Institute of 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Roberto Benede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mic Sans MS"/>
              </a:rPr>
              <a:t>University “G.d’Annunzio” of Chieti-Pescara, Ita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Giuseppe Es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mic Sans MS"/>
              </a:rPr>
              <a:t>Universy of Trento, Ita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On the use of auxiliary variables </a:t>
            </a:r>
            <a:r>
              <a:rPr b="0" lang="it-IT" sz="4800" spc="-1" strike="noStrike">
                <a:solidFill>
                  <a:srgbClr val="ffcc66"/>
                </a:solidFill>
                <a:latin typeface="Comic Sans MS"/>
              </a:rPr>
              <a:t>in agricultural surveys desig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19120" y="895320"/>
            <a:ext cx="799308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ampling fram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 2.211 units (enterprises) and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2 variables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umber of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attle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igs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heep and goats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quines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laughtered at the census surveys of 1999,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00 e 2001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60280" y="388800"/>
            <a:ext cx="859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00 samples of size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 200…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sing as auxiliary information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 the complete frame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t 1999 and at 2000 to obtain estimates at 2001!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timates obtained through the Horvitz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hompson expansion estimator and the calibration estimator (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PV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) by Deville and Särndal (1992)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98920" y="4489560"/>
                <a:ext cx="262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r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o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r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77840" y="4114800"/>
            <a:ext cx="2247840" cy="493560"/>
          </a:xfrm>
          <a:prstGeom prst="wedgeRectCallout">
            <a:avLst>
              <a:gd name="adj1" fmla="val 112569"/>
              <a:gd name="adj2" fmla="val 26203"/>
            </a:avLst>
          </a:prstGeom>
          <a:solidFill>
            <a:srgbClr val="ff9900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Distance function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80" name=""/>
          <p:cNvSpPr/>
          <p:nvPr/>
        </p:nvSpPr>
        <p:spPr>
          <a:xfrm>
            <a:off x="5969160" y="3975120"/>
            <a:ext cx="3009600" cy="658800"/>
          </a:xfrm>
          <a:prstGeom prst="wedgeRectCallout">
            <a:avLst>
              <a:gd name="adj1" fmla="val -75421"/>
              <a:gd name="adj2" fmla="val 161324"/>
            </a:avLst>
          </a:prstGeom>
          <a:solidFill>
            <a:srgbClr val="ff9900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Vector of the totals of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the auxiliary variables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09520" y="401760"/>
            <a:ext cx="8775720" cy="515340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mples selection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ple random sampling (SR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atified sampling (ST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ed set sampling (RS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y proportional to size (</a:t>
            </a:r>
            <a:r>
              <a:rPr b="1" lang="it-IT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d sampling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d sampling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84320" y="465120"/>
            <a:ext cx="8775360" cy="496980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R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r>
              <a:rPr b="1" i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t estimate doesn’t use                   auxiliary information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T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uxiliary information is used 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 ante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trata setting up;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ve planned strata;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variate allocation model by Bethel (1989).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71360" y="160200"/>
            <a:ext cx="8775720" cy="533628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S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iginal formulation: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ion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S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out reinsertion of a first sample of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its;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ing in increasing order of th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its of the sample with respect to an auxiliary variabl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known for every population unit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est variable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measured on the first unit only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con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drawn and ranked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est variable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measured on the second unit only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and so on till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plications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84320" y="465120"/>
            <a:ext cx="8775360" cy="503172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ing </a:t>
            </a:r>
            <a:r>
              <a:rPr b="1" lang="it-IT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:</a:t>
            </a:r>
            <a:endParaRPr b="0" lang="en-US" sz="36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k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,…,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,4 an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999, 2000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units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52600" y="1965240"/>
                <a:ext cx="1011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840040" y="1576440"/>
                <a:ext cx="346392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092400" y="4667400"/>
                <a:ext cx="123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689440" y="4624560"/>
                <a:ext cx="12733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4320" y="465120"/>
            <a:ext cx="8775360" cy="253224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itive auxiliary variabl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lection with probability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ch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 ant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bability is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73520" y="2076480"/>
                <a:ext cx="647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84320" y="465120"/>
            <a:ext cx="8775360" cy="497052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LANCED SAMPLING and </a:t>
            </a:r>
            <a:r>
              <a:rPr b="1" i="1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S + BALANCED SAMPLING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lance constraint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has been imposed for the four variables to be estimated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he difference between the two criteria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the second case the constraint is impose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x 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sample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91080" y="2009880"/>
                <a:ext cx="3436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201680" y="471600"/>
          <a:ext cx="6948720" cy="566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471600"/>
                    <a:ext cx="6948720" cy="5661000"/>
                  </a:xfrm>
                  <a:prstGeom prst="rect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362480" y="1866960"/>
            <a:ext cx="3809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4" name=""/>
          <p:cNvSpPr/>
          <p:nvPr/>
        </p:nvSpPr>
        <p:spPr>
          <a:xfrm>
            <a:off x="4387680" y="4184640"/>
            <a:ext cx="3797640" cy="266760"/>
          </a:xfrm>
          <a:prstGeom prst="rect">
            <a:avLst/>
          </a:prstGeom>
          <a:noFill/>
          <a:ln w="572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5" name=""/>
          <p:cNvSpPr/>
          <p:nvPr/>
        </p:nvSpPr>
        <p:spPr>
          <a:xfrm>
            <a:off x="4400640" y="2787480"/>
            <a:ext cx="3708360" cy="266760"/>
          </a:xfrm>
          <a:prstGeom prst="rect">
            <a:avLst/>
          </a:prstGeom>
          <a:noFill/>
          <a:ln w="572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6" name=""/>
          <p:cNvSpPr/>
          <p:nvPr/>
        </p:nvSpPr>
        <p:spPr>
          <a:xfrm>
            <a:off x="4349880" y="4425840"/>
            <a:ext cx="3797280" cy="266760"/>
          </a:xfrm>
          <a:prstGeom prst="rect">
            <a:avLst/>
          </a:prstGeom>
          <a:noFill/>
          <a:ln w="57240">
            <a:solidFill>
              <a:srgbClr val="23a9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7" name=""/>
          <p:cNvSpPr/>
          <p:nvPr/>
        </p:nvSpPr>
        <p:spPr>
          <a:xfrm>
            <a:off x="4362480" y="3029040"/>
            <a:ext cx="3797280" cy="266760"/>
          </a:xfrm>
          <a:prstGeom prst="rect">
            <a:avLst/>
          </a:prstGeom>
          <a:noFill/>
          <a:ln w="57240">
            <a:solidFill>
              <a:srgbClr val="23a9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8" name=""/>
          <p:cNvSpPr/>
          <p:nvPr/>
        </p:nvSpPr>
        <p:spPr>
          <a:xfrm>
            <a:off x="4387680" y="4680000"/>
            <a:ext cx="3708720" cy="266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9" name=""/>
          <p:cNvSpPr/>
          <p:nvPr/>
        </p:nvSpPr>
        <p:spPr>
          <a:xfrm>
            <a:off x="4400640" y="5632560"/>
            <a:ext cx="3708360" cy="266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30" name=""/>
          <p:cNvSpPr/>
          <p:nvPr/>
        </p:nvSpPr>
        <p:spPr>
          <a:xfrm>
            <a:off x="4387680" y="1866960"/>
            <a:ext cx="3810240" cy="45720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31" name=""/>
          <p:cNvSpPr/>
          <p:nvPr/>
        </p:nvSpPr>
        <p:spPr>
          <a:xfrm>
            <a:off x="4375080" y="5168880"/>
            <a:ext cx="3810240" cy="45720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89040" y="307800"/>
          <a:ext cx="7769160" cy="5484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9040" y="307800"/>
                    <a:ext cx="7769160" cy="548496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888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9480" y="1641600"/>
            <a:ext cx="702756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ctual situa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posal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stimator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ampling design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ata descrip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nalysis of the resul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38080" y="274680"/>
          <a:ext cx="7780320" cy="549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74680"/>
                    <a:ext cx="7780320" cy="549108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65000" y="345960"/>
          <a:ext cx="7777440" cy="548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000" y="345960"/>
                    <a:ext cx="7777440" cy="548964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9640" y="504720"/>
          <a:ext cx="7670880" cy="5415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640" y="504720"/>
                    <a:ext cx="7670880" cy="541512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77920" y="1289160"/>
          <a:ext cx="8650080" cy="4219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920" y="1289160"/>
                    <a:ext cx="8650080" cy="4219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340080" y="380880"/>
            <a:ext cx="203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124080" y="190440"/>
            <a:ext cx="2629080" cy="74952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68" name=""/>
          <p:cNvSpPr/>
          <p:nvPr/>
        </p:nvSpPr>
        <p:spPr>
          <a:xfrm>
            <a:off x="1549440" y="1270080"/>
            <a:ext cx="6197400" cy="120636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t is better to impose the balance constraints in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design phase, than in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ex post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(cf. RMSE SRS - RMSE BAL)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654280"/>
            <a:ext cx="4699080" cy="703800"/>
          </a:xfrm>
          <a:prstGeom prst="rect">
            <a:avLst/>
          </a:prstGeom>
          <a:solidFill>
            <a:srgbClr val="ff9900"/>
          </a:solidFill>
          <a:ln w="3816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Best performances: balanced </a:t>
            </a:r>
            <a:r>
              <a:rPr b="1" i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PS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selections and </a:t>
            </a: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PS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with calibration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3987720"/>
            <a:ext cx="6807240" cy="152424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 joint use of complex estimators together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ith efficient sampling designs may reduce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siderably the variability of the estimate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1" name=""/>
          <p:cNvSpPr/>
          <p:nvPr/>
        </p:nvSpPr>
        <p:spPr>
          <a:xfrm>
            <a:off x="3749040" y="58366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but…...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2" name=""/>
          <p:cNvSpPr/>
          <p:nvPr/>
        </p:nvSpPr>
        <p:spPr>
          <a:xfrm>
            <a:off x="4610160" y="3441600"/>
            <a:ext cx="0" cy="482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19040" y="1079640"/>
            <a:ext cx="8331120" cy="78732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S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i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S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with calibration selection criteria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8" name=""/>
          <p:cNvSpPr/>
          <p:nvPr/>
        </p:nvSpPr>
        <p:spPr>
          <a:xfrm>
            <a:off x="4014720" y="230760"/>
            <a:ext cx="17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but…...</a:t>
            </a:r>
            <a:endParaRPr b="0" lang="en-US" sz="3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9" name=""/>
          <p:cNvSpPr/>
          <p:nvPr/>
        </p:nvSpPr>
        <p:spPr>
          <a:xfrm>
            <a:off x="622440" y="2514600"/>
            <a:ext cx="2958840" cy="92700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0" name=""/>
          <p:cNvSpPr/>
          <p:nvPr/>
        </p:nvSpPr>
        <p:spPr>
          <a:xfrm>
            <a:off x="1017720" y="2714760"/>
            <a:ext cx="21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more efficient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1" name=""/>
          <p:cNvSpPr/>
          <p:nvPr/>
        </p:nvSpPr>
        <p:spPr>
          <a:xfrm>
            <a:off x="3848040" y="2527200"/>
            <a:ext cx="5067360" cy="97812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2" name=""/>
          <p:cNvSpPr/>
          <p:nvPr/>
        </p:nvSpPr>
        <p:spPr>
          <a:xfrm>
            <a:off x="4245120" y="2689200"/>
            <a:ext cx="44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less robust of the others when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outliers are present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273400" y="1917720"/>
            <a:ext cx="457200" cy="57132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4" name=""/>
          <p:cNvSpPr/>
          <p:nvPr/>
        </p:nvSpPr>
        <p:spPr>
          <a:xfrm>
            <a:off x="5892840" y="1917720"/>
            <a:ext cx="228600" cy="62244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5" name=""/>
          <p:cNvSpPr/>
          <p:nvPr/>
        </p:nvSpPr>
        <p:spPr>
          <a:xfrm>
            <a:off x="2273400" y="3708360"/>
            <a:ext cx="5054400" cy="60948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ad performance of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RS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6" name=""/>
          <p:cNvSpPr/>
          <p:nvPr/>
        </p:nvSpPr>
        <p:spPr>
          <a:xfrm>
            <a:off x="1028880" y="4978440"/>
            <a:ext cx="7137360" cy="72396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forced univariate use of the auxiliary information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for the ranking setting up when linear independence is present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37240" y="4343040"/>
            <a:ext cx="12600" cy="60948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52440" y="1996920"/>
            <a:ext cx="8448840" cy="35434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2 estimates in the case of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with calibration estimator based on auxiliary variables of 2000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94" name=""/>
          <p:cNvSpPr/>
          <p:nvPr/>
        </p:nvSpPr>
        <p:spPr>
          <a:xfrm>
            <a:off x="6840360" y="2209680"/>
            <a:ext cx="1846440" cy="621000"/>
          </a:xfrm>
          <a:prstGeom prst="wedgeRectCallout">
            <a:avLst>
              <a:gd name="adj1" fmla="val -238393"/>
              <a:gd name="adj2" fmla="val -48722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3 estimates in the case of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with calibration estimator based on auxiliary variables of 1999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612720" y="2122560"/>
            <a:ext cx="8010720" cy="3451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69080" y="1878120"/>
            <a:ext cx="1846440" cy="620640"/>
          </a:xfrm>
          <a:prstGeom prst="wedgeRectCallout">
            <a:avLst>
              <a:gd name="adj1" fmla="val -309500"/>
              <a:gd name="adj2" fmla="val 37212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4 direct estimates in the case of balanced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based on auxiliary variables of 1999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87200" y="1963800"/>
            <a:ext cx="8577360" cy="3603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072200" y="1819440"/>
            <a:ext cx="1846440" cy="620640"/>
          </a:xfrm>
          <a:prstGeom prst="wedgeRectCallout">
            <a:avLst>
              <a:gd name="adj1" fmla="val -305546"/>
              <a:gd name="adj2" fmla="val 25703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2 direct estimates in the case of balanced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based on auxiliary variables of 2000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00040" y="2097000"/>
            <a:ext cx="7707240" cy="3197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072200" y="1819440"/>
            <a:ext cx="1846440" cy="620640"/>
          </a:xfrm>
          <a:prstGeom prst="wedgeRectCallout">
            <a:avLst>
              <a:gd name="adj1" fmla="val -244583"/>
              <a:gd name="adj2" fmla="val 32606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19040" y="1035000"/>
          <a:ext cx="7715160" cy="444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1035000"/>
                    <a:ext cx="7715160" cy="44481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60280" y="6004080"/>
            <a:ext cx="2452680" cy="649080"/>
          </a:xfrm>
          <a:prstGeom prst="wedgeRectCallout">
            <a:avLst>
              <a:gd name="adj1" fmla="val -31680"/>
              <a:gd name="adj2" fmla="val -1612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opulation uni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19" name=""/>
          <p:cNvSpPr/>
          <p:nvPr/>
        </p:nvSpPr>
        <p:spPr>
          <a:xfrm>
            <a:off x="2836800" y="5983200"/>
            <a:ext cx="1990800" cy="649440"/>
          </a:xfrm>
          <a:prstGeom prst="wedgeRectCallout">
            <a:avLst>
              <a:gd name="adj1" fmla="val -129666"/>
              <a:gd name="adj2" fmla="val -4592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ample uni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20" name=""/>
          <p:cNvSpPr/>
          <p:nvPr/>
        </p:nvSpPr>
        <p:spPr>
          <a:xfrm>
            <a:off x="1790640" y="266760"/>
            <a:ext cx="5461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Actual situation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77840" y="152280"/>
            <a:ext cx="8813880" cy="51771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References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Al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aleh M.F., Al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Omari A.I. (2002) Multistage ranked set sampling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02, 273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286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Bai Z., Chen Z. (2003) On the theory of ranked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et sampling and its ramific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09, 81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9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Bethel J. (1989) Sample allocation in multivariate survey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Survey Methodology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5, 4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57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Deville J.C., Särndal C.E. (1992) Calibration Estimators in Survey Sampling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87, 418, 376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82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Dorfman A.H., Valliant R. (2000) Stratification by size revised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Official Statistics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6, 2, 13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54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Espa G., Benedetti R., Piersimoni F. (2001) Prospettive e soluzioni per il </a:t>
            </a:r>
            <a:r>
              <a:rPr b="0" lang="it-IT" sz="1100" spc="-1" strike="noStrike">
                <a:solidFill>
                  <a:srgbClr val="ffff66"/>
                </a:solidFill>
                <a:latin typeface="Comic Sans MS"/>
              </a:rPr>
              <a:t>data editing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 nelle rilevazioni in agricoltura,</a:t>
            </a:r>
            <a:r>
              <a:rPr b="0" lang="it-IT" sz="1100" spc="-1" strike="noStrike">
                <a:solidFill>
                  <a:srgbClr val="ffff66"/>
                </a:solidFill>
                <a:latin typeface="Comic Sans MS"/>
              </a:rPr>
              <a:t> Statistica Applicata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, 13, 4, 363</a:t>
            </a:r>
            <a:r>
              <a:rPr b="0" i="1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39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Hidiroglou M.A. (1986) The construction of a self-representing stratum of large units in survey design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The American Statisticia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40, 1, 2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Li D., Sinha B.K., Perron F. (1999) Random selection in ranked set sampling and its applic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76, 185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20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McIntyre G.A. (1952) A method for unbiased selective sampling, using ranked set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The Australian Journal of Agricultural and Resource Economics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3, 385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90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Patil G.P., Sinha A.K., Taillie C. (1994a) Ranked set sampling, in G.P. Patil and C.R. Rao (eds)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Handbook of Statistics, Volume 12, Environmental Statistic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North Holland Elsevier, New York, 167–200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Patil G.P., Sinha A.K., Taillie C. (1994b) Ranked set sampling for multiple characteristics,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International Journal of Ecology and Environmental Science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20, 94–10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Ridout M.S. (2003) On ranked set sampling for multiple characteristics,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Environmental and Ecological Statistic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10, 255–262. 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sén B. (1997) On sampling with probability proportional to size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2, 15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9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 (1970) On finite population sampling theory under certain linear regression model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Biometrika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57, 2, 37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87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 (1992) Robustness and optimal design under prediction models for finite popul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Survey Methodology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8, 17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85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, Herson J. (1973a) Robust estimation in finite populations I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8, 344, 880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88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, Herson J. (1973b) Robust estimation in finite population II: stratification on a size variable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8, 344, 890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893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ärndal C-E, Swensson B., Wretman J. (1992) Model Assisted Survey Sampling, Springer Verlag, New York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2882880" y="1455840"/>
            <a:ext cx="5342040" cy="4097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 flipH="1">
            <a:off x="274320" y="1852560"/>
            <a:ext cx="1322280" cy="1359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ANK YOU FOR YOUR ATTENTION!</a:t>
            </a:r>
            <a:endParaRPr b="0" lang="en-US" sz="4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395280" y="3865680"/>
            <a:ext cx="1152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46320" y="1494000"/>
          <a:ext cx="6703920" cy="4203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6320" y="1494000"/>
                    <a:ext cx="6703920" cy="4203360"/>
                  </a:xfrm>
                  <a:prstGeom prst="rect">
                    <a:avLst/>
                  </a:prstGeom>
                  <a:ln w="38160">
                    <a:solidFill>
                      <a:srgbClr val="00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845320" y="345960"/>
            <a:ext cx="2957400" cy="779400"/>
          </a:xfrm>
          <a:prstGeom prst="wedgeRectCallout">
            <a:avLst>
              <a:gd name="adj1" fmla="val -69643"/>
              <a:gd name="adj2" fmla="val 162625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sample survey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09640" y="1800360"/>
            <a:ext cx="38732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2001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76040" y="401760"/>
            <a:ext cx="5083200" cy="510228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173560" y="1774800"/>
            <a:ext cx="40104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2000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65240" y="449280"/>
            <a:ext cx="5083200" cy="510372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255280" y="1800360"/>
            <a:ext cx="401040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1999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19240" y="446040"/>
            <a:ext cx="5099040" cy="511668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10960" y="28440"/>
            <a:ext cx="3272040" cy="165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17440" y="1693800"/>
            <a:ext cx="325764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09520" y="3344760"/>
            <a:ext cx="3279960" cy="165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20680" y="5019840"/>
            <a:ext cx="3265560" cy="164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41720" y="21744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CATTER PLO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5" name=""/>
          <p:cNvSpPr/>
          <p:nvPr/>
        </p:nvSpPr>
        <p:spPr>
          <a:xfrm>
            <a:off x="3687840" y="782640"/>
            <a:ext cx="523404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6" name=""/>
          <p:cNvSpPr/>
          <p:nvPr/>
        </p:nvSpPr>
        <p:spPr>
          <a:xfrm>
            <a:off x="3700440" y="2459160"/>
            <a:ext cx="524052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7" name=""/>
          <p:cNvSpPr/>
          <p:nvPr/>
        </p:nvSpPr>
        <p:spPr>
          <a:xfrm>
            <a:off x="3713400" y="4097160"/>
            <a:ext cx="522360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86560" y="92376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2001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0970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2000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64" name=""/>
          <p:cNvSpPr/>
          <p:nvPr/>
        </p:nvSpPr>
        <p:spPr>
          <a:xfrm>
            <a:off x="5716440" y="5154480"/>
            <a:ext cx="21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1999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74560" y="252360"/>
            <a:ext cx="4422960" cy="1757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71680" y="2389320"/>
            <a:ext cx="4414680" cy="1716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36400" y="4441680"/>
            <a:ext cx="44373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3:03:45Z</dcterms:created>
  <dc:creator>Laura MARTINO</dc:creator>
  <dc:description/>
  <dc:language>en-US</dc:language>
  <cp:lastModifiedBy>Robi</cp:lastModifiedBy>
  <dcterms:modified xsi:type="dcterms:W3CDTF">2004-10-30T15:34:33Z</dcterms:modified>
  <cp:revision>121</cp:revision>
  <dc:subject/>
  <dc:title>An integrated system to improve quality in official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476732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2</vt:lpwstr>
  </property>
</Properties>
</file>