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3D2-0E25-4AA8-89D4-CBD4416D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3D8-EB4C-4CA2-A24B-EF4B6BA1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87A-DF77-437C-A1AB-5CF39C88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6C7-40EC-42A8-89E2-68B41650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CEB1-704A-4C45-AD57-457ECAD8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F53F-61FF-4A55-A444-17DF45F2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2934-191D-4563-A3D1-46CE2844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FC31-91C4-4D89-B125-65906F4A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0BD2-02F0-4087-92CD-6ACCE4B5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9675-6516-4502-90F4-03747FA5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CEAB-A357-4D70-AD7C-B56D5744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FE7-68A3-4B10-9B6D-E5C3C520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B495-E2FF-45D8-B120-68E2929C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A2D5-A8DC-42C5-A825-69108AF4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8B12-CD68-4E6F-91FE-352FC300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3319-1ADD-40E8-9E8C-CD05B4E3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8BDA-475F-4459-B8F7-596E01D1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98D-6C8D-4657-964B-3EBDCF9A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E74-98AE-46D8-A71D-B5C829BA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23C-D094-405A-A134-9587B39E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E4E-5717-4670-990E-8AD699CB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5F7-8009-48E5-B73E-C2F1D7A4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D00-6C95-426B-90FA-B4735B5E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56B-10ED-4865-A657-F8082A8C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A755-9D5D-46E8-AE12-F10EED1A3B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9235-EC37-4ACF-A3A7-372868C53C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ENSOS AGRÍCOLAS EN AMÉRICA LATINA Y EL CARIB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43000" y="3885840"/>
            <a:ext cx="67816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lgunas lecciones de la experienc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757080" y="2282760"/>
          <a:ext cx="7567920" cy="43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2282760"/>
                    <a:ext cx="756792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ctuales fortalezas en las estadística agropecuarias en América Latina y el Carib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yor instrucción estadíst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yor profesionalización en la toma de decis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o tecnológ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operación internac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ctuales debilidades en las estadística agropecuarias en América Latina y el Carib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alta de conciencia sobre el rol del censo agropecuario como mar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casez presupuestar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usencia de investigación en algunos temas fundament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lgunos temas que afectan la comparabilidad internacional de los datos censal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amaño mínimo de las explot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diciones exigidas para que diversas parcelas de una misma explotación sean tomadas como t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457200" y="304920"/>
          <a:ext cx="8458200" cy="632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4582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17600" y="2139840"/>
          <a:ext cx="816768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2139840"/>
                    <a:ext cx="816768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l Censo Nacional Agropecuario de Nicaragua 200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UPOS DE ACTIVIDA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vantamien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del marco múltiple para el PN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os especi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cesidad de mejorar la comparabilidad de los datos cens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lusión en los presupuestos nacionales de partidas permanentes para el segui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lusión de nuevos temas en los PNEA´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r partidas en el presupuesto del censo para 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integral de la información estructural de los cen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r partidas para la actualización de diseños de las encuestas del P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1:08:01Z</dcterms:created>
  <dc:creator>Miguel Galmes</dc:creator>
  <dc:description/>
  <dc:language>en-US</dc:language>
  <cp:lastModifiedBy>Miguel Galmes</cp:lastModifiedBy>
  <dcterms:modified xsi:type="dcterms:W3CDTF">2004-10-29T13:55:10Z</dcterms:modified>
  <cp:revision>10</cp:revision>
  <dc:subject/>
  <dc:title>Sin título de diapositiva</dc:title>
</cp:coreProperties>
</file>