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BE18-4E6E-49CA-A5AB-545A57CA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0BD0-430F-42E5-9E8C-F2B44E46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9BDE-87EF-4B08-A5AB-B0C4576EE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63C8-B380-448D-BC23-8476CB05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49A4-9C81-43A0-9DA8-BB672C94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DD7B-6499-4B2F-B27B-D6C5CD18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7F77-6FA0-49E5-9531-CEFEFA84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A733-325C-4042-A25C-85A29EA8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ABE8-171A-4BA1-8AE3-0406C8E1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CBC1-2358-4FF4-B61C-1FBDF65D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B447-D1C4-45A5-A805-050E787F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11A0-4B3B-4495-9A63-1317064D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AB9E-03D6-45ED-89AD-1C45A610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1431-3980-449A-B901-DAEC10E7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95E1-C023-4CD2-9792-49BDF247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2C72-8D18-4FC1-9047-84B7FB55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5E4D-A428-45E0-A7EC-1357DE61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4DB1-9FD8-475C-B677-A5C1AAEBA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871D-2686-4449-B815-171532E1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EE32-0EB4-416D-9AF3-C6B0F935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E08F-16D7-4572-B3C2-D2C942B3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403D-AF2B-43AD-849E-6FE31337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DB8F-0EA7-4DE8-BDF5-AE4FDB25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29C2-EFBE-4876-BA43-930889E9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B027-EB04-43D2-A122-80CD15404D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4DA0-0CEA-4A4E-A24E-B20E67428E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ENSOS AGRÍCOLAS EN AMÉRICA LATINA Y EL CARIB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143000" y="3885840"/>
            <a:ext cx="678168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lgunas lecciones de la experienc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757080" y="2282760"/>
          <a:ext cx="7567920" cy="433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2282760"/>
                    <a:ext cx="7567920" cy="43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Actuales fortalezas en las estadística agropecuarias en América Latina y el Carib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178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ayor instrucción estadísti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ayor profesionalización en la toma de decis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arrollo tecnológic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operación internacio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Actuales debilidades en las estadística agropecuarias en América Latina y el Caribe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Falta de conciencia sobre el rol del censo agropecuario como marc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casez presupuestar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usencia de investigación en algunos temas fundamenta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Algunos temas que afectan la comparabilidad internacional de los datos censales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amaño mínimo de las explotac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diciones exigidas para que diversas parcelas de una misma explotación sean tomadas como ta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457200" y="304920"/>
          <a:ext cx="8458200" cy="632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84582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417600" y="2139840"/>
          <a:ext cx="8167680" cy="51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2139840"/>
                    <a:ext cx="816768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l Censo Nacional Agropecuario de Nicaragua 2001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RUPOS DE ACTIVIDA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evantamien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del marco múltiple para el PN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udios especi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ecesidad de mejorar la comparabilidad de los datos cens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clusión en los presupuestos nacionales de partidas permanentes para el seguimie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clusión de nuevos temas en los PNEA´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22760" y="1885680"/>
            <a:ext cx="401328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veer partidas en el presupuesto del censo para 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integral de la información estructural de los cen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veer partidas para la actualización de diseños de las encuestas del PNE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1:08:01Z</dcterms:created>
  <dc:creator>Miguel Galmes</dc:creator>
  <dc:description/>
  <dc:language>en-US</dc:language>
  <cp:lastModifiedBy>Miguel Galmes</cp:lastModifiedBy>
  <dcterms:modified xsi:type="dcterms:W3CDTF">2004-10-29T13:55:10Z</dcterms:modified>
  <cp:revision>10</cp:revision>
  <dc:subject/>
  <dc:title>Sin título de diapositiva</dc:title>
</cp:coreProperties>
</file>