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655300" cy="7559675"/>
  <p:notesSz cx="7559675" cy="1065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A4F-F976-4C7C-A671-B050D03A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90583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8480" y="4552200"/>
            <a:ext cx="90583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0FE-BF43-4001-96A8-5E2E004D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032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8480" y="455220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40320" y="455220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E22-60D0-4E96-839E-67C8B0BD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61000" y="218232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23520" y="218232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98480" y="455220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61000" y="455220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23520" y="455220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BD2-C3E1-4429-A481-9C3CB9E4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98480" y="2182320"/>
            <a:ext cx="90583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B2E-3C75-441C-9558-5D7D2E3B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9058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3F4-A77F-4858-869D-38DBD13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4420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40320" y="2182320"/>
            <a:ext cx="4420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DFF-55E1-4E11-B5A5-92B53A00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998-3E9F-419B-B807-6EB5DEA8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98480" y="671400"/>
            <a:ext cx="90583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BDE-9FF4-40AE-B408-D3F246E5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40320" y="2182320"/>
            <a:ext cx="4420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98480" y="455220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2FF-1004-466E-9908-D5466241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4420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4032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40320" y="455220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4BD-3680-429C-A607-1ED0CC8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4032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8480" y="4552200"/>
            <a:ext cx="90583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792-CA98-4C31-BC3F-D2086643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480" y="2182320"/>
            <a:ext cx="9058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8120" y="6886080"/>
            <a:ext cx="2219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9960" y="6886080"/>
            <a:ext cx="3375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35600" y="6886080"/>
            <a:ext cx="2220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5DE1-C6FF-43B2-AF32-E5191DB3128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4840" y="162000"/>
            <a:ext cx="1627200" cy="1244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808280" y="66600"/>
            <a:ext cx="11268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17680" y="1873080"/>
            <a:ext cx="874440" cy="475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14920" y="1803960"/>
            <a:ext cx="35622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MT"/>
              </a:rPr>
              <a:t>Challenges to Agriculture Statistics in an Environment of Government Restra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29200" y="3940200"/>
            <a:ext cx="29066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MT"/>
              </a:rPr>
              <a:t>Allan Nicho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MT"/>
              </a:rPr>
              <a:t>Australian Bureau of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89320" y="1442880"/>
            <a:ext cx="794700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reed outcomes from the Agriculture I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cus on methods to improve timeliness and accuracy of existing data collec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rsue options to link the Agricultural Census with the Population Cens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rsue options to enable data from the Agricultural census to be coded to mesh blocks (small geographic area comprising about 30 dwelling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to pursue funding options to enable significant progress to be ma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Agriclture ID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Increasing use of sample survey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89320" y="1442880"/>
            <a:ext cx="794700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until 1996-97 ABS conducted an annual agricultural cens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have a five-yearly census with large surveys in other yea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w surveys have been developed to collect information about important environmental issu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t, and management, of dryland salin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ter use and irrigation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igger questions on the ag census/surveys were used to target farmers for these two new survey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er quality data at reduced co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Alternative sources of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89320" y="1442880"/>
            <a:ext cx="794700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y alternative sources of data exist, including administrative data held by givernment agenc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x agencies, customs offices, licensing authorit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is potential to significantly expand the national statistical data set by using these sources, but we need 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potential sour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ess them for useability (fitness for purpose?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ke other users aware of them, eg through statistical director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se data sets can also be used to confront survey data, to identify significant errors or coverage issu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Linking of datas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89320" y="1442880"/>
            <a:ext cx="7947000" cy="56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king of existing datasets has the potential to improve the analytical capacity of the available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riculture census has data on production and land and farm management practi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pulation census has demographic and personal characteristics, as well as broad income inform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linked dataset would enable far better exploration of the relationships between land management practices and personal characteristics as well as production and inco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ch a link is currently being expolred for use with the 2006 censu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Use of latest technolo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89320" y="1442880"/>
            <a:ext cx="7947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invests heavily in evaluating the latest technology and softwa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cal scanners, character recognition software, on-line editing tools, et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also designs much of its own software for use in survey design and process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inuing evaluation of available software ensures efficiencies are obtained in all aspects of survey process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Review of processes and structu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89320" y="1442880"/>
            <a:ext cx="794700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conducts regular reviews of its processes and structu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llowing two years of investigations, ABS is undertaking a significant restructuring, known as the 'Business Statistics Innovation Program' (BSI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ims of BSIP are 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 in a position to respond quickly and efficiently to technological advan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lise productivity gains to generate capacity for future statistical 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98680" y="304920"/>
            <a:ext cx="69660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Review of processes and structures, </a:t>
            </a:r>
            <a:r>
              <a:rPr b="1" lang="en-US" sz="1900" spc="-1" strike="noStrike">
                <a:solidFill>
                  <a:srgbClr val="008000"/>
                </a:solidFill>
                <a:latin typeface="Arial MT"/>
              </a:rPr>
              <a:t>continu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89320" y="1442880"/>
            <a:ext cx="794700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SIP involved establish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Economic Statistics Data Centre - a common, nationally managed environment for pre-input editing functions for all business collec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siness Statistics Centres - responsible for the production of regular ABS outputs, including analys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tional Statistics Centres - responsible for providing statistical leadership in a designated field of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ress is good so far, but technological efficiencies (as common systems replace disparate ones) are yet to be realis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Potential sources of fun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89320" y="1442880"/>
            <a:ext cx="794700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though ABS is the national statistical agency, its budget only allows for the funding of high priority statistical collec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works with users to identify funding solu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 funding by ABS (with the remainder funded by the clien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mation of a syndicate of users who collectively fund a surve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couraging policy departments to include their statistical needs in funding bids for new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has an option of approaching government for additional funding for high priority statistics - but this option is used rare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89320" y="1442880"/>
            <a:ext cx="7947000" cy="52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has examined and adopted a range of strategies for dealing with finite levels of resources in an environment of increased demand for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number of strategies realte to gaining efficiencies through technology, business processes and statistical procedu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surveys have become more efficient through improved designs, and have replaced censuses in most ca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asingly ABS is looking to make better use of administrative data, and to link its own datasets to improve the analytical capacity of existing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89320" y="1442880"/>
            <a:ext cx="794700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role of the ABS is 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34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ist and encourage informed decision-making, research and discussion within governments and the commun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34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34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ing a high quality, objective and responsive national statistical servi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34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Background, </a:t>
            </a:r>
            <a:r>
              <a:rPr b="1" lang="en-US" sz="1900" spc="-1" strike="noStrike">
                <a:solidFill>
                  <a:srgbClr val="008000"/>
                </a:solidFill>
                <a:latin typeface="Arial MT"/>
              </a:rPr>
              <a:t>continu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89320" y="1442880"/>
            <a:ext cx="794700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and its predecessors have been providing agriculture statistics for over 140 yea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the type and range of data has changed considerab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reflects changes within agriculture itself as well as structural changes within the econom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0 years ago, agriculture accounted for about 20% of GDP and 30% of male employ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it accounts for about 3% of GDP and about 3.5% of employ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Background, </a:t>
            </a:r>
            <a:r>
              <a:rPr b="1" lang="en-US" sz="1900" spc="-1" strike="noStrike">
                <a:solidFill>
                  <a:srgbClr val="008000"/>
                </a:solidFill>
                <a:latin typeface="Arial MT"/>
              </a:rPr>
              <a:t>continu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89320" y="1442880"/>
            <a:ext cx="794700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pite the relative decline in its share of GDP, agriculture is still a very important sect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ignificant export earner for 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s 60% of Australia's land ar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s 70% of stored wa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ignificant employer in rural are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Expansion in demand for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89320" y="1442880"/>
            <a:ext cx="794700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ditionally, core agriculture data focused on production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ea of crops / numbers of tre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antity harves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mbers of livestoc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the last 10 years demand for data has changed with a need to measure aspects o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conomic sustaina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cial and community sustaina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98680" y="304920"/>
            <a:ext cx="69660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Expansion in demand for data, </a:t>
            </a:r>
            <a:r>
              <a:rPr b="1" lang="en-US" sz="1900" spc="-1" strike="noStrike">
                <a:solidFill>
                  <a:srgbClr val="008000"/>
                </a:solidFill>
                <a:latin typeface="Arial MT"/>
              </a:rPr>
              <a:t>continu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89320" y="1442880"/>
            <a:ext cx="7947000" cy="60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licy makers now need data to answer questions such 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 the current rate of expansion in agriculture be maintained in the long term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e natural resources (particularly water) being utilized by the most efficient industrie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s the cost to natural resources exceeding the benefits received from their exploitatio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e farmers earning enough to maintain the natural resource base in an acceptable conditio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management practices do the more profitable farmers us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98680" y="304920"/>
            <a:ext cx="69660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Expansion in demand for data, </a:t>
            </a:r>
            <a:r>
              <a:rPr b="1" lang="en-US" sz="1900" spc="-1" strike="noStrike">
                <a:solidFill>
                  <a:srgbClr val="008000"/>
                </a:solidFill>
                <a:latin typeface="Arial MT"/>
              </a:rPr>
              <a:t>continu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89320" y="1442880"/>
            <a:ext cx="7947000" cy="56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is a significant challenge for statistical organisations to provide suitable data to help answer these ques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is also a challenge to provide the data in a suitable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st of these questions require data at very fine geographic levels for regional analys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y would benefit from data which can be input to Geographic Information Systems so that it can be overlayed with other spatial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se challenges come at a time when additional funding is difficult to obta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How do we achieve more with les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89320" y="1442880"/>
            <a:ext cx="7947000" cy="53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improve our ability to satisfy new demands in an environment of restraint, the following strategies have been adop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of Information Development Pla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ased use of sample survey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of alternative sources of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roved use of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ular reviews of proce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stigating potential sources of fund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98680" y="304920"/>
            <a:ext cx="6966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Information Development Plans (IDP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89320" y="1442880"/>
            <a:ext cx="7947000" cy="67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in a particular field of statistics, IDPs aim 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ablish an agreed understansing of statistical priorit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ablish a shared responsibility for collaborative work to address high priority unmet statistical nee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ach IDP docum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mand for information, particularly in a policy sen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ly of information from all sour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aps in the information ba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lative priorities of unmet data nee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reed statistical development activ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3764697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1</vt:lpwstr>
  </property>
</Properties>
</file>