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B69-0DCB-47A7-8550-6D361E18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BCA-6B67-4792-82AC-1FFF53DA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6EC-631E-47AD-B653-096B9552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B08-62F2-4B65-8BED-8A52E792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AA436-56B0-41D4-86CB-8FAB69A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67E5C-E73C-43EF-ABDE-C3AA56E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2B0A-FCC4-4713-AD71-CFC05F3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78584-B5A3-417C-BE7A-AA44B07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B22E-DFBA-470D-9939-22565D1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4CFE-C600-4965-81AF-32017F8B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E08C-7AC5-4778-B849-90D2EA8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033-0A2E-4084-A172-84FDD0C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2729-8760-49D8-8BA5-F7A51A9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0D9F3-EFFD-4E3B-B9F9-E41D7B0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FE77E-FE6F-414C-A84C-A45BC46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D9B4-2C57-40A3-ADCB-B3E4E0F8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F9BCA-6C7C-407B-ABBA-11FED68B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71B-7021-4ADD-8F38-1A2D048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B8D-2506-4F6C-A5B0-E6BA95DF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8B1-1710-45B0-82A5-C18A32A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D0D-A0C8-494C-B963-22AC4858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7F9-DDD6-427E-9B85-FC68E58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A8D-5414-4EA4-AE66-6057FA7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9BE-88AC-4C0C-9BCB-BF80DCE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DDCC-27D3-4D20-8884-235D60361B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93D3-6CAD-44C9-8A0B-DDD44D5AF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Arial"/>
              </a:rPr>
              <a:t>The Challenge of Sample Design During Civil War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342900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Case of Southern Su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Luka B. DE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New Sudan Centre for Statistics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ncun, Mexico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Pros and Cons of such Sample Design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bability sample has been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trol of sample size that limits non-respo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qual and constant interviewer workloa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st effectiveness by using existing traditional rosters of households rather than a fresh and costly listing by stran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mple large enough (5000 HHs) to provide disaggregated estim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Pros and Cons Cont.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Dis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unorthodox and inferior sample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reliable because of sampling error cannot be controlled as a result of lack of reliable size measures for stratification and selection process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(population under each chief has been used as a proxy for size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to reflect differential probabilities of selection by applying weighting as estimates cannot be prepared from sample counts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5. Conclu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sampling and “implicit stratification” have been in a way fo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ed in various surveys (Multiple indicators Cluster, Livelihood and Food Security Monitoring and sentinel sit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ed satisfactory resul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appropriate in war situation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Presentation Outlin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. Data Needs During Civil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. Challenges of Sample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. Traditional Social Hierarch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. Conclu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. Introduction: Violent Confli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vil wars are pronounced and endemic after the Cold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st Incidence of Civil Wars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of African countries affected by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in three African people affected by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“normal”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ol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ather than peace in most parts of Afric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olent Conflict in Afric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6477120" cy="5791320"/>
            <a:chOff x="914400" y="685800"/>
            <a:chExt cx="6477120" cy="57913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914400" y="685800"/>
              <a:ext cx="647712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914400" y="685800"/>
              <a:ext cx="6477120" cy="579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2. Data Needs During Civil War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incidence of pov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vulnerability and food insecurit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40% of people at risk of hunger and malnutrition from zones of active conflict in the early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current famin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7 out 8 famines caused by civil wars in the 1990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humanitarian interventio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lief aid is replacing development assistance in the war affected count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need to monitor rural livelihoods in zones of active confli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6600"/>
                </a:solidFill>
                <a:latin typeface="Arial"/>
              </a:rPr>
              <a:t>3. Challenges of Sample Design 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ensus tradition or framework for comprehensive survey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relevant enumeration areas or sample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atic and recurrent popula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ing administrative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cartographical and mapping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ians dealing only with “normal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, how can we make sample design in such a situation of civil w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4. Traditional Social Hierarc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social structure survives in civil wars more than any other i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clearly defined down to a household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a custodian of community’s knowledge and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basis for any administrative structure during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social structure to provide a workable frame for sample selection, although it is not idea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Case of South Suda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rent Civil wars (1955-1972, 1982-n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e as mainstay of the rural livelih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than 98% rural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rent famines (1988, 1991, 1993, 199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t population census in 1953 during colonial period, other censuses (1973, 1983, 1993) partially conducted because of civil w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agriculture census ever conducted in South Sudan, only in 1965 in Northern Su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athering during civil war focuses on livelihood and food security monitorin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91440" y="1066680"/>
            <a:ext cx="1700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Overview of Sample Desig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se traditional structure (chiefs, sub-chiefs, headmen and households) as sample frame/enumeration un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ee-stage probability samp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rst stage involves listing of executive chiefs as primary sampling units (PSU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stage involves selection of sample headmen as second-stage units (SSUs) through systematic sampling from P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stage involves random selection of sample households for interview and data gather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22:50Z</dcterms:created>
  <dc:creator>malik</dc:creator>
  <dc:description/>
  <dc:language>en-US</dc:language>
  <cp:lastModifiedBy>Luka Biong DENG</cp:lastModifiedBy>
  <dcterms:modified xsi:type="dcterms:W3CDTF">2004-11-04T00:36:48Z</dcterms:modified>
  <cp:revision>25</cp:revision>
  <dc:subject/>
  <dc:title>Capacity Building Trust F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0473040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