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0AB3-D578-45DA-883B-22142DC4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B7E-670F-47ED-8FCE-CE8690E8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569-ADFA-4A8C-93FD-5BBC8DCC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8483-2BB3-4DC9-AC0F-27A69B25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4CFD-59AD-44DC-B143-E91FA9D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C7DEC-D8E8-42CD-8E60-FDF222DE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851C9-1700-48A6-8FC5-42F39048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D9C93-5E4B-4171-B1DB-039E7B2B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E4BC4-EFC4-42FA-8EEE-B4D85443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C26CF-E2B8-450E-9BE8-3669F304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ECAB7-C257-4CC2-8DCE-11F1344D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844-661E-44A5-9D0F-662E50F6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7A525E-BE22-430A-867D-FE22457F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5DB7D-CA9D-40F8-93A1-44F5A6D6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0905B-F681-4302-B264-8D9A80AF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32C10-1375-43B8-8E39-DFE50EFD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08190-045A-4ED4-9E1A-0B197A59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405-E79C-4722-AAFA-A27C1C3C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F93E-A538-4239-8751-E1986CAD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52A-2553-4A20-B2D9-F7EF2082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085-77EC-4865-9164-432BCDECC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990A-BFE7-4030-9C92-30600369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45ED-74E3-46DF-BB9E-880030A2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3168-DDD6-4684-BF3D-EC1EF4FE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7FB1-72B7-4388-99E1-4256A360F3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4C4E-F9D7-4470-BC4A-B62376A4A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6600"/>
                </a:solidFill>
                <a:latin typeface="Arial"/>
              </a:rPr>
              <a:t>The Challenge of Sample Design During Civil War</a:t>
            </a:r>
            <a:endParaRPr b="0" lang="en-US" sz="5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52280" y="3429000"/>
            <a:ext cx="8839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he Case of Southern Sud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Luka B. DE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New Sudan Centre for Statistics and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cc"/>
                </a:solidFill>
                <a:latin typeface="Arial"/>
              </a:rPr>
              <a:t>Cancun, Mexico,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6600"/>
                </a:solidFill>
                <a:latin typeface="Arial"/>
              </a:rPr>
              <a:t>Pros and Cons of such Sample Design</a:t>
            </a:r>
            <a:endParaRPr b="0" lang="en-US" sz="3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bability sample has been us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ntrol of sample size that limits non-respons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qual and constant interviewer workloa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st effectiveness by using existing traditional rosters of households rather than a fresh and costly listing by stranger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ample large enough (5000 HHs) to provide disaggregated estima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6600"/>
                </a:solidFill>
                <a:latin typeface="Arial"/>
              </a:rPr>
              <a:t>Pros and Cons Cont.</a:t>
            </a:r>
            <a:endParaRPr b="0" lang="en-US" sz="4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cc"/>
                </a:solidFill>
                <a:latin typeface="Arial"/>
              </a:rPr>
              <a:t>Disadvantag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ther unorthodox and inferior sample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ss reliable because of sampling error cannot be controlled as a result of lack of reliable size measures for stratification and selection process </a:t>
            </a:r>
            <a:r>
              <a:rPr b="1" lang="en-US" sz="2400" spc="-1" strike="noStrike">
                <a:solidFill>
                  <a:srgbClr val="00ffcc"/>
                </a:solidFill>
                <a:latin typeface="Arial"/>
              </a:rPr>
              <a:t>(population under each chief has been used as a proxy for size measur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to reflect differential probabilities of selection by applying weighting as estimates cannot be prepared from sample counts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5. Conclus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ability sampling and “implicit stratification” have been in a way follow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plied in various surveys (Multiple indicators Cluster, Livelihood and Food Security Monitoring and sentinel sit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ted satisfactory result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st appropriate in war situation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Presentation Outline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1. Introduct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2. Data Needs During Civil Wa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3. Challenges of Sample Desig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4. Traditional Social Hierarch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5. Conclusion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1. Introduction: Violent Conflic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ivil wars are pronounced and endemic after the Cold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est Incidence of Civil Wars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alf of African countries affected by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e in three African people affected by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is “normal” i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iolen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rather than peace in most parts of Africa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iolent Conflict in Afric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14400" y="685800"/>
            <a:ext cx="6477120" cy="5791320"/>
            <a:chOff x="914400" y="685800"/>
            <a:chExt cx="6477120" cy="579132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914400" y="685800"/>
              <a:ext cx="6477120" cy="579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914400" y="685800"/>
              <a:ext cx="6477120" cy="579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e3e3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"/>
              </a:rPr>
              <a:t>2. Data Needs During Civil War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915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incidence of pov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vulnerability and food insecurity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40% of people at risk of hunger and malnutrition from zones of active conflict in the early 200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Recurrent famine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7 out 8 famines caused by civil wars in the 1990s)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humanitarian interventio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relief aid is replacing development assistance in the war affected countr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creased need to monitor rural livelihoods in zones of active conflic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6600"/>
                </a:solidFill>
                <a:latin typeface="Arial"/>
              </a:rPr>
              <a:t>3. Challenges of Sample Design </a:t>
            </a:r>
            <a:endParaRPr b="0" lang="en-US" sz="41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ensus tradition or framework for comprehensive survey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relevant enumeration areas or sample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ratic and recurrent population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nging administrative bound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ck of cartographical and mapping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tisticians dealing only with “normalc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n, how can we make sample design in such a situation of civil w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4. Traditional Social Hierarch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ditional social structure survives in civil wars more than any other i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clearly defined down to a household lev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a custodian of community’s knowledge and experi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basis for any administrative structure during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social structure to provide a workable frame for sample selection, although it is not ideal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The Case of South Sudan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rent Civil wars (1955-1972, 1982-no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e as mainstay of the rural liveliho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re than 98% rural 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rent famines (1988, 1991, 1993, 199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t population census in 1953 during colonial period, other censuses (1973, 1983, 1993) partially conducted because of civil w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agriculture census ever conducted in South Sudan, only in 1965 in Northern Sud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athering during civil war focuses on livelihood and food security monitoring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91440" y="1066680"/>
            <a:ext cx="1700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Overview of Sample Desig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Use traditional structure (chiefs, sub-chiefs, headmen and households) as sample frame/enumeration uni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ree-stage probability sampl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rst stage involves listing of executive chiefs as primary sampling units (PSUs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econd stage involves selection of sample headmen as second-stage units (SSUs) through systematic sampling from PSU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ird stage involves random selection of sample households for interview and data gathering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07:22:50Z</dcterms:created>
  <dc:creator>malik</dc:creator>
  <dc:description/>
  <dc:language>en-US</dc:language>
  <cp:lastModifiedBy>Luka Biong DENG</cp:lastModifiedBy>
  <dcterms:modified xsi:type="dcterms:W3CDTF">2004-11-04T00:36:48Z</dcterms:modified>
  <cp:revision>25</cp:revision>
  <dc:subject/>
  <dc:title>Capacity Building Trust F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00473040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11:30 room 3</vt:lpwstr>
  </property>
</Properties>
</file>