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5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wmf" ContentType="image/x-wmf"/>
  <Override PartName="/ppt/media/image8.png" ContentType="image/png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998A-0FB9-4E6C-B3AB-065B75ACE85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tiene que exponer varios puntos, pasos o ideas importantes, utilice varias diapositivas. Considere si la audiencia va a poder comprender una nueva idea, aprender un proceso o recibir información más detallada de un concepto familiar. Respalde cada punto con una explicación adecuada. Cuando sea necesario, complete la presentación con datos técnicos en papel o en disco, por correo electrónico o a través de Internet. Desarrolle cada punto de forma que pueda establecer una comunicación con la audien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n 1974: 40 cuadros a nivel nacional y por tamaño de UP; 2 a nivel provincial; 3 anivel regional (total 1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Gran total: 54 cuadr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araguay 1991: 45 cuad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0A2B-070F-4658-8B34-27149A69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28880" y="413064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D0EB-5ED6-4E4C-AD5E-29322F79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2888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8192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F80-3E01-4504-AEFD-EADB822E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35080" y="19810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41280" y="19810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28880" y="413064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35080" y="413064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41280" y="413064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37D4-CE7F-4836-9F02-DF53BE81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A449-620B-4D84-B03D-CB43BC10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28880" y="198108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9755-01B0-4E9F-8943-FB39B9BC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B9C5-0399-448A-9CBB-4E7A4E6B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2E77-8303-4E73-9E82-401297C1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F7421-2D22-4772-BF6A-222C886E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09440" y="96480"/>
            <a:ext cx="775476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0698-6CDE-4798-91A5-DB1F6A9D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2888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B2B9-42CF-470B-8C49-38D2FA2C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28880" y="198108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C129-9492-4E22-8959-D37A546E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8192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15C6-98A0-4D34-96A4-F2393BAE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28880" y="413064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C198-A3F4-496D-B01F-E3F81C86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028880" y="413064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7E73-DAA0-4710-8E31-B907B325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2888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8192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40CC-C4E2-4051-8273-18DE2C25D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35080" y="19810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41280" y="19810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028880" y="413064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35080" y="413064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41280" y="413064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E3E4-05C2-42F9-B77B-2B089194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7CD45-09B0-4418-A8D3-7677BE13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028880" y="198108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6D4DE-1F9B-4F77-9B04-B5CCABD8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30F2A-89CC-47DE-A833-5C9C109C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F0869-2107-4748-8348-2780B9B4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5E9AA-E16C-4833-AC02-440EF842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9E57-5CC0-4B76-B9D5-687B8490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009440" y="96480"/>
            <a:ext cx="775476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CF95C-65C2-4DD0-BD0D-95ABBAA0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02888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92E03-DAF1-4231-89FC-48D438B3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28192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C94CD-3EAE-4F94-B771-90FC5A9F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28880" y="413064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4BBA2-7B89-4E2E-8716-FFE15F24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028880" y="413064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D56B9-0F47-49E5-BDEA-DA6991B3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02888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28192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6E971-7363-46F2-9C30-C98A4DDEB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35080" y="19810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41280" y="198108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028880" y="413064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835080" y="413064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641280" y="4130640"/>
            <a:ext cx="2672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F8C2A-EC36-4A3E-B5F5-4A1DE65C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4916-3606-40DF-9D4D-9DB032C4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DD2-1519-4FE9-8955-569BEB94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09440" y="96480"/>
            <a:ext cx="775476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EC4F-D56F-4B56-AED6-F289A1A86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2888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956-1F3B-4E21-A0E6-DDFAEADB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81920" y="413064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B518-03F8-45C7-9F08-96A5F681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81920" y="1981080"/>
            <a:ext cx="4050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28880" y="4130640"/>
            <a:ext cx="8299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EE7-2FB2-485F-9845-CBE2218F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31156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68520" y="1378080"/>
            <a:ext cx="784224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0944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28880" y="198108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256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3204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26408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E910-7F55-4FE4-B494-0BF2204DE1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907920" y="561960"/>
            <a:ext cx="1652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951760" y="270000"/>
            <a:ext cx="16524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E86D8-7ED8-4CD9-8BAC-BF1BC60143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9410400" cy="2514600"/>
            <a:chOff x="0" y="914400"/>
            <a:chExt cx="9410400" cy="2514600"/>
          </a:xfrm>
        </p:grpSpPr>
        <p:sp>
          <p:nvSpPr>
            <p:cNvPr id="49" name=""/>
            <p:cNvSpPr/>
            <p:nvPr/>
          </p:nvSpPr>
          <p:spPr>
            <a:xfrm>
              <a:off x="247320" y="914400"/>
              <a:ext cx="272412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511776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292640" y="1676520"/>
              <a:ext cx="511776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0240" y="1523880"/>
              <a:ext cx="24732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502480" y="1209600"/>
              <a:ext cx="2833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907920" y="1442520"/>
            <a:ext cx="7677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AF8B-131A-4BD2-BF30-4A10AEA09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ica.gov.ec/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4.png"/><Relationship Id="rId5" Type="http://schemas.openxmlformats.org/officeDocument/2006/relationships/image" Target="../media/image16.wmf"/><Relationship Id="rId6" Type="http://schemas.openxmlformats.org/officeDocument/2006/relationships/image" Target="../media/image14.png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4.xml"/><Relationship Id="rId10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824120" y="1628640"/>
            <a:ext cx="6657840" cy="2076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760" y="4506840"/>
            <a:ext cx="9605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6600"/>
                </a:solidFill>
                <a:latin typeface="Garamond"/>
              </a:rPr>
              <a:t>Ecuador 2000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6600"/>
                </a:solidFill>
                <a:latin typeface="Garamond"/>
              </a:rPr>
              <a:t>Victor Bucheli and Barbara Rater</a:t>
            </a: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49240" y="1472760"/>
            <a:ext cx="692640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Quinta Parte: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l Cuestionario Cen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879440" y="3796920"/>
            <a:ext cx="24498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92929"/>
                </a:solidFill>
                <a:latin typeface="Arial"/>
              </a:rPr>
              <a:t>Contenido y Diseño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14120" y="667800"/>
            <a:ext cx="7754760" cy="7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Fundamentos del Diseñ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28880" y="184464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92929"/>
                </a:solidFill>
                <a:latin typeface="Arial"/>
              </a:rPr>
              <a:t>Contenido (variables de investigación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292929"/>
                </a:solidFill>
                <a:latin typeface="Arial"/>
              </a:rPr>
              <a:t>Demandas de información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292929"/>
                </a:solidFill>
                <a:latin typeface="Arial"/>
              </a:rPr>
              <a:t>Comparabilidad de los dato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92929"/>
                </a:solidFill>
                <a:latin typeface="Arial"/>
              </a:rPr>
              <a:t>Cuestionario único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92929"/>
                </a:solidFill>
                <a:latin typeface="Arial"/>
              </a:rPr>
              <a:t>Entrevista direct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92929"/>
                </a:solidFill>
                <a:latin typeface="Arial"/>
              </a:rPr>
              <a:t>Capacidad de respuest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92929"/>
                </a:solidFill>
                <a:latin typeface="Arial"/>
              </a:rPr>
              <a:t>Pre-codificación de opciones de respuest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92929"/>
                </a:solidFill>
                <a:latin typeface="Arial"/>
              </a:rPr>
              <a:t>Comprobación de aplicabilidad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640" y="667800"/>
            <a:ext cx="4664160" cy="7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Temas Inclu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Características Generales de la UPA y la PP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Superficie bajo UP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Uso del suelo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Infraestructura de riego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Superficie, producción y ventas de los cultivos, incluye cultivos de flores y camarone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Existencia de ganado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Población agrícol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Oferta y demanda mano de obr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Infraestructura de la UPA y disponibilidad de equipo, maquinaria e instalacione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Otros tema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5240" y="667800"/>
            <a:ext cx="6175440" cy="7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Referencias de Magnit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52520" y="2421000"/>
            <a:ext cx="6896160" cy="30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292929"/>
                </a:solidFill>
                <a:latin typeface="Arial"/>
              </a:rPr>
              <a:t>16 capítulos o temas investigados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292929"/>
                </a:solidFill>
                <a:latin typeface="Arial"/>
              </a:rPr>
              <a:t>2.149 preguntas: </a:t>
            </a:r>
            <a:r>
              <a:rPr b="0" i="1" lang="es-MX" sz="2600" spc="-1" strike="noStrike">
                <a:solidFill>
                  <a:srgbClr val="292929"/>
                </a:solidFill>
                <a:latin typeface="Arial"/>
              </a:rPr>
              <a:t>120 formuladas,1.693 implícitas (incluidas en cuadros) y 336 preguntas para el personal del Censo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292929"/>
                </a:solidFill>
                <a:latin typeface="Arial"/>
              </a:rPr>
              <a:t>19 páginas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292929"/>
                </a:solidFill>
                <a:latin typeface="Arial"/>
              </a:rPr>
              <a:t>El contenido de la boleta censal fue muy amplia.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5120" y="1608120"/>
            <a:ext cx="656604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Sexta Parte: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Levantamiento Cen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737240" y="3581280"/>
            <a:ext cx="32400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92929"/>
                </a:solidFill>
                <a:latin typeface="Arial"/>
              </a:rPr>
              <a:t>Organización para la Ejecució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1347840" y="1311120"/>
            <a:ext cx="8265600" cy="5386680"/>
            <a:chOff x="1347840" y="1311120"/>
            <a:chExt cx="8265600" cy="5386680"/>
          </a:xfrm>
        </p:grpSpPr>
        <p:sp>
          <p:nvSpPr>
            <p:cNvPr id="211" name=""/>
            <p:cNvSpPr/>
            <p:nvPr/>
          </p:nvSpPr>
          <p:spPr>
            <a:xfrm>
              <a:off x="6208200" y="1311120"/>
              <a:ext cx="1564920" cy="72396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ffffff"/>
                  </a:solidFill>
                  <a:latin typeface="Times New Roman"/>
                </a:rPr>
                <a:t>Dirección</a:t>
              </a:r>
              <a:endParaRPr b="0" lang="en-US" sz="16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600" spc="-1" strike="noStrike">
                  <a:solidFill>
                    <a:srgbClr val="ffffff"/>
                  </a:solidFill>
                  <a:latin typeface="Times New Roman"/>
                </a:rPr>
                <a:t>del Censo</a:t>
              </a:r>
              <a:endParaRPr b="0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34784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6072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3224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556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7708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7360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4548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1880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8996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8684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5836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29880" y="6335640"/>
              <a:ext cx="29952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284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9360" y="6335640"/>
              <a:ext cx="29880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92680" y="6335640"/>
              <a:ext cx="29736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63840" y="6335640"/>
              <a:ext cx="298800" cy="362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19360" y="5684760"/>
              <a:ext cx="670680" cy="362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.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Zon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97600" y="6191280"/>
              <a:ext cx="11160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9760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6876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4208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61360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0904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8164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5352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2684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2192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9524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6640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03972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0812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3480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7964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75260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09040" y="6191280"/>
              <a:ext cx="11178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21920" y="6191280"/>
              <a:ext cx="11178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34800" y="6191280"/>
              <a:ext cx="11178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92680" y="604692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05560" y="604692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18800" y="604692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229880" y="604692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63840" y="4670280"/>
              <a:ext cx="968400" cy="506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inación Provinci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92680" y="5467320"/>
              <a:ext cx="163728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18800" y="5467320"/>
              <a:ext cx="163728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92680" y="5467320"/>
              <a:ext cx="0" cy="21744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29960" y="5467320"/>
              <a:ext cx="0" cy="21744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18800" y="5467320"/>
              <a:ext cx="0" cy="21744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56080" y="5467320"/>
              <a:ext cx="0" cy="21744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11320" y="5176800"/>
              <a:ext cx="0" cy="2905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37440" y="5176800"/>
              <a:ext cx="0" cy="2905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29120" y="3584520"/>
              <a:ext cx="1190160" cy="579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Coordinación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Regional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911320" y="4308480"/>
              <a:ext cx="342576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11320" y="4308480"/>
              <a:ext cx="0" cy="3618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37440" y="4308480"/>
              <a:ext cx="0" cy="3618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24200" y="416412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24200" y="3440160"/>
              <a:ext cx="431856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24200" y="344016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943120" y="344016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008120" y="2063880"/>
              <a:ext cx="0" cy="79668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16160" y="4670280"/>
              <a:ext cx="968040" cy="506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inación Provinci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98280" y="3584520"/>
              <a:ext cx="1415160" cy="5796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Coordinación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Regional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32240" y="5684760"/>
              <a:ext cx="670680" cy="362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.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Zon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45480" y="5684760"/>
              <a:ext cx="670680" cy="362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.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Zon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858360" y="5684760"/>
              <a:ext cx="670680" cy="362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.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Zon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05840" y="2162160"/>
              <a:ext cx="1526760" cy="50328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Secretería Técnica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del Censo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08120" y="2449440"/>
              <a:ext cx="29736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29120" y="1484280"/>
              <a:ext cx="1563120" cy="50796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Unidad SICA INEC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92240" y="1774800"/>
              <a:ext cx="595080" cy="0"/>
            </a:xfrm>
            <a:prstGeom prst="line">
              <a:avLst/>
            </a:prstGeom>
            <a:ln w="936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37440" y="2860560"/>
              <a:ext cx="1339560" cy="5065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Dirección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Regional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08120" y="3367080"/>
              <a:ext cx="0" cy="7308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920880" y="639720"/>
            <a:ext cx="567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292929"/>
                </a:solidFill>
                <a:latin typeface="Arial"/>
              </a:rPr>
              <a:t>Organización operativa</a:t>
            </a:r>
            <a:endParaRPr b="0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91960" y="1484280"/>
            <a:ext cx="9321480" cy="5213160"/>
            <a:chOff x="291960" y="1484280"/>
            <a:chExt cx="9321480" cy="5213160"/>
          </a:xfrm>
        </p:grpSpPr>
        <p:sp>
          <p:nvSpPr>
            <p:cNvPr id="284" name=""/>
            <p:cNvSpPr/>
            <p:nvPr/>
          </p:nvSpPr>
          <p:spPr>
            <a:xfrm>
              <a:off x="134748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6072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3224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0556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7708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7360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4548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1880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8996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8684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5836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29880" y="6335640"/>
              <a:ext cx="29952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602840" y="6335640"/>
              <a:ext cx="29736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19360" y="6335640"/>
              <a:ext cx="29880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092680" y="6335640"/>
              <a:ext cx="29700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63840" y="6335640"/>
              <a:ext cx="29880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E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19360" y="5684760"/>
              <a:ext cx="670320" cy="361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.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Zon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97240" y="6191280"/>
              <a:ext cx="11160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49724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6876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4208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1360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0832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8164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5352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2684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2192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29488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6640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3972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0812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480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7964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52600" y="6191280"/>
              <a:ext cx="0" cy="144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08320" y="6191280"/>
              <a:ext cx="111816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921920" y="6191280"/>
              <a:ext cx="11178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4800" y="6191280"/>
              <a:ext cx="11178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92680" y="6046560"/>
              <a:ext cx="0" cy="1447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5560" y="6046560"/>
              <a:ext cx="0" cy="1447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18800" y="6046560"/>
              <a:ext cx="0" cy="1447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29880" y="6046560"/>
              <a:ext cx="0" cy="1447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463840" y="4670280"/>
              <a:ext cx="968400" cy="506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inación Provinci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92680" y="5467320"/>
              <a:ext cx="163728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518800" y="5467320"/>
              <a:ext cx="163728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92680" y="5467320"/>
              <a:ext cx="0" cy="21744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9960" y="5467320"/>
              <a:ext cx="0" cy="21744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518800" y="5467320"/>
              <a:ext cx="0" cy="21744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156080" y="5467320"/>
              <a:ext cx="0" cy="21744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11320" y="5176800"/>
              <a:ext cx="0" cy="2905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37440" y="5176800"/>
              <a:ext cx="0" cy="2905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029120" y="3584520"/>
              <a:ext cx="1189800" cy="5792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Coordinación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Regional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11320" y="4308480"/>
              <a:ext cx="342576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11320" y="4308480"/>
              <a:ext cx="0" cy="3618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37440" y="4308480"/>
              <a:ext cx="0" cy="36180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24200" y="4163760"/>
              <a:ext cx="0" cy="1447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24200" y="3439800"/>
              <a:ext cx="43182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24200" y="3439800"/>
              <a:ext cx="0" cy="1447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942760" y="3439800"/>
              <a:ext cx="0" cy="1447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08120" y="2063520"/>
              <a:ext cx="0" cy="79704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16160" y="4670280"/>
              <a:ext cx="968040" cy="5065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inación Provinci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198280" y="3584520"/>
              <a:ext cx="1415160" cy="57924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Coordinación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Regional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32240" y="5684760"/>
              <a:ext cx="670680" cy="361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.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Zon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45480" y="5684760"/>
              <a:ext cx="670680" cy="361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.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Zon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58360" y="5684760"/>
              <a:ext cx="670680" cy="361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Coord.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Zon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05480" y="2162160"/>
              <a:ext cx="1527120" cy="50328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Secretería Técnica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del Censo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08120" y="2449440"/>
              <a:ext cx="297000" cy="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29120" y="1484280"/>
              <a:ext cx="1563120" cy="50796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Unidad SICA INEC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92240" y="1774800"/>
              <a:ext cx="595080" cy="0"/>
            </a:xfrm>
            <a:prstGeom prst="line">
              <a:avLst/>
            </a:prstGeom>
            <a:ln w="9360">
              <a:solidFill>
                <a:srgbClr val="29292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91960" y="1498320"/>
              <a:ext cx="3393000" cy="2679840"/>
            </a:xfrm>
            <a:prstGeom prst="rect">
              <a:avLst/>
            </a:prstGeom>
            <a:solidFill>
              <a:srgbClr val="fffff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2000" spc="-1" strike="noStrike">
                  <a:solidFill>
                    <a:srgbClr val="292929"/>
                  </a:solidFill>
                  <a:latin typeface="Times New Roman"/>
                </a:rPr>
                <a:t>Recursos Humanos</a:t>
              </a:r>
              <a:endParaRPr b="0" lang="en-US" sz="20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5400" y="3743280"/>
              <a:ext cx="1191600" cy="3618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Equip. de Encuest.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(1 Sup. y  3 Enc.)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5400" y="3308040"/>
              <a:ext cx="1191600" cy="3621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Nivel Zon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65400" y="2874960"/>
              <a:ext cx="1191600" cy="3618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292929"/>
                  </a:solidFill>
                  <a:latin typeface="Times New Roman"/>
                </a:rPr>
                <a:t>Nivel Provinci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5400" y="2439720"/>
              <a:ext cx="1191600" cy="36216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ffffff"/>
                  </a:solidFill>
                  <a:latin typeface="Times New Roman"/>
                </a:rPr>
                <a:t>Nivel Region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5400" y="2004840"/>
              <a:ext cx="1191600" cy="36216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200" spc="-1" strike="noStrike">
                  <a:solidFill>
                    <a:srgbClr val="ffffff"/>
                  </a:solidFill>
                  <a:latin typeface="Times New Roman"/>
                </a:rPr>
                <a:t>Nivel Nacional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57360" y="2469960"/>
              <a:ext cx="186084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100" spc="-1" strike="noStrike">
                  <a:solidFill>
                    <a:srgbClr val="292929"/>
                  </a:solidFill>
                  <a:latin typeface="Times New Roman"/>
                </a:rPr>
                <a:t>8 Coord. Regionales</a:t>
              </a:r>
              <a:endParaRPr b="0" lang="en-US" sz="11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57360" y="2874960"/>
              <a:ext cx="21603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100" spc="-1" strike="noStrike">
                  <a:solidFill>
                    <a:srgbClr val="292929"/>
                  </a:solidFill>
                  <a:latin typeface="Times New Roman"/>
                </a:rPr>
                <a:t>27 Coord. Provinciales, INEC</a:t>
              </a:r>
              <a:endParaRPr b="0" lang="en-US" sz="11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100" spc="-1" strike="noStrike">
                  <a:solidFill>
                    <a:srgbClr val="292929"/>
                  </a:solidFill>
                  <a:latin typeface="Times New Roman"/>
                </a:rPr>
                <a:t>27 Ejecutivos de Enlace, </a:t>
              </a:r>
              <a:r>
                <a:rPr b="1" lang="es-EC" sz="1100" spc="-1" strike="noStrike">
                  <a:solidFill>
                    <a:srgbClr val="292929"/>
                  </a:solidFill>
                  <a:latin typeface="Times New Roman"/>
                </a:rPr>
                <a:t>MAG</a:t>
              </a:r>
              <a:endParaRPr b="0" lang="en-US" sz="11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57360" y="3308040"/>
              <a:ext cx="220464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100" spc="-1" strike="noStrike">
                  <a:solidFill>
                    <a:srgbClr val="292929"/>
                  </a:solidFill>
                  <a:latin typeface="Times New Roman"/>
                </a:rPr>
                <a:t>107 Coord. Zonales, Contrato</a:t>
              </a:r>
              <a:endParaRPr b="0" lang="en-US" sz="11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100" spc="-1" strike="noStrike">
                  <a:solidFill>
                    <a:srgbClr val="292929"/>
                  </a:solidFill>
                  <a:latin typeface="Times New Roman"/>
                </a:rPr>
                <a:t>107 Profesionales Agrop.</a:t>
              </a:r>
              <a:r>
                <a:rPr b="1" lang="es-EC" sz="1100" spc="-1" strike="noStrike">
                  <a:solidFill>
                    <a:srgbClr val="292929"/>
                  </a:solidFill>
                  <a:latin typeface="Times New Roman"/>
                </a:rPr>
                <a:t> MAG</a:t>
              </a:r>
              <a:endParaRPr b="0" lang="en-US" sz="11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100" spc="-1" strike="noStrike">
                  <a:solidFill>
                    <a:srgbClr val="292929"/>
                  </a:solidFill>
                  <a:latin typeface="Times New Roman"/>
                </a:rPr>
                <a:t>107 Crítico – codificadores</a:t>
              </a:r>
              <a:endParaRPr b="0" lang="en-US" sz="11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57360" y="3846240"/>
              <a:ext cx="20844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100" spc="-1" strike="noStrike">
                  <a:solidFill>
                    <a:srgbClr val="292929"/>
                  </a:solidFill>
                  <a:latin typeface="Times New Roman"/>
                </a:rPr>
                <a:t>456 Supervisores, Contrato</a:t>
              </a:r>
              <a:endParaRPr b="0" lang="en-US" sz="1100" spc="-1" strike="noStrike">
                <a:solidFill>
                  <a:srgbClr val="292929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100" spc="-1" strike="noStrike">
                  <a:solidFill>
                    <a:srgbClr val="292929"/>
                  </a:solidFill>
                  <a:latin typeface="Times New Roman"/>
                </a:rPr>
                <a:t>1368 Encuestadores, Contrato</a:t>
              </a:r>
              <a:endParaRPr b="0" lang="en-US" sz="11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57360" y="2077920"/>
              <a:ext cx="1936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292929"/>
                  </a:solidFill>
                  <a:latin typeface="Times New Roman"/>
                </a:rPr>
                <a:t>4 Coordinadores Nacionales</a:t>
              </a:r>
              <a:endParaRPr b="0" lang="en-US" sz="11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37440" y="2860560"/>
              <a:ext cx="1339560" cy="5065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Dirección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C" sz="1400" spc="-1" strike="noStrike">
                  <a:solidFill>
                    <a:srgbClr val="ffffff"/>
                  </a:solidFill>
                  <a:latin typeface="Times New Roman"/>
                </a:rPr>
                <a:t>Regional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08120" y="3367080"/>
              <a:ext cx="0" cy="7272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938760" y="1197000"/>
            <a:ext cx="5072040" cy="2232000"/>
          </a:xfrm>
          <a:prstGeom prst="rect">
            <a:avLst/>
          </a:prstGeom>
          <a:solidFill>
            <a:srgbClr val="cacad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Arial"/>
              </a:rPr>
              <a:t>Evento para Directivos INEC MAG y SICA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38760" y="3559320"/>
            <a:ext cx="5773680" cy="806400"/>
          </a:xfrm>
          <a:prstGeom prst="rect">
            <a:avLst/>
          </a:prstGeom>
          <a:solidFill>
            <a:srgbClr val="cacad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Arial"/>
              </a:rPr>
              <a:t>Seminario para Formadores de Instructores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76520" y="4581360"/>
            <a:ext cx="8035920" cy="1511640"/>
          </a:xfrm>
          <a:prstGeom prst="rect">
            <a:avLst/>
          </a:prstGeom>
          <a:solidFill>
            <a:srgbClr val="cacad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Arial"/>
              </a:rPr>
              <a:t>12 Cursos para Instructores / Coordinadores Zonales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92320" y="6180120"/>
            <a:ext cx="8504280" cy="549360"/>
          </a:xfrm>
          <a:prstGeom prst="rect">
            <a:avLst/>
          </a:prstGeom>
          <a:solidFill>
            <a:srgbClr val="cacadc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66"/>
                </a:solidFill>
                <a:latin typeface="Arial"/>
              </a:rPr>
              <a:t>95 Eventos para Investigación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(15 días)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-231840" y="639720"/>
            <a:ext cx="567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292929"/>
                </a:solidFill>
                <a:latin typeface="Arial"/>
              </a:rPr>
              <a:t>Capacitación</a:t>
            </a:r>
            <a:endParaRPr b="0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776160" y="6922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292929"/>
                </a:solidFill>
                <a:latin typeface="Arial"/>
              </a:rPr>
              <a:t>Otros datos del Levantamiento</a:t>
            </a:r>
            <a:endParaRPr b="0" lang="en-US" sz="4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41240" y="2101680"/>
            <a:ext cx="85806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Periodo de referencia: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6600"/>
                </a:solidFill>
                <a:latin typeface="Arial"/>
              </a:rPr>
              <a:t>1-oct-99 / 30-sep-00 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Periodo de investigación: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6600"/>
                </a:solidFill>
                <a:latin typeface="Arial"/>
              </a:rPr>
              <a:t>30-oct-00 / 15-ene-01 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Cuestionarios levantados: 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6600"/>
                </a:solidFill>
                <a:latin typeface="Arial"/>
              </a:rPr>
              <a:t>163.721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Personal que intervino: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6600"/>
                </a:solidFill>
                <a:latin typeface="Arial"/>
              </a:rPr>
              <a:t> 2600 personas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Personal contratado para el censo: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6600"/>
                </a:solidFill>
                <a:latin typeface="Arial"/>
              </a:rPr>
              <a:t>75%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30000"/>
              </a:lnSpc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Entrevistas diarias por encuestador: 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6600"/>
                </a:solidFill>
                <a:latin typeface="Arial"/>
              </a:rPr>
              <a:t>1.97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acad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acad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acad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acad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acad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3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acad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07920" y="1442520"/>
            <a:ext cx="7677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éptima Par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samiento y Anál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3800" y="692280"/>
            <a:ext cx="547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Software utiliz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/>
          <p:nvPr/>
        </p:nvCxnSpPr>
        <p:spPr>
          <a:xfrm>
            <a:off x="7257600" y="3691080"/>
            <a:ext cx="2520" cy="1676880"/>
          </a:xfrm>
          <a:prstGeom prst="curvedConnector5">
            <a:avLst>
              <a:gd name="adj1" fmla="val 25900000"/>
              <a:gd name="adj2" fmla="val 49989"/>
              <a:gd name="adj3" fmla="val 25900000"/>
            </a:avLst>
          </a:prstGeom>
          <a:ln w="38160">
            <a:solidFill>
              <a:srgbClr val="cc99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1236600" y="2322360"/>
            <a:ext cx="2724120" cy="5684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292929"/>
                </a:solidFill>
                <a:latin typeface="Arial"/>
              </a:rPr>
              <a:t>DIGITACIÓN</a:t>
            </a:r>
            <a:endParaRPr b="0" lang="en-US" sz="2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36600" y="3497400"/>
            <a:ext cx="2724120" cy="5540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292929"/>
                </a:solidFill>
                <a:latin typeface="Arial"/>
              </a:rPr>
              <a:t>VALIDACIÓN</a:t>
            </a:r>
            <a:endParaRPr b="0" lang="en-US" sz="2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36600" y="4267080"/>
            <a:ext cx="2724120" cy="2129040"/>
          </a:xfrm>
          <a:prstGeom prst="roundRect">
            <a:avLst>
              <a:gd name="adj" fmla="val 16667"/>
            </a:avLst>
          </a:prstGeom>
          <a:solidFill>
            <a:srgbClr val="cc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292929"/>
                </a:solidFill>
                <a:latin typeface="Arial"/>
              </a:rPr>
              <a:t>ANÁLISIS</a:t>
            </a:r>
            <a:endParaRPr b="0" lang="en-US" sz="2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292929"/>
                </a:solidFill>
                <a:latin typeface="Arial"/>
              </a:rPr>
              <a:t>DE LOS DATOS</a:t>
            </a:r>
            <a:endParaRPr b="0" lang="en-US" sz="2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92929"/>
                </a:solidFill>
                <a:latin typeface="Arial"/>
              </a:rPr>
              <a:t>(COBERTURA,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92929"/>
                </a:solidFill>
                <a:latin typeface="Arial"/>
              </a:rPr>
              <a:t>IMPUTACIÓN,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92929"/>
                </a:solidFill>
                <a:latin typeface="Arial"/>
              </a:rPr>
              <a:t>DATOS RIESGOSOS,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92929"/>
                </a:solidFill>
                <a:latin typeface="Arial"/>
              </a:rPr>
              <a:t>ESTIMACIONES, TABLAS…)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38520" y="2276640"/>
            <a:ext cx="2724120" cy="6858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292929"/>
                </a:solidFill>
                <a:latin typeface="Arial"/>
              </a:rPr>
              <a:t>KEY ENTRY III</a:t>
            </a:r>
            <a:endParaRPr b="0" lang="en-US" sz="22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3"/>
            <a:endCxn id="378" idx="1"/>
          </p:cNvCxnSpPr>
          <p:nvPr/>
        </p:nvCxnSpPr>
        <p:spPr>
          <a:xfrm>
            <a:off x="3960360" y="2606400"/>
            <a:ext cx="578520" cy="13320"/>
          </a:xfrm>
          <a:prstGeom prst="straightConnector1">
            <a:avLst/>
          </a:prstGeom>
          <a:ln w="9360">
            <a:solidFill>
              <a:srgbClr val="999933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4538520" y="3343320"/>
            <a:ext cx="2724120" cy="68580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292929"/>
                </a:solidFill>
                <a:latin typeface="Arial"/>
              </a:rPr>
              <a:t>BLAISE</a:t>
            </a:r>
            <a:endParaRPr b="0" lang="en-US" sz="22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6" idx="3"/>
            <a:endCxn id="380" idx="1"/>
          </p:cNvCxnSpPr>
          <p:nvPr/>
        </p:nvCxnSpPr>
        <p:spPr>
          <a:xfrm flipV="1">
            <a:off x="3960360" y="3685320"/>
            <a:ext cx="578520" cy="89640"/>
          </a:xfrm>
          <a:prstGeom prst="straightConnector1">
            <a:avLst/>
          </a:prstGeom>
          <a:ln w="9360">
            <a:solidFill>
              <a:srgbClr val="999933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538520" y="5057640"/>
            <a:ext cx="2724120" cy="609840"/>
          </a:xfrm>
          <a:prstGeom prst="roundRect">
            <a:avLst>
              <a:gd name="adj" fmla="val 16667"/>
            </a:avLst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292929"/>
                </a:solidFill>
                <a:latin typeface="Arial"/>
              </a:rPr>
              <a:t>SAS</a:t>
            </a:r>
            <a:endParaRPr b="0" lang="en-US" sz="30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383" name=""/>
          <p:cNvCxnSpPr>
            <a:stCxn id="377" idx="3"/>
            <a:endCxn id="382" idx="1"/>
          </p:cNvCxnSpPr>
          <p:nvPr/>
        </p:nvCxnSpPr>
        <p:spPr>
          <a:xfrm>
            <a:off x="3960360" y="5332320"/>
            <a:ext cx="578520" cy="30600"/>
          </a:xfrm>
          <a:prstGeom prst="straightConnector1">
            <a:avLst/>
          </a:prstGeom>
          <a:ln w="9360">
            <a:solidFill>
              <a:srgbClr val="999933"/>
            </a:solidFill>
            <a:miter/>
            <a:tailEnd len="med" type="triangle" w="med"/>
          </a:ln>
        </p:spPr>
      </p:cxnSp>
      <p:cxnSp>
        <p:nvCxnSpPr>
          <p:cNvPr id="384" name=""/>
          <p:cNvCxnSpPr/>
          <p:nvPr/>
        </p:nvCxnSpPr>
        <p:spPr>
          <a:xfrm>
            <a:off x="2598480" y="2898360"/>
            <a:ext cx="1080" cy="607320"/>
          </a:xfrm>
          <a:prstGeom prst="straightConnector1">
            <a:avLst/>
          </a:prstGeom>
          <a:ln w="9360">
            <a:solidFill>
              <a:srgbClr val="999933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76" idx="2"/>
            <a:endCxn id="377" idx="0"/>
          </p:cNvCxnSpPr>
          <p:nvPr/>
        </p:nvCxnSpPr>
        <p:spPr>
          <a:xfrm>
            <a:off x="2598480" y="4051080"/>
            <a:ext cx="1080" cy="216360"/>
          </a:xfrm>
          <a:prstGeom prst="straightConnector1">
            <a:avLst/>
          </a:prstGeom>
          <a:ln w="9360">
            <a:solidFill>
              <a:srgbClr val="999933"/>
            </a:solidFill>
            <a:miter/>
            <a:tailEnd len="med" type="triangle" w="med"/>
          </a:ln>
        </p:spPr>
      </p:cxnSp>
      <p:cxnSp>
        <p:nvCxnSpPr>
          <p:cNvPr id="386" name=""/>
          <p:cNvCxnSpPr/>
          <p:nvPr/>
        </p:nvCxnSpPr>
        <p:spPr>
          <a:xfrm>
            <a:off x="7257600" y="2609640"/>
            <a:ext cx="2520" cy="1067400"/>
          </a:xfrm>
          <a:prstGeom prst="curvedConnector5">
            <a:avLst>
              <a:gd name="adj1" fmla="val 25200000"/>
              <a:gd name="adj2" fmla="val 50000"/>
              <a:gd name="adj3" fmla="val 25200000"/>
            </a:avLst>
          </a:prstGeom>
          <a:ln w="9360">
            <a:solidFill>
              <a:srgbClr val="cc9900"/>
            </a:solidFill>
            <a:miter/>
            <a:tailEnd len="med" type="triangle" w="med"/>
          </a:ln>
        </p:spPr>
      </p:cxnSp>
      <p:cxnSp>
        <p:nvCxnSpPr>
          <p:cNvPr id="387" name=""/>
          <p:cNvCxnSpPr>
            <a:stCxn id="380" idx="2"/>
            <a:endCxn id="382" idx="0"/>
          </p:cNvCxnSpPr>
          <p:nvPr/>
        </p:nvCxnSpPr>
        <p:spPr>
          <a:xfrm flipV="1" rot="10800000">
            <a:off x="5446080" y="4028400"/>
            <a:ext cx="1080" cy="1028880"/>
          </a:xfrm>
          <a:prstGeom prst="curvedConnector2">
            <a:avLst/>
          </a:prstGeom>
          <a:ln w="38160">
            <a:solidFill>
              <a:srgbClr val="cc9900"/>
            </a:solidFill>
            <a:prstDash val="dash"/>
            <a:miter/>
            <a:head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7746840" y="2322360"/>
            <a:ext cx="1238400" cy="609840"/>
          </a:xfrm>
          <a:prstGeom prst="roundRect">
            <a:avLst>
              <a:gd name="adj" fmla="val 16667"/>
            </a:avLst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INEC</a:t>
            </a:r>
            <a:endParaRPr b="0" lang="en-US" sz="2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746840" y="3368520"/>
            <a:ext cx="1238400" cy="609840"/>
          </a:xfrm>
          <a:prstGeom prst="roundRect">
            <a:avLst>
              <a:gd name="adj" fmla="val 16667"/>
            </a:avLst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INEC</a:t>
            </a:r>
            <a:endParaRPr b="0" lang="en-US" sz="2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616880" y="5019840"/>
            <a:ext cx="1403280" cy="609480"/>
          </a:xfrm>
          <a:prstGeom prst="roundRect">
            <a:avLst>
              <a:gd name="adj" fmla="val 16667"/>
            </a:avLst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CA-INEC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81080" y="595080"/>
            <a:ext cx="516744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álisis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36880" y="6381720"/>
            <a:ext cx="530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292929"/>
                </a:solidFill>
                <a:latin typeface="Times New Roman"/>
              </a:rPr>
              <a:t>Con datos aceptables</a:t>
            </a:r>
            <a:endParaRPr b="0" lang="en-US" sz="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024360" y="1525680"/>
            <a:ext cx="1481040" cy="433440"/>
          </a:xfrm>
          <a:prstGeom prst="flowChartTerminator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Ingreso de base provincial  validada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(en</a:t>
            </a:r>
            <a:r>
              <a:rPr b="0" lang="en-US" sz="12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i="1" lang="en-US" sz="1000" spc="-1" strike="noStrike">
                <a:solidFill>
                  <a:srgbClr val="292929"/>
                </a:solidFill>
                <a:latin typeface="Times New Roman"/>
              </a:rPr>
              <a:t>BLAISE</a:t>
            </a: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)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92400" y="2181240"/>
            <a:ext cx="1374840" cy="569880"/>
          </a:xfrm>
          <a:prstGeom prst="flowChartProcess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Transformación a </a:t>
            </a:r>
            <a:r>
              <a:rPr b="0" i="1" lang="en-US" sz="1000" spc="-1" strike="noStrike">
                <a:solidFill>
                  <a:srgbClr val="292929"/>
                </a:solidFill>
                <a:latin typeface="Times New Roman"/>
              </a:rPr>
              <a:t>SAS </a:t>
            </a: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y normalización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65600" y="198108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65600" y="2757600"/>
            <a:ext cx="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65600" y="3578400"/>
            <a:ext cx="0" cy="20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65600" y="4376880"/>
            <a:ext cx="0" cy="37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76560" y="4773600"/>
            <a:ext cx="1376280" cy="579600"/>
          </a:xfrm>
          <a:prstGeom prst="flowChartProcess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Errores de muestreo sin imputación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705040" y="2962440"/>
            <a:ext cx="2116080" cy="601560"/>
          </a:xfrm>
          <a:prstGeom prst="flowChartDecision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7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292929"/>
                </a:solidFill>
                <a:latin typeface="Times New Roman"/>
              </a:rPr>
              <a:t>Chequeo de cobertura de UPAs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05040" y="3782880"/>
            <a:ext cx="2116080" cy="601920"/>
          </a:xfrm>
          <a:prstGeom prst="flowChartDecision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Identificación de datos riesgosos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57160" y="4773600"/>
            <a:ext cx="1374840" cy="577800"/>
          </a:xfrm>
          <a:prstGeom prst="flowChartProcess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Producción de tablas preliminares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300640" y="4780080"/>
            <a:ext cx="1374840" cy="577800"/>
          </a:xfrm>
          <a:prstGeom prst="flowChartProcess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Imputación de datos faltantes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542960" y="4537080"/>
            <a:ext cx="4443480" cy="206280"/>
          </a:xfrm>
          <a:custGeom>
            <a:avLst/>
            <a:gdLst/>
            <a:ahLst/>
            <a:rect l="l" t="t" r="r" b="b"/>
            <a:pathLst>
              <a:path w="5940" h="180">
                <a:moveTo>
                  <a:pt x="0" y="180"/>
                </a:moveTo>
                <a:lnTo>
                  <a:pt x="0" y="0"/>
                </a:lnTo>
                <a:lnTo>
                  <a:pt x="5940" y="0"/>
                </a:lnTo>
                <a:lnTo>
                  <a:pt x="5940" y="1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00640" y="3827520"/>
            <a:ext cx="1374840" cy="512640"/>
          </a:xfrm>
          <a:prstGeom prst="flowChartProcess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18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Verificación de los datos riesgosos  y corrección de errores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22920" y="40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49240" y="2962440"/>
            <a:ext cx="1374840" cy="512640"/>
          </a:xfrm>
          <a:prstGeom prst="flowChartProcess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4848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Identificación de errores y corrección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2232000" y="3255840"/>
            <a:ext cx="49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42960" y="2859120"/>
            <a:ext cx="2222640" cy="103320"/>
          </a:xfrm>
          <a:custGeom>
            <a:avLst/>
            <a:gdLst/>
            <a:ahLst/>
            <a:rect l="l" t="t" r="r" b="b"/>
            <a:pathLst>
              <a:path w="3780" h="360">
                <a:moveTo>
                  <a:pt x="0" y="360"/>
                </a:moveTo>
                <a:lnTo>
                  <a:pt x="0" y="0"/>
                </a:lnTo>
                <a:lnTo>
                  <a:pt x="37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765600" y="3651120"/>
            <a:ext cx="2220840" cy="166680"/>
          </a:xfrm>
          <a:custGeom>
            <a:avLst/>
            <a:gdLst/>
            <a:ahLst/>
            <a:rect l="l" t="t" r="r" b="b"/>
            <a:pathLst>
              <a:path w="3780" h="360">
                <a:moveTo>
                  <a:pt x="3780" y="360"/>
                </a:moveTo>
                <a:lnTo>
                  <a:pt x="378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705040" y="5730840"/>
            <a:ext cx="2116080" cy="601560"/>
          </a:xfrm>
          <a:prstGeom prst="flowChartDecision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Identificación de datos inaceptables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765600" y="535788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07120" y="5730840"/>
            <a:ext cx="1374840" cy="514440"/>
          </a:xfrm>
          <a:prstGeom prst="flowChartProcess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Corrección de datos inaceptables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65600" y="6346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22920" y="6039000"/>
            <a:ext cx="490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65600" y="5386320"/>
            <a:ext cx="2220840" cy="139680"/>
          </a:xfrm>
          <a:custGeom>
            <a:avLst/>
            <a:gdLst/>
            <a:ahLst/>
            <a:rect l="l" t="t" r="r" b="b"/>
            <a:pathLst>
              <a:path w="3780" h="180">
                <a:moveTo>
                  <a:pt x="3780" y="0"/>
                </a:moveTo>
                <a:lnTo>
                  <a:pt x="3780" y="180"/>
                </a:lnTo>
                <a:lnTo>
                  <a:pt x="0" y="1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42960" y="5380200"/>
            <a:ext cx="2222640" cy="145800"/>
          </a:xfrm>
          <a:custGeom>
            <a:avLst/>
            <a:gdLst/>
            <a:ahLst/>
            <a:rect l="l" t="t" r="r" b="b"/>
            <a:pathLst>
              <a:path w="3780" h="180">
                <a:moveTo>
                  <a:pt x="0" y="0"/>
                </a:moveTo>
                <a:lnTo>
                  <a:pt x="0" y="180"/>
                </a:lnTo>
                <a:lnTo>
                  <a:pt x="3780" y="1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9560" y="3578400"/>
            <a:ext cx="6350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292929"/>
                </a:solidFill>
                <a:latin typeface="Times New Roman"/>
              </a:rPr>
              <a:t>Sin errores de cobertura</a:t>
            </a:r>
            <a:endParaRPr b="0" lang="en-US" sz="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282760" y="3057480"/>
            <a:ext cx="6350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292929"/>
                </a:solidFill>
                <a:latin typeface="Times New Roman"/>
              </a:rPr>
              <a:t>Con errores de cobertura</a:t>
            </a:r>
            <a:endParaRPr b="0" lang="en-US" sz="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91080" y="3835440"/>
            <a:ext cx="635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292929"/>
                </a:solidFill>
                <a:latin typeface="Times New Roman"/>
              </a:rPr>
              <a:t>Con datos riesgosos</a:t>
            </a:r>
            <a:r>
              <a:rPr b="0" lang="en-US" sz="800" spc="-1" strike="noStrike">
                <a:solidFill>
                  <a:srgbClr val="292929"/>
                </a:solidFill>
                <a:latin typeface="Times New Roman"/>
              </a:rPr>
              <a:t>  cobertura</a:t>
            </a:r>
            <a:endParaRPr b="0" lang="en-US" sz="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92640" y="4425840"/>
            <a:ext cx="74124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292929"/>
                </a:solidFill>
                <a:latin typeface="Times New Roman"/>
              </a:rPr>
              <a:t>Sin datos riesgosos</a:t>
            </a:r>
            <a:endParaRPr b="0" lang="en-US" sz="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611600" y="5834160"/>
            <a:ext cx="5968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6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292929"/>
                </a:solidFill>
                <a:latin typeface="Times New Roman"/>
              </a:rPr>
              <a:t>Con datos NO aceptables</a:t>
            </a:r>
            <a:endParaRPr b="0" lang="en-US" sz="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765600" y="6243480"/>
            <a:ext cx="2220840" cy="136800"/>
          </a:xfrm>
          <a:custGeom>
            <a:avLst/>
            <a:gdLst/>
            <a:ahLst/>
            <a:rect l="l" t="t" r="r" b="b"/>
            <a:pathLst>
              <a:path w="3780" h="180">
                <a:moveTo>
                  <a:pt x="3780" y="0"/>
                </a:moveTo>
                <a:lnTo>
                  <a:pt x="3780" y="180"/>
                </a:lnTo>
                <a:lnTo>
                  <a:pt x="0" y="1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08720" y="200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048520" y="3284640"/>
            <a:ext cx="1366920" cy="568080"/>
          </a:xfrm>
          <a:prstGeom prst="flowChartProcess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Análisis previo final y últimas correcciones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050320" y="4799160"/>
            <a:ext cx="1366560" cy="568080"/>
          </a:xfrm>
          <a:prstGeom prst="flowChartProcess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Producción y revisión de tablas para publicación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050320" y="4048200"/>
            <a:ext cx="1366560" cy="568080"/>
          </a:xfrm>
          <a:prstGeom prst="flowChartProcess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Cálculo de nuevos errores de muestreo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32880" y="4622760"/>
            <a:ext cx="0" cy="1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469360" y="5575320"/>
            <a:ext cx="525240" cy="30168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FIN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732880" y="5381640"/>
            <a:ext cx="0" cy="20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732880" y="3852720"/>
            <a:ext cx="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13240" y="6556320"/>
            <a:ext cx="525240" cy="30168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459640" y="2695680"/>
            <a:ext cx="525600" cy="301680"/>
          </a:xfrm>
          <a:prstGeom prst="ellipse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718480" y="299736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439960" y="3622320"/>
            <a:ext cx="306396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92929"/>
                </a:solidFill>
                <a:latin typeface="Arial"/>
              </a:rPr>
              <a:t>Múltiples Marcos de Muestreo (MMM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907920" y="1442520"/>
            <a:ext cx="7677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imera part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o de la Investig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7560" y="14425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ctava Part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ación y Difusión de Result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09800" y="642960"/>
            <a:ext cx="653544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usión Cen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28880" y="1981080"/>
            <a:ext cx="829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5 Publicaciones impresa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na para el nivel Naciona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na para cada una del las 22 provincia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na para las Zonas No Asignada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Un análisis socioeconómic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formación en Línea (</a:t>
            </a:r>
            <a:r>
              <a:rPr b="0" lang="en-US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.sica.gov.ec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ventos de difusión entre autoridades organizaciones agropecuarias, consejos consultivos y otros (Aprox. 50 eventos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 cápsulas informativas por semana emitidas a través de 70 radioemisoras con alcance local rura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31760" y="475920"/>
            <a:ext cx="730584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Contenido de las Publicaciones</a:t>
            </a:r>
            <a:br>
              <a:rPr sz="36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24 en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861160" y="2133360"/>
            <a:ext cx="3797280" cy="4647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Metodología: diseño de la muestra y estimación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Definiciones censal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Períodos de referenci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Errores de muestreo y procedimientos de estimación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Capítulo de información gráfica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Levantamiento del Censo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Arial"/>
              </a:rPr>
              <a:t>Información adicional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95360" y="1523880"/>
            <a:ext cx="45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99"/>
                </a:solidFill>
                <a:latin typeface="Times New Roman"/>
              </a:rPr>
              <a:t>Tablas de Información Censal</a:t>
            </a:r>
            <a:r>
              <a:rPr b="0" lang="es-MX" sz="2400" spc="-1" strike="noStrike">
                <a:solidFill>
                  <a:srgbClr val="0066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448240" y="1523880"/>
            <a:ext cx="44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9900"/>
                </a:solidFill>
                <a:latin typeface="Times New Roman"/>
              </a:rPr>
              <a:t>Información Complementaria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2920" y="2056320"/>
            <a:ext cx="4870440" cy="7038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Un gran cuadro de resumen, por tamaño de UPA.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5360" y="2878920"/>
            <a:ext cx="4870440" cy="3988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9 cuadros por cantón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7800" y="3366720"/>
            <a:ext cx="4870440" cy="336456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92929"/>
                </a:solidFill>
                <a:latin typeface="Times New Roman"/>
              </a:rPr>
              <a:t>57cuadros con información exhaustiva para la provincia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29292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Times New Roman"/>
              </a:rPr>
              <a:t>11 cuadros sobre cultivos: 6 sobre permanentes y 5 sobre transitorios.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125"/>
              </a:spcBef>
              <a:buClr>
                <a:srgbClr val="29292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Times New Roman"/>
              </a:rPr>
              <a:t>6 cuadros sobre cultivo de flores.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125"/>
              </a:spcBef>
              <a:buClr>
                <a:srgbClr val="29292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Times New Roman"/>
              </a:rPr>
              <a:t>19 cuadros sobre ganado: vacuno 6, porcino 4, ovino 4, otros 5.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125"/>
              </a:spcBef>
              <a:buClr>
                <a:srgbClr val="29292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Times New Roman"/>
              </a:rPr>
              <a:t>16 cuadros sobre caractersticas de la UPA y del productor.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 lvl="1" marL="914400" indent="-457200">
              <a:lnSpc>
                <a:spcPct val="85000"/>
              </a:lnSpc>
              <a:spcBef>
                <a:spcPts val="1125"/>
              </a:spcBef>
              <a:buClr>
                <a:srgbClr val="29292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Times New Roman"/>
              </a:rPr>
              <a:t>5 cuadros sobre otros temas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6960" y="2114640"/>
            <a:ext cx="5118120" cy="4647960"/>
          </a:xfrm>
          <a:prstGeom prst="rect">
            <a:avLst/>
          </a:prstGeom>
          <a:solidFill>
            <a:srgbClr val="82bf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Total: 67 tablas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07560" y="14425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vena Part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412920" y="0"/>
            <a:ext cx="9493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0" y="-312840"/>
            <a:ext cx="10353600" cy="784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7761240" y="6381720"/>
            <a:ext cx="117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92929"/>
                </a:solidFill>
                <a:latin typeface="Arial"/>
              </a:rPr>
              <a:t>Ver tabla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513480" y="5877000"/>
            <a:ext cx="31989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59000" y="5877000"/>
            <a:ext cx="3354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3680" y="5870520"/>
            <a:ext cx="2965320" cy="6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8760" y="5942160"/>
            <a:ext cx="24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92929"/>
                </a:solidFill>
                <a:latin typeface="Arial"/>
              </a:rPr>
              <a:t>Diciembre - Marzo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627360" y="5942160"/>
            <a:ext cx="22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92929"/>
                </a:solidFill>
                <a:latin typeface="Arial"/>
              </a:rPr>
              <a:t>Abril - Julio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980400" y="5942160"/>
            <a:ext cx="25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92929"/>
                </a:solidFill>
                <a:latin typeface="Arial"/>
              </a:rPr>
              <a:t>Agosto - Noviembre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93680" y="189000"/>
            <a:ext cx="2366640" cy="1155960"/>
            <a:chOff x="193680" y="189000"/>
            <a:chExt cx="2366640" cy="1155960"/>
          </a:xfrm>
        </p:grpSpPr>
        <p:sp>
          <p:nvSpPr>
            <p:cNvPr id="459" name=""/>
            <p:cNvSpPr/>
            <p:nvPr/>
          </p:nvSpPr>
          <p:spPr>
            <a:xfrm>
              <a:off x="692280" y="460440"/>
              <a:ext cx="136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292929"/>
                  </a:solidFill>
                  <a:latin typeface="Arial"/>
                </a:rPr>
                <a:t>Menos de 5%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2280" y="65880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292929"/>
                  </a:solidFill>
                  <a:latin typeface="Arial"/>
                </a:rPr>
                <a:t>5% a menos de 10%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2280" y="863640"/>
              <a:ext cx="186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292929"/>
                  </a:solidFill>
                  <a:latin typeface="Arial"/>
                </a:rPr>
                <a:t>10% a menos de 20%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2280" y="1068480"/>
              <a:ext cx="134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292929"/>
                  </a:solidFill>
                  <a:latin typeface="Arial"/>
                </a:rPr>
                <a:t>20% o más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3840" y="525600"/>
              <a:ext cx="390240" cy="137880"/>
            </a:xfrm>
            <a:prstGeom prst="rect">
              <a:avLst/>
            </a:prstGeom>
            <a:solidFill>
              <a:srgbClr val="fed98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3840" y="727200"/>
              <a:ext cx="390240" cy="137880"/>
            </a:xfrm>
            <a:prstGeom prst="rect">
              <a:avLst/>
            </a:prstGeom>
            <a:solidFill>
              <a:srgbClr val="fe9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3840" y="936720"/>
              <a:ext cx="390240" cy="137880"/>
            </a:xfrm>
            <a:prstGeom prst="rect">
              <a:avLst/>
            </a:prstGeom>
            <a:solidFill>
              <a:srgbClr val="d95f0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3840" y="1146240"/>
              <a:ext cx="390240" cy="137880"/>
            </a:xfrm>
            <a:prstGeom prst="rect">
              <a:avLst/>
            </a:prstGeom>
            <a:solidFill>
              <a:srgbClr val="99340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93680" y="189000"/>
              <a:ext cx="136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292929"/>
                  </a:solidFill>
                  <a:latin typeface="Arial"/>
                </a:rPr>
                <a:t>Relación</a:t>
              </a:r>
              <a:endParaRPr b="0" lang="en-US" sz="12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2700360" y="225360"/>
            <a:ext cx="701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92929"/>
                </a:solidFill>
                <a:latin typeface="Arial"/>
              </a:rPr>
              <a:t>Cambios cantonales de la relación superficie sembrada de arroz/superficie bajo UPA en cada período cuatrimestral en las provincias de Guayas y Los Ríos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1413000"/>
            <a:ext cx="3220920" cy="4003560"/>
            <a:chOff x="0" y="1413000"/>
            <a:chExt cx="3220920" cy="4003560"/>
          </a:xfrm>
        </p:grpSpPr>
        <p:pic>
          <p:nvPicPr>
            <p:cNvPr id="470" name="" descr=""/>
            <p:cNvPicPr/>
            <p:nvPr/>
          </p:nvPicPr>
          <p:blipFill>
            <a:blip r:embed="rId1"/>
            <a:srcRect l="22168" t="0" r="22168" b="0"/>
            <a:stretch/>
          </p:blipFill>
          <p:spPr>
            <a:xfrm>
              <a:off x="0" y="1413000"/>
              <a:ext cx="3218400" cy="40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" descr=""/>
            <p:cNvPicPr/>
            <p:nvPr/>
          </p:nvPicPr>
          <p:blipFill>
            <a:blip r:embed="rId2"/>
            <a:srcRect l="22146" t="0" r="22146" b="0"/>
            <a:stretch/>
          </p:blipFill>
          <p:spPr>
            <a:xfrm>
              <a:off x="0" y="1413000"/>
              <a:ext cx="3220920" cy="400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2" name=""/>
          <p:cNvGrpSpPr/>
          <p:nvPr/>
        </p:nvGrpSpPr>
        <p:grpSpPr>
          <a:xfrm>
            <a:off x="3292560" y="1413000"/>
            <a:ext cx="3220920" cy="4003560"/>
            <a:chOff x="3292560" y="1413000"/>
            <a:chExt cx="3220920" cy="4003560"/>
          </a:xfrm>
        </p:grpSpPr>
        <p:pic>
          <p:nvPicPr>
            <p:cNvPr id="473" name="" descr=""/>
            <p:cNvPicPr/>
            <p:nvPr/>
          </p:nvPicPr>
          <p:blipFill>
            <a:blip r:embed="rId3"/>
            <a:srcRect l="22168" t="0" r="22168" b="0"/>
            <a:stretch/>
          </p:blipFill>
          <p:spPr>
            <a:xfrm>
              <a:off x="3292560" y="1413000"/>
              <a:ext cx="3218400" cy="40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4"/>
            <a:srcRect l="22146" t="0" r="22146" b="0"/>
            <a:stretch/>
          </p:blipFill>
          <p:spPr>
            <a:xfrm>
              <a:off x="3292560" y="1413000"/>
              <a:ext cx="3220920" cy="400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5" name=""/>
          <p:cNvGrpSpPr/>
          <p:nvPr/>
        </p:nvGrpSpPr>
        <p:grpSpPr>
          <a:xfrm>
            <a:off x="6567480" y="1413000"/>
            <a:ext cx="3220920" cy="4003560"/>
            <a:chOff x="6567480" y="1413000"/>
            <a:chExt cx="3220920" cy="4003560"/>
          </a:xfrm>
        </p:grpSpPr>
        <p:pic>
          <p:nvPicPr>
            <p:cNvPr id="476" name="" descr=""/>
            <p:cNvPicPr/>
            <p:nvPr/>
          </p:nvPicPr>
          <p:blipFill>
            <a:blip r:embed="rId5"/>
            <a:srcRect l="22168" t="0" r="22168" b="0"/>
            <a:stretch/>
          </p:blipFill>
          <p:spPr>
            <a:xfrm>
              <a:off x="6567480" y="1413000"/>
              <a:ext cx="3218400" cy="40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" descr=""/>
            <p:cNvPicPr/>
            <p:nvPr/>
          </p:nvPicPr>
          <p:blipFill>
            <a:blip r:embed="rId6"/>
            <a:srcRect l="22146" t="0" r="22146" b="0"/>
            <a:stretch/>
          </p:blipFill>
          <p:spPr>
            <a:xfrm>
              <a:off x="6567480" y="1413000"/>
              <a:ext cx="3220920" cy="400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">
            <a:hlinkClick r:id="rId7" action="ppaction://hlinksldjump"/>
          </p:cNvPr>
          <p:cNvSpPr/>
          <p:nvPr/>
        </p:nvSpPr>
        <p:spPr>
          <a:xfrm>
            <a:off x="8933040" y="6381720"/>
            <a:ext cx="506160" cy="287280"/>
          </a:xfrm>
          <a:custGeom>
            <a:avLst/>
            <a:gdLst>
              <a:gd name="textAreaLeft" fmla="*/ 18360 w 506160"/>
              <a:gd name="textAreaRight" fmla="*/ 487800 w 5061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8037" h="21600">
                <a:moveTo>
                  <a:pt x="0" y="0"/>
                </a:moveTo>
                <a:lnTo>
                  <a:pt x="38037" y="0"/>
                </a:lnTo>
                <a:lnTo>
                  <a:pt x="38037" y="21600"/>
                </a:lnTo>
                <a:lnTo>
                  <a:pt x="0" y="21600"/>
                </a:lnTo>
                <a:close/>
              </a:path>
              <a:path fill="lightenLess" w="38037" h="21600">
                <a:moveTo>
                  <a:pt x="0" y="0"/>
                </a:moveTo>
                <a:lnTo>
                  <a:pt x="38037" y="0"/>
                </a:lnTo>
                <a:lnTo>
                  <a:pt x="36637" y="1400"/>
                </a:lnTo>
                <a:lnTo>
                  <a:pt x="1400" y="1400"/>
                </a:lnTo>
                <a:close/>
              </a:path>
              <a:path fill="darken" w="38037" h="21600">
                <a:moveTo>
                  <a:pt x="38037" y="0"/>
                </a:moveTo>
                <a:lnTo>
                  <a:pt x="38037" y="21600"/>
                </a:lnTo>
                <a:lnTo>
                  <a:pt x="36637" y="20200"/>
                </a:lnTo>
                <a:lnTo>
                  <a:pt x="36637" y="1400"/>
                </a:lnTo>
                <a:close/>
              </a:path>
              <a:path fill="darkenLess" w="38037" h="21600">
                <a:moveTo>
                  <a:pt x="38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637" y="20200"/>
                </a:lnTo>
                <a:close/>
              </a:path>
              <a:path fill="lighten" w="38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037" h="21600">
                <a:moveTo>
                  <a:pt x="12012" y="3794"/>
                </a:moveTo>
                <a:lnTo>
                  <a:pt x="26025" y="10800"/>
                </a:lnTo>
                <a:lnTo>
                  <a:pt x="120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82880" y="6308640"/>
            <a:ext cx="117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92929"/>
                </a:solidFill>
                <a:latin typeface="Arial"/>
              </a:rPr>
              <a:t>Ver tabla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0" name="">
            <a:hlinkClick r:id="rId8" action="ppaction://hlinksldjump"/>
          </p:cNvPr>
          <p:cNvSpPr/>
          <p:nvPr/>
        </p:nvSpPr>
        <p:spPr>
          <a:xfrm>
            <a:off x="4954680" y="6308640"/>
            <a:ext cx="507960" cy="287280"/>
          </a:xfrm>
          <a:custGeom>
            <a:avLst/>
            <a:gdLst>
              <a:gd name="textAreaLeft" fmla="*/ 18360 w 507960"/>
              <a:gd name="textAreaRight" fmla="*/ 489600 w 5079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8172" h="21600">
                <a:moveTo>
                  <a:pt x="0" y="0"/>
                </a:moveTo>
                <a:lnTo>
                  <a:pt x="38172" y="0"/>
                </a:lnTo>
                <a:lnTo>
                  <a:pt x="38172" y="21600"/>
                </a:lnTo>
                <a:lnTo>
                  <a:pt x="0" y="21600"/>
                </a:lnTo>
                <a:close/>
              </a:path>
              <a:path fill="lightenLess" w="38172" h="21600">
                <a:moveTo>
                  <a:pt x="0" y="0"/>
                </a:moveTo>
                <a:lnTo>
                  <a:pt x="38172" y="0"/>
                </a:lnTo>
                <a:lnTo>
                  <a:pt x="36772" y="1400"/>
                </a:lnTo>
                <a:lnTo>
                  <a:pt x="1400" y="1400"/>
                </a:lnTo>
                <a:close/>
              </a:path>
              <a:path fill="darken" w="38172" h="21600">
                <a:moveTo>
                  <a:pt x="38172" y="0"/>
                </a:moveTo>
                <a:lnTo>
                  <a:pt x="38172" y="21600"/>
                </a:lnTo>
                <a:lnTo>
                  <a:pt x="36772" y="20200"/>
                </a:lnTo>
                <a:lnTo>
                  <a:pt x="36772" y="1400"/>
                </a:lnTo>
                <a:close/>
              </a:path>
              <a:path fill="darkenLess" w="38172" h="21600">
                <a:moveTo>
                  <a:pt x="381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2" y="20200"/>
                </a:lnTo>
                <a:close/>
              </a:path>
              <a:path fill="lighten" w="381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72" h="21600">
                <a:moveTo>
                  <a:pt x="12079" y="3794"/>
                </a:moveTo>
                <a:lnTo>
                  <a:pt x="26092" y="10800"/>
                </a:lnTo>
                <a:lnTo>
                  <a:pt x="120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012680" y="6308640"/>
            <a:ext cx="117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292929"/>
                </a:solidFill>
                <a:latin typeface="Arial"/>
              </a:rPr>
              <a:t>Ver tabla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2" name="">
            <a:hlinkClick r:id="rId9" action="ppaction://hlinksldjump"/>
          </p:cNvPr>
          <p:cNvSpPr/>
          <p:nvPr/>
        </p:nvSpPr>
        <p:spPr>
          <a:xfrm>
            <a:off x="2184480" y="6308640"/>
            <a:ext cx="506160" cy="287280"/>
          </a:xfrm>
          <a:custGeom>
            <a:avLst/>
            <a:gdLst>
              <a:gd name="textAreaLeft" fmla="*/ 18360 w 506160"/>
              <a:gd name="textAreaRight" fmla="*/ 487800 w 5061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38037" h="21600">
                <a:moveTo>
                  <a:pt x="0" y="0"/>
                </a:moveTo>
                <a:lnTo>
                  <a:pt x="38037" y="0"/>
                </a:lnTo>
                <a:lnTo>
                  <a:pt x="38037" y="21600"/>
                </a:lnTo>
                <a:lnTo>
                  <a:pt x="0" y="21600"/>
                </a:lnTo>
                <a:close/>
              </a:path>
              <a:path fill="lightenLess" w="38037" h="21600">
                <a:moveTo>
                  <a:pt x="0" y="0"/>
                </a:moveTo>
                <a:lnTo>
                  <a:pt x="38037" y="0"/>
                </a:lnTo>
                <a:lnTo>
                  <a:pt x="36637" y="1400"/>
                </a:lnTo>
                <a:lnTo>
                  <a:pt x="1400" y="1400"/>
                </a:lnTo>
                <a:close/>
              </a:path>
              <a:path fill="darken" w="38037" h="21600">
                <a:moveTo>
                  <a:pt x="38037" y="0"/>
                </a:moveTo>
                <a:lnTo>
                  <a:pt x="38037" y="21600"/>
                </a:lnTo>
                <a:lnTo>
                  <a:pt x="36637" y="20200"/>
                </a:lnTo>
                <a:lnTo>
                  <a:pt x="36637" y="1400"/>
                </a:lnTo>
                <a:close/>
              </a:path>
              <a:path fill="darkenLess" w="38037" h="21600">
                <a:moveTo>
                  <a:pt x="38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637" y="20200"/>
                </a:lnTo>
                <a:close/>
              </a:path>
              <a:path fill="lighten" w="38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037" h="21600">
                <a:moveTo>
                  <a:pt x="12012" y="3794"/>
                </a:moveTo>
                <a:lnTo>
                  <a:pt x="26025" y="10800"/>
                </a:lnTo>
                <a:lnTo>
                  <a:pt x="120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 flipV="1">
            <a:off x="1130040" y="2205000"/>
            <a:ext cx="469800" cy="100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2880" y="191628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292929"/>
                </a:solidFill>
                <a:latin typeface="Times New Roman"/>
              </a:rPr>
              <a:t>Santa Lucía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974520" y="2565360"/>
            <a:ext cx="779400" cy="1008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71440" y="2205000"/>
            <a:ext cx="6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292929"/>
                </a:solidFill>
                <a:latin typeface="Times New Roman"/>
              </a:rPr>
              <a:t>Daule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457360" y="3645000"/>
            <a:ext cx="546120" cy="122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5013360"/>
            <a:ext cx="67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292929"/>
                </a:solidFill>
                <a:latin typeface="Times New Roman"/>
              </a:rPr>
              <a:t>Jujan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2612880" y="2204640"/>
            <a:ext cx="857520" cy="1079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36760" y="184464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292929"/>
                </a:solidFill>
                <a:latin typeface="Times New Roman"/>
              </a:rPr>
              <a:t>Babahoyo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846520" y="2997000"/>
            <a:ext cx="468360" cy="431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59000" y="270828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292929"/>
                </a:solidFill>
                <a:latin typeface="Times New Roman"/>
              </a:rPr>
              <a:t>Montalvo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64280" y="3429000"/>
            <a:ext cx="780840" cy="1512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50600" y="4651200"/>
            <a:ext cx="1232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292929"/>
                </a:solidFill>
                <a:latin typeface="Times New Roman"/>
              </a:rPr>
              <a:t>Urbina Jado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292929"/>
                </a:solidFill>
                <a:latin typeface="Times New Roman"/>
              </a:rPr>
              <a:t>Samborondón 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292929"/>
                </a:solidFill>
                <a:latin typeface="Times New Roman"/>
              </a:rPr>
              <a:t>Yaguachi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6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1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260960" y="3160800"/>
            <a:ext cx="1380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999933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Gracias</a:t>
            </a:r>
            <a:endParaRPr b="0" lang="en-US" sz="2400" spc="1" strike="noStrike">
              <a:ln cap="sq" w="9360">
                <a:solidFill>
                  <a:srgbClr val="999933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6480" y="692280"/>
            <a:ext cx="842004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últiples Marcos de Muestr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1916280"/>
            <a:ext cx="5708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92929"/>
                </a:solidFill>
                <a:latin typeface="Times New Roman"/>
              </a:rPr>
              <a:t>El uso combinado de Marcos  Muestrales de Lista y de Áreas en una investigación estadística o encuesta, corresponde a la metodología de 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Múltiples Marcos de Muestreo </a:t>
            </a:r>
            <a:r>
              <a:rPr b="1" lang="es-ES_tradnl" sz="2400" spc="-1" strike="noStrike">
                <a:solidFill>
                  <a:srgbClr val="292929"/>
                </a:solidFill>
                <a:latin typeface="Times New Roman"/>
              </a:rPr>
              <a:t>(MMM).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344840" y="4365720"/>
            <a:ext cx="46850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6600"/>
                </a:solidFill>
                <a:latin typeface="Times New Roman"/>
              </a:rPr>
              <a:t>El III Censo Nacional Agropecuario de Ecuador utilizó para su ejecución Múltiples Marcos de Muestreo. MML para las UPAs grandes y MMA para las restantes.</a:t>
            </a: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55720" y="1628640"/>
            <a:ext cx="90662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Segunda Parte: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Construcción del Marco de Á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447800" y="3647880"/>
            <a:ext cx="3097080" cy="12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92929"/>
                </a:solidFill>
                <a:latin typeface="Arial"/>
              </a:rPr>
              <a:t>Procedimientos operativos adoptados</a:t>
            </a: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2160" y="739800"/>
            <a:ext cx="502308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Foto-mosa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20520" y="2422440"/>
            <a:ext cx="3816360" cy="34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292929"/>
                </a:solidFill>
                <a:latin typeface="Arial"/>
              </a:rPr>
              <a:t>Elaboración de mosaicos provinciales con fotografía aérea IGM,      a escala 1:50.000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292929"/>
                </a:solidFill>
                <a:latin typeface="Arial"/>
              </a:rPr>
              <a:t>Delimitación de áreas político - administrativas y menores, con base en accidentes geográficos naturales y/o culturale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856040" y="1844640"/>
            <a:ext cx="4057920" cy="5113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5246640" y="2133720"/>
            <a:ext cx="3382920" cy="4227480"/>
          </a:xfrm>
          <a:custGeom>
            <a:avLst/>
            <a:gdLst/>
            <a:ahLst/>
            <a:rect l="l" t="t" r="r" b="b"/>
            <a:pathLst>
              <a:path w="1713" h="2364">
                <a:moveTo>
                  <a:pt x="312" y="0"/>
                </a:moveTo>
                <a:cubicBezTo>
                  <a:pt x="274" y="4"/>
                  <a:pt x="242" y="3"/>
                  <a:pt x="210" y="24"/>
                </a:cubicBezTo>
                <a:cubicBezTo>
                  <a:pt x="202" y="49"/>
                  <a:pt x="211" y="62"/>
                  <a:pt x="204" y="90"/>
                </a:cubicBezTo>
                <a:cubicBezTo>
                  <a:pt x="199" y="110"/>
                  <a:pt x="187" y="124"/>
                  <a:pt x="180" y="144"/>
                </a:cubicBezTo>
                <a:cubicBezTo>
                  <a:pt x="186" y="162"/>
                  <a:pt x="192" y="180"/>
                  <a:pt x="198" y="198"/>
                </a:cubicBezTo>
                <a:cubicBezTo>
                  <a:pt x="200" y="204"/>
                  <a:pt x="204" y="216"/>
                  <a:pt x="204" y="216"/>
                </a:cubicBezTo>
                <a:cubicBezTo>
                  <a:pt x="206" y="236"/>
                  <a:pt x="204" y="257"/>
                  <a:pt x="210" y="276"/>
                </a:cubicBezTo>
                <a:cubicBezTo>
                  <a:pt x="212" y="284"/>
                  <a:pt x="224" y="287"/>
                  <a:pt x="228" y="294"/>
                </a:cubicBezTo>
                <a:cubicBezTo>
                  <a:pt x="234" y="305"/>
                  <a:pt x="240" y="330"/>
                  <a:pt x="240" y="330"/>
                </a:cubicBezTo>
                <a:cubicBezTo>
                  <a:pt x="211" y="349"/>
                  <a:pt x="185" y="350"/>
                  <a:pt x="222" y="366"/>
                </a:cubicBezTo>
                <a:cubicBezTo>
                  <a:pt x="230" y="369"/>
                  <a:pt x="238" y="370"/>
                  <a:pt x="246" y="372"/>
                </a:cubicBezTo>
                <a:cubicBezTo>
                  <a:pt x="230" y="420"/>
                  <a:pt x="263" y="493"/>
                  <a:pt x="210" y="528"/>
                </a:cubicBezTo>
                <a:cubicBezTo>
                  <a:pt x="183" y="568"/>
                  <a:pt x="210" y="620"/>
                  <a:pt x="168" y="648"/>
                </a:cubicBezTo>
                <a:cubicBezTo>
                  <a:pt x="145" y="682"/>
                  <a:pt x="162" y="654"/>
                  <a:pt x="186" y="690"/>
                </a:cubicBezTo>
                <a:cubicBezTo>
                  <a:pt x="181" y="739"/>
                  <a:pt x="173" y="774"/>
                  <a:pt x="180" y="822"/>
                </a:cubicBezTo>
                <a:cubicBezTo>
                  <a:pt x="205" y="814"/>
                  <a:pt x="219" y="813"/>
                  <a:pt x="228" y="840"/>
                </a:cubicBezTo>
                <a:cubicBezTo>
                  <a:pt x="232" y="915"/>
                  <a:pt x="242" y="1059"/>
                  <a:pt x="288" y="1128"/>
                </a:cubicBezTo>
                <a:cubicBezTo>
                  <a:pt x="282" y="1160"/>
                  <a:pt x="278" y="1216"/>
                  <a:pt x="252" y="1242"/>
                </a:cubicBezTo>
                <a:cubicBezTo>
                  <a:pt x="238" y="1256"/>
                  <a:pt x="216" y="1260"/>
                  <a:pt x="198" y="1266"/>
                </a:cubicBezTo>
                <a:cubicBezTo>
                  <a:pt x="192" y="1268"/>
                  <a:pt x="180" y="1272"/>
                  <a:pt x="180" y="1272"/>
                </a:cubicBezTo>
                <a:cubicBezTo>
                  <a:pt x="182" y="1290"/>
                  <a:pt x="177" y="1310"/>
                  <a:pt x="186" y="1326"/>
                </a:cubicBezTo>
                <a:cubicBezTo>
                  <a:pt x="191" y="1335"/>
                  <a:pt x="207" y="1327"/>
                  <a:pt x="216" y="1332"/>
                </a:cubicBezTo>
                <a:cubicBezTo>
                  <a:pt x="222" y="1336"/>
                  <a:pt x="224" y="1344"/>
                  <a:pt x="228" y="1350"/>
                </a:cubicBezTo>
                <a:cubicBezTo>
                  <a:pt x="230" y="1360"/>
                  <a:pt x="249" y="1406"/>
                  <a:pt x="234" y="1416"/>
                </a:cubicBezTo>
                <a:cubicBezTo>
                  <a:pt x="209" y="1434"/>
                  <a:pt x="154" y="1437"/>
                  <a:pt x="126" y="1440"/>
                </a:cubicBezTo>
                <a:cubicBezTo>
                  <a:pt x="61" y="1462"/>
                  <a:pt x="103" y="1451"/>
                  <a:pt x="0" y="1458"/>
                </a:cubicBezTo>
                <a:cubicBezTo>
                  <a:pt x="2" y="1480"/>
                  <a:pt x="0" y="1503"/>
                  <a:pt x="6" y="1524"/>
                </a:cubicBezTo>
                <a:cubicBezTo>
                  <a:pt x="14" y="1549"/>
                  <a:pt x="78" y="1554"/>
                  <a:pt x="78" y="1554"/>
                </a:cubicBezTo>
                <a:cubicBezTo>
                  <a:pt x="84" y="1587"/>
                  <a:pt x="82" y="1603"/>
                  <a:pt x="114" y="1614"/>
                </a:cubicBezTo>
                <a:cubicBezTo>
                  <a:pt x="140" y="1652"/>
                  <a:pt x="139" y="1724"/>
                  <a:pt x="144" y="1770"/>
                </a:cubicBezTo>
                <a:cubicBezTo>
                  <a:pt x="146" y="1822"/>
                  <a:pt x="138" y="1875"/>
                  <a:pt x="150" y="1926"/>
                </a:cubicBezTo>
                <a:cubicBezTo>
                  <a:pt x="153" y="1940"/>
                  <a:pt x="186" y="1950"/>
                  <a:pt x="186" y="1950"/>
                </a:cubicBezTo>
                <a:cubicBezTo>
                  <a:pt x="204" y="2003"/>
                  <a:pt x="206" y="2049"/>
                  <a:pt x="210" y="2106"/>
                </a:cubicBezTo>
                <a:cubicBezTo>
                  <a:pt x="193" y="2157"/>
                  <a:pt x="184" y="2210"/>
                  <a:pt x="168" y="2262"/>
                </a:cubicBezTo>
                <a:cubicBezTo>
                  <a:pt x="163" y="2280"/>
                  <a:pt x="156" y="2298"/>
                  <a:pt x="150" y="2316"/>
                </a:cubicBezTo>
                <a:cubicBezTo>
                  <a:pt x="148" y="2322"/>
                  <a:pt x="144" y="2334"/>
                  <a:pt x="144" y="2334"/>
                </a:cubicBezTo>
                <a:cubicBezTo>
                  <a:pt x="146" y="2340"/>
                  <a:pt x="145" y="2348"/>
                  <a:pt x="150" y="2352"/>
                </a:cubicBezTo>
                <a:cubicBezTo>
                  <a:pt x="160" y="2359"/>
                  <a:pt x="186" y="2364"/>
                  <a:pt x="186" y="2364"/>
                </a:cubicBezTo>
                <a:cubicBezTo>
                  <a:pt x="206" y="2357"/>
                  <a:pt x="220" y="2341"/>
                  <a:pt x="240" y="2334"/>
                </a:cubicBezTo>
                <a:cubicBezTo>
                  <a:pt x="252" y="2330"/>
                  <a:pt x="276" y="2322"/>
                  <a:pt x="276" y="2322"/>
                </a:cubicBezTo>
                <a:cubicBezTo>
                  <a:pt x="309" y="2325"/>
                  <a:pt x="376" y="2346"/>
                  <a:pt x="390" y="2304"/>
                </a:cubicBezTo>
                <a:cubicBezTo>
                  <a:pt x="388" y="2288"/>
                  <a:pt x="388" y="2272"/>
                  <a:pt x="384" y="2256"/>
                </a:cubicBezTo>
                <a:cubicBezTo>
                  <a:pt x="374" y="2221"/>
                  <a:pt x="351" y="2221"/>
                  <a:pt x="402" y="2196"/>
                </a:cubicBezTo>
                <a:cubicBezTo>
                  <a:pt x="448" y="2201"/>
                  <a:pt x="479" y="2215"/>
                  <a:pt x="522" y="2226"/>
                </a:cubicBezTo>
                <a:cubicBezTo>
                  <a:pt x="539" y="2252"/>
                  <a:pt x="552" y="2294"/>
                  <a:pt x="582" y="2304"/>
                </a:cubicBezTo>
                <a:cubicBezTo>
                  <a:pt x="594" y="2316"/>
                  <a:pt x="609" y="2332"/>
                  <a:pt x="624" y="2340"/>
                </a:cubicBezTo>
                <a:cubicBezTo>
                  <a:pt x="635" y="2346"/>
                  <a:pt x="660" y="2352"/>
                  <a:pt x="660" y="2352"/>
                </a:cubicBezTo>
                <a:cubicBezTo>
                  <a:pt x="708" y="2346"/>
                  <a:pt x="713" y="2347"/>
                  <a:pt x="744" y="2316"/>
                </a:cubicBezTo>
                <a:cubicBezTo>
                  <a:pt x="748" y="2304"/>
                  <a:pt x="752" y="2292"/>
                  <a:pt x="756" y="2280"/>
                </a:cubicBezTo>
                <a:cubicBezTo>
                  <a:pt x="758" y="2274"/>
                  <a:pt x="762" y="2262"/>
                  <a:pt x="762" y="2262"/>
                </a:cubicBezTo>
                <a:cubicBezTo>
                  <a:pt x="768" y="2197"/>
                  <a:pt x="772" y="2128"/>
                  <a:pt x="780" y="2064"/>
                </a:cubicBezTo>
                <a:cubicBezTo>
                  <a:pt x="788" y="1999"/>
                  <a:pt x="795" y="2056"/>
                  <a:pt x="816" y="1992"/>
                </a:cubicBezTo>
                <a:cubicBezTo>
                  <a:pt x="824" y="1967"/>
                  <a:pt x="833" y="1940"/>
                  <a:pt x="858" y="1932"/>
                </a:cubicBezTo>
                <a:cubicBezTo>
                  <a:pt x="904" y="1941"/>
                  <a:pt x="944" y="1945"/>
                  <a:pt x="990" y="1938"/>
                </a:cubicBezTo>
                <a:cubicBezTo>
                  <a:pt x="1016" y="1912"/>
                  <a:pt x="1036" y="1911"/>
                  <a:pt x="1068" y="1896"/>
                </a:cubicBezTo>
                <a:cubicBezTo>
                  <a:pt x="1084" y="1889"/>
                  <a:pt x="1101" y="1882"/>
                  <a:pt x="1116" y="1872"/>
                </a:cubicBezTo>
                <a:cubicBezTo>
                  <a:pt x="1122" y="1868"/>
                  <a:pt x="1128" y="1863"/>
                  <a:pt x="1134" y="1860"/>
                </a:cubicBezTo>
                <a:cubicBezTo>
                  <a:pt x="1150" y="1851"/>
                  <a:pt x="1166" y="1844"/>
                  <a:pt x="1182" y="1836"/>
                </a:cubicBezTo>
                <a:cubicBezTo>
                  <a:pt x="1195" y="1830"/>
                  <a:pt x="1218" y="1812"/>
                  <a:pt x="1218" y="1812"/>
                </a:cubicBezTo>
                <a:cubicBezTo>
                  <a:pt x="1259" y="1751"/>
                  <a:pt x="1241" y="1756"/>
                  <a:pt x="1314" y="1746"/>
                </a:cubicBezTo>
                <a:cubicBezTo>
                  <a:pt x="1320" y="1742"/>
                  <a:pt x="1327" y="1739"/>
                  <a:pt x="1332" y="1734"/>
                </a:cubicBezTo>
                <a:cubicBezTo>
                  <a:pt x="1341" y="1723"/>
                  <a:pt x="1356" y="1698"/>
                  <a:pt x="1356" y="1698"/>
                </a:cubicBezTo>
                <a:cubicBezTo>
                  <a:pt x="1364" y="1723"/>
                  <a:pt x="1372" y="1731"/>
                  <a:pt x="1398" y="1722"/>
                </a:cubicBezTo>
                <a:cubicBezTo>
                  <a:pt x="1411" y="1702"/>
                  <a:pt x="1415" y="1684"/>
                  <a:pt x="1422" y="1662"/>
                </a:cubicBezTo>
                <a:cubicBezTo>
                  <a:pt x="1427" y="1678"/>
                  <a:pt x="1420" y="1701"/>
                  <a:pt x="1434" y="1710"/>
                </a:cubicBezTo>
                <a:cubicBezTo>
                  <a:pt x="1441" y="1714"/>
                  <a:pt x="1452" y="1675"/>
                  <a:pt x="1452" y="1674"/>
                </a:cubicBezTo>
                <a:cubicBezTo>
                  <a:pt x="1470" y="1647"/>
                  <a:pt x="1479" y="1655"/>
                  <a:pt x="1512" y="1650"/>
                </a:cubicBezTo>
                <a:cubicBezTo>
                  <a:pt x="1516" y="1637"/>
                  <a:pt x="1530" y="1627"/>
                  <a:pt x="1530" y="1614"/>
                </a:cubicBezTo>
                <a:cubicBezTo>
                  <a:pt x="1530" y="1601"/>
                  <a:pt x="1518" y="1578"/>
                  <a:pt x="1518" y="1578"/>
                </a:cubicBezTo>
                <a:cubicBezTo>
                  <a:pt x="1531" y="1540"/>
                  <a:pt x="1519" y="1493"/>
                  <a:pt x="1542" y="1458"/>
                </a:cubicBezTo>
                <a:cubicBezTo>
                  <a:pt x="1559" y="1433"/>
                  <a:pt x="1575" y="1414"/>
                  <a:pt x="1584" y="1386"/>
                </a:cubicBezTo>
                <a:cubicBezTo>
                  <a:pt x="1586" y="1368"/>
                  <a:pt x="1584" y="1349"/>
                  <a:pt x="1590" y="1332"/>
                </a:cubicBezTo>
                <a:cubicBezTo>
                  <a:pt x="1596" y="1314"/>
                  <a:pt x="1630" y="1306"/>
                  <a:pt x="1644" y="1296"/>
                </a:cubicBezTo>
                <a:cubicBezTo>
                  <a:pt x="1658" y="1275"/>
                  <a:pt x="1671" y="1262"/>
                  <a:pt x="1692" y="1248"/>
                </a:cubicBezTo>
                <a:cubicBezTo>
                  <a:pt x="1713" y="1217"/>
                  <a:pt x="1702" y="1213"/>
                  <a:pt x="1668" y="1206"/>
                </a:cubicBezTo>
                <a:cubicBezTo>
                  <a:pt x="1602" y="1219"/>
                  <a:pt x="1591" y="1217"/>
                  <a:pt x="1506" y="1212"/>
                </a:cubicBezTo>
                <a:cubicBezTo>
                  <a:pt x="1492" y="1169"/>
                  <a:pt x="1505" y="1183"/>
                  <a:pt x="1476" y="1164"/>
                </a:cubicBezTo>
                <a:cubicBezTo>
                  <a:pt x="1474" y="1158"/>
                  <a:pt x="1471" y="1152"/>
                  <a:pt x="1470" y="1146"/>
                </a:cubicBezTo>
                <a:cubicBezTo>
                  <a:pt x="1467" y="1122"/>
                  <a:pt x="1471" y="1097"/>
                  <a:pt x="1464" y="1074"/>
                </a:cubicBezTo>
                <a:cubicBezTo>
                  <a:pt x="1463" y="1072"/>
                  <a:pt x="1433" y="1065"/>
                  <a:pt x="1422" y="1062"/>
                </a:cubicBezTo>
                <a:cubicBezTo>
                  <a:pt x="1378" y="1064"/>
                  <a:pt x="1333" y="1061"/>
                  <a:pt x="1290" y="1068"/>
                </a:cubicBezTo>
                <a:cubicBezTo>
                  <a:pt x="1274" y="1071"/>
                  <a:pt x="1268" y="1126"/>
                  <a:pt x="1266" y="1134"/>
                </a:cubicBezTo>
                <a:cubicBezTo>
                  <a:pt x="1258" y="1168"/>
                  <a:pt x="1234" y="1199"/>
                  <a:pt x="1206" y="1218"/>
                </a:cubicBezTo>
                <a:cubicBezTo>
                  <a:pt x="1182" y="1216"/>
                  <a:pt x="1157" y="1219"/>
                  <a:pt x="1134" y="1212"/>
                </a:cubicBezTo>
                <a:cubicBezTo>
                  <a:pt x="1127" y="1210"/>
                  <a:pt x="1129" y="1197"/>
                  <a:pt x="1122" y="1194"/>
                </a:cubicBezTo>
                <a:cubicBezTo>
                  <a:pt x="1107" y="1188"/>
                  <a:pt x="1090" y="1203"/>
                  <a:pt x="1074" y="1206"/>
                </a:cubicBezTo>
                <a:cubicBezTo>
                  <a:pt x="1058" y="1255"/>
                  <a:pt x="1000" y="1213"/>
                  <a:pt x="972" y="1194"/>
                </a:cubicBezTo>
                <a:cubicBezTo>
                  <a:pt x="964" y="1170"/>
                  <a:pt x="960" y="1160"/>
                  <a:pt x="936" y="1152"/>
                </a:cubicBezTo>
                <a:cubicBezTo>
                  <a:pt x="929" y="1130"/>
                  <a:pt x="913" y="1120"/>
                  <a:pt x="906" y="1098"/>
                </a:cubicBezTo>
                <a:cubicBezTo>
                  <a:pt x="910" y="1086"/>
                  <a:pt x="914" y="1074"/>
                  <a:pt x="918" y="1062"/>
                </a:cubicBezTo>
                <a:cubicBezTo>
                  <a:pt x="920" y="1056"/>
                  <a:pt x="924" y="1044"/>
                  <a:pt x="924" y="1044"/>
                </a:cubicBezTo>
                <a:cubicBezTo>
                  <a:pt x="913" y="1012"/>
                  <a:pt x="901" y="984"/>
                  <a:pt x="888" y="954"/>
                </a:cubicBezTo>
                <a:cubicBezTo>
                  <a:pt x="883" y="942"/>
                  <a:pt x="883" y="929"/>
                  <a:pt x="876" y="918"/>
                </a:cubicBezTo>
                <a:cubicBezTo>
                  <a:pt x="868" y="906"/>
                  <a:pt x="857" y="896"/>
                  <a:pt x="852" y="882"/>
                </a:cubicBezTo>
                <a:cubicBezTo>
                  <a:pt x="850" y="876"/>
                  <a:pt x="851" y="868"/>
                  <a:pt x="846" y="864"/>
                </a:cubicBezTo>
                <a:cubicBezTo>
                  <a:pt x="835" y="855"/>
                  <a:pt x="818" y="857"/>
                  <a:pt x="804" y="852"/>
                </a:cubicBezTo>
                <a:cubicBezTo>
                  <a:pt x="790" y="831"/>
                  <a:pt x="793" y="818"/>
                  <a:pt x="768" y="810"/>
                </a:cubicBezTo>
                <a:cubicBezTo>
                  <a:pt x="736" y="812"/>
                  <a:pt x="704" y="820"/>
                  <a:pt x="672" y="816"/>
                </a:cubicBezTo>
                <a:cubicBezTo>
                  <a:pt x="669" y="816"/>
                  <a:pt x="664" y="788"/>
                  <a:pt x="660" y="774"/>
                </a:cubicBezTo>
                <a:cubicBezTo>
                  <a:pt x="646" y="729"/>
                  <a:pt x="659" y="740"/>
                  <a:pt x="618" y="732"/>
                </a:cubicBezTo>
                <a:cubicBezTo>
                  <a:pt x="592" y="714"/>
                  <a:pt x="565" y="708"/>
                  <a:pt x="534" y="702"/>
                </a:cubicBezTo>
                <a:cubicBezTo>
                  <a:pt x="524" y="641"/>
                  <a:pt x="526" y="575"/>
                  <a:pt x="546" y="516"/>
                </a:cubicBezTo>
                <a:cubicBezTo>
                  <a:pt x="541" y="456"/>
                  <a:pt x="536" y="400"/>
                  <a:pt x="570" y="348"/>
                </a:cubicBezTo>
                <a:cubicBezTo>
                  <a:pt x="557" y="308"/>
                  <a:pt x="541" y="266"/>
                  <a:pt x="498" y="252"/>
                </a:cubicBezTo>
                <a:cubicBezTo>
                  <a:pt x="479" y="233"/>
                  <a:pt x="460" y="219"/>
                  <a:pt x="438" y="204"/>
                </a:cubicBezTo>
                <a:cubicBezTo>
                  <a:pt x="419" y="146"/>
                  <a:pt x="336" y="138"/>
                  <a:pt x="294" y="96"/>
                </a:cubicBezTo>
                <a:cubicBezTo>
                  <a:pt x="292" y="90"/>
                  <a:pt x="291" y="84"/>
                  <a:pt x="288" y="78"/>
                </a:cubicBezTo>
                <a:cubicBezTo>
                  <a:pt x="285" y="72"/>
                  <a:pt x="274" y="67"/>
                  <a:pt x="276" y="60"/>
                </a:cubicBezTo>
                <a:cubicBezTo>
                  <a:pt x="281" y="37"/>
                  <a:pt x="302" y="21"/>
                  <a:pt x="312" y="0"/>
                </a:cubicBezTo>
                <a:close/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1800" y="333000"/>
            <a:ext cx="792180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elimitaciones geo-polít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09600" y="1428840"/>
            <a:ext cx="7421760" cy="52592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208160" y="1428840"/>
            <a:ext cx="7396200" cy="52401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066680" y="1844640"/>
            <a:ext cx="192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rovincia y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cantones</a:t>
            </a:r>
            <a:endParaRPr b="0" lang="en-US" sz="2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5138640" y="1844640"/>
            <a:ext cx="4338360" cy="4197240"/>
            <a:chOff x="5138640" y="1844640"/>
            <a:chExt cx="4338360" cy="4197240"/>
          </a:xfrm>
        </p:grpSpPr>
        <p:sp>
          <p:nvSpPr>
            <p:cNvPr id="159" name=""/>
            <p:cNvSpPr/>
            <p:nvPr/>
          </p:nvSpPr>
          <p:spPr>
            <a:xfrm>
              <a:off x="5138640" y="1844640"/>
              <a:ext cx="4338360" cy="4197240"/>
            </a:xfrm>
            <a:custGeom>
              <a:avLst/>
              <a:gdLst/>
              <a:ahLst/>
              <a:rect l="l" t="t" r="r" b="b"/>
              <a:pathLst>
                <a:path w="2523" h="2644">
                  <a:moveTo>
                    <a:pt x="530" y="0"/>
                  </a:moveTo>
                  <a:cubicBezTo>
                    <a:pt x="533" y="21"/>
                    <a:pt x="529" y="45"/>
                    <a:pt x="539" y="64"/>
                  </a:cubicBezTo>
                  <a:cubicBezTo>
                    <a:pt x="543" y="73"/>
                    <a:pt x="560" y="66"/>
                    <a:pt x="567" y="73"/>
                  </a:cubicBezTo>
                  <a:cubicBezTo>
                    <a:pt x="571" y="77"/>
                    <a:pt x="584" y="136"/>
                    <a:pt x="585" y="137"/>
                  </a:cubicBezTo>
                  <a:cubicBezTo>
                    <a:pt x="600" y="154"/>
                    <a:pt x="622" y="162"/>
                    <a:pt x="640" y="174"/>
                  </a:cubicBezTo>
                  <a:cubicBezTo>
                    <a:pt x="649" y="180"/>
                    <a:pt x="667" y="192"/>
                    <a:pt x="667" y="192"/>
                  </a:cubicBezTo>
                  <a:cubicBezTo>
                    <a:pt x="684" y="218"/>
                    <a:pt x="705" y="239"/>
                    <a:pt x="722" y="265"/>
                  </a:cubicBezTo>
                  <a:cubicBezTo>
                    <a:pt x="734" y="301"/>
                    <a:pt x="724" y="322"/>
                    <a:pt x="713" y="357"/>
                  </a:cubicBezTo>
                  <a:cubicBezTo>
                    <a:pt x="719" y="375"/>
                    <a:pt x="725" y="393"/>
                    <a:pt x="731" y="411"/>
                  </a:cubicBezTo>
                  <a:cubicBezTo>
                    <a:pt x="738" y="433"/>
                    <a:pt x="795" y="466"/>
                    <a:pt x="813" y="485"/>
                  </a:cubicBezTo>
                  <a:cubicBezTo>
                    <a:pt x="835" y="545"/>
                    <a:pt x="882" y="551"/>
                    <a:pt x="941" y="558"/>
                  </a:cubicBezTo>
                  <a:cubicBezTo>
                    <a:pt x="1014" y="582"/>
                    <a:pt x="977" y="579"/>
                    <a:pt x="1051" y="567"/>
                  </a:cubicBezTo>
                  <a:cubicBezTo>
                    <a:pt x="1036" y="489"/>
                    <a:pt x="1030" y="530"/>
                    <a:pt x="1069" y="530"/>
                  </a:cubicBezTo>
                  <a:cubicBezTo>
                    <a:pt x="1079" y="530"/>
                    <a:pt x="1088" y="524"/>
                    <a:pt x="1097" y="521"/>
                  </a:cubicBezTo>
                  <a:cubicBezTo>
                    <a:pt x="1100" y="512"/>
                    <a:pt x="1108" y="503"/>
                    <a:pt x="1106" y="494"/>
                  </a:cubicBezTo>
                  <a:cubicBezTo>
                    <a:pt x="1104" y="485"/>
                    <a:pt x="1088" y="484"/>
                    <a:pt x="1088" y="475"/>
                  </a:cubicBezTo>
                  <a:cubicBezTo>
                    <a:pt x="1088" y="456"/>
                    <a:pt x="1106" y="421"/>
                    <a:pt x="1106" y="421"/>
                  </a:cubicBezTo>
                  <a:cubicBezTo>
                    <a:pt x="1093" y="381"/>
                    <a:pt x="1099" y="371"/>
                    <a:pt x="1133" y="347"/>
                  </a:cubicBezTo>
                  <a:cubicBezTo>
                    <a:pt x="1182" y="364"/>
                    <a:pt x="1205" y="336"/>
                    <a:pt x="1252" y="320"/>
                  </a:cubicBezTo>
                  <a:cubicBezTo>
                    <a:pt x="1290" y="373"/>
                    <a:pt x="1300" y="355"/>
                    <a:pt x="1353" y="338"/>
                  </a:cubicBezTo>
                  <a:cubicBezTo>
                    <a:pt x="1390" y="313"/>
                    <a:pt x="1402" y="299"/>
                    <a:pt x="1463" y="311"/>
                  </a:cubicBezTo>
                  <a:cubicBezTo>
                    <a:pt x="1472" y="313"/>
                    <a:pt x="1467" y="330"/>
                    <a:pt x="1472" y="338"/>
                  </a:cubicBezTo>
                  <a:cubicBezTo>
                    <a:pt x="1485" y="360"/>
                    <a:pt x="1494" y="358"/>
                    <a:pt x="1517" y="366"/>
                  </a:cubicBezTo>
                  <a:cubicBezTo>
                    <a:pt x="1520" y="375"/>
                    <a:pt x="1519" y="387"/>
                    <a:pt x="1527" y="393"/>
                  </a:cubicBezTo>
                  <a:cubicBezTo>
                    <a:pt x="1551" y="410"/>
                    <a:pt x="1620" y="417"/>
                    <a:pt x="1645" y="421"/>
                  </a:cubicBezTo>
                  <a:cubicBezTo>
                    <a:pt x="1679" y="418"/>
                    <a:pt x="1716" y="427"/>
                    <a:pt x="1746" y="411"/>
                  </a:cubicBezTo>
                  <a:cubicBezTo>
                    <a:pt x="1763" y="402"/>
                    <a:pt x="1764" y="357"/>
                    <a:pt x="1764" y="357"/>
                  </a:cubicBezTo>
                  <a:cubicBezTo>
                    <a:pt x="1847" y="364"/>
                    <a:pt x="1906" y="351"/>
                    <a:pt x="1874" y="448"/>
                  </a:cubicBezTo>
                  <a:cubicBezTo>
                    <a:pt x="1871" y="458"/>
                    <a:pt x="1862" y="466"/>
                    <a:pt x="1856" y="475"/>
                  </a:cubicBezTo>
                  <a:cubicBezTo>
                    <a:pt x="1859" y="490"/>
                    <a:pt x="1854" y="510"/>
                    <a:pt x="1865" y="521"/>
                  </a:cubicBezTo>
                  <a:cubicBezTo>
                    <a:pt x="1872" y="528"/>
                    <a:pt x="1883" y="515"/>
                    <a:pt x="1892" y="512"/>
                  </a:cubicBezTo>
                  <a:cubicBezTo>
                    <a:pt x="1904" y="509"/>
                    <a:pt x="1916" y="505"/>
                    <a:pt x="1929" y="503"/>
                  </a:cubicBezTo>
                  <a:cubicBezTo>
                    <a:pt x="1956" y="499"/>
                    <a:pt x="1984" y="497"/>
                    <a:pt x="2011" y="494"/>
                  </a:cubicBezTo>
                  <a:cubicBezTo>
                    <a:pt x="2038" y="535"/>
                    <a:pt x="2030" y="558"/>
                    <a:pt x="2066" y="594"/>
                  </a:cubicBezTo>
                  <a:cubicBezTo>
                    <a:pt x="2079" y="634"/>
                    <a:pt x="2074" y="644"/>
                    <a:pt x="2039" y="667"/>
                  </a:cubicBezTo>
                  <a:cubicBezTo>
                    <a:pt x="2021" y="732"/>
                    <a:pt x="2046" y="687"/>
                    <a:pt x="1975" y="713"/>
                  </a:cubicBezTo>
                  <a:cubicBezTo>
                    <a:pt x="1971" y="714"/>
                    <a:pt x="1941" y="747"/>
                    <a:pt x="1938" y="750"/>
                  </a:cubicBezTo>
                  <a:cubicBezTo>
                    <a:pt x="1927" y="805"/>
                    <a:pt x="1892" y="851"/>
                    <a:pt x="1947" y="887"/>
                  </a:cubicBezTo>
                  <a:cubicBezTo>
                    <a:pt x="1968" y="919"/>
                    <a:pt x="1970" y="939"/>
                    <a:pt x="2002" y="960"/>
                  </a:cubicBezTo>
                  <a:cubicBezTo>
                    <a:pt x="2020" y="957"/>
                    <a:pt x="2039" y="957"/>
                    <a:pt x="2057" y="951"/>
                  </a:cubicBezTo>
                  <a:cubicBezTo>
                    <a:pt x="2117" y="931"/>
                    <a:pt x="2048" y="924"/>
                    <a:pt x="2121" y="942"/>
                  </a:cubicBezTo>
                  <a:cubicBezTo>
                    <a:pt x="2137" y="989"/>
                    <a:pt x="2114" y="1016"/>
                    <a:pt x="2167" y="1033"/>
                  </a:cubicBezTo>
                  <a:cubicBezTo>
                    <a:pt x="2164" y="1042"/>
                    <a:pt x="2150" y="1054"/>
                    <a:pt x="2157" y="1061"/>
                  </a:cubicBezTo>
                  <a:cubicBezTo>
                    <a:pt x="2163" y="1067"/>
                    <a:pt x="2168" y="1047"/>
                    <a:pt x="2176" y="1042"/>
                  </a:cubicBezTo>
                  <a:cubicBezTo>
                    <a:pt x="2190" y="1034"/>
                    <a:pt x="2240" y="1026"/>
                    <a:pt x="2249" y="1024"/>
                  </a:cubicBezTo>
                  <a:cubicBezTo>
                    <a:pt x="2263" y="981"/>
                    <a:pt x="2254" y="981"/>
                    <a:pt x="2313" y="1033"/>
                  </a:cubicBezTo>
                  <a:cubicBezTo>
                    <a:pt x="2343" y="1059"/>
                    <a:pt x="2322" y="1059"/>
                    <a:pt x="2340" y="1088"/>
                  </a:cubicBezTo>
                  <a:cubicBezTo>
                    <a:pt x="2356" y="1113"/>
                    <a:pt x="2376" y="1134"/>
                    <a:pt x="2404" y="1143"/>
                  </a:cubicBezTo>
                  <a:cubicBezTo>
                    <a:pt x="2418" y="1186"/>
                    <a:pt x="2427" y="1184"/>
                    <a:pt x="2468" y="1170"/>
                  </a:cubicBezTo>
                  <a:cubicBezTo>
                    <a:pt x="2475" y="1163"/>
                    <a:pt x="2499" y="1136"/>
                    <a:pt x="2514" y="1143"/>
                  </a:cubicBezTo>
                  <a:cubicBezTo>
                    <a:pt x="2522" y="1147"/>
                    <a:pt x="2520" y="1161"/>
                    <a:pt x="2523" y="1170"/>
                  </a:cubicBezTo>
                  <a:cubicBezTo>
                    <a:pt x="2501" y="1194"/>
                    <a:pt x="2481" y="1206"/>
                    <a:pt x="2450" y="1216"/>
                  </a:cubicBezTo>
                  <a:cubicBezTo>
                    <a:pt x="2439" y="1232"/>
                    <a:pt x="2422" y="1244"/>
                    <a:pt x="2413" y="1262"/>
                  </a:cubicBezTo>
                  <a:cubicBezTo>
                    <a:pt x="2407" y="1273"/>
                    <a:pt x="2413" y="1289"/>
                    <a:pt x="2404" y="1298"/>
                  </a:cubicBezTo>
                  <a:cubicBezTo>
                    <a:pt x="2395" y="1307"/>
                    <a:pt x="2380" y="1304"/>
                    <a:pt x="2368" y="1307"/>
                  </a:cubicBezTo>
                  <a:cubicBezTo>
                    <a:pt x="2342" y="1389"/>
                    <a:pt x="2329" y="1395"/>
                    <a:pt x="2240" y="1408"/>
                  </a:cubicBezTo>
                  <a:cubicBezTo>
                    <a:pt x="2187" y="1374"/>
                    <a:pt x="2213" y="1362"/>
                    <a:pt x="2139" y="1381"/>
                  </a:cubicBezTo>
                  <a:cubicBezTo>
                    <a:pt x="2120" y="1386"/>
                    <a:pt x="2084" y="1399"/>
                    <a:pt x="2084" y="1399"/>
                  </a:cubicBezTo>
                  <a:cubicBezTo>
                    <a:pt x="2038" y="1384"/>
                    <a:pt x="2004" y="1381"/>
                    <a:pt x="1956" y="1390"/>
                  </a:cubicBezTo>
                  <a:cubicBezTo>
                    <a:pt x="1947" y="1417"/>
                    <a:pt x="1950" y="1447"/>
                    <a:pt x="1938" y="1472"/>
                  </a:cubicBezTo>
                  <a:cubicBezTo>
                    <a:pt x="1928" y="1493"/>
                    <a:pt x="1879" y="1496"/>
                    <a:pt x="1865" y="1499"/>
                  </a:cubicBezTo>
                  <a:cubicBezTo>
                    <a:pt x="1840" y="1574"/>
                    <a:pt x="1866" y="1557"/>
                    <a:pt x="1783" y="1545"/>
                  </a:cubicBezTo>
                  <a:cubicBezTo>
                    <a:pt x="1737" y="1516"/>
                    <a:pt x="1742" y="1511"/>
                    <a:pt x="1691" y="1536"/>
                  </a:cubicBezTo>
                  <a:cubicBezTo>
                    <a:pt x="1685" y="1545"/>
                    <a:pt x="1682" y="1557"/>
                    <a:pt x="1673" y="1563"/>
                  </a:cubicBezTo>
                  <a:cubicBezTo>
                    <a:pt x="1657" y="1573"/>
                    <a:pt x="1618" y="1582"/>
                    <a:pt x="1618" y="1582"/>
                  </a:cubicBezTo>
                  <a:cubicBezTo>
                    <a:pt x="1600" y="1578"/>
                    <a:pt x="1572" y="1564"/>
                    <a:pt x="1554" y="1582"/>
                  </a:cubicBezTo>
                  <a:cubicBezTo>
                    <a:pt x="1547" y="1589"/>
                    <a:pt x="1552" y="1602"/>
                    <a:pt x="1545" y="1609"/>
                  </a:cubicBezTo>
                  <a:cubicBezTo>
                    <a:pt x="1530" y="1624"/>
                    <a:pt x="1416" y="1636"/>
                    <a:pt x="1408" y="1637"/>
                  </a:cubicBezTo>
                  <a:lnTo>
                    <a:pt x="1362" y="1701"/>
                  </a:lnTo>
                  <a:cubicBezTo>
                    <a:pt x="1362" y="1701"/>
                    <a:pt x="1362" y="1701"/>
                    <a:pt x="1362" y="1701"/>
                  </a:cubicBezTo>
                  <a:cubicBezTo>
                    <a:pt x="1316" y="1723"/>
                    <a:pt x="1338" y="1715"/>
                    <a:pt x="1298" y="1728"/>
                  </a:cubicBezTo>
                  <a:cubicBezTo>
                    <a:pt x="1307" y="1734"/>
                    <a:pt x="1322" y="1735"/>
                    <a:pt x="1325" y="1746"/>
                  </a:cubicBezTo>
                  <a:cubicBezTo>
                    <a:pt x="1329" y="1762"/>
                    <a:pt x="1284" y="1773"/>
                    <a:pt x="1280" y="1774"/>
                  </a:cubicBezTo>
                  <a:cubicBezTo>
                    <a:pt x="1262" y="1778"/>
                    <a:pt x="1243" y="1780"/>
                    <a:pt x="1225" y="1783"/>
                  </a:cubicBezTo>
                  <a:cubicBezTo>
                    <a:pt x="1230" y="1802"/>
                    <a:pt x="1244" y="1837"/>
                    <a:pt x="1225" y="1856"/>
                  </a:cubicBezTo>
                  <a:cubicBezTo>
                    <a:pt x="1209" y="1872"/>
                    <a:pt x="1182" y="1867"/>
                    <a:pt x="1161" y="1874"/>
                  </a:cubicBezTo>
                  <a:cubicBezTo>
                    <a:pt x="1131" y="1906"/>
                    <a:pt x="1104" y="1904"/>
                    <a:pt x="1060" y="1911"/>
                  </a:cubicBezTo>
                  <a:cubicBezTo>
                    <a:pt x="1019" y="1897"/>
                    <a:pt x="1010" y="1895"/>
                    <a:pt x="996" y="1938"/>
                  </a:cubicBezTo>
                  <a:cubicBezTo>
                    <a:pt x="980" y="2033"/>
                    <a:pt x="988" y="2034"/>
                    <a:pt x="887" y="2048"/>
                  </a:cubicBezTo>
                  <a:cubicBezTo>
                    <a:pt x="866" y="2078"/>
                    <a:pt x="858" y="2091"/>
                    <a:pt x="823" y="2103"/>
                  </a:cubicBezTo>
                  <a:cubicBezTo>
                    <a:pt x="778" y="2145"/>
                    <a:pt x="809" y="2108"/>
                    <a:pt x="795" y="2222"/>
                  </a:cubicBezTo>
                  <a:cubicBezTo>
                    <a:pt x="793" y="2237"/>
                    <a:pt x="798" y="2258"/>
                    <a:pt x="786" y="2267"/>
                  </a:cubicBezTo>
                  <a:cubicBezTo>
                    <a:pt x="766" y="2282"/>
                    <a:pt x="713" y="2286"/>
                    <a:pt x="713" y="2286"/>
                  </a:cubicBezTo>
                  <a:cubicBezTo>
                    <a:pt x="692" y="2349"/>
                    <a:pt x="709" y="2328"/>
                    <a:pt x="676" y="2359"/>
                  </a:cubicBezTo>
                  <a:cubicBezTo>
                    <a:pt x="660" y="2408"/>
                    <a:pt x="629" y="2397"/>
                    <a:pt x="576" y="2405"/>
                  </a:cubicBezTo>
                  <a:cubicBezTo>
                    <a:pt x="545" y="2434"/>
                    <a:pt x="564" y="2445"/>
                    <a:pt x="521" y="2459"/>
                  </a:cubicBezTo>
                  <a:cubicBezTo>
                    <a:pt x="490" y="2492"/>
                    <a:pt x="511" y="2475"/>
                    <a:pt x="448" y="2496"/>
                  </a:cubicBezTo>
                  <a:cubicBezTo>
                    <a:pt x="439" y="2499"/>
                    <a:pt x="420" y="2505"/>
                    <a:pt x="420" y="2505"/>
                  </a:cubicBezTo>
                  <a:cubicBezTo>
                    <a:pt x="409" y="2516"/>
                    <a:pt x="380" y="2543"/>
                    <a:pt x="375" y="2560"/>
                  </a:cubicBezTo>
                  <a:cubicBezTo>
                    <a:pt x="349" y="2644"/>
                    <a:pt x="390" y="2607"/>
                    <a:pt x="338" y="2642"/>
                  </a:cubicBezTo>
                  <a:cubicBezTo>
                    <a:pt x="320" y="2639"/>
                    <a:pt x="299" y="2642"/>
                    <a:pt x="283" y="2633"/>
                  </a:cubicBezTo>
                  <a:cubicBezTo>
                    <a:pt x="275" y="2628"/>
                    <a:pt x="275" y="2615"/>
                    <a:pt x="274" y="2606"/>
                  </a:cubicBezTo>
                  <a:cubicBezTo>
                    <a:pt x="251" y="2429"/>
                    <a:pt x="278" y="2550"/>
                    <a:pt x="256" y="2459"/>
                  </a:cubicBezTo>
                  <a:cubicBezTo>
                    <a:pt x="263" y="2407"/>
                    <a:pt x="287" y="2360"/>
                    <a:pt x="228" y="2341"/>
                  </a:cubicBezTo>
                  <a:cubicBezTo>
                    <a:pt x="199" y="2310"/>
                    <a:pt x="187" y="2310"/>
                    <a:pt x="201" y="2267"/>
                  </a:cubicBezTo>
                  <a:cubicBezTo>
                    <a:pt x="170" y="2244"/>
                    <a:pt x="121" y="2219"/>
                    <a:pt x="164" y="2176"/>
                  </a:cubicBezTo>
                  <a:cubicBezTo>
                    <a:pt x="171" y="2169"/>
                    <a:pt x="183" y="2170"/>
                    <a:pt x="192" y="2167"/>
                  </a:cubicBezTo>
                  <a:cubicBezTo>
                    <a:pt x="198" y="2158"/>
                    <a:pt x="208" y="2150"/>
                    <a:pt x="210" y="2139"/>
                  </a:cubicBezTo>
                  <a:cubicBezTo>
                    <a:pt x="213" y="2122"/>
                    <a:pt x="190" y="2067"/>
                    <a:pt x="173" y="2057"/>
                  </a:cubicBezTo>
                  <a:cubicBezTo>
                    <a:pt x="163" y="2051"/>
                    <a:pt x="117" y="2041"/>
                    <a:pt x="109" y="2039"/>
                  </a:cubicBezTo>
                  <a:cubicBezTo>
                    <a:pt x="97" y="2021"/>
                    <a:pt x="80" y="2005"/>
                    <a:pt x="73" y="1984"/>
                  </a:cubicBezTo>
                  <a:cubicBezTo>
                    <a:pt x="70" y="1975"/>
                    <a:pt x="71" y="1964"/>
                    <a:pt x="64" y="1957"/>
                  </a:cubicBezTo>
                  <a:cubicBezTo>
                    <a:pt x="58" y="1951"/>
                    <a:pt x="3" y="1939"/>
                    <a:pt x="0" y="1938"/>
                  </a:cubicBezTo>
                  <a:cubicBezTo>
                    <a:pt x="34" y="1904"/>
                    <a:pt x="47" y="1908"/>
                    <a:pt x="91" y="1893"/>
                  </a:cubicBezTo>
                  <a:cubicBezTo>
                    <a:pt x="97" y="1875"/>
                    <a:pt x="103" y="1856"/>
                    <a:pt x="109" y="1838"/>
                  </a:cubicBezTo>
                  <a:cubicBezTo>
                    <a:pt x="117" y="1815"/>
                    <a:pt x="105" y="1785"/>
                    <a:pt x="119" y="1765"/>
                  </a:cubicBezTo>
                  <a:cubicBezTo>
                    <a:pt x="133" y="1744"/>
                    <a:pt x="168" y="1754"/>
                    <a:pt x="192" y="1746"/>
                  </a:cubicBezTo>
                  <a:cubicBezTo>
                    <a:pt x="209" y="1696"/>
                    <a:pt x="213" y="1654"/>
                    <a:pt x="219" y="1600"/>
                  </a:cubicBezTo>
                  <a:cubicBezTo>
                    <a:pt x="269" y="1624"/>
                    <a:pt x="265" y="1642"/>
                    <a:pt x="320" y="1627"/>
                  </a:cubicBezTo>
                  <a:cubicBezTo>
                    <a:pt x="319" y="1614"/>
                    <a:pt x="300" y="1487"/>
                    <a:pt x="320" y="1463"/>
                  </a:cubicBezTo>
                  <a:cubicBezTo>
                    <a:pt x="328" y="1453"/>
                    <a:pt x="344" y="1457"/>
                    <a:pt x="356" y="1454"/>
                  </a:cubicBezTo>
                  <a:cubicBezTo>
                    <a:pt x="359" y="1445"/>
                    <a:pt x="356" y="1430"/>
                    <a:pt x="365" y="1426"/>
                  </a:cubicBezTo>
                  <a:cubicBezTo>
                    <a:pt x="374" y="1422"/>
                    <a:pt x="383" y="1435"/>
                    <a:pt x="393" y="1435"/>
                  </a:cubicBezTo>
                  <a:cubicBezTo>
                    <a:pt x="406" y="1435"/>
                    <a:pt x="460" y="1421"/>
                    <a:pt x="475" y="1417"/>
                  </a:cubicBezTo>
                  <a:cubicBezTo>
                    <a:pt x="487" y="1380"/>
                    <a:pt x="479" y="1367"/>
                    <a:pt x="457" y="1335"/>
                  </a:cubicBezTo>
                  <a:cubicBezTo>
                    <a:pt x="444" y="1295"/>
                    <a:pt x="449" y="1285"/>
                    <a:pt x="484" y="1262"/>
                  </a:cubicBezTo>
                  <a:cubicBezTo>
                    <a:pt x="499" y="1216"/>
                    <a:pt x="502" y="1184"/>
                    <a:pt x="512" y="1134"/>
                  </a:cubicBezTo>
                  <a:cubicBezTo>
                    <a:pt x="516" y="1115"/>
                    <a:pt x="530" y="1079"/>
                    <a:pt x="530" y="1079"/>
                  </a:cubicBezTo>
                  <a:cubicBezTo>
                    <a:pt x="538" y="971"/>
                    <a:pt x="547" y="939"/>
                    <a:pt x="576" y="850"/>
                  </a:cubicBezTo>
                  <a:cubicBezTo>
                    <a:pt x="564" y="668"/>
                    <a:pt x="583" y="763"/>
                    <a:pt x="557" y="686"/>
                  </a:cubicBezTo>
                  <a:cubicBezTo>
                    <a:pt x="544" y="648"/>
                    <a:pt x="541" y="636"/>
                    <a:pt x="530" y="603"/>
                  </a:cubicBezTo>
                  <a:cubicBezTo>
                    <a:pt x="527" y="594"/>
                    <a:pt x="521" y="576"/>
                    <a:pt x="521" y="576"/>
                  </a:cubicBezTo>
                  <a:cubicBezTo>
                    <a:pt x="490" y="384"/>
                    <a:pt x="530" y="191"/>
                    <a:pt x="530" y="0"/>
                  </a:cubicBezTo>
                  <a:close/>
                </a:path>
              </a:pathLst>
            </a:custGeom>
            <a:solidFill>
              <a:srgbClr val="ede4a5"/>
            </a:solidFill>
            <a:ln w="47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413840" y="5157720"/>
              <a:ext cx="120780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292929"/>
                  </a:solidFill>
                  <a:latin typeface="Arial"/>
                </a:rPr>
                <a:t>Cantón</a:t>
              </a:r>
              <a:endParaRPr b="0" lang="en-US" sz="18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600" spc="-1" strike="noStrike">
                  <a:solidFill>
                    <a:srgbClr val="292929"/>
                  </a:solidFill>
                  <a:latin typeface="Arial"/>
                </a:rPr>
                <a:t>Pedernales</a:t>
              </a:r>
              <a:endParaRPr b="0" lang="en-US" sz="16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79280" y="764640"/>
            <a:ext cx="564012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Formación de Estr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77440" y="177336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292929"/>
                </a:solidFill>
                <a:latin typeface="Arial"/>
              </a:rPr>
              <a:t>Estratificación por uso del suel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292929"/>
                </a:solidFill>
                <a:latin typeface="Arial"/>
              </a:rPr>
              <a:t>Información Básica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Imágenes satelitales del CLIRSE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Mapas de Uso Actual del Suelo de PRONARE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Información del SEA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Fotografía aére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55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292929"/>
                </a:solidFill>
                <a:latin typeface="Arial"/>
              </a:rPr>
              <a:t>Número de Estrato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11 en los cantones de la Costa y de la Sierra (7 con uso agropecuario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292929"/>
                </a:solidFill>
                <a:latin typeface="Arial"/>
              </a:rPr>
              <a:t>8 en los de la Amazonía (todos con uso agropecuario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98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77040" y="2641680"/>
            <a:ext cx="3102120" cy="2487600"/>
            <a:chOff x="5477040" y="2641680"/>
            <a:chExt cx="3102120" cy="2487600"/>
          </a:xfrm>
        </p:grpSpPr>
        <p:grpSp>
          <p:nvGrpSpPr>
            <p:cNvPr id="164" name=""/>
            <p:cNvGrpSpPr/>
            <p:nvPr/>
          </p:nvGrpSpPr>
          <p:grpSpPr>
            <a:xfrm>
              <a:off x="5477040" y="2641680"/>
              <a:ext cx="3064680" cy="2487600"/>
              <a:chOff x="5477040" y="2641680"/>
              <a:chExt cx="3064680" cy="2487600"/>
            </a:xfrm>
          </p:grpSpPr>
          <p:sp>
            <p:nvSpPr>
              <p:cNvPr id="165" name=""/>
              <p:cNvSpPr/>
              <p:nvPr/>
            </p:nvSpPr>
            <p:spPr>
              <a:xfrm>
                <a:off x="5477040" y="2816280"/>
                <a:ext cx="1456560" cy="1947960"/>
              </a:xfrm>
              <a:custGeom>
                <a:avLst/>
                <a:gdLst/>
                <a:ahLst/>
                <a:rect l="l" t="t" r="r" b="b"/>
                <a:pathLst>
                  <a:path w="847" h="1227">
                    <a:moveTo>
                      <a:pt x="804" y="0"/>
                    </a:moveTo>
                    <a:cubicBezTo>
                      <a:pt x="789" y="93"/>
                      <a:pt x="847" y="235"/>
                      <a:pt x="731" y="274"/>
                    </a:cubicBezTo>
                    <a:cubicBezTo>
                      <a:pt x="706" y="312"/>
                      <a:pt x="717" y="352"/>
                      <a:pt x="685" y="384"/>
                    </a:cubicBezTo>
                    <a:cubicBezTo>
                      <a:pt x="673" y="421"/>
                      <a:pt x="653" y="436"/>
                      <a:pt x="621" y="457"/>
                    </a:cubicBezTo>
                    <a:cubicBezTo>
                      <a:pt x="580" y="518"/>
                      <a:pt x="613" y="670"/>
                      <a:pt x="548" y="722"/>
                    </a:cubicBezTo>
                    <a:cubicBezTo>
                      <a:pt x="522" y="743"/>
                      <a:pt x="482" y="736"/>
                      <a:pt x="448" y="740"/>
                    </a:cubicBezTo>
                    <a:cubicBezTo>
                      <a:pt x="431" y="788"/>
                      <a:pt x="437" y="821"/>
                      <a:pt x="393" y="850"/>
                    </a:cubicBezTo>
                    <a:cubicBezTo>
                      <a:pt x="367" y="929"/>
                      <a:pt x="405" y="814"/>
                      <a:pt x="374" y="914"/>
                    </a:cubicBezTo>
                    <a:cubicBezTo>
                      <a:pt x="368" y="932"/>
                      <a:pt x="356" y="969"/>
                      <a:pt x="356" y="969"/>
                    </a:cubicBezTo>
                    <a:cubicBezTo>
                      <a:pt x="361" y="992"/>
                      <a:pt x="375" y="1037"/>
                      <a:pt x="356" y="1060"/>
                    </a:cubicBezTo>
                    <a:cubicBezTo>
                      <a:pt x="348" y="1070"/>
                      <a:pt x="332" y="1066"/>
                      <a:pt x="320" y="1069"/>
                    </a:cubicBezTo>
                    <a:cubicBezTo>
                      <a:pt x="280" y="1056"/>
                      <a:pt x="249" y="1057"/>
                      <a:pt x="219" y="1088"/>
                    </a:cubicBezTo>
                    <a:cubicBezTo>
                      <a:pt x="203" y="1137"/>
                      <a:pt x="210" y="1170"/>
                      <a:pt x="155" y="1188"/>
                    </a:cubicBezTo>
                    <a:cubicBezTo>
                      <a:pt x="115" y="1216"/>
                      <a:pt x="107" y="1227"/>
                      <a:pt x="64" y="1197"/>
                    </a:cubicBezTo>
                    <a:cubicBezTo>
                      <a:pt x="61" y="1188"/>
                      <a:pt x="62" y="1175"/>
                      <a:pt x="54" y="1170"/>
                    </a:cubicBezTo>
                    <a:cubicBezTo>
                      <a:pt x="38" y="1161"/>
                      <a:pt x="0" y="1161"/>
                      <a:pt x="0" y="1161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924160" y="3135240"/>
                <a:ext cx="1439640" cy="1994040"/>
              </a:xfrm>
              <a:custGeom>
                <a:avLst/>
                <a:gdLst/>
                <a:ahLst/>
                <a:rect l="l" t="t" r="r" b="b"/>
                <a:pathLst>
                  <a:path w="837" h="1256">
                    <a:moveTo>
                      <a:pt x="544" y="0"/>
                    </a:moveTo>
                    <a:cubicBezTo>
                      <a:pt x="629" y="12"/>
                      <a:pt x="719" y="0"/>
                      <a:pt x="800" y="27"/>
                    </a:cubicBezTo>
                    <a:cubicBezTo>
                      <a:pt x="822" y="93"/>
                      <a:pt x="807" y="66"/>
                      <a:pt x="837" y="110"/>
                    </a:cubicBezTo>
                    <a:cubicBezTo>
                      <a:pt x="815" y="174"/>
                      <a:pt x="824" y="147"/>
                      <a:pt x="809" y="192"/>
                    </a:cubicBezTo>
                    <a:cubicBezTo>
                      <a:pt x="806" y="201"/>
                      <a:pt x="800" y="219"/>
                      <a:pt x="800" y="219"/>
                    </a:cubicBezTo>
                    <a:cubicBezTo>
                      <a:pt x="797" y="295"/>
                      <a:pt x="816" y="380"/>
                      <a:pt x="782" y="448"/>
                    </a:cubicBezTo>
                    <a:cubicBezTo>
                      <a:pt x="768" y="477"/>
                      <a:pt x="709" y="512"/>
                      <a:pt x="709" y="512"/>
                    </a:cubicBezTo>
                    <a:cubicBezTo>
                      <a:pt x="680" y="553"/>
                      <a:pt x="642" y="577"/>
                      <a:pt x="608" y="613"/>
                    </a:cubicBezTo>
                    <a:cubicBezTo>
                      <a:pt x="600" y="644"/>
                      <a:pt x="602" y="653"/>
                      <a:pt x="581" y="677"/>
                    </a:cubicBezTo>
                    <a:cubicBezTo>
                      <a:pt x="567" y="693"/>
                      <a:pt x="535" y="722"/>
                      <a:pt x="535" y="722"/>
                    </a:cubicBezTo>
                    <a:cubicBezTo>
                      <a:pt x="514" y="786"/>
                      <a:pt x="508" y="845"/>
                      <a:pt x="462" y="896"/>
                    </a:cubicBezTo>
                    <a:cubicBezTo>
                      <a:pt x="445" y="915"/>
                      <a:pt x="425" y="933"/>
                      <a:pt x="407" y="951"/>
                    </a:cubicBezTo>
                    <a:cubicBezTo>
                      <a:pt x="398" y="960"/>
                      <a:pt x="380" y="978"/>
                      <a:pt x="380" y="978"/>
                    </a:cubicBezTo>
                    <a:cubicBezTo>
                      <a:pt x="348" y="1072"/>
                      <a:pt x="372" y="1000"/>
                      <a:pt x="352" y="1061"/>
                    </a:cubicBezTo>
                    <a:cubicBezTo>
                      <a:pt x="349" y="1070"/>
                      <a:pt x="351" y="1083"/>
                      <a:pt x="343" y="1088"/>
                    </a:cubicBezTo>
                    <a:cubicBezTo>
                      <a:pt x="325" y="1100"/>
                      <a:pt x="304" y="1109"/>
                      <a:pt x="288" y="1125"/>
                    </a:cubicBezTo>
                    <a:cubicBezTo>
                      <a:pt x="279" y="1134"/>
                      <a:pt x="271" y="1145"/>
                      <a:pt x="261" y="1152"/>
                    </a:cubicBezTo>
                    <a:cubicBezTo>
                      <a:pt x="231" y="1173"/>
                      <a:pt x="221" y="1169"/>
                      <a:pt x="188" y="1179"/>
                    </a:cubicBezTo>
                    <a:cubicBezTo>
                      <a:pt x="169" y="1185"/>
                      <a:pt x="133" y="1198"/>
                      <a:pt x="133" y="1198"/>
                    </a:cubicBezTo>
                    <a:cubicBezTo>
                      <a:pt x="71" y="1256"/>
                      <a:pt x="132" y="1251"/>
                      <a:pt x="14" y="1225"/>
                    </a:cubicBezTo>
                    <a:cubicBezTo>
                      <a:pt x="18" y="1168"/>
                      <a:pt x="0" y="1064"/>
                      <a:pt x="69" y="1042"/>
                    </a:cubicBezTo>
                    <a:cubicBezTo>
                      <a:pt x="79" y="1013"/>
                      <a:pt x="95" y="989"/>
                      <a:pt x="105" y="960"/>
                    </a:cubicBezTo>
                    <a:cubicBezTo>
                      <a:pt x="99" y="942"/>
                      <a:pt x="93" y="923"/>
                      <a:pt x="87" y="905"/>
                    </a:cubicBezTo>
                    <a:cubicBezTo>
                      <a:pt x="84" y="896"/>
                      <a:pt x="78" y="878"/>
                      <a:pt x="78" y="87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80120" y="2641680"/>
                <a:ext cx="1461600" cy="1393920"/>
              </a:xfrm>
              <a:custGeom>
                <a:avLst/>
                <a:gdLst/>
                <a:ahLst/>
                <a:rect l="l" t="t" r="r" b="b"/>
                <a:pathLst>
                  <a:path w="850" h="878">
                    <a:moveTo>
                      <a:pt x="0" y="0"/>
                    </a:moveTo>
                    <a:cubicBezTo>
                      <a:pt x="76" y="73"/>
                      <a:pt x="178" y="78"/>
                      <a:pt x="274" y="110"/>
                    </a:cubicBezTo>
                    <a:cubicBezTo>
                      <a:pt x="310" y="145"/>
                      <a:pt x="328" y="167"/>
                      <a:pt x="375" y="183"/>
                    </a:cubicBezTo>
                    <a:cubicBezTo>
                      <a:pt x="385" y="213"/>
                      <a:pt x="404" y="235"/>
                      <a:pt x="412" y="265"/>
                    </a:cubicBezTo>
                    <a:cubicBezTo>
                      <a:pt x="429" y="325"/>
                      <a:pt x="424" y="351"/>
                      <a:pt x="466" y="393"/>
                    </a:cubicBezTo>
                    <a:cubicBezTo>
                      <a:pt x="493" y="467"/>
                      <a:pt x="518" y="464"/>
                      <a:pt x="576" y="503"/>
                    </a:cubicBezTo>
                    <a:cubicBezTo>
                      <a:pt x="579" y="558"/>
                      <a:pt x="580" y="612"/>
                      <a:pt x="585" y="667"/>
                    </a:cubicBezTo>
                    <a:cubicBezTo>
                      <a:pt x="591" y="733"/>
                      <a:pt x="683" y="740"/>
                      <a:pt x="732" y="750"/>
                    </a:cubicBezTo>
                    <a:cubicBezTo>
                      <a:pt x="749" y="801"/>
                      <a:pt x="769" y="769"/>
                      <a:pt x="805" y="805"/>
                    </a:cubicBezTo>
                    <a:cubicBezTo>
                      <a:pt x="828" y="875"/>
                      <a:pt x="794" y="790"/>
                      <a:pt x="841" y="850"/>
                    </a:cubicBezTo>
                    <a:cubicBezTo>
                      <a:pt x="847" y="858"/>
                      <a:pt x="850" y="878"/>
                      <a:pt x="850" y="878"/>
                    </a:cubicBezTo>
                  </a:path>
                </a:pathLst>
              </a:custGeom>
              <a:noFill/>
              <a:ln w="38160">
                <a:solidFill>
                  <a:srgbClr val="80808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994000" y="2713680"/>
              <a:ext cx="2585160" cy="1933560"/>
              <a:chOff x="5994000" y="2713680"/>
              <a:chExt cx="2585160" cy="1933560"/>
            </a:xfrm>
          </p:grpSpPr>
          <p:sp>
            <p:nvSpPr>
              <p:cNvPr id="169" name=""/>
              <p:cNvSpPr/>
              <p:nvPr/>
            </p:nvSpPr>
            <p:spPr>
              <a:xfrm rot="19673400">
                <a:off x="6908400" y="409860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292929"/>
                    </a:solidFill>
                    <a:latin typeface="Arial"/>
                  </a:rPr>
                  <a:t>Estrato 10</a:t>
                </a:r>
                <a:endParaRPr b="0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3115800">
                <a:off x="7652880" y="304668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292929"/>
                    </a:solidFill>
                    <a:latin typeface="Arial"/>
                  </a:rPr>
                  <a:t>Estrato 30</a:t>
                </a:r>
                <a:endParaRPr b="0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8020400">
                <a:off x="6074280" y="392580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292929"/>
                    </a:solidFill>
                    <a:latin typeface="Arial"/>
                  </a:rPr>
                  <a:t>Estrato 30</a:t>
                </a:r>
                <a:endParaRPr b="0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813400">
                <a:off x="5857920" y="320184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292929"/>
                    </a:solidFill>
                    <a:latin typeface="Arial"/>
                  </a:rPr>
                  <a:t>Estrato 20</a:t>
                </a:r>
                <a:endParaRPr b="0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5800" y="1699920"/>
            <a:ext cx="79549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Tercera Parte: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lección de la Muestra y Segm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232160" y="3581280"/>
            <a:ext cx="4353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92929"/>
                </a:solidFill>
                <a:latin typeface="Arial"/>
              </a:rPr>
              <a:t>Selección probabilística sistemátic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3865680" y="3087720"/>
            <a:ext cx="2341440" cy="1582560"/>
            <a:chOff x="3865680" y="3087720"/>
            <a:chExt cx="2341440" cy="1582560"/>
          </a:xfrm>
        </p:grpSpPr>
        <p:grpSp>
          <p:nvGrpSpPr>
            <p:cNvPr id="176" name=""/>
            <p:cNvGrpSpPr/>
            <p:nvPr/>
          </p:nvGrpSpPr>
          <p:grpSpPr>
            <a:xfrm>
              <a:off x="3865680" y="3087720"/>
              <a:ext cx="2341440" cy="1582560"/>
              <a:chOff x="3865680" y="3087720"/>
              <a:chExt cx="2341440" cy="1582560"/>
            </a:xfrm>
          </p:grpSpPr>
          <p:graphicFrame>
            <p:nvGraphicFramePr>
              <p:cNvPr id="177" name=""/>
              <p:cNvGraphicFramePr/>
              <p:nvPr/>
            </p:nvGraphicFramePr>
            <p:xfrm>
              <a:off x="3865680" y="3087720"/>
              <a:ext cx="2341440" cy="1582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78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865680" y="3087720"/>
                        <a:ext cx="2341440" cy="1582560"/>
                      </a:xfrm>
                      <a:prstGeom prst="rect">
                        <a:avLst/>
                      </a:prstGeom>
                      <a:ln w="31680">
                        <a:solidFill>
                          <a:srgbClr val="292929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79" name=""/>
              <p:cNvSpPr/>
              <p:nvPr/>
            </p:nvSpPr>
            <p:spPr>
              <a:xfrm>
                <a:off x="4178160" y="3358080"/>
                <a:ext cx="2027160" cy="1183320"/>
              </a:xfrm>
              <a:custGeom>
                <a:avLst/>
                <a:gdLst/>
                <a:ahLst/>
                <a:rect l="l" t="t" r="r" b="b"/>
                <a:pathLst>
                  <a:path w="3613" h="2230">
                    <a:moveTo>
                      <a:pt x="1938" y="325"/>
                    </a:moveTo>
                    <a:lnTo>
                      <a:pt x="2210" y="461"/>
                    </a:lnTo>
                    <a:lnTo>
                      <a:pt x="2437" y="551"/>
                    </a:lnTo>
                    <a:cubicBezTo>
                      <a:pt x="2452" y="566"/>
                      <a:pt x="2462" y="589"/>
                      <a:pt x="2482" y="597"/>
                    </a:cubicBezTo>
                    <a:cubicBezTo>
                      <a:pt x="2494" y="601"/>
                      <a:pt x="2504" y="585"/>
                      <a:pt x="2516" y="581"/>
                    </a:cubicBezTo>
                    <a:cubicBezTo>
                      <a:pt x="2532" y="576"/>
                      <a:pt x="2548" y="575"/>
                      <a:pt x="2564" y="572"/>
                    </a:cubicBezTo>
                    <a:cubicBezTo>
                      <a:pt x="2593" y="541"/>
                      <a:pt x="2607" y="557"/>
                      <a:pt x="2631" y="533"/>
                    </a:cubicBezTo>
                    <a:cubicBezTo>
                      <a:pt x="2709" y="506"/>
                      <a:pt x="2718" y="498"/>
                      <a:pt x="2794" y="514"/>
                    </a:cubicBezTo>
                    <a:cubicBezTo>
                      <a:pt x="2807" y="517"/>
                      <a:pt x="2820" y="520"/>
                      <a:pt x="2833" y="524"/>
                    </a:cubicBezTo>
                    <a:cubicBezTo>
                      <a:pt x="2842" y="527"/>
                      <a:pt x="2861" y="533"/>
                      <a:pt x="2861" y="533"/>
                    </a:cubicBezTo>
                    <a:lnTo>
                      <a:pt x="3027" y="597"/>
                    </a:lnTo>
                    <a:cubicBezTo>
                      <a:pt x="3071" y="657"/>
                      <a:pt x="3144" y="629"/>
                      <a:pt x="3217" y="629"/>
                    </a:cubicBezTo>
                    <a:lnTo>
                      <a:pt x="3435" y="506"/>
                    </a:lnTo>
                    <a:cubicBezTo>
                      <a:pt x="3461" y="499"/>
                      <a:pt x="3487" y="486"/>
                      <a:pt x="3514" y="485"/>
                    </a:cubicBezTo>
                    <a:cubicBezTo>
                      <a:pt x="3538" y="485"/>
                      <a:pt x="3584" y="555"/>
                      <a:pt x="3601" y="572"/>
                    </a:cubicBezTo>
                    <a:cubicBezTo>
                      <a:pt x="3613" y="609"/>
                      <a:pt x="3609" y="621"/>
                      <a:pt x="3581" y="648"/>
                    </a:cubicBezTo>
                    <a:cubicBezTo>
                      <a:pt x="3562" y="711"/>
                      <a:pt x="3589" y="650"/>
                      <a:pt x="3543" y="687"/>
                    </a:cubicBezTo>
                    <a:cubicBezTo>
                      <a:pt x="3508" y="716"/>
                      <a:pt x="3542" y="725"/>
                      <a:pt x="3505" y="706"/>
                    </a:cubicBezTo>
                    <a:lnTo>
                      <a:pt x="3344" y="778"/>
                    </a:lnTo>
                    <a:lnTo>
                      <a:pt x="3253" y="869"/>
                    </a:lnTo>
                    <a:cubicBezTo>
                      <a:pt x="3190" y="932"/>
                      <a:pt x="3220" y="907"/>
                      <a:pt x="3197" y="975"/>
                    </a:cubicBezTo>
                    <a:cubicBezTo>
                      <a:pt x="3184" y="1059"/>
                      <a:pt x="3159" y="1144"/>
                      <a:pt x="3130" y="1224"/>
                    </a:cubicBezTo>
                    <a:cubicBezTo>
                      <a:pt x="3127" y="1243"/>
                      <a:pt x="3125" y="1263"/>
                      <a:pt x="3121" y="1282"/>
                    </a:cubicBezTo>
                    <a:cubicBezTo>
                      <a:pt x="3110" y="1336"/>
                      <a:pt x="3111" y="1330"/>
                      <a:pt x="3111" y="1311"/>
                    </a:cubicBezTo>
                    <a:cubicBezTo>
                      <a:pt x="3209" y="1460"/>
                      <a:pt x="3220" y="1401"/>
                      <a:pt x="3207" y="1464"/>
                    </a:cubicBezTo>
                    <a:lnTo>
                      <a:pt x="3253" y="1504"/>
                    </a:lnTo>
                    <a:lnTo>
                      <a:pt x="3299" y="1549"/>
                    </a:lnTo>
                    <a:lnTo>
                      <a:pt x="3299" y="1640"/>
                    </a:lnTo>
                    <a:lnTo>
                      <a:pt x="3117" y="1549"/>
                    </a:lnTo>
                    <a:lnTo>
                      <a:pt x="2936" y="1459"/>
                    </a:lnTo>
                    <a:lnTo>
                      <a:pt x="2709" y="1459"/>
                    </a:lnTo>
                    <a:lnTo>
                      <a:pt x="2437" y="1504"/>
                    </a:lnTo>
                    <a:lnTo>
                      <a:pt x="2391" y="1549"/>
                    </a:lnTo>
                    <a:lnTo>
                      <a:pt x="2301" y="1595"/>
                    </a:lnTo>
                    <a:lnTo>
                      <a:pt x="2210" y="1595"/>
                    </a:lnTo>
                    <a:cubicBezTo>
                      <a:pt x="2164" y="1548"/>
                      <a:pt x="2184" y="1539"/>
                      <a:pt x="2161" y="1551"/>
                    </a:cubicBezTo>
                    <a:lnTo>
                      <a:pt x="2119" y="1504"/>
                    </a:lnTo>
                    <a:cubicBezTo>
                      <a:pt x="2103" y="1522"/>
                      <a:pt x="2088" y="1541"/>
                      <a:pt x="2065" y="1551"/>
                    </a:cubicBezTo>
                    <a:cubicBezTo>
                      <a:pt x="2019" y="1570"/>
                      <a:pt x="1987" y="1570"/>
                      <a:pt x="1949" y="1608"/>
                    </a:cubicBezTo>
                    <a:cubicBezTo>
                      <a:pt x="1935" y="1622"/>
                      <a:pt x="1926" y="1643"/>
                      <a:pt x="1911" y="1656"/>
                    </a:cubicBezTo>
                    <a:cubicBezTo>
                      <a:pt x="1893" y="1671"/>
                      <a:pt x="1853" y="1695"/>
                      <a:pt x="1853" y="1695"/>
                    </a:cubicBezTo>
                    <a:cubicBezTo>
                      <a:pt x="1847" y="1705"/>
                      <a:pt x="1843" y="1717"/>
                      <a:pt x="1834" y="1724"/>
                    </a:cubicBezTo>
                    <a:cubicBezTo>
                      <a:pt x="1826" y="1730"/>
                      <a:pt x="1805" y="1733"/>
                      <a:pt x="1805" y="1733"/>
                    </a:cubicBezTo>
                    <a:cubicBezTo>
                      <a:pt x="1706" y="1746"/>
                      <a:pt x="1608" y="1755"/>
                      <a:pt x="1508" y="1762"/>
                    </a:cubicBezTo>
                    <a:cubicBezTo>
                      <a:pt x="1292" y="1833"/>
                      <a:pt x="1258" y="1820"/>
                      <a:pt x="970" y="1820"/>
                    </a:cubicBezTo>
                    <a:lnTo>
                      <a:pt x="940" y="1912"/>
                    </a:lnTo>
                    <a:lnTo>
                      <a:pt x="895" y="2003"/>
                    </a:lnTo>
                    <a:lnTo>
                      <a:pt x="849" y="2094"/>
                    </a:lnTo>
                    <a:lnTo>
                      <a:pt x="759" y="2230"/>
                    </a:lnTo>
                    <a:lnTo>
                      <a:pt x="577" y="2048"/>
                    </a:lnTo>
                    <a:lnTo>
                      <a:pt x="486" y="2048"/>
                    </a:lnTo>
                    <a:lnTo>
                      <a:pt x="441" y="2139"/>
                    </a:lnTo>
                    <a:lnTo>
                      <a:pt x="396" y="2048"/>
                    </a:lnTo>
                    <a:lnTo>
                      <a:pt x="396" y="1958"/>
                    </a:lnTo>
                    <a:cubicBezTo>
                      <a:pt x="179" y="1964"/>
                      <a:pt x="236" y="1916"/>
                      <a:pt x="173" y="1973"/>
                    </a:cubicBezTo>
                    <a:lnTo>
                      <a:pt x="124" y="2003"/>
                    </a:lnTo>
                    <a:lnTo>
                      <a:pt x="78" y="2048"/>
                    </a:lnTo>
                    <a:cubicBezTo>
                      <a:pt x="68" y="2049"/>
                      <a:pt x="57" y="2056"/>
                      <a:pt x="49" y="2050"/>
                    </a:cubicBezTo>
                    <a:cubicBezTo>
                      <a:pt x="41" y="2044"/>
                      <a:pt x="44" y="2030"/>
                      <a:pt x="39" y="2021"/>
                    </a:cubicBezTo>
                    <a:cubicBezTo>
                      <a:pt x="0" y="1943"/>
                      <a:pt x="36" y="2038"/>
                      <a:pt x="10" y="1964"/>
                    </a:cubicBezTo>
                    <a:cubicBezTo>
                      <a:pt x="16" y="1903"/>
                      <a:pt x="20" y="1856"/>
                      <a:pt x="39" y="1800"/>
                    </a:cubicBezTo>
                    <a:cubicBezTo>
                      <a:pt x="42" y="1765"/>
                      <a:pt x="38" y="1728"/>
                      <a:pt x="49" y="1695"/>
                    </a:cubicBezTo>
                    <a:cubicBezTo>
                      <a:pt x="52" y="1686"/>
                      <a:pt x="69" y="1690"/>
                      <a:pt x="77" y="1685"/>
                    </a:cubicBezTo>
                    <a:cubicBezTo>
                      <a:pt x="95" y="1674"/>
                      <a:pt x="105" y="1653"/>
                      <a:pt x="116" y="1637"/>
                    </a:cubicBezTo>
                    <a:cubicBezTo>
                      <a:pt x="148" y="1534"/>
                      <a:pt x="262" y="1524"/>
                      <a:pt x="356" y="1512"/>
                    </a:cubicBezTo>
                    <a:cubicBezTo>
                      <a:pt x="484" y="1472"/>
                      <a:pt x="327" y="1489"/>
                      <a:pt x="586" y="1474"/>
                    </a:cubicBezTo>
                    <a:cubicBezTo>
                      <a:pt x="652" y="1431"/>
                      <a:pt x="628" y="1453"/>
                      <a:pt x="663" y="1416"/>
                    </a:cubicBezTo>
                    <a:cubicBezTo>
                      <a:pt x="673" y="1388"/>
                      <a:pt x="692" y="1330"/>
                      <a:pt x="692" y="1330"/>
                    </a:cubicBezTo>
                    <a:cubicBezTo>
                      <a:pt x="689" y="1266"/>
                      <a:pt x="693" y="1201"/>
                      <a:pt x="682" y="1138"/>
                    </a:cubicBezTo>
                    <a:cubicBezTo>
                      <a:pt x="675" y="1101"/>
                      <a:pt x="589" y="1078"/>
                      <a:pt x="567" y="1071"/>
                    </a:cubicBezTo>
                    <a:cubicBezTo>
                      <a:pt x="548" y="1065"/>
                      <a:pt x="509" y="1052"/>
                      <a:pt x="509" y="1052"/>
                    </a:cubicBezTo>
                    <a:cubicBezTo>
                      <a:pt x="497" y="1012"/>
                      <a:pt x="505" y="932"/>
                      <a:pt x="481" y="908"/>
                    </a:cubicBezTo>
                    <a:cubicBezTo>
                      <a:pt x="447" y="874"/>
                      <a:pt x="385" y="838"/>
                      <a:pt x="337" y="821"/>
                    </a:cubicBezTo>
                    <a:cubicBezTo>
                      <a:pt x="322" y="807"/>
                      <a:pt x="314" y="786"/>
                      <a:pt x="298" y="773"/>
                    </a:cubicBezTo>
                    <a:cubicBezTo>
                      <a:pt x="282" y="761"/>
                      <a:pt x="260" y="761"/>
                      <a:pt x="241" y="754"/>
                    </a:cubicBezTo>
                    <a:cubicBezTo>
                      <a:pt x="227" y="713"/>
                      <a:pt x="219" y="704"/>
                      <a:pt x="241" y="648"/>
                    </a:cubicBezTo>
                    <a:cubicBezTo>
                      <a:pt x="242" y="645"/>
                      <a:pt x="311" y="596"/>
                      <a:pt x="317" y="591"/>
                    </a:cubicBezTo>
                    <a:cubicBezTo>
                      <a:pt x="365" y="553"/>
                      <a:pt x="413" y="515"/>
                      <a:pt x="461" y="476"/>
                    </a:cubicBezTo>
                    <a:cubicBezTo>
                      <a:pt x="468" y="470"/>
                      <a:pt x="473" y="460"/>
                      <a:pt x="481" y="456"/>
                    </a:cubicBezTo>
                    <a:cubicBezTo>
                      <a:pt x="499" y="447"/>
                      <a:pt x="521" y="448"/>
                      <a:pt x="538" y="437"/>
                    </a:cubicBezTo>
                    <a:cubicBezTo>
                      <a:pt x="567" y="418"/>
                      <a:pt x="592" y="391"/>
                      <a:pt x="625" y="380"/>
                    </a:cubicBezTo>
                    <a:cubicBezTo>
                      <a:pt x="644" y="373"/>
                      <a:pt x="682" y="360"/>
                      <a:pt x="682" y="360"/>
                    </a:cubicBezTo>
                    <a:cubicBezTo>
                      <a:pt x="711" y="332"/>
                      <a:pt x="731" y="315"/>
                      <a:pt x="769" y="303"/>
                    </a:cubicBezTo>
                    <a:cubicBezTo>
                      <a:pt x="813" y="235"/>
                      <a:pt x="788" y="258"/>
                      <a:pt x="836" y="226"/>
                    </a:cubicBezTo>
                    <a:cubicBezTo>
                      <a:pt x="880" y="158"/>
                      <a:pt x="855" y="181"/>
                      <a:pt x="903" y="149"/>
                    </a:cubicBezTo>
                    <a:cubicBezTo>
                      <a:pt x="909" y="139"/>
                      <a:pt x="913" y="128"/>
                      <a:pt x="922" y="120"/>
                    </a:cubicBezTo>
                    <a:cubicBezTo>
                      <a:pt x="939" y="105"/>
                      <a:pt x="980" y="82"/>
                      <a:pt x="980" y="82"/>
                    </a:cubicBezTo>
                    <a:cubicBezTo>
                      <a:pt x="986" y="72"/>
                      <a:pt x="990" y="61"/>
                      <a:pt x="999" y="53"/>
                    </a:cubicBezTo>
                    <a:cubicBezTo>
                      <a:pt x="1060" y="0"/>
                      <a:pt x="1057" y="40"/>
                      <a:pt x="1057" y="5"/>
                    </a:cubicBezTo>
                    <a:lnTo>
                      <a:pt x="1439" y="189"/>
                    </a:lnTo>
                    <a:lnTo>
                      <a:pt x="1711" y="279"/>
                    </a:lnTo>
                    <a:lnTo>
                      <a:pt x="1938" y="325"/>
                    </a:lnTo>
                    <a:close/>
                  </a:path>
                </a:pathLst>
              </a:custGeom>
              <a:noFill/>
              <a:ln w="381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665960" y="3097080"/>
                <a:ext cx="101880" cy="264600"/>
              </a:xfrm>
              <a:custGeom>
                <a:avLst/>
                <a:gdLst/>
                <a:ahLst/>
                <a:rect l="l" t="t" r="r" b="b"/>
                <a:pathLst>
                  <a:path w="136" h="499">
                    <a:moveTo>
                      <a:pt x="136" y="499"/>
                    </a:moveTo>
                    <a:lnTo>
                      <a:pt x="90" y="408"/>
                    </a:lnTo>
                    <a:lnTo>
                      <a:pt x="90" y="318"/>
                    </a:lnTo>
                    <a:lnTo>
                      <a:pt x="45" y="182"/>
                    </a:lnTo>
                    <a:lnTo>
                      <a:pt x="45" y="91"/>
                    </a:lnTo>
                    <a:lnTo>
                      <a:pt x="0" y="0"/>
                    </a:lnTo>
                  </a:path>
                </a:pathLst>
              </a:custGeom>
              <a:noFill/>
              <a:ln w="316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50680" y="4541760"/>
                <a:ext cx="153000" cy="120240"/>
              </a:xfrm>
              <a:custGeom>
                <a:avLst/>
                <a:gdLst/>
                <a:ahLst/>
                <a:rect l="l" t="t" r="r" b="b"/>
                <a:pathLst>
                  <a:path w="273" h="227">
                    <a:moveTo>
                      <a:pt x="273" y="0"/>
                    </a:moveTo>
                    <a:lnTo>
                      <a:pt x="136" y="136"/>
                    </a:lnTo>
                    <a:lnTo>
                      <a:pt x="0" y="227"/>
                    </a:lnTo>
                  </a:path>
                </a:pathLst>
              </a:custGeom>
              <a:noFill/>
              <a:ln w="316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4768920" y="3635280"/>
              <a:ext cx="5936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3300"/>
                  </a:solidFill>
                  <a:latin typeface="Bradley Hand ITC"/>
                </a:rPr>
                <a:t>UPM</a:t>
              </a:r>
              <a:endParaRPr b="0" lang="en-US" sz="1400" spc="-1" strike="noStrike">
                <a:solidFill>
                  <a:srgbClr val="29292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3300"/>
                  </a:solidFill>
                  <a:latin typeface="Bradley Hand ITC"/>
                </a:rPr>
                <a:t>5</a:t>
              </a: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447920" y="1719360"/>
            <a:ext cx="7176600" cy="4734000"/>
            <a:chOff x="1447920" y="1719360"/>
            <a:chExt cx="7176600" cy="4734000"/>
          </a:xfrm>
        </p:grpSpPr>
        <p:graphicFrame>
          <p:nvGraphicFramePr>
            <p:cNvPr id="184" name=""/>
            <p:cNvGraphicFramePr/>
            <p:nvPr/>
          </p:nvGraphicFramePr>
          <p:xfrm>
            <a:off x="1447920" y="1719360"/>
            <a:ext cx="7176600" cy="4734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7920" y="1719360"/>
                      <a:ext cx="7176600" cy="4734000"/>
                    </a:xfrm>
                    <a:prstGeom prst="rect">
                      <a:avLst/>
                    </a:prstGeom>
                    <a:ln w="31680">
                      <a:solidFill>
                        <a:srgbClr val="29292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86" name=""/>
            <p:cNvSpPr/>
            <p:nvPr/>
          </p:nvSpPr>
          <p:spPr>
            <a:xfrm>
              <a:off x="2405880" y="2529000"/>
              <a:ext cx="6213600" cy="3540240"/>
            </a:xfrm>
            <a:custGeom>
              <a:avLst/>
              <a:gdLst/>
              <a:ahLst/>
              <a:rect l="l" t="t" r="r" b="b"/>
              <a:pathLst>
                <a:path w="3613" h="2230">
                  <a:moveTo>
                    <a:pt x="1938" y="325"/>
                  </a:moveTo>
                  <a:lnTo>
                    <a:pt x="2210" y="461"/>
                  </a:lnTo>
                  <a:lnTo>
                    <a:pt x="2437" y="551"/>
                  </a:lnTo>
                  <a:cubicBezTo>
                    <a:pt x="2452" y="566"/>
                    <a:pt x="2462" y="589"/>
                    <a:pt x="2482" y="597"/>
                  </a:cubicBezTo>
                  <a:cubicBezTo>
                    <a:pt x="2494" y="601"/>
                    <a:pt x="2504" y="585"/>
                    <a:pt x="2516" y="581"/>
                  </a:cubicBezTo>
                  <a:cubicBezTo>
                    <a:pt x="2532" y="576"/>
                    <a:pt x="2548" y="575"/>
                    <a:pt x="2564" y="572"/>
                  </a:cubicBezTo>
                  <a:cubicBezTo>
                    <a:pt x="2593" y="541"/>
                    <a:pt x="2607" y="557"/>
                    <a:pt x="2631" y="533"/>
                  </a:cubicBezTo>
                  <a:cubicBezTo>
                    <a:pt x="2709" y="506"/>
                    <a:pt x="2718" y="498"/>
                    <a:pt x="2794" y="514"/>
                  </a:cubicBezTo>
                  <a:cubicBezTo>
                    <a:pt x="2807" y="517"/>
                    <a:pt x="2820" y="520"/>
                    <a:pt x="2833" y="524"/>
                  </a:cubicBezTo>
                  <a:cubicBezTo>
                    <a:pt x="2842" y="527"/>
                    <a:pt x="2861" y="533"/>
                    <a:pt x="2861" y="533"/>
                  </a:cubicBezTo>
                  <a:lnTo>
                    <a:pt x="3027" y="597"/>
                  </a:lnTo>
                  <a:cubicBezTo>
                    <a:pt x="3071" y="657"/>
                    <a:pt x="3144" y="629"/>
                    <a:pt x="3217" y="629"/>
                  </a:cubicBezTo>
                  <a:lnTo>
                    <a:pt x="3435" y="506"/>
                  </a:lnTo>
                  <a:cubicBezTo>
                    <a:pt x="3461" y="499"/>
                    <a:pt x="3487" y="486"/>
                    <a:pt x="3514" y="485"/>
                  </a:cubicBezTo>
                  <a:cubicBezTo>
                    <a:pt x="3538" y="485"/>
                    <a:pt x="3584" y="555"/>
                    <a:pt x="3601" y="572"/>
                  </a:cubicBezTo>
                  <a:cubicBezTo>
                    <a:pt x="3613" y="609"/>
                    <a:pt x="3609" y="621"/>
                    <a:pt x="3581" y="648"/>
                  </a:cubicBezTo>
                  <a:cubicBezTo>
                    <a:pt x="3562" y="711"/>
                    <a:pt x="3589" y="650"/>
                    <a:pt x="3543" y="687"/>
                  </a:cubicBezTo>
                  <a:cubicBezTo>
                    <a:pt x="3508" y="716"/>
                    <a:pt x="3542" y="725"/>
                    <a:pt x="3505" y="706"/>
                  </a:cubicBezTo>
                  <a:lnTo>
                    <a:pt x="3344" y="778"/>
                  </a:lnTo>
                  <a:lnTo>
                    <a:pt x="3253" y="869"/>
                  </a:lnTo>
                  <a:cubicBezTo>
                    <a:pt x="3190" y="932"/>
                    <a:pt x="3220" y="907"/>
                    <a:pt x="3197" y="975"/>
                  </a:cubicBezTo>
                  <a:cubicBezTo>
                    <a:pt x="3184" y="1059"/>
                    <a:pt x="3159" y="1144"/>
                    <a:pt x="3130" y="1224"/>
                  </a:cubicBezTo>
                  <a:cubicBezTo>
                    <a:pt x="3127" y="1243"/>
                    <a:pt x="3125" y="1263"/>
                    <a:pt x="3121" y="1282"/>
                  </a:cubicBezTo>
                  <a:cubicBezTo>
                    <a:pt x="3110" y="1336"/>
                    <a:pt x="3111" y="1330"/>
                    <a:pt x="3111" y="1311"/>
                  </a:cubicBezTo>
                  <a:cubicBezTo>
                    <a:pt x="3209" y="1460"/>
                    <a:pt x="3220" y="1401"/>
                    <a:pt x="3207" y="1464"/>
                  </a:cubicBezTo>
                  <a:lnTo>
                    <a:pt x="3253" y="1504"/>
                  </a:lnTo>
                  <a:lnTo>
                    <a:pt x="3299" y="1549"/>
                  </a:lnTo>
                  <a:lnTo>
                    <a:pt x="3299" y="1640"/>
                  </a:lnTo>
                  <a:lnTo>
                    <a:pt x="3117" y="1549"/>
                  </a:lnTo>
                  <a:lnTo>
                    <a:pt x="2936" y="1459"/>
                  </a:lnTo>
                  <a:lnTo>
                    <a:pt x="2709" y="1459"/>
                  </a:lnTo>
                  <a:lnTo>
                    <a:pt x="2437" y="1504"/>
                  </a:lnTo>
                  <a:lnTo>
                    <a:pt x="2391" y="1549"/>
                  </a:lnTo>
                  <a:lnTo>
                    <a:pt x="2301" y="1595"/>
                  </a:lnTo>
                  <a:lnTo>
                    <a:pt x="2210" y="1595"/>
                  </a:lnTo>
                  <a:cubicBezTo>
                    <a:pt x="2164" y="1548"/>
                    <a:pt x="2184" y="1539"/>
                    <a:pt x="2161" y="1551"/>
                  </a:cubicBezTo>
                  <a:lnTo>
                    <a:pt x="2119" y="1504"/>
                  </a:lnTo>
                  <a:cubicBezTo>
                    <a:pt x="2103" y="1522"/>
                    <a:pt x="2088" y="1541"/>
                    <a:pt x="2065" y="1551"/>
                  </a:cubicBezTo>
                  <a:cubicBezTo>
                    <a:pt x="2019" y="1570"/>
                    <a:pt x="1987" y="1570"/>
                    <a:pt x="1949" y="1608"/>
                  </a:cubicBezTo>
                  <a:cubicBezTo>
                    <a:pt x="1935" y="1622"/>
                    <a:pt x="1926" y="1643"/>
                    <a:pt x="1911" y="1656"/>
                  </a:cubicBezTo>
                  <a:cubicBezTo>
                    <a:pt x="1893" y="1671"/>
                    <a:pt x="1853" y="1695"/>
                    <a:pt x="1853" y="1695"/>
                  </a:cubicBezTo>
                  <a:cubicBezTo>
                    <a:pt x="1847" y="1705"/>
                    <a:pt x="1843" y="1717"/>
                    <a:pt x="1834" y="1724"/>
                  </a:cubicBezTo>
                  <a:cubicBezTo>
                    <a:pt x="1826" y="1730"/>
                    <a:pt x="1805" y="1733"/>
                    <a:pt x="1805" y="1733"/>
                  </a:cubicBezTo>
                  <a:cubicBezTo>
                    <a:pt x="1706" y="1746"/>
                    <a:pt x="1608" y="1755"/>
                    <a:pt x="1508" y="1762"/>
                  </a:cubicBezTo>
                  <a:cubicBezTo>
                    <a:pt x="1292" y="1833"/>
                    <a:pt x="1258" y="1820"/>
                    <a:pt x="970" y="1820"/>
                  </a:cubicBezTo>
                  <a:lnTo>
                    <a:pt x="940" y="1912"/>
                  </a:lnTo>
                  <a:lnTo>
                    <a:pt x="895" y="2003"/>
                  </a:lnTo>
                  <a:lnTo>
                    <a:pt x="849" y="2094"/>
                  </a:lnTo>
                  <a:lnTo>
                    <a:pt x="759" y="2230"/>
                  </a:lnTo>
                  <a:lnTo>
                    <a:pt x="577" y="2048"/>
                  </a:lnTo>
                  <a:lnTo>
                    <a:pt x="486" y="2048"/>
                  </a:lnTo>
                  <a:lnTo>
                    <a:pt x="441" y="2139"/>
                  </a:lnTo>
                  <a:lnTo>
                    <a:pt x="396" y="2048"/>
                  </a:lnTo>
                  <a:lnTo>
                    <a:pt x="396" y="1958"/>
                  </a:lnTo>
                  <a:cubicBezTo>
                    <a:pt x="179" y="1964"/>
                    <a:pt x="236" y="1916"/>
                    <a:pt x="173" y="1973"/>
                  </a:cubicBezTo>
                  <a:lnTo>
                    <a:pt x="124" y="2003"/>
                  </a:lnTo>
                  <a:lnTo>
                    <a:pt x="78" y="2048"/>
                  </a:lnTo>
                  <a:cubicBezTo>
                    <a:pt x="68" y="2049"/>
                    <a:pt x="57" y="2056"/>
                    <a:pt x="49" y="2050"/>
                  </a:cubicBezTo>
                  <a:cubicBezTo>
                    <a:pt x="41" y="2044"/>
                    <a:pt x="44" y="2030"/>
                    <a:pt x="39" y="2021"/>
                  </a:cubicBezTo>
                  <a:cubicBezTo>
                    <a:pt x="0" y="1943"/>
                    <a:pt x="36" y="2038"/>
                    <a:pt x="10" y="1964"/>
                  </a:cubicBezTo>
                  <a:cubicBezTo>
                    <a:pt x="16" y="1903"/>
                    <a:pt x="20" y="1856"/>
                    <a:pt x="39" y="1800"/>
                  </a:cubicBezTo>
                  <a:cubicBezTo>
                    <a:pt x="42" y="1765"/>
                    <a:pt x="38" y="1728"/>
                    <a:pt x="49" y="1695"/>
                  </a:cubicBezTo>
                  <a:cubicBezTo>
                    <a:pt x="52" y="1686"/>
                    <a:pt x="69" y="1690"/>
                    <a:pt x="77" y="1685"/>
                  </a:cubicBezTo>
                  <a:cubicBezTo>
                    <a:pt x="95" y="1674"/>
                    <a:pt x="105" y="1653"/>
                    <a:pt x="116" y="1637"/>
                  </a:cubicBezTo>
                  <a:cubicBezTo>
                    <a:pt x="148" y="1534"/>
                    <a:pt x="262" y="1524"/>
                    <a:pt x="356" y="1512"/>
                  </a:cubicBezTo>
                  <a:cubicBezTo>
                    <a:pt x="484" y="1472"/>
                    <a:pt x="327" y="1489"/>
                    <a:pt x="586" y="1474"/>
                  </a:cubicBezTo>
                  <a:cubicBezTo>
                    <a:pt x="652" y="1431"/>
                    <a:pt x="628" y="1453"/>
                    <a:pt x="663" y="1416"/>
                  </a:cubicBezTo>
                  <a:cubicBezTo>
                    <a:pt x="673" y="1388"/>
                    <a:pt x="692" y="1330"/>
                    <a:pt x="692" y="1330"/>
                  </a:cubicBezTo>
                  <a:cubicBezTo>
                    <a:pt x="689" y="1266"/>
                    <a:pt x="693" y="1201"/>
                    <a:pt x="682" y="1138"/>
                  </a:cubicBezTo>
                  <a:cubicBezTo>
                    <a:pt x="675" y="1101"/>
                    <a:pt x="589" y="1078"/>
                    <a:pt x="567" y="1071"/>
                  </a:cubicBezTo>
                  <a:cubicBezTo>
                    <a:pt x="548" y="1065"/>
                    <a:pt x="509" y="1052"/>
                    <a:pt x="509" y="1052"/>
                  </a:cubicBezTo>
                  <a:cubicBezTo>
                    <a:pt x="497" y="1012"/>
                    <a:pt x="505" y="932"/>
                    <a:pt x="481" y="908"/>
                  </a:cubicBezTo>
                  <a:cubicBezTo>
                    <a:pt x="447" y="874"/>
                    <a:pt x="385" y="838"/>
                    <a:pt x="337" y="821"/>
                  </a:cubicBezTo>
                  <a:cubicBezTo>
                    <a:pt x="322" y="807"/>
                    <a:pt x="314" y="786"/>
                    <a:pt x="298" y="773"/>
                  </a:cubicBezTo>
                  <a:cubicBezTo>
                    <a:pt x="282" y="761"/>
                    <a:pt x="260" y="761"/>
                    <a:pt x="241" y="754"/>
                  </a:cubicBezTo>
                  <a:cubicBezTo>
                    <a:pt x="227" y="713"/>
                    <a:pt x="219" y="704"/>
                    <a:pt x="241" y="648"/>
                  </a:cubicBezTo>
                  <a:cubicBezTo>
                    <a:pt x="242" y="645"/>
                    <a:pt x="311" y="596"/>
                    <a:pt x="317" y="591"/>
                  </a:cubicBezTo>
                  <a:cubicBezTo>
                    <a:pt x="365" y="553"/>
                    <a:pt x="413" y="515"/>
                    <a:pt x="461" y="476"/>
                  </a:cubicBezTo>
                  <a:cubicBezTo>
                    <a:pt x="468" y="470"/>
                    <a:pt x="473" y="460"/>
                    <a:pt x="481" y="456"/>
                  </a:cubicBezTo>
                  <a:cubicBezTo>
                    <a:pt x="499" y="447"/>
                    <a:pt x="521" y="448"/>
                    <a:pt x="538" y="437"/>
                  </a:cubicBezTo>
                  <a:cubicBezTo>
                    <a:pt x="567" y="418"/>
                    <a:pt x="592" y="391"/>
                    <a:pt x="625" y="380"/>
                  </a:cubicBezTo>
                  <a:cubicBezTo>
                    <a:pt x="644" y="373"/>
                    <a:pt x="682" y="360"/>
                    <a:pt x="682" y="360"/>
                  </a:cubicBezTo>
                  <a:cubicBezTo>
                    <a:pt x="711" y="332"/>
                    <a:pt x="731" y="315"/>
                    <a:pt x="769" y="303"/>
                  </a:cubicBezTo>
                  <a:cubicBezTo>
                    <a:pt x="813" y="235"/>
                    <a:pt x="788" y="258"/>
                    <a:pt x="836" y="226"/>
                  </a:cubicBezTo>
                  <a:cubicBezTo>
                    <a:pt x="880" y="158"/>
                    <a:pt x="855" y="181"/>
                    <a:pt x="903" y="149"/>
                  </a:cubicBezTo>
                  <a:cubicBezTo>
                    <a:pt x="909" y="139"/>
                    <a:pt x="913" y="128"/>
                    <a:pt x="922" y="120"/>
                  </a:cubicBezTo>
                  <a:cubicBezTo>
                    <a:pt x="939" y="105"/>
                    <a:pt x="980" y="82"/>
                    <a:pt x="980" y="82"/>
                  </a:cubicBezTo>
                  <a:cubicBezTo>
                    <a:pt x="986" y="72"/>
                    <a:pt x="990" y="61"/>
                    <a:pt x="999" y="53"/>
                  </a:cubicBezTo>
                  <a:cubicBezTo>
                    <a:pt x="1060" y="0"/>
                    <a:pt x="1057" y="40"/>
                    <a:pt x="1057" y="5"/>
                  </a:cubicBezTo>
                  <a:lnTo>
                    <a:pt x="1439" y="189"/>
                  </a:lnTo>
                  <a:lnTo>
                    <a:pt x="1711" y="279"/>
                  </a:lnTo>
                  <a:lnTo>
                    <a:pt x="1938" y="325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900600" y="1748160"/>
              <a:ext cx="312480" cy="792000"/>
            </a:xfrm>
            <a:custGeom>
              <a:avLst/>
              <a:gdLst/>
              <a:ahLst/>
              <a:rect l="l" t="t" r="r" b="b"/>
              <a:pathLst>
                <a:path w="136" h="499">
                  <a:moveTo>
                    <a:pt x="136" y="499"/>
                  </a:moveTo>
                  <a:lnTo>
                    <a:pt x="90" y="408"/>
                  </a:lnTo>
                  <a:lnTo>
                    <a:pt x="90" y="318"/>
                  </a:lnTo>
                  <a:lnTo>
                    <a:pt x="45" y="182"/>
                  </a:lnTo>
                  <a:lnTo>
                    <a:pt x="45" y="91"/>
                  </a:ln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41800" y="6069240"/>
              <a:ext cx="469440" cy="360360"/>
            </a:xfrm>
            <a:custGeom>
              <a:avLst/>
              <a:gdLst/>
              <a:ahLst/>
              <a:rect l="l" t="t" r="r" b="b"/>
              <a:pathLst>
                <a:path w="273" h="227">
                  <a:moveTo>
                    <a:pt x="273" y="0"/>
                  </a:moveTo>
                  <a:lnTo>
                    <a:pt x="136" y="136"/>
                  </a:lnTo>
                  <a:lnTo>
                    <a:pt x="0" y="227"/>
                  </a:lnTo>
                </a:path>
              </a:pathLst>
            </a:custGeom>
            <a:noFill/>
            <a:ln w="316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graphicFrame>
        <p:nvGraphicFramePr>
          <p:cNvPr id="189" name=""/>
          <p:cNvGraphicFramePr/>
          <p:nvPr/>
        </p:nvGraphicFramePr>
        <p:xfrm>
          <a:off x="6597720" y="1719360"/>
          <a:ext cx="1949400" cy="1428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>
                    <a:alphaModFix amt="82000"/>
                  </a:blip>
                  <a:stretch/>
                </p:blipFill>
                <p:spPr>
                  <a:xfrm>
                    <a:off x="6597720" y="1719360"/>
                    <a:ext cx="1949400" cy="14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4098960" y="3073320"/>
            <a:ext cx="1671480" cy="2319480"/>
          </a:xfrm>
          <a:custGeom>
            <a:avLst/>
            <a:gdLst/>
            <a:ahLst/>
            <a:rect l="l" t="t" r="r" b="b"/>
            <a:pathLst>
              <a:path w="1018" h="1461">
                <a:moveTo>
                  <a:pt x="1018" y="0"/>
                </a:moveTo>
                <a:lnTo>
                  <a:pt x="927" y="181"/>
                </a:lnTo>
                <a:lnTo>
                  <a:pt x="836" y="317"/>
                </a:lnTo>
                <a:lnTo>
                  <a:pt x="745" y="408"/>
                </a:lnTo>
                <a:lnTo>
                  <a:pt x="655" y="408"/>
                </a:lnTo>
                <a:cubicBezTo>
                  <a:pt x="647" y="415"/>
                  <a:pt x="640" y="424"/>
                  <a:pt x="630" y="429"/>
                </a:cubicBezTo>
                <a:cubicBezTo>
                  <a:pt x="619" y="435"/>
                  <a:pt x="594" y="441"/>
                  <a:pt x="594" y="441"/>
                </a:cubicBezTo>
                <a:cubicBezTo>
                  <a:pt x="572" y="463"/>
                  <a:pt x="571" y="491"/>
                  <a:pt x="540" y="501"/>
                </a:cubicBezTo>
                <a:cubicBezTo>
                  <a:pt x="491" y="575"/>
                  <a:pt x="463" y="656"/>
                  <a:pt x="438" y="741"/>
                </a:cubicBezTo>
                <a:cubicBezTo>
                  <a:pt x="428" y="774"/>
                  <a:pt x="415" y="801"/>
                  <a:pt x="402" y="831"/>
                </a:cubicBezTo>
                <a:cubicBezTo>
                  <a:pt x="397" y="843"/>
                  <a:pt x="394" y="855"/>
                  <a:pt x="390" y="867"/>
                </a:cubicBezTo>
                <a:cubicBezTo>
                  <a:pt x="388" y="873"/>
                  <a:pt x="384" y="885"/>
                  <a:pt x="384" y="885"/>
                </a:cubicBezTo>
                <a:cubicBezTo>
                  <a:pt x="376" y="974"/>
                  <a:pt x="363" y="986"/>
                  <a:pt x="330" y="1059"/>
                </a:cubicBezTo>
                <a:cubicBezTo>
                  <a:pt x="310" y="1104"/>
                  <a:pt x="302" y="1149"/>
                  <a:pt x="258" y="1179"/>
                </a:cubicBezTo>
                <a:cubicBezTo>
                  <a:pt x="245" y="1218"/>
                  <a:pt x="202" y="1246"/>
                  <a:pt x="168" y="1269"/>
                </a:cubicBezTo>
                <a:cubicBezTo>
                  <a:pt x="158" y="1300"/>
                  <a:pt x="106" y="1340"/>
                  <a:pt x="78" y="1359"/>
                </a:cubicBezTo>
                <a:cubicBezTo>
                  <a:pt x="60" y="1386"/>
                  <a:pt x="44" y="1395"/>
                  <a:pt x="24" y="1425"/>
                </a:cubicBezTo>
                <a:cubicBezTo>
                  <a:pt x="19" y="1432"/>
                  <a:pt x="6" y="1461"/>
                  <a:pt x="0" y="1461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41960" y="3444840"/>
            <a:ext cx="505080" cy="1523880"/>
          </a:xfrm>
          <a:custGeom>
            <a:avLst/>
            <a:gdLst/>
            <a:ahLst/>
            <a:rect l="l" t="t" r="r" b="b"/>
            <a:pathLst>
              <a:path w="294" h="960">
                <a:moveTo>
                  <a:pt x="294" y="0"/>
                </a:moveTo>
                <a:cubicBezTo>
                  <a:pt x="278" y="64"/>
                  <a:pt x="254" y="119"/>
                  <a:pt x="234" y="180"/>
                </a:cubicBezTo>
                <a:cubicBezTo>
                  <a:pt x="213" y="242"/>
                  <a:pt x="230" y="307"/>
                  <a:pt x="168" y="348"/>
                </a:cubicBezTo>
                <a:cubicBezTo>
                  <a:pt x="164" y="360"/>
                  <a:pt x="160" y="372"/>
                  <a:pt x="156" y="384"/>
                </a:cubicBezTo>
                <a:cubicBezTo>
                  <a:pt x="147" y="410"/>
                  <a:pt x="117" y="430"/>
                  <a:pt x="108" y="456"/>
                </a:cubicBezTo>
                <a:cubicBezTo>
                  <a:pt x="102" y="474"/>
                  <a:pt x="93" y="494"/>
                  <a:pt x="84" y="510"/>
                </a:cubicBezTo>
                <a:cubicBezTo>
                  <a:pt x="69" y="537"/>
                  <a:pt x="51" y="554"/>
                  <a:pt x="42" y="582"/>
                </a:cubicBezTo>
                <a:cubicBezTo>
                  <a:pt x="36" y="655"/>
                  <a:pt x="24" y="727"/>
                  <a:pt x="6" y="798"/>
                </a:cubicBezTo>
                <a:cubicBezTo>
                  <a:pt x="4" y="852"/>
                  <a:pt x="0" y="960"/>
                  <a:pt x="0" y="96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13320" y="4125960"/>
            <a:ext cx="1217520" cy="500040"/>
          </a:xfrm>
          <a:custGeom>
            <a:avLst/>
            <a:gdLst/>
            <a:ahLst/>
            <a:rect l="l" t="t" r="r" b="b"/>
            <a:pathLst>
              <a:path w="708" h="315">
                <a:moveTo>
                  <a:pt x="0" y="306"/>
                </a:moveTo>
                <a:cubicBezTo>
                  <a:pt x="54" y="304"/>
                  <a:pt x="112" y="315"/>
                  <a:pt x="162" y="294"/>
                </a:cubicBezTo>
                <a:cubicBezTo>
                  <a:pt x="184" y="285"/>
                  <a:pt x="228" y="270"/>
                  <a:pt x="228" y="270"/>
                </a:cubicBezTo>
                <a:cubicBezTo>
                  <a:pt x="240" y="262"/>
                  <a:pt x="252" y="254"/>
                  <a:pt x="264" y="246"/>
                </a:cubicBezTo>
                <a:cubicBezTo>
                  <a:pt x="270" y="242"/>
                  <a:pt x="282" y="234"/>
                  <a:pt x="282" y="234"/>
                </a:cubicBezTo>
                <a:cubicBezTo>
                  <a:pt x="299" y="209"/>
                  <a:pt x="324" y="208"/>
                  <a:pt x="348" y="192"/>
                </a:cubicBezTo>
                <a:cubicBezTo>
                  <a:pt x="366" y="165"/>
                  <a:pt x="392" y="165"/>
                  <a:pt x="420" y="150"/>
                </a:cubicBezTo>
                <a:cubicBezTo>
                  <a:pt x="482" y="116"/>
                  <a:pt x="433" y="134"/>
                  <a:pt x="474" y="120"/>
                </a:cubicBezTo>
                <a:cubicBezTo>
                  <a:pt x="496" y="87"/>
                  <a:pt x="473" y="113"/>
                  <a:pt x="504" y="96"/>
                </a:cubicBezTo>
                <a:cubicBezTo>
                  <a:pt x="517" y="89"/>
                  <a:pt x="540" y="72"/>
                  <a:pt x="540" y="72"/>
                </a:cubicBezTo>
                <a:cubicBezTo>
                  <a:pt x="551" y="56"/>
                  <a:pt x="551" y="50"/>
                  <a:pt x="570" y="42"/>
                </a:cubicBezTo>
                <a:cubicBezTo>
                  <a:pt x="582" y="37"/>
                  <a:pt x="606" y="30"/>
                  <a:pt x="606" y="30"/>
                </a:cubicBezTo>
                <a:cubicBezTo>
                  <a:pt x="635" y="1"/>
                  <a:pt x="665" y="0"/>
                  <a:pt x="708" y="0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03640" y="3164040"/>
            <a:ext cx="409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Times New Roman"/>
              </a:rPr>
              <a:t>SM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3300"/>
                </a:solidFill>
                <a:latin typeface="Times New Roman"/>
              </a:rPr>
              <a:t>(21)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23120" y="3735360"/>
            <a:ext cx="409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Times New Roman"/>
              </a:rPr>
              <a:t>SM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3300"/>
                </a:solidFill>
                <a:latin typeface="Times New Roman"/>
              </a:rPr>
              <a:t>(22)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27840" y="3735360"/>
            <a:ext cx="409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Times New Roman"/>
              </a:rPr>
              <a:t>SM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3300"/>
                </a:solidFill>
                <a:latin typeface="Times New Roman"/>
              </a:rPr>
              <a:t>(23)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95600" y="4816440"/>
            <a:ext cx="409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3300"/>
                </a:solidFill>
                <a:latin typeface="Times New Roman"/>
              </a:rPr>
              <a:t>SM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3300"/>
                </a:solidFill>
                <a:latin typeface="Times New Roman"/>
              </a:rPr>
              <a:t>(24)</a:t>
            </a:r>
            <a:endParaRPr b="0" lang="en-US" sz="10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3087720"/>
            <a:ext cx="2637000" cy="2347920"/>
          </a:xfrm>
          <a:custGeom>
            <a:avLst/>
            <a:gdLst/>
            <a:ahLst/>
            <a:rect l="l" t="t" r="r" b="b"/>
            <a:pathLst>
              <a:path w="1534" h="1479">
                <a:moveTo>
                  <a:pt x="1001" y="0"/>
                </a:moveTo>
                <a:cubicBezTo>
                  <a:pt x="1007" y="4"/>
                  <a:pt x="1014" y="7"/>
                  <a:pt x="1019" y="12"/>
                </a:cubicBezTo>
                <a:cubicBezTo>
                  <a:pt x="1024" y="17"/>
                  <a:pt x="1026" y="25"/>
                  <a:pt x="1031" y="30"/>
                </a:cubicBezTo>
                <a:cubicBezTo>
                  <a:pt x="1062" y="57"/>
                  <a:pt x="1082" y="60"/>
                  <a:pt x="1121" y="66"/>
                </a:cubicBezTo>
                <a:cubicBezTo>
                  <a:pt x="1167" y="89"/>
                  <a:pt x="1222" y="104"/>
                  <a:pt x="1271" y="120"/>
                </a:cubicBezTo>
                <a:cubicBezTo>
                  <a:pt x="1318" y="136"/>
                  <a:pt x="1361" y="140"/>
                  <a:pt x="1403" y="168"/>
                </a:cubicBezTo>
                <a:cubicBezTo>
                  <a:pt x="1420" y="193"/>
                  <a:pt x="1443" y="196"/>
                  <a:pt x="1469" y="210"/>
                </a:cubicBezTo>
                <a:cubicBezTo>
                  <a:pt x="1482" y="217"/>
                  <a:pt x="1505" y="234"/>
                  <a:pt x="1505" y="234"/>
                </a:cubicBezTo>
                <a:cubicBezTo>
                  <a:pt x="1534" y="277"/>
                  <a:pt x="1514" y="298"/>
                  <a:pt x="1499" y="342"/>
                </a:cubicBezTo>
                <a:cubicBezTo>
                  <a:pt x="1476" y="411"/>
                  <a:pt x="1456" y="480"/>
                  <a:pt x="1427" y="546"/>
                </a:cubicBezTo>
                <a:cubicBezTo>
                  <a:pt x="1409" y="587"/>
                  <a:pt x="1412" y="622"/>
                  <a:pt x="1373" y="648"/>
                </a:cubicBezTo>
                <a:cubicBezTo>
                  <a:pt x="1335" y="705"/>
                  <a:pt x="1298" y="766"/>
                  <a:pt x="1271" y="828"/>
                </a:cubicBezTo>
                <a:cubicBezTo>
                  <a:pt x="1267" y="836"/>
                  <a:pt x="1263" y="844"/>
                  <a:pt x="1259" y="852"/>
                </a:cubicBezTo>
                <a:cubicBezTo>
                  <a:pt x="1255" y="858"/>
                  <a:pt x="1250" y="863"/>
                  <a:pt x="1247" y="870"/>
                </a:cubicBezTo>
                <a:cubicBezTo>
                  <a:pt x="1242" y="882"/>
                  <a:pt x="1239" y="894"/>
                  <a:pt x="1235" y="906"/>
                </a:cubicBezTo>
                <a:cubicBezTo>
                  <a:pt x="1233" y="912"/>
                  <a:pt x="1229" y="924"/>
                  <a:pt x="1229" y="924"/>
                </a:cubicBezTo>
                <a:cubicBezTo>
                  <a:pt x="1224" y="1026"/>
                  <a:pt x="1216" y="1128"/>
                  <a:pt x="1211" y="1230"/>
                </a:cubicBezTo>
                <a:cubicBezTo>
                  <a:pt x="1203" y="1206"/>
                  <a:pt x="1196" y="1196"/>
                  <a:pt x="1175" y="1182"/>
                </a:cubicBezTo>
                <a:cubicBezTo>
                  <a:pt x="1130" y="1193"/>
                  <a:pt x="1146" y="1209"/>
                  <a:pt x="1121" y="1224"/>
                </a:cubicBezTo>
                <a:cubicBezTo>
                  <a:pt x="1104" y="1235"/>
                  <a:pt x="1068" y="1239"/>
                  <a:pt x="1049" y="1242"/>
                </a:cubicBezTo>
                <a:cubicBezTo>
                  <a:pt x="1037" y="1250"/>
                  <a:pt x="1025" y="1258"/>
                  <a:pt x="1013" y="1266"/>
                </a:cubicBezTo>
                <a:cubicBezTo>
                  <a:pt x="1007" y="1270"/>
                  <a:pt x="995" y="1278"/>
                  <a:pt x="995" y="1278"/>
                </a:cubicBezTo>
                <a:cubicBezTo>
                  <a:pt x="961" y="1330"/>
                  <a:pt x="1006" y="1269"/>
                  <a:pt x="965" y="1302"/>
                </a:cubicBezTo>
                <a:cubicBezTo>
                  <a:pt x="959" y="1307"/>
                  <a:pt x="958" y="1315"/>
                  <a:pt x="953" y="1320"/>
                </a:cubicBezTo>
                <a:cubicBezTo>
                  <a:pt x="948" y="1325"/>
                  <a:pt x="941" y="1328"/>
                  <a:pt x="935" y="1332"/>
                </a:cubicBezTo>
                <a:cubicBezTo>
                  <a:pt x="908" y="1372"/>
                  <a:pt x="940" y="1333"/>
                  <a:pt x="905" y="1356"/>
                </a:cubicBezTo>
                <a:cubicBezTo>
                  <a:pt x="815" y="1416"/>
                  <a:pt x="839" y="1398"/>
                  <a:pt x="683" y="1404"/>
                </a:cubicBezTo>
                <a:cubicBezTo>
                  <a:pt x="636" y="1420"/>
                  <a:pt x="589" y="1423"/>
                  <a:pt x="539" y="1428"/>
                </a:cubicBezTo>
                <a:cubicBezTo>
                  <a:pt x="464" y="1443"/>
                  <a:pt x="382" y="1454"/>
                  <a:pt x="305" y="1458"/>
                </a:cubicBezTo>
                <a:cubicBezTo>
                  <a:pt x="207" y="1463"/>
                  <a:pt x="11" y="1470"/>
                  <a:pt x="11" y="1470"/>
                </a:cubicBezTo>
                <a:cubicBezTo>
                  <a:pt x="45" y="1418"/>
                  <a:pt x="0" y="1479"/>
                  <a:pt x="41" y="1446"/>
                </a:cubicBezTo>
                <a:cubicBezTo>
                  <a:pt x="47" y="1441"/>
                  <a:pt x="48" y="1433"/>
                  <a:pt x="53" y="1428"/>
                </a:cubicBezTo>
                <a:cubicBezTo>
                  <a:pt x="58" y="1423"/>
                  <a:pt x="65" y="1420"/>
                  <a:pt x="71" y="1416"/>
                </a:cubicBezTo>
                <a:cubicBezTo>
                  <a:pt x="75" y="1410"/>
                  <a:pt x="78" y="1403"/>
                  <a:pt x="83" y="1398"/>
                </a:cubicBezTo>
                <a:cubicBezTo>
                  <a:pt x="88" y="1393"/>
                  <a:pt x="96" y="1391"/>
                  <a:pt x="101" y="1386"/>
                </a:cubicBezTo>
                <a:cubicBezTo>
                  <a:pt x="129" y="1354"/>
                  <a:pt x="121" y="1345"/>
                  <a:pt x="161" y="1332"/>
                </a:cubicBezTo>
                <a:cubicBezTo>
                  <a:pt x="182" y="1311"/>
                  <a:pt x="203" y="1288"/>
                  <a:pt x="227" y="1272"/>
                </a:cubicBezTo>
                <a:cubicBezTo>
                  <a:pt x="270" y="1208"/>
                  <a:pt x="203" y="1305"/>
                  <a:pt x="257" y="1236"/>
                </a:cubicBezTo>
                <a:cubicBezTo>
                  <a:pt x="276" y="1211"/>
                  <a:pt x="285" y="1189"/>
                  <a:pt x="299" y="1164"/>
                </a:cubicBezTo>
                <a:cubicBezTo>
                  <a:pt x="340" y="1090"/>
                  <a:pt x="386" y="1023"/>
                  <a:pt x="413" y="942"/>
                </a:cubicBezTo>
                <a:cubicBezTo>
                  <a:pt x="440" y="860"/>
                  <a:pt x="422" y="766"/>
                  <a:pt x="473" y="690"/>
                </a:cubicBezTo>
                <a:cubicBezTo>
                  <a:pt x="479" y="666"/>
                  <a:pt x="483" y="633"/>
                  <a:pt x="497" y="612"/>
                </a:cubicBezTo>
                <a:cubicBezTo>
                  <a:pt x="505" y="600"/>
                  <a:pt x="513" y="588"/>
                  <a:pt x="521" y="576"/>
                </a:cubicBezTo>
                <a:cubicBezTo>
                  <a:pt x="525" y="570"/>
                  <a:pt x="533" y="558"/>
                  <a:pt x="533" y="558"/>
                </a:cubicBezTo>
                <a:cubicBezTo>
                  <a:pt x="540" y="528"/>
                  <a:pt x="561" y="485"/>
                  <a:pt x="587" y="468"/>
                </a:cubicBezTo>
                <a:cubicBezTo>
                  <a:pt x="597" y="437"/>
                  <a:pt x="585" y="459"/>
                  <a:pt x="611" y="444"/>
                </a:cubicBezTo>
                <a:cubicBezTo>
                  <a:pt x="674" y="409"/>
                  <a:pt x="675" y="411"/>
                  <a:pt x="755" y="402"/>
                </a:cubicBezTo>
                <a:cubicBezTo>
                  <a:pt x="778" y="394"/>
                  <a:pt x="783" y="379"/>
                  <a:pt x="803" y="366"/>
                </a:cubicBezTo>
                <a:cubicBezTo>
                  <a:pt x="807" y="360"/>
                  <a:pt x="809" y="353"/>
                  <a:pt x="815" y="348"/>
                </a:cubicBezTo>
                <a:cubicBezTo>
                  <a:pt x="820" y="344"/>
                  <a:pt x="829" y="346"/>
                  <a:pt x="833" y="342"/>
                </a:cubicBezTo>
                <a:cubicBezTo>
                  <a:pt x="837" y="338"/>
                  <a:pt x="836" y="330"/>
                  <a:pt x="839" y="324"/>
                </a:cubicBezTo>
                <a:cubicBezTo>
                  <a:pt x="857" y="292"/>
                  <a:pt x="859" y="292"/>
                  <a:pt x="881" y="270"/>
                </a:cubicBezTo>
                <a:cubicBezTo>
                  <a:pt x="892" y="236"/>
                  <a:pt x="915" y="204"/>
                  <a:pt x="935" y="174"/>
                </a:cubicBezTo>
                <a:cubicBezTo>
                  <a:pt x="943" y="162"/>
                  <a:pt x="954" y="152"/>
                  <a:pt x="959" y="138"/>
                </a:cubicBezTo>
                <a:cubicBezTo>
                  <a:pt x="974" y="94"/>
                  <a:pt x="962" y="111"/>
                  <a:pt x="989" y="84"/>
                </a:cubicBezTo>
                <a:cubicBezTo>
                  <a:pt x="991" y="76"/>
                  <a:pt x="997" y="51"/>
                  <a:pt x="1001" y="42"/>
                </a:cubicBezTo>
                <a:cubicBezTo>
                  <a:pt x="1004" y="36"/>
                  <a:pt x="1013" y="31"/>
                  <a:pt x="1013" y="24"/>
                </a:cubicBezTo>
                <a:cubicBezTo>
                  <a:pt x="1013" y="15"/>
                  <a:pt x="1005" y="8"/>
                  <a:pt x="1001" y="0"/>
                </a:cubicBezTo>
                <a:close/>
              </a:path>
            </a:pathLst>
          </a:custGeom>
          <a:solidFill>
            <a:srgbClr val="ff0000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1800" y="620280"/>
            <a:ext cx="3737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Segmen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30T02:33:55Z</dcterms:created>
  <dc:creator>Patricio Davila</dc:creator>
  <dc:description/>
  <dc:language>en-US</dc:language>
  <cp:lastModifiedBy>ximena</cp:lastModifiedBy>
  <dcterms:modified xsi:type="dcterms:W3CDTF">2004-11-03T01:45:11Z</dcterms:modified>
  <cp:revision>53</cp:revision>
  <dc:subject/>
  <dc:title>Taller sobre Análisis de Resultados Preliminares del III Censo Nacional Agropecuari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52415688</vt:r8>
  </property>
  <property fmtid="{D5CDD505-2E9C-101B-9397-08002B2CF9AE}" pid="3" name="_AuthorEmail">
    <vt:lpwstr>xfernandez@siap.sagarpa.gob.mx</vt:lpwstr>
  </property>
  <property fmtid="{D5CDD505-2E9C-101B-9397-08002B2CF9AE}" pid="4" name="_AuthorEmailDisplayName">
    <vt:lpwstr>Ximena Fernández Martínez</vt:lpwstr>
  </property>
  <property fmtid="{D5CDD505-2E9C-101B-9397-08002B2CF9AE}" pid="5" name="_EmailSubject">
    <vt:lpwstr>Presentations day 2 2:30 room 2</vt:lpwstr>
  </property>
</Properties>
</file>