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DEF6-6543-4446-A2F8-75BD23E6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2981-6ECA-4CEB-80F4-AFEC9CC0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BE6F-54E1-4BBB-9319-946966E9D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70F-264B-47D6-9324-D669E1AF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2854-5625-49B7-95BD-FB086F91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8A04-7B52-400B-9AD9-D4100D772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7988-240A-41D4-88A0-9BC5DE79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2FC0-5CF3-42E8-8A76-B8FA03066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F6FE-9C2B-4BAB-AFCB-D0014396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3AC2C-B607-4A27-8A25-1B4EC7D5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9AAD-6DDC-4264-99E8-25E1B9E8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65F2-31C2-4F4E-B2A9-B88B5728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AFD7-A9F9-4C65-B970-C5FCFC9B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D6E62-E64D-4EEB-8CED-8E9AC02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D7E1-C743-427E-9E87-7B139430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C0C0-4778-410A-84E8-6FFA31C11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7665-A8A1-4E39-89D1-50BE585F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1A5-EC98-4EF3-BECF-F4F06ADA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8B0-D7C6-4468-AC68-8EDD4945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4A4-1CF4-4B93-A7F1-B9896B02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7982-8848-4CD5-86F5-F40EB531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E94F-A1A5-4D2C-8314-142942D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B77-B089-45D8-9DD0-943C63FE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F69-CBFA-41F9-8437-C9A74C5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5A2D-997A-4965-B909-C7951FA48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cc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5E4F-426C-47C9-B186-636C4734C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Expert Panel on Statistical Capacity Buil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Panel on Statistical Capacity Build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430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d Vogel, Chai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d Da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ham Ee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an Manual Galarz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 Kiregye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 Laczk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Statistical Capac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bility to consistently produce and disseminate reliable, timely and relevant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Using good statistical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bility to analyze and use for policy, investment, marketing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7713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Dimensions of Statistical Capacity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3200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tistical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 coll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ransformation into meaningful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ke effective use of indica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Overview of Panel Procedure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ree questions—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ch panel member 2 minutes to respo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loor discussion after panel comments about each ques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estions from floor for pan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6600"/>
                </a:solidFill>
                <a:latin typeface="Times New Roman"/>
              </a:rPr>
              <a:t>Question 1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re have been successes and failures in delivery of technical assista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have you found to be best practices to ensure suc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at is likely to cause failur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Question 2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build demand for statistics within the country to ensure resources allow system to be sustainable over tim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and from international point of 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mand from public and private se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Times New Roman"/>
              </a:rPr>
              <a:t>Question 3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provide technical assistance and maintain country ownership in the proces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00:01:24Z</dcterms:created>
  <dc:creator>decuser</dc:creator>
  <dc:description/>
  <dc:language>en-US</dc:language>
  <cp:lastModifiedBy>decuser</cp:lastModifiedBy>
  <dcterms:modified xsi:type="dcterms:W3CDTF">2004-10-30T00:33:08Z</dcterms:modified>
  <cp:revision>1</cp:revision>
  <dc:subject/>
  <dc:title>Expert Panel on Statistical Capacity Buil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3215326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Key Notes</vt:lpwstr>
  </property>
</Properties>
</file>