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B48-9DF2-4547-959F-1AB66281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0E5-2F33-4509-AC2D-C4D68CD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6AE-E852-4831-8D38-35F44681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B46-86A3-4C34-A4E8-76C3A97D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60B0-54CB-49C8-975E-ECBADB78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4049-A191-4104-947A-5FB323E9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772A-4DEC-4C29-8680-67535DA4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19D1-8EC9-4EB8-9F74-80735AEF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F284-CF38-4AC5-B4F7-E4B33D29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8535-8449-4C2B-80C5-C3A07C80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7FE9-AB56-456D-A1CB-E3BC542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E93-D002-4ED2-920E-5C2DB67C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E6B3-1C63-4064-B213-7E8B03B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0573-EBFF-4F34-9DA6-FEA05D3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FA2-4897-4414-B210-1B319C3E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45D4-3F69-433E-AB4B-9E38FEE6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867B-B0BB-420D-8267-4AA1DCBC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6D9-E406-484B-A9CC-9DFC1F12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660-311B-4F0D-AE01-6F1B5DB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60A-7F95-447B-82B8-94B24334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D1C-F6C1-49EF-B0DB-D89021D5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E23-1AB8-4095-B210-4D593E71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BAD-2A48-4A19-B54F-2F6C9837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CC9-2328-48DD-9DA7-11EDEF69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EBAA-8240-4318-847F-1AEE3FE3F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FF22-7C81-42AC-A8D9-E5D869E7B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Expert Panel on Statistical Capacity Buil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Panel on Statistical Capacity Buil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d Vogel, Cha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d Dav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ham E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an Manual Galar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 Kiregy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 Lacz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Statistical Capacit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bility to consistently produce and disseminate reliable, timely and relevant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ing good statistical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bility to analyze and use for policy, investment, marketing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7713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Dimensions of Statistical Capacit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3200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tistical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coll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nsformation into meaningful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ke effective use of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Overview of Panel Proced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ree questions—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ch panel member 2 minutes to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loor discussion after panel comments about ea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estions from floor for 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Question 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re have been successes and failures in delivery of technical assist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have you found to be best practices to ensure succ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likely to cause failu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Question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build demand for statistics within the country to ensure resources allow system to be sustainable over ti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and from international point of 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and from public and private s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Question 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provide technical assistance and maintain country ownership in the proc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00:01:24Z</dcterms:created>
  <dc:creator>decuser</dc:creator>
  <dc:description/>
  <dc:language>en-US</dc:language>
  <cp:lastModifiedBy>decuser</cp:lastModifiedBy>
  <dcterms:modified xsi:type="dcterms:W3CDTF">2004-10-30T00:33:08Z</dcterms:modified>
  <cp:revision>1</cp:revision>
  <dc:subject/>
  <dc:title>Expert Panel on Statistical Capacity Buil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3215326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Key Notes</vt:lpwstr>
  </property>
</Properties>
</file>