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C32-231D-440B-B659-9A1F8680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462-E0E8-4B05-8A4A-59D2A6D7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80E-FB24-4C78-8419-586D00EC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992-1F2F-44B0-9ACD-64EBACE4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AFEA-9670-4B07-A2C2-A44C8FA5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51F6-19C6-499D-930C-5A30FB3C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2F1D-962F-4742-95C1-B3A5E07E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311D-D489-4882-B4EB-3DC795AE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2C59-373B-4726-A3EB-6E81AA45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1959-26BE-4645-AB68-DC16E204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D7C5-745D-40FA-AB4A-BA11904A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58E-9E3E-4687-A7C6-C312AE23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91FC-0F3B-4929-A661-89385C40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F7F8-CED8-41CC-8241-B1E699BB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DC9C-5413-4D20-AC8B-EF1A01FC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7E4D-2848-4353-9156-46B83BED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A2BF-0000-4BC1-A149-0D290481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4DE-4D54-480F-AB09-724E17C4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B25-A90D-4D02-9EAA-38FFF7CC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484-DA59-4F06-9A29-4BA46135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4F1-B95D-4063-B5AE-A05FC8F2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111-D614-484C-AEFF-A568C4D2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B6A-A466-4C92-BB95-61575500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C58-2B66-48D5-968F-58B62FC3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4FF9-68DD-4DDC-A50E-05F8A79C80B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7824960" y="12600"/>
          <a:ext cx="998280" cy="100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24960" y="12600"/>
                    <a:ext cx="9982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306C-FD10-47D2-9EAD-1E26A0B609A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46880" y="2852640"/>
            <a:ext cx="1257480" cy="2648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76360" y="1125000"/>
            <a:ext cx="64008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66"/>
                </a:solidFill>
                <a:latin typeface="Arial"/>
              </a:rPr>
              <a:t>FAOSTAT Projec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66"/>
                </a:solidFill>
                <a:latin typeface="Arial"/>
              </a:rPr>
              <a:t>revising the conceptual statistical frameworks, underlying statistical methodologies, database system an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77336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3941640"/>
            <a:ext cx="439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Robert M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F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Statistics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AOSTAT Core and other modu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rcRect l="0" t="0" r="1785" b="11828"/>
          <a:stretch/>
        </p:blipFill>
        <p:spPr>
          <a:xfrm>
            <a:off x="749160" y="2205000"/>
            <a:ext cx="7851960" cy="38610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21" name=""/>
          <p:cNvSpPr/>
          <p:nvPr/>
        </p:nvSpPr>
        <p:spPr>
          <a:xfrm>
            <a:off x="826920" y="6027840"/>
            <a:ext cx="777744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684360" y="2492280"/>
            <a:ext cx="7487640" cy="3600000"/>
            <a:chOff x="684360" y="2492280"/>
            <a:chExt cx="7487640" cy="3600000"/>
          </a:xfrm>
        </p:grpSpPr>
        <p:grpSp>
          <p:nvGrpSpPr>
            <p:cNvPr id="423" name=""/>
            <p:cNvGrpSpPr/>
            <p:nvPr/>
          </p:nvGrpSpPr>
          <p:grpSpPr>
            <a:xfrm>
              <a:off x="5149800" y="3101040"/>
              <a:ext cx="1737360" cy="639720"/>
              <a:chOff x="5149800" y="3101040"/>
              <a:chExt cx="1737360" cy="639720"/>
            </a:xfrm>
          </p:grpSpPr>
          <p:sp>
            <p:nvSpPr>
              <p:cNvPr id="424" name=""/>
              <p:cNvSpPr/>
              <p:nvPr/>
            </p:nvSpPr>
            <p:spPr>
              <a:xfrm>
                <a:off x="5798880" y="3213360"/>
                <a:ext cx="439200" cy="414720"/>
              </a:xfrm>
              <a:prstGeom prst="can">
                <a:avLst>
                  <a:gd name="adj" fmla="val 24166"/>
                </a:avLst>
              </a:prstGeom>
              <a:solidFill>
                <a:srgbClr val="669999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149800" y="3101040"/>
                <a:ext cx="1737360" cy="639720"/>
              </a:xfrm>
              <a:prstGeom prst="can">
                <a:avLst>
                  <a:gd name="adj" fmla="val 50000"/>
                </a:avLst>
              </a:prstGeom>
              <a:solidFill>
                <a:srgbClr val="cccc00">
                  <a:alpha val="2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5149800" y="3421080"/>
              <a:ext cx="1737360" cy="639720"/>
              <a:chOff x="5149800" y="3421080"/>
              <a:chExt cx="1737360" cy="639720"/>
            </a:xfrm>
          </p:grpSpPr>
          <p:sp>
            <p:nvSpPr>
              <p:cNvPr id="427" name=""/>
              <p:cNvSpPr/>
              <p:nvPr/>
            </p:nvSpPr>
            <p:spPr>
              <a:xfrm>
                <a:off x="5798880" y="3533400"/>
                <a:ext cx="439200" cy="414720"/>
              </a:xfrm>
              <a:prstGeom prst="can">
                <a:avLst>
                  <a:gd name="adj" fmla="val 24166"/>
                </a:avLst>
              </a:prstGeom>
              <a:solidFill>
                <a:srgbClr val="669999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149800" y="3421080"/>
                <a:ext cx="1737360" cy="639720"/>
              </a:xfrm>
              <a:prstGeom prst="can">
                <a:avLst>
                  <a:gd name="adj" fmla="val 50000"/>
                </a:avLst>
              </a:prstGeom>
              <a:solidFill>
                <a:srgbClr val="cccc00">
                  <a:alpha val="2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5149800" y="3741120"/>
              <a:ext cx="1737360" cy="639720"/>
              <a:chOff x="5149800" y="3741120"/>
              <a:chExt cx="1737360" cy="639720"/>
            </a:xfrm>
          </p:grpSpPr>
          <p:sp>
            <p:nvSpPr>
              <p:cNvPr id="430" name=""/>
              <p:cNvSpPr/>
              <p:nvPr/>
            </p:nvSpPr>
            <p:spPr>
              <a:xfrm>
                <a:off x="5798880" y="3853440"/>
                <a:ext cx="439200" cy="414720"/>
              </a:xfrm>
              <a:prstGeom prst="can">
                <a:avLst>
                  <a:gd name="adj" fmla="val 24166"/>
                </a:avLst>
              </a:prstGeom>
              <a:solidFill>
                <a:srgbClr val="669999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49800" y="3741120"/>
                <a:ext cx="1737360" cy="639720"/>
              </a:xfrm>
              <a:prstGeom prst="can">
                <a:avLst>
                  <a:gd name="adj" fmla="val 50000"/>
                </a:avLst>
              </a:prstGeom>
              <a:solidFill>
                <a:srgbClr val="cccc00">
                  <a:alpha val="2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5799240" y="4173480"/>
              <a:ext cx="439200" cy="416160"/>
            </a:xfrm>
            <a:prstGeom prst="can">
              <a:avLst>
                <a:gd name="adj" fmla="val 24166"/>
              </a:avLst>
            </a:prstGeom>
            <a:solidFill>
              <a:srgbClr val="ffff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99240" y="4494240"/>
              <a:ext cx="439200" cy="416160"/>
            </a:xfrm>
            <a:prstGeom prst="can">
              <a:avLst>
                <a:gd name="adj" fmla="val 24166"/>
              </a:avLst>
            </a:prstGeom>
            <a:solidFill>
              <a:srgbClr val="669999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49800" y="4381560"/>
              <a:ext cx="1737720" cy="640800"/>
            </a:xfrm>
            <a:prstGeom prst="can">
              <a:avLst>
                <a:gd name="adj" fmla="val 50000"/>
              </a:avLst>
            </a:prstGeom>
            <a:solidFill>
              <a:srgbClr val="cccc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5149800" y="4702320"/>
              <a:ext cx="1737360" cy="639720"/>
              <a:chOff x="5149800" y="4702320"/>
              <a:chExt cx="1737360" cy="639720"/>
            </a:xfrm>
          </p:grpSpPr>
          <p:sp>
            <p:nvSpPr>
              <p:cNvPr id="436" name=""/>
              <p:cNvSpPr/>
              <p:nvPr/>
            </p:nvSpPr>
            <p:spPr>
              <a:xfrm>
                <a:off x="5798880" y="4814640"/>
                <a:ext cx="439200" cy="414720"/>
              </a:xfrm>
              <a:prstGeom prst="can">
                <a:avLst>
                  <a:gd name="adj" fmla="val 24166"/>
                </a:avLst>
              </a:prstGeom>
              <a:solidFill>
                <a:srgbClr val="669999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149800" y="4702320"/>
                <a:ext cx="1737360" cy="639720"/>
              </a:xfrm>
              <a:prstGeom prst="can">
                <a:avLst>
                  <a:gd name="adj" fmla="val 50000"/>
                </a:avLst>
              </a:prstGeom>
              <a:solidFill>
                <a:srgbClr val="cccc00">
                  <a:alpha val="2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5146200" y="5022360"/>
              <a:ext cx="1737360" cy="639720"/>
              <a:chOff x="5146200" y="5022360"/>
              <a:chExt cx="1737360" cy="639720"/>
            </a:xfrm>
          </p:grpSpPr>
          <p:sp>
            <p:nvSpPr>
              <p:cNvPr id="439" name=""/>
              <p:cNvSpPr/>
              <p:nvPr/>
            </p:nvSpPr>
            <p:spPr>
              <a:xfrm>
                <a:off x="5795280" y="5134680"/>
                <a:ext cx="439200" cy="414720"/>
              </a:xfrm>
              <a:prstGeom prst="can">
                <a:avLst>
                  <a:gd name="adj" fmla="val 24166"/>
                </a:avLst>
              </a:prstGeom>
              <a:solidFill>
                <a:srgbClr val="669999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146200" y="5022360"/>
                <a:ext cx="1737360" cy="639720"/>
              </a:xfrm>
              <a:prstGeom prst="can">
                <a:avLst>
                  <a:gd name="adj" fmla="val 50000"/>
                </a:avLst>
              </a:prstGeom>
              <a:solidFill>
                <a:srgbClr val="cccc00">
                  <a:alpha val="2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6923160" y="3285000"/>
              <a:ext cx="655920" cy="27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F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23160" y="3605040"/>
              <a:ext cx="655920" cy="27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23160" y="5206680"/>
              <a:ext cx="655920" cy="27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W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23160" y="4886280"/>
              <a:ext cx="655920" cy="27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M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923160" y="3925440"/>
              <a:ext cx="655920" cy="27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23160" y="4566240"/>
              <a:ext cx="6559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24600" y="4246200"/>
              <a:ext cx="656280" cy="271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Y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684360" y="2991240"/>
              <a:ext cx="3650400" cy="26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5149800" y="4061520"/>
              <a:ext cx="1737720" cy="640800"/>
            </a:xfrm>
            <a:prstGeom prst="can">
              <a:avLst>
                <a:gd name="adj" fmla="val 50000"/>
              </a:avLst>
            </a:prstGeom>
            <a:solidFill>
              <a:srgbClr val="ffff99">
                <a:alpha val="35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6200000">
              <a:off x="2850840" y="3183120"/>
              <a:ext cx="2163960" cy="2425680"/>
            </a:xfrm>
            <a:custGeom>
              <a:avLst/>
              <a:gdLst>
                <a:gd name="textAreaLeft" fmla="*/ 689760 w 2163960"/>
                <a:gd name="textAreaRight" fmla="*/ 1474200 w 2163960"/>
                <a:gd name="textAreaTop" fmla="*/ 772920 h 2425680"/>
                <a:gd name="textAreaBottom" fmla="*/ 1652760 h 24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359" y="21600"/>
                  </a:lnTo>
                  <a:lnTo>
                    <a:pt x="9241" y="21600"/>
                  </a:lnTo>
                  <a:close/>
                </a:path>
              </a:pathLst>
            </a:custGeom>
            <a:solidFill>
              <a:srgbClr val="ccffff">
                <a:alpha val="23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89040" y="5742720"/>
              <a:ext cx="938520" cy="349560"/>
            </a:xfrm>
            <a:custGeom>
              <a:avLst/>
              <a:gdLst>
                <a:gd name="textAreaLeft" fmla="*/ 41040 w 938520"/>
                <a:gd name="textAreaRight" fmla="*/ 897480 w 938520"/>
                <a:gd name="textAreaTop" fmla="*/ 41040 h 349560"/>
                <a:gd name="textAreaBottom" fmla="*/ 308520 h 349560"/>
              </a:gdLst>
              <a:ahLst/>
              <a:rect l="textAreaLeft" t="textAreaTop" r="textAreaRight" b="textAreaBottom"/>
              <a:pathLst>
                <a:path w="57956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4356" y="21600"/>
                  </a:lnTo>
                  <a:arcTo wR="3600" hR="3600" stAng="10800000" swAng="5400000"/>
                  <a:lnTo>
                    <a:pt x="57956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RY  XY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82920" y="2671200"/>
              <a:ext cx="1189080" cy="29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61200" y="2492280"/>
              <a:ext cx="2785680" cy="17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OSTAT Core Structur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28800" y="2516400"/>
              <a:ext cx="2785680" cy="17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OSTAT Databas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124000" y="2781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08720" y="292428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2000" y="2781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AOSTAT Core Horizontal Integration of Thematic Modu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09520" y="1927080"/>
            <a:ext cx="8683560" cy="42386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698760" y="415080"/>
            <a:ext cx="740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orizontal and Vertical Integr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CountrySTAT Thematic Modul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324000" y="1185840"/>
          <a:ext cx="7777080" cy="58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85840"/>
                    <a:ext cx="7777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02240" y="199080"/>
            <a:ext cx="91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Vertical integration of statistical data 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national and International levels</a:t>
            </a:r>
            <a:r>
              <a:rPr b="1" i="1" lang="en-GB" sz="3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268360" y="2449440"/>
            <a:ext cx="4391280" cy="34592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476360" y="13366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Metadata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5842080" y="257328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1000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6424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F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981600" y="3467160"/>
            <a:ext cx="587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2248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8160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23412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234120" y="3467160"/>
            <a:ext cx="587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5024160" y="2585880"/>
            <a:ext cx="468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541320" y="258588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552840" y="258588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141560" y="3247920"/>
            <a:ext cx="782640" cy="3286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022480" y="3467160"/>
            <a:ext cx="488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919920" y="3265560"/>
            <a:ext cx="782640" cy="330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05120" y="258876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531440" y="2589120"/>
            <a:ext cx="1273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531800" y="258912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903400" y="2481120"/>
            <a:ext cx="5558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</a:t>
            </a:r>
            <a:r>
              <a:rPr b="1" lang="en-GB" sz="9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9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14880" y="2481120"/>
            <a:ext cx="5889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281720" y="257328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42080" y="2573280"/>
            <a:ext cx="143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69040" y="3573360"/>
            <a:ext cx="31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宋体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40000" y="1557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Quality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5842080" y="257328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61000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76424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F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81600" y="3467160"/>
            <a:ext cx="587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02248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8160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23412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234120" y="3467160"/>
            <a:ext cx="587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5024160" y="2585880"/>
            <a:ext cx="468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541320" y="258588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552840" y="258588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141560" y="3247920"/>
            <a:ext cx="782640" cy="3286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022480" y="3467160"/>
            <a:ext cx="488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919920" y="3265560"/>
            <a:ext cx="782640" cy="330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805120" y="258876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531440" y="2589120"/>
            <a:ext cx="1273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531800" y="258912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03400" y="2481120"/>
            <a:ext cx="5558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</a:t>
            </a:r>
            <a:r>
              <a:rPr b="1" lang="en-GB" sz="9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9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114880" y="2481120"/>
            <a:ext cx="5889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281720" y="257328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842080" y="2573280"/>
            <a:ext cx="143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269040" y="3573360"/>
            <a:ext cx="31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宋体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71640" y="2205000"/>
            <a:ext cx="2663640" cy="2160720"/>
          </a:xfrm>
          <a:prstGeom prst="ellipse">
            <a:avLst/>
          </a:prstGeom>
          <a:solidFill>
            <a:srgbClr val="ffff99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Quality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5842080" y="257328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1000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6424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F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81600" y="3467160"/>
            <a:ext cx="587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02248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8160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3412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234120" y="3467160"/>
            <a:ext cx="587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5024160" y="2585880"/>
            <a:ext cx="468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541320" y="258588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552840" y="258588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141560" y="3247920"/>
            <a:ext cx="782640" cy="3286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022480" y="3467160"/>
            <a:ext cx="488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19920" y="3265560"/>
            <a:ext cx="782640" cy="330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805120" y="258876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531440" y="2589120"/>
            <a:ext cx="1273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31800" y="258912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903400" y="2481120"/>
            <a:ext cx="5558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</a:t>
            </a:r>
            <a:r>
              <a:rPr b="1" lang="en-GB" sz="9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9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114880" y="2481120"/>
            <a:ext cx="5889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281720" y="257328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842080" y="2573280"/>
            <a:ext cx="143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269040" y="3573360"/>
            <a:ext cx="31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宋体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203640" y="2205000"/>
            <a:ext cx="2663640" cy="2160720"/>
          </a:xfrm>
          <a:prstGeom prst="ellipse">
            <a:avLst/>
          </a:prstGeom>
          <a:solidFill>
            <a:srgbClr val="ffff99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Quality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5842080" y="257328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61000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76424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F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981600" y="3467160"/>
            <a:ext cx="587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02248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8160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23412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234120" y="3467160"/>
            <a:ext cx="587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5024160" y="2585880"/>
            <a:ext cx="468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541320" y="258588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52840" y="258588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1560" y="3247920"/>
            <a:ext cx="782640" cy="3286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22480" y="3467160"/>
            <a:ext cx="488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19920" y="3265560"/>
            <a:ext cx="782640" cy="330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805120" y="258876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531440" y="2589120"/>
            <a:ext cx="1273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531800" y="258912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903400" y="2481120"/>
            <a:ext cx="5558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</a:t>
            </a:r>
            <a:r>
              <a:rPr b="1" lang="en-GB" sz="9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9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114880" y="2481120"/>
            <a:ext cx="5889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281720" y="257328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842080" y="2573280"/>
            <a:ext cx="143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269040" y="3573360"/>
            <a:ext cx="31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宋体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003640" y="2205000"/>
            <a:ext cx="2664000" cy="2160720"/>
          </a:xfrm>
          <a:prstGeom prst="ellipse">
            <a:avLst/>
          </a:prstGeom>
          <a:solidFill>
            <a:srgbClr val="ffff99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Quality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5842080" y="257328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61000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6424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F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81600" y="3467160"/>
            <a:ext cx="587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2248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8160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23412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34120" y="3467160"/>
            <a:ext cx="587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5024160" y="2585880"/>
            <a:ext cx="468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541320" y="258588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552840" y="258588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141560" y="3247920"/>
            <a:ext cx="782640" cy="3286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022480" y="3467160"/>
            <a:ext cx="488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919920" y="3265560"/>
            <a:ext cx="782640" cy="330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805120" y="258876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531440" y="2589120"/>
            <a:ext cx="1273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31800" y="258912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03400" y="2481120"/>
            <a:ext cx="5558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</a:t>
            </a:r>
            <a:r>
              <a:rPr b="1" lang="en-GB" sz="9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9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114880" y="2481120"/>
            <a:ext cx="5889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81720" y="257328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842080" y="2573280"/>
            <a:ext cx="143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336680" y="4284720"/>
            <a:ext cx="1860480" cy="1544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res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Geographica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450040" y="4284720"/>
            <a:ext cx="1860480" cy="1544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res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Member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Bu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Org.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Dom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Data quality at q</a:t>
            </a:r>
            <a:r>
              <a:rPr b="1" lang="en-GB" sz="10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217600" y="4032000"/>
            <a:ext cx="0" cy="25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6429240" y="403200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394080" y="4284720"/>
            <a:ext cx="1860480" cy="1544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res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Availability national registers for: Pop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Administrative rec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Data quality at 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275000" y="403200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531800" y="1628640"/>
            <a:ext cx="5583240" cy="75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  <a:ea typeface="PMingLiU"/>
              </a:rPr>
              <a:t>Core Data Quality 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  <a:ea typeface="PMingLiU"/>
              </a:rPr>
              <a:t>Point/Domain Specific Data Quality 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275000" y="238752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429240" y="238752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316240" y="238752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531800" y="2008080"/>
            <a:ext cx="5583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269040" y="3573360"/>
            <a:ext cx="31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宋体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340000" y="9810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Quality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2276640"/>
            <a:ext cx="7559640" cy="56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0066"/>
                </a:solidFill>
                <a:latin typeface="Arial"/>
                <a:ea typeface="Arial"/>
              </a:rPr>
              <a:t>    </a:t>
            </a:r>
            <a:r>
              <a:rPr b="0" lang="en-GB" sz="2800" spc="-1" strike="noStrike">
                <a:solidFill>
                  <a:srgbClr val="330066"/>
                </a:solidFill>
                <a:latin typeface="Arial"/>
                <a:ea typeface="Arial"/>
              </a:rPr>
              <a:t>Structuring and consolidating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  <a:ea typeface="Arial"/>
              </a:rPr>
              <a:t>Enhancing data quality</a:t>
            </a:r>
            <a:r>
              <a:rPr b="0" lang="en-US" sz="2800" spc="-1" strike="noStrike">
                <a:solidFill>
                  <a:srgbClr val="6699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0066"/>
                </a:solidFill>
                <a:latin typeface="Arial"/>
                <a:ea typeface="Arial"/>
              </a:rPr>
              <a:t>   </a:t>
            </a:r>
            <a:r>
              <a:rPr b="0" lang="en-GB" sz="2800" spc="-1" strike="noStrike">
                <a:solidFill>
                  <a:srgbClr val="330066"/>
                </a:solidFill>
                <a:latin typeface="Arial"/>
                <a:ea typeface="Arial"/>
              </a:rPr>
              <a:t>Technical and functional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odernization of FAOSTAT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Data Disse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68360" y="2276640"/>
            <a:ext cx="7559640" cy="66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330066"/>
                </a:solidFill>
                <a:latin typeface="Arial"/>
              </a:rPr>
              <a:t>he needs of FAO’s information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330066"/>
                </a:solidFill>
                <a:latin typeface="Arial"/>
              </a:rPr>
              <a:t>ew functionality of the whole statistic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30066"/>
                </a:solidFill>
                <a:latin typeface="Arial"/>
              </a:rPr>
              <a:t>Opportunities brought by new technologies and the   global trends on dissemination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Dissemination in structured and unstructured formats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657360" y="441360"/>
            <a:ext cx="714348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308320" y="1719360"/>
            <a:ext cx="4525920" cy="44114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2611440" y="1719360"/>
            <a:ext cx="3921120" cy="44114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2467080" y="1719360"/>
            <a:ext cx="4209840" cy="44114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FAOSTA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68360" y="2276640"/>
            <a:ext cx="755964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www.fao.org/faos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1900080"/>
            <a:ext cx="7619760" cy="4048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98960" y="26668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4720" y="2878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35080" y="2743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040" y="44578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4760" y="37274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62360" y="3832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17760" y="3384720"/>
            <a:ext cx="2043360" cy="1844640"/>
          </a:xfrm>
          <a:prstGeom prst="ellipse">
            <a:avLst/>
          </a:prstGeom>
          <a:noFill/>
          <a:ln cap="rnd"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70800" y="3422520"/>
            <a:ext cx="68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4240" y="3537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0200" y="55180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438360" y="3538440"/>
            <a:ext cx="1784160" cy="1636560"/>
            <a:chOff x="3438360" y="3538440"/>
            <a:chExt cx="1784160" cy="1636560"/>
          </a:xfrm>
        </p:grpSpPr>
        <p:sp>
          <p:nvSpPr>
            <p:cNvPr id="110" name=""/>
            <p:cNvSpPr/>
            <p:nvPr/>
          </p:nvSpPr>
          <p:spPr>
            <a:xfrm>
              <a:off x="3438360" y="3538440"/>
              <a:ext cx="1784160" cy="163656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38360" y="3538440"/>
              <a:ext cx="1784160" cy="163656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883680" y="4005360"/>
            <a:ext cx="8604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PMingLiU"/>
              </a:rPr>
              <a:t>FA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16200" y="2314440"/>
            <a:ext cx="342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PMingLiU"/>
              </a:rPr>
              <a:t>FAOSTAT family -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PMingLiU"/>
              </a:rPr>
              <a:t>Related data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1280" y="1197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FAOSTAT Family  - Core and Related Data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98960" y="26668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2955960"/>
            <a:ext cx="1562040" cy="380880"/>
            <a:chOff x="1874880" y="2955960"/>
            <a:chExt cx="1562040" cy="380880"/>
          </a:xfrm>
        </p:grpSpPr>
        <p:sp>
          <p:nvSpPr>
            <p:cNvPr id="118" name=""/>
            <p:cNvSpPr/>
            <p:nvPr/>
          </p:nvSpPr>
          <p:spPr>
            <a:xfrm>
              <a:off x="1874880" y="2955960"/>
              <a:ext cx="1562040" cy="38088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4880" y="2955960"/>
              <a:ext cx="1562040" cy="380880"/>
            </a:xfrm>
            <a:custGeom>
              <a:avLst/>
              <a:gdLst/>
              <a:ahLst/>
              <a:rect l="l" t="t" r="r" b="b"/>
              <a:pathLst>
                <a:path w="1831" h="305">
                  <a:moveTo>
                    <a:pt x="915" y="0"/>
                  </a:moveTo>
                  <a:cubicBezTo>
                    <a:pt x="410" y="0"/>
                    <a:pt x="0" y="69"/>
                    <a:pt x="0" y="152"/>
                  </a:cubicBezTo>
                  <a:cubicBezTo>
                    <a:pt x="0" y="237"/>
                    <a:pt x="410" y="305"/>
                    <a:pt x="915" y="305"/>
                  </a:cubicBezTo>
                  <a:cubicBezTo>
                    <a:pt x="1421" y="305"/>
                    <a:pt x="1831" y="237"/>
                    <a:pt x="1831" y="152"/>
                  </a:cubicBezTo>
                  <a:cubicBezTo>
                    <a:pt x="1831" y="69"/>
                    <a:pt x="1421" y="0"/>
                    <a:pt x="915" y="0"/>
                  </a:cubicBezTo>
                </a:path>
              </a:pathLst>
            </a:cu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140920" y="3071880"/>
            <a:ext cx="137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PRODUCTION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4720" y="2878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678120" y="2665440"/>
            <a:ext cx="1454400" cy="407880"/>
            <a:chOff x="3678120" y="2665440"/>
            <a:chExt cx="1454400" cy="407880"/>
          </a:xfrm>
        </p:grpSpPr>
        <p:sp>
          <p:nvSpPr>
            <p:cNvPr id="123" name=""/>
            <p:cNvSpPr/>
            <p:nvPr/>
          </p:nvSpPr>
          <p:spPr>
            <a:xfrm>
              <a:off x="3678120" y="2665440"/>
              <a:ext cx="1454400" cy="40788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78120" y="2665440"/>
              <a:ext cx="1454400" cy="40788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040640" y="2840040"/>
            <a:ext cx="921240" cy="152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TRADE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35080" y="2743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452600" y="4181400"/>
            <a:ext cx="1249200" cy="378000"/>
            <a:chOff x="1452600" y="4181400"/>
            <a:chExt cx="1249200" cy="378000"/>
          </a:xfrm>
        </p:grpSpPr>
        <p:sp>
          <p:nvSpPr>
            <p:cNvPr id="128" name=""/>
            <p:cNvSpPr/>
            <p:nvPr/>
          </p:nvSpPr>
          <p:spPr>
            <a:xfrm>
              <a:off x="1452600" y="4181400"/>
              <a:ext cx="1249200" cy="37800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52600" y="4181400"/>
              <a:ext cx="1249200" cy="37800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762560" y="4297320"/>
            <a:ext cx="87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PRICE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49040" y="44578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73320" y="3597120"/>
            <a:ext cx="1477800" cy="292320"/>
            <a:chOff x="1273320" y="3597120"/>
            <a:chExt cx="1477800" cy="292320"/>
          </a:xfrm>
        </p:grpSpPr>
        <p:sp>
          <p:nvSpPr>
            <p:cNvPr id="133" name=""/>
            <p:cNvSpPr/>
            <p:nvPr/>
          </p:nvSpPr>
          <p:spPr>
            <a:xfrm>
              <a:off x="1273320" y="3597120"/>
              <a:ext cx="1477800" cy="29232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73320" y="3597120"/>
              <a:ext cx="1477800" cy="29232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478880" y="3656160"/>
            <a:ext cx="1169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RESOURCE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4760" y="37274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140520" y="3711600"/>
            <a:ext cx="1380960" cy="295200"/>
            <a:chOff x="6140520" y="3711600"/>
            <a:chExt cx="1380960" cy="295200"/>
          </a:xfrm>
        </p:grpSpPr>
        <p:sp>
          <p:nvSpPr>
            <p:cNvPr id="138" name=""/>
            <p:cNvSpPr/>
            <p:nvPr/>
          </p:nvSpPr>
          <p:spPr>
            <a:xfrm>
              <a:off x="6140520" y="3711600"/>
              <a:ext cx="1380960" cy="29520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40520" y="3711600"/>
              <a:ext cx="1380960" cy="29520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450840" y="3828960"/>
            <a:ext cx="97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SOCIAL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62360" y="3832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17760" y="3384720"/>
            <a:ext cx="2043360" cy="1844640"/>
          </a:xfrm>
          <a:prstGeom prst="ellipse">
            <a:avLst/>
          </a:prstGeom>
          <a:noFill/>
          <a:ln cap="rnd"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70800" y="3422520"/>
            <a:ext cx="68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84240" y="3537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693800" y="4821120"/>
            <a:ext cx="1438200" cy="346320"/>
            <a:chOff x="1693800" y="4821120"/>
            <a:chExt cx="1438200" cy="346320"/>
          </a:xfrm>
        </p:grpSpPr>
        <p:sp>
          <p:nvSpPr>
            <p:cNvPr id="146" name=""/>
            <p:cNvSpPr/>
            <p:nvPr/>
          </p:nvSpPr>
          <p:spPr>
            <a:xfrm>
              <a:off x="1693800" y="4821120"/>
              <a:ext cx="1438200" cy="34632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93800" y="4821120"/>
              <a:ext cx="1438200" cy="34632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899360" y="4938840"/>
            <a:ext cx="1242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NUTRITION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661000" y="4878360"/>
            <a:ext cx="1322280" cy="368280"/>
            <a:chOff x="5661000" y="4878360"/>
            <a:chExt cx="1322280" cy="368280"/>
          </a:xfrm>
        </p:grpSpPr>
        <p:sp>
          <p:nvSpPr>
            <p:cNvPr id="150" name=""/>
            <p:cNvSpPr/>
            <p:nvPr/>
          </p:nvSpPr>
          <p:spPr>
            <a:xfrm>
              <a:off x="5661000" y="4878360"/>
              <a:ext cx="1322280" cy="36828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61000" y="4878360"/>
              <a:ext cx="1322280" cy="36828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728320" y="4995720"/>
            <a:ext cx="100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OTHER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0200" y="55180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38360" y="3538440"/>
            <a:ext cx="1784160" cy="1636560"/>
            <a:chOff x="3438360" y="3538440"/>
            <a:chExt cx="1784160" cy="1636560"/>
          </a:xfrm>
        </p:grpSpPr>
        <p:sp>
          <p:nvSpPr>
            <p:cNvPr id="155" name=""/>
            <p:cNvSpPr/>
            <p:nvPr/>
          </p:nvSpPr>
          <p:spPr>
            <a:xfrm>
              <a:off x="3438360" y="3538440"/>
              <a:ext cx="1784160" cy="163656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38360" y="3538440"/>
              <a:ext cx="1784160" cy="163656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883680" y="4005360"/>
            <a:ext cx="8604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PMingLiU"/>
              </a:rPr>
              <a:t>FA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299200" y="3071880"/>
            <a:ext cx="1563480" cy="293760"/>
            <a:chOff x="5299200" y="3071880"/>
            <a:chExt cx="1563480" cy="293760"/>
          </a:xfrm>
        </p:grpSpPr>
        <p:sp>
          <p:nvSpPr>
            <p:cNvPr id="159" name=""/>
            <p:cNvSpPr/>
            <p:nvPr/>
          </p:nvSpPr>
          <p:spPr>
            <a:xfrm>
              <a:off x="5299200" y="3071880"/>
              <a:ext cx="1563480" cy="29376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99200" y="3071880"/>
              <a:ext cx="1563480" cy="29376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705640" y="3132000"/>
            <a:ext cx="114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FISHERIES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961240" y="4295880"/>
            <a:ext cx="1563480" cy="315720"/>
            <a:chOff x="5961240" y="4295880"/>
            <a:chExt cx="1563480" cy="315720"/>
          </a:xfrm>
        </p:grpSpPr>
        <p:sp>
          <p:nvSpPr>
            <p:cNvPr id="163" name=""/>
            <p:cNvSpPr/>
            <p:nvPr/>
          </p:nvSpPr>
          <p:spPr>
            <a:xfrm>
              <a:off x="5961240" y="4295880"/>
              <a:ext cx="1563480" cy="31572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61240" y="4295880"/>
              <a:ext cx="1563480" cy="31572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341760" y="4413240"/>
            <a:ext cx="11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EXTERNAL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33680" y="4764240"/>
            <a:ext cx="156348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2840" y="3481560"/>
            <a:ext cx="162252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2897280"/>
            <a:ext cx="168264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57520" y="2606760"/>
            <a:ext cx="1682640" cy="5252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99200" y="3014640"/>
            <a:ext cx="1622160" cy="4078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81840" y="3654360"/>
            <a:ext cx="1503360" cy="4078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00760" y="4238640"/>
            <a:ext cx="1684440" cy="4064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00880" y="4821120"/>
            <a:ext cx="144288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93920" y="4122720"/>
            <a:ext cx="138096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16200" y="2314440"/>
            <a:ext cx="342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PMingLiU"/>
              </a:rPr>
              <a:t>FAOSTAT family -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PMingLiU"/>
              </a:rPr>
              <a:t>Related data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197160" y="4878000"/>
            <a:ext cx="29844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121360" y="4995720"/>
            <a:ext cx="419040" cy="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419800" y="441324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361120" y="3887640"/>
            <a:ext cx="660240" cy="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21000" y="3422520"/>
            <a:ext cx="29844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98840" y="318924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36920" y="3246480"/>
            <a:ext cx="42084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36800" y="3772080"/>
            <a:ext cx="53964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776680" y="4295520"/>
            <a:ext cx="48096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11280" y="1197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FAOSTAT Family  - Core and Related Data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98960" y="26668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874880" y="2955960"/>
            <a:ext cx="1562040" cy="380880"/>
            <a:chOff x="1874880" y="2955960"/>
            <a:chExt cx="1562040" cy="380880"/>
          </a:xfrm>
        </p:grpSpPr>
        <p:sp>
          <p:nvSpPr>
            <p:cNvPr id="189" name=""/>
            <p:cNvSpPr/>
            <p:nvPr/>
          </p:nvSpPr>
          <p:spPr>
            <a:xfrm>
              <a:off x="1874880" y="2955960"/>
              <a:ext cx="1562040" cy="38088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74880" y="2955960"/>
              <a:ext cx="1562040" cy="380880"/>
            </a:xfrm>
            <a:custGeom>
              <a:avLst/>
              <a:gdLst/>
              <a:ahLst/>
              <a:rect l="l" t="t" r="r" b="b"/>
              <a:pathLst>
                <a:path w="1831" h="305">
                  <a:moveTo>
                    <a:pt x="915" y="0"/>
                  </a:moveTo>
                  <a:cubicBezTo>
                    <a:pt x="410" y="0"/>
                    <a:pt x="0" y="69"/>
                    <a:pt x="0" y="152"/>
                  </a:cubicBezTo>
                  <a:cubicBezTo>
                    <a:pt x="0" y="237"/>
                    <a:pt x="410" y="305"/>
                    <a:pt x="915" y="305"/>
                  </a:cubicBezTo>
                  <a:cubicBezTo>
                    <a:pt x="1421" y="305"/>
                    <a:pt x="1831" y="237"/>
                    <a:pt x="1831" y="152"/>
                  </a:cubicBezTo>
                  <a:cubicBezTo>
                    <a:pt x="1831" y="69"/>
                    <a:pt x="1421" y="0"/>
                    <a:pt x="915" y="0"/>
                  </a:cubicBezTo>
                </a:path>
              </a:pathLst>
            </a:cu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140920" y="3071880"/>
            <a:ext cx="137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PRODUCTION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4720" y="2878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678120" y="2665440"/>
            <a:ext cx="1454400" cy="407880"/>
            <a:chOff x="3678120" y="2665440"/>
            <a:chExt cx="1454400" cy="407880"/>
          </a:xfrm>
        </p:grpSpPr>
        <p:sp>
          <p:nvSpPr>
            <p:cNvPr id="194" name=""/>
            <p:cNvSpPr/>
            <p:nvPr/>
          </p:nvSpPr>
          <p:spPr>
            <a:xfrm>
              <a:off x="3678120" y="2665440"/>
              <a:ext cx="1454400" cy="40788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78120" y="2665440"/>
              <a:ext cx="1454400" cy="40788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040640" y="2840040"/>
            <a:ext cx="921240" cy="152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TRADE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35080" y="2743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452600" y="4181400"/>
            <a:ext cx="1249200" cy="378000"/>
            <a:chOff x="1452600" y="4181400"/>
            <a:chExt cx="1249200" cy="378000"/>
          </a:xfrm>
        </p:grpSpPr>
        <p:sp>
          <p:nvSpPr>
            <p:cNvPr id="199" name=""/>
            <p:cNvSpPr/>
            <p:nvPr/>
          </p:nvSpPr>
          <p:spPr>
            <a:xfrm>
              <a:off x="1452600" y="4181400"/>
              <a:ext cx="1249200" cy="37800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52600" y="4181400"/>
              <a:ext cx="1249200" cy="37800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762560" y="4297320"/>
            <a:ext cx="87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PRICE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49040" y="44578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273320" y="3597120"/>
            <a:ext cx="1477800" cy="292320"/>
            <a:chOff x="1273320" y="3597120"/>
            <a:chExt cx="1477800" cy="292320"/>
          </a:xfrm>
        </p:grpSpPr>
        <p:sp>
          <p:nvSpPr>
            <p:cNvPr id="204" name=""/>
            <p:cNvSpPr/>
            <p:nvPr/>
          </p:nvSpPr>
          <p:spPr>
            <a:xfrm>
              <a:off x="1273320" y="3597120"/>
              <a:ext cx="1477800" cy="29232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3320" y="3597120"/>
              <a:ext cx="1477800" cy="29232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78880" y="3656160"/>
            <a:ext cx="1169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RESOURCE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4760" y="37274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140520" y="3711600"/>
            <a:ext cx="1380960" cy="295200"/>
            <a:chOff x="6140520" y="3711600"/>
            <a:chExt cx="1380960" cy="295200"/>
          </a:xfrm>
        </p:grpSpPr>
        <p:sp>
          <p:nvSpPr>
            <p:cNvPr id="209" name=""/>
            <p:cNvSpPr/>
            <p:nvPr/>
          </p:nvSpPr>
          <p:spPr>
            <a:xfrm>
              <a:off x="6140520" y="3711600"/>
              <a:ext cx="1380960" cy="29520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40520" y="3711600"/>
              <a:ext cx="1380960" cy="29520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450840" y="3828960"/>
            <a:ext cx="97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SOCIAL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62360" y="3832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17760" y="3384720"/>
            <a:ext cx="2043360" cy="1844640"/>
          </a:xfrm>
          <a:prstGeom prst="ellipse">
            <a:avLst/>
          </a:prstGeom>
          <a:noFill/>
          <a:ln cap="rnd"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0800" y="3422520"/>
            <a:ext cx="68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84240" y="3537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93800" y="4821120"/>
            <a:ext cx="1438200" cy="346320"/>
            <a:chOff x="1693800" y="4821120"/>
            <a:chExt cx="1438200" cy="346320"/>
          </a:xfrm>
        </p:grpSpPr>
        <p:sp>
          <p:nvSpPr>
            <p:cNvPr id="217" name=""/>
            <p:cNvSpPr/>
            <p:nvPr/>
          </p:nvSpPr>
          <p:spPr>
            <a:xfrm>
              <a:off x="1693800" y="4821120"/>
              <a:ext cx="1438200" cy="34632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93800" y="4821120"/>
              <a:ext cx="1438200" cy="34632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899360" y="4938840"/>
            <a:ext cx="1242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NUTRITION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661000" y="4878360"/>
            <a:ext cx="1322280" cy="368280"/>
            <a:chOff x="5661000" y="4878360"/>
            <a:chExt cx="1322280" cy="368280"/>
          </a:xfrm>
        </p:grpSpPr>
        <p:sp>
          <p:nvSpPr>
            <p:cNvPr id="221" name=""/>
            <p:cNvSpPr/>
            <p:nvPr/>
          </p:nvSpPr>
          <p:spPr>
            <a:xfrm>
              <a:off x="5661000" y="4878360"/>
              <a:ext cx="1322280" cy="36828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61000" y="4878360"/>
              <a:ext cx="1322280" cy="36828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728320" y="4995720"/>
            <a:ext cx="100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OTHER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70200" y="55180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438360" y="3538440"/>
            <a:ext cx="1784160" cy="1636560"/>
            <a:chOff x="3438360" y="3538440"/>
            <a:chExt cx="1784160" cy="1636560"/>
          </a:xfrm>
        </p:grpSpPr>
        <p:sp>
          <p:nvSpPr>
            <p:cNvPr id="226" name=""/>
            <p:cNvSpPr/>
            <p:nvPr/>
          </p:nvSpPr>
          <p:spPr>
            <a:xfrm>
              <a:off x="3438360" y="3538440"/>
              <a:ext cx="1784160" cy="163656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38360" y="3538440"/>
              <a:ext cx="1784160" cy="163656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883680" y="4005360"/>
            <a:ext cx="8604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PMingLiU"/>
              </a:rPr>
              <a:t>FA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78120" y="5637240"/>
            <a:ext cx="1380960" cy="698400"/>
            <a:chOff x="3678120" y="5637240"/>
            <a:chExt cx="1380960" cy="698400"/>
          </a:xfrm>
        </p:grpSpPr>
        <p:sp>
          <p:nvSpPr>
            <p:cNvPr id="230" name=""/>
            <p:cNvSpPr/>
            <p:nvPr/>
          </p:nvSpPr>
          <p:spPr>
            <a:xfrm>
              <a:off x="3678120" y="5637240"/>
              <a:ext cx="1380960" cy="698400"/>
            </a:xfrm>
            <a:prstGeom prst="ellipse">
              <a:avLst/>
            </a:prstGeom>
            <a:solidFill>
              <a:srgbClr val="ba5d00">
                <a:alpha val="21000"/>
              </a:srgbClr>
            </a:solidFill>
            <a:ln w="0">
              <a:solidFill>
                <a:srgbClr val="66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8120" y="5637240"/>
              <a:ext cx="1380960" cy="698400"/>
            </a:xfrm>
            <a:prstGeom prst="ellipse">
              <a:avLst/>
            </a:prstGeom>
            <a:noFill/>
            <a:ln cap="rnd"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921480" y="6045120"/>
            <a:ext cx="980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PMingLiU"/>
              </a:rPr>
              <a:t>Country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299200" y="3071880"/>
            <a:ext cx="1563480" cy="293760"/>
            <a:chOff x="5299200" y="3071880"/>
            <a:chExt cx="1563480" cy="293760"/>
          </a:xfrm>
        </p:grpSpPr>
        <p:sp>
          <p:nvSpPr>
            <p:cNvPr id="234" name=""/>
            <p:cNvSpPr/>
            <p:nvPr/>
          </p:nvSpPr>
          <p:spPr>
            <a:xfrm>
              <a:off x="5299200" y="3071880"/>
              <a:ext cx="1563480" cy="29376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200" y="3071880"/>
              <a:ext cx="1563480" cy="29376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705640" y="3132000"/>
            <a:ext cx="114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FISHERIES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961240" y="4295880"/>
            <a:ext cx="1563480" cy="315720"/>
            <a:chOff x="5961240" y="4295880"/>
            <a:chExt cx="1563480" cy="315720"/>
          </a:xfrm>
        </p:grpSpPr>
        <p:sp>
          <p:nvSpPr>
            <p:cNvPr id="238" name=""/>
            <p:cNvSpPr/>
            <p:nvPr/>
          </p:nvSpPr>
          <p:spPr>
            <a:xfrm>
              <a:off x="5961240" y="4295880"/>
              <a:ext cx="1563480" cy="31572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61240" y="4295880"/>
              <a:ext cx="1563480" cy="31572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6341760" y="4413240"/>
            <a:ext cx="11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EXTERNAL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33680" y="4764240"/>
            <a:ext cx="156348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18000" y="5578560"/>
            <a:ext cx="1503360" cy="8175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2840" y="3481560"/>
            <a:ext cx="162252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74880" y="2897280"/>
            <a:ext cx="168264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57520" y="2606760"/>
            <a:ext cx="1682640" cy="5252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9200" y="3014640"/>
            <a:ext cx="1622160" cy="4078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1840" y="3654360"/>
            <a:ext cx="1503360" cy="4078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00760" y="4238640"/>
            <a:ext cx="1684440" cy="4064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00880" y="4821120"/>
            <a:ext cx="144288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93920" y="4122720"/>
            <a:ext cx="138096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16200" y="2314440"/>
            <a:ext cx="342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PMingLiU"/>
              </a:rPr>
              <a:t>FAOSTAT family -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PMingLiU"/>
              </a:rPr>
              <a:t>Related data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97160" y="4878000"/>
            <a:ext cx="29844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121360" y="4995720"/>
            <a:ext cx="419040" cy="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419800" y="441324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361120" y="3887640"/>
            <a:ext cx="660240" cy="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121000" y="3422520"/>
            <a:ext cx="29844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98840" y="318924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36920" y="3246480"/>
            <a:ext cx="42084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36800" y="3772080"/>
            <a:ext cx="53964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776680" y="4295520"/>
            <a:ext cx="48096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78240" y="528804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459320" y="528804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11280" y="1197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FAOSTAT Family  - Core and Related Data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973080" y="1557360"/>
            <a:ext cx="6912000" cy="4896000"/>
            <a:chOff x="973080" y="1557360"/>
            <a:chExt cx="6912000" cy="4896000"/>
          </a:xfrm>
        </p:grpSpPr>
        <p:sp>
          <p:nvSpPr>
            <p:cNvPr id="266" name=""/>
            <p:cNvSpPr/>
            <p:nvPr/>
          </p:nvSpPr>
          <p:spPr>
            <a:xfrm>
              <a:off x="1153080" y="1964520"/>
              <a:ext cx="6731640" cy="4021920"/>
            </a:xfrm>
            <a:prstGeom prst="ellipse">
              <a:avLst/>
            </a:prstGeom>
            <a:solidFill>
              <a:srgbClr val="dceff0">
                <a:alpha val="50000"/>
              </a:srgbClr>
            </a:solidFill>
            <a:ln w="93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98240" y="26676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873800" y="2955240"/>
              <a:ext cx="1562400" cy="381600"/>
              <a:chOff x="1873800" y="2955240"/>
              <a:chExt cx="1562400" cy="381600"/>
            </a:xfrm>
          </p:grpSpPr>
          <p:sp>
            <p:nvSpPr>
              <p:cNvPr id="269" name=""/>
              <p:cNvSpPr/>
              <p:nvPr/>
            </p:nvSpPr>
            <p:spPr>
              <a:xfrm>
                <a:off x="1873800" y="2955240"/>
                <a:ext cx="1562400" cy="38160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73800" y="2955240"/>
                <a:ext cx="1562400" cy="381600"/>
              </a:xfrm>
              <a:custGeom>
                <a:avLst/>
                <a:gdLst/>
                <a:ahLst/>
                <a:rect l="l" t="t" r="r" b="b"/>
                <a:pathLst>
                  <a:path w="1831" h="305">
                    <a:moveTo>
                      <a:pt x="915" y="0"/>
                    </a:moveTo>
                    <a:cubicBezTo>
                      <a:pt x="410" y="0"/>
                      <a:pt x="0" y="69"/>
                      <a:pt x="0" y="152"/>
                    </a:cubicBezTo>
                    <a:cubicBezTo>
                      <a:pt x="0" y="237"/>
                      <a:pt x="410" y="305"/>
                      <a:pt x="915" y="305"/>
                    </a:cubicBezTo>
                    <a:cubicBezTo>
                      <a:pt x="1421" y="305"/>
                      <a:pt x="1831" y="237"/>
                      <a:pt x="1831" y="152"/>
                    </a:cubicBezTo>
                    <a:cubicBezTo>
                      <a:pt x="1831" y="69"/>
                      <a:pt x="1421" y="0"/>
                      <a:pt x="915" y="0"/>
                    </a:cubicBezTo>
                  </a:path>
                </a:pathLst>
              </a:cu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2140920" y="3072240"/>
              <a:ext cx="137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PRODUCTION mo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04720" y="28782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3677400" y="2664720"/>
              <a:ext cx="1454760" cy="408600"/>
              <a:chOff x="3677400" y="2664720"/>
              <a:chExt cx="1454760" cy="408600"/>
            </a:xfrm>
          </p:grpSpPr>
          <p:sp>
            <p:nvSpPr>
              <p:cNvPr id="274" name=""/>
              <p:cNvSpPr/>
              <p:nvPr/>
            </p:nvSpPr>
            <p:spPr>
              <a:xfrm>
                <a:off x="3677400" y="2664720"/>
                <a:ext cx="1454760" cy="40860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677400" y="2664720"/>
                <a:ext cx="1454760" cy="40860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4040640" y="2839680"/>
              <a:ext cx="921240" cy="152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TRADE mo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35080" y="27432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1452600" y="4181400"/>
              <a:ext cx="1249560" cy="377640"/>
              <a:chOff x="1452600" y="4181400"/>
              <a:chExt cx="1249560" cy="377640"/>
            </a:xfrm>
          </p:grpSpPr>
          <p:sp>
            <p:nvSpPr>
              <p:cNvPr id="279" name=""/>
              <p:cNvSpPr/>
              <p:nvPr/>
            </p:nvSpPr>
            <p:spPr>
              <a:xfrm>
                <a:off x="1452600" y="4181400"/>
                <a:ext cx="1249560" cy="37764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452600" y="4181400"/>
                <a:ext cx="1249560" cy="37764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1761840" y="4296960"/>
              <a:ext cx="87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PRICE mo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48680" y="44575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272240" y="3597840"/>
              <a:ext cx="1478880" cy="291600"/>
              <a:chOff x="1272240" y="3597840"/>
              <a:chExt cx="1478880" cy="291600"/>
            </a:xfrm>
          </p:grpSpPr>
          <p:sp>
            <p:nvSpPr>
              <p:cNvPr id="284" name=""/>
              <p:cNvSpPr/>
              <p:nvPr/>
            </p:nvSpPr>
            <p:spPr>
              <a:xfrm>
                <a:off x="1272240" y="3597840"/>
                <a:ext cx="1478880" cy="29160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72240" y="3597840"/>
                <a:ext cx="1478880" cy="29160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478160" y="3655800"/>
              <a:ext cx="116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RESOURCE mo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64760" y="37278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6141240" y="3712320"/>
              <a:ext cx="1380600" cy="294120"/>
              <a:chOff x="6141240" y="3712320"/>
              <a:chExt cx="1380600" cy="294120"/>
            </a:xfrm>
          </p:grpSpPr>
          <p:sp>
            <p:nvSpPr>
              <p:cNvPr id="289" name=""/>
              <p:cNvSpPr/>
              <p:nvPr/>
            </p:nvSpPr>
            <p:spPr>
              <a:xfrm>
                <a:off x="6141240" y="3712320"/>
                <a:ext cx="1380600" cy="29412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141240" y="3712320"/>
                <a:ext cx="1380600" cy="29412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6450840" y="3828960"/>
              <a:ext cx="97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SOCIAL mo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62360" y="3831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17040" y="3384720"/>
              <a:ext cx="2043000" cy="1845000"/>
            </a:xfrm>
            <a:prstGeom prst="ellipse">
              <a:avLst/>
            </a:prstGeom>
            <a:noFill/>
            <a:ln cap="rnd"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05520" y="3423240"/>
              <a:ext cx="68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META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83880" y="35373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1693800" y="4821480"/>
              <a:ext cx="1437480" cy="345600"/>
              <a:chOff x="1693800" y="4821480"/>
              <a:chExt cx="1437480" cy="345600"/>
            </a:xfrm>
          </p:grpSpPr>
          <p:sp>
            <p:nvSpPr>
              <p:cNvPr id="297" name=""/>
              <p:cNvSpPr/>
              <p:nvPr/>
            </p:nvSpPr>
            <p:spPr>
              <a:xfrm>
                <a:off x="1693800" y="4821480"/>
                <a:ext cx="1437480" cy="34560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693800" y="4821480"/>
                <a:ext cx="1437480" cy="34560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899360" y="4938120"/>
              <a:ext cx="1242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NUTRITION mo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5661000" y="4879080"/>
              <a:ext cx="1322280" cy="367200"/>
              <a:chOff x="5661000" y="4879080"/>
              <a:chExt cx="1322280" cy="36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5661000" y="4879080"/>
                <a:ext cx="1322280" cy="36720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661000" y="4879080"/>
                <a:ext cx="1322280" cy="36720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5727960" y="4995720"/>
              <a:ext cx="100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OTHER modu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70200" y="5517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438720" y="3538800"/>
              <a:ext cx="1783440" cy="1635120"/>
              <a:chOff x="3438720" y="3538800"/>
              <a:chExt cx="1783440" cy="1635120"/>
            </a:xfrm>
          </p:grpSpPr>
          <p:sp>
            <p:nvSpPr>
              <p:cNvPr id="306" name=""/>
              <p:cNvSpPr/>
              <p:nvPr/>
            </p:nvSpPr>
            <p:spPr>
              <a:xfrm>
                <a:off x="3438720" y="3538800"/>
                <a:ext cx="1783440" cy="1635120"/>
              </a:xfrm>
              <a:prstGeom prst="ellipse">
                <a:avLst/>
              </a:prstGeom>
              <a:solidFill>
                <a:srgbClr val="66ccff"/>
              </a:solidFill>
              <a:ln w="1908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38720" y="3538800"/>
                <a:ext cx="1783440" cy="1635120"/>
              </a:xfrm>
              <a:prstGeom prst="ellipse">
                <a:avLst/>
              </a:prstGeom>
              <a:solidFill>
                <a:srgbClr val="66ccff"/>
              </a:solidFill>
              <a:ln w="1908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3884040" y="4005360"/>
              <a:ext cx="8604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FAOS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CO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3677400" y="5637240"/>
              <a:ext cx="1381680" cy="698760"/>
              <a:chOff x="3677400" y="5637240"/>
              <a:chExt cx="1381680" cy="698760"/>
            </a:xfrm>
          </p:grpSpPr>
          <p:sp>
            <p:nvSpPr>
              <p:cNvPr id="310" name=""/>
              <p:cNvSpPr/>
              <p:nvPr/>
            </p:nvSpPr>
            <p:spPr>
              <a:xfrm>
                <a:off x="3677400" y="5637240"/>
                <a:ext cx="1381680" cy="698760"/>
              </a:xfrm>
              <a:prstGeom prst="ellipse">
                <a:avLst/>
              </a:prstGeom>
              <a:solidFill>
                <a:srgbClr val="ba5d00">
                  <a:alpha val="21000"/>
                </a:srgbClr>
              </a:solidFill>
              <a:ln w="0">
                <a:solidFill>
                  <a:srgbClr val="66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677400" y="5637240"/>
                <a:ext cx="1381680" cy="698760"/>
              </a:xfrm>
              <a:prstGeom prst="ellipse">
                <a:avLst/>
              </a:prstGeom>
              <a:noFill/>
              <a:ln cap="rnd" w="1908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3921120" y="6045840"/>
              <a:ext cx="98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CountryST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5299560" y="3072240"/>
              <a:ext cx="1562040" cy="293040"/>
              <a:chOff x="5299560" y="3072240"/>
              <a:chExt cx="1562040" cy="293040"/>
            </a:xfrm>
          </p:grpSpPr>
          <p:sp>
            <p:nvSpPr>
              <p:cNvPr id="314" name=""/>
              <p:cNvSpPr/>
              <p:nvPr/>
            </p:nvSpPr>
            <p:spPr>
              <a:xfrm>
                <a:off x="5299560" y="3072240"/>
                <a:ext cx="1562040" cy="29304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99560" y="3072240"/>
                <a:ext cx="1562040" cy="29304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5705640" y="3132720"/>
              <a:ext cx="114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FISHERIES mo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960880" y="4295520"/>
              <a:ext cx="1563840" cy="316080"/>
              <a:chOff x="5960880" y="4295520"/>
              <a:chExt cx="1563840" cy="316080"/>
            </a:xfrm>
          </p:grpSpPr>
          <p:sp>
            <p:nvSpPr>
              <p:cNvPr id="318" name=""/>
              <p:cNvSpPr/>
              <p:nvPr/>
            </p:nvSpPr>
            <p:spPr>
              <a:xfrm>
                <a:off x="5960880" y="4295520"/>
                <a:ext cx="1563840" cy="31608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60880" y="4295520"/>
                <a:ext cx="1563840" cy="31608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6341400" y="4413960"/>
              <a:ext cx="115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EXTERNAL mo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73080" y="1557360"/>
              <a:ext cx="6912000" cy="4896000"/>
            </a:xfrm>
            <a:prstGeom prst="ellipse">
              <a:avLst/>
            </a:prstGeom>
            <a:noFill/>
            <a:ln w="93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32960" y="4763160"/>
              <a:ext cx="1563480" cy="46512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18000" y="5578200"/>
              <a:ext cx="1502280" cy="81720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2840" y="3480840"/>
              <a:ext cx="1621800" cy="46512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73800" y="2897280"/>
              <a:ext cx="1683000" cy="46512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57160" y="2605680"/>
              <a:ext cx="1682640" cy="52560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99560" y="3014640"/>
              <a:ext cx="1621800" cy="40824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81120" y="3654360"/>
              <a:ext cx="1502640" cy="40716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01120" y="4237920"/>
              <a:ext cx="1682640" cy="40716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00520" y="4821480"/>
              <a:ext cx="1442880" cy="46476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92840" y="4122360"/>
              <a:ext cx="1382040" cy="46476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15480" y="2314080"/>
              <a:ext cx="342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FAOSTAT family -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Related data modu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6800" y="1731960"/>
              <a:ext cx="2224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Additional data modu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196440" y="4878720"/>
              <a:ext cx="29952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5120640" y="4995360"/>
              <a:ext cx="41976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420160" y="4412520"/>
              <a:ext cx="4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360040" y="3888360"/>
              <a:ext cx="66132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120640" y="3421800"/>
              <a:ext cx="2995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98480" y="318924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36560" y="3247200"/>
              <a:ext cx="4212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836080" y="3771360"/>
              <a:ext cx="54036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776320" y="4295520"/>
              <a:ext cx="48096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77880" y="528768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4459320" y="528768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11280" y="1125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FAOSTAT Family  - Core and Related Data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5867280" y="3645000"/>
            <a:ext cx="1152720" cy="358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95640" y="2637000"/>
            <a:ext cx="3240360" cy="358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95640" y="4941720"/>
            <a:ext cx="1513080" cy="358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80000" y="24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851280" y="2349360"/>
            <a:ext cx="1872720" cy="3816000"/>
            <a:chOff x="3851280" y="2349360"/>
            <a:chExt cx="1872720" cy="3816000"/>
          </a:xfrm>
        </p:grpSpPr>
        <p:sp>
          <p:nvSpPr>
            <p:cNvPr id="352" name=""/>
            <p:cNvSpPr/>
            <p:nvPr/>
          </p:nvSpPr>
          <p:spPr>
            <a:xfrm>
              <a:off x="3851280" y="2349360"/>
              <a:ext cx="0" cy="3816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51280" y="2349360"/>
              <a:ext cx="1872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51280" y="6165360"/>
              <a:ext cx="1872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24000" y="2349360"/>
              <a:ext cx="0" cy="3816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08000" y="2384280"/>
            <a:ext cx="1871640" cy="3781080"/>
            <a:chOff x="1908000" y="2384280"/>
            <a:chExt cx="1871640" cy="3781080"/>
          </a:xfrm>
        </p:grpSpPr>
        <p:sp>
          <p:nvSpPr>
            <p:cNvPr id="357" name=""/>
            <p:cNvSpPr/>
            <p:nvPr/>
          </p:nvSpPr>
          <p:spPr>
            <a:xfrm>
              <a:off x="1908000" y="2384280"/>
              <a:ext cx="18716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08000" y="6165360"/>
              <a:ext cx="18716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79640" y="2384280"/>
              <a:ext cx="0" cy="3781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08000" y="2384280"/>
              <a:ext cx="0" cy="3781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195280" y="1629000"/>
            <a:ext cx="3313080" cy="1726920"/>
            <a:chOff x="2195280" y="1629000"/>
            <a:chExt cx="3313080" cy="1726920"/>
          </a:xfrm>
        </p:grpSpPr>
        <p:sp>
          <p:nvSpPr>
            <p:cNvPr id="362" name=""/>
            <p:cNvSpPr/>
            <p:nvPr/>
          </p:nvSpPr>
          <p:spPr>
            <a:xfrm flipV="1">
              <a:off x="5508360" y="1629000"/>
              <a:ext cx="0" cy="1726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195280" y="3355920"/>
              <a:ext cx="33130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195280" y="1629360"/>
              <a:ext cx="3313080" cy="1726560"/>
              <a:chOff x="2195280" y="1629360"/>
              <a:chExt cx="3313080" cy="1726560"/>
            </a:xfrm>
          </p:grpSpPr>
          <p:sp>
            <p:nvSpPr>
              <p:cNvPr id="365" name=""/>
              <p:cNvSpPr/>
              <p:nvPr/>
            </p:nvSpPr>
            <p:spPr>
              <a:xfrm flipH="1">
                <a:off x="2195280" y="1629360"/>
                <a:ext cx="331308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195280" y="1629360"/>
                <a:ext cx="0" cy="1726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"/>
          <p:cNvSpPr/>
          <p:nvPr/>
        </p:nvSpPr>
        <p:spPr>
          <a:xfrm>
            <a:off x="4217040" y="573408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47920" y="234936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0800000">
            <a:off x="1327320" y="3645000"/>
            <a:ext cx="3628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onom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187640" y="3500640"/>
            <a:ext cx="6048360" cy="2089440"/>
            <a:chOff x="1187640" y="3500640"/>
            <a:chExt cx="6048360" cy="2089440"/>
          </a:xfrm>
        </p:grpSpPr>
        <p:sp>
          <p:nvSpPr>
            <p:cNvPr id="371" name=""/>
            <p:cNvSpPr/>
            <p:nvPr/>
          </p:nvSpPr>
          <p:spPr>
            <a:xfrm flipH="1">
              <a:off x="1187640" y="5589720"/>
              <a:ext cx="60483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236000" y="3500640"/>
              <a:ext cx="0" cy="20890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187640" y="3500640"/>
              <a:ext cx="60483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87640" y="3501000"/>
              <a:ext cx="0" cy="20890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208680" y="177336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r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924360" y="2205000"/>
            <a:ext cx="3816000" cy="2015640"/>
            <a:chOff x="3924360" y="2205000"/>
            <a:chExt cx="3816000" cy="2015640"/>
          </a:xfrm>
        </p:grpSpPr>
        <p:sp>
          <p:nvSpPr>
            <p:cNvPr id="377" name=""/>
            <p:cNvSpPr/>
            <p:nvPr/>
          </p:nvSpPr>
          <p:spPr>
            <a:xfrm>
              <a:off x="7740360" y="2205000"/>
              <a:ext cx="0" cy="201564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24360" y="2205000"/>
              <a:ext cx="0" cy="201564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3924360" y="4220640"/>
              <a:ext cx="381600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924360" y="2205000"/>
              <a:ext cx="381600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411280" y="3645000"/>
            <a:ext cx="1224000" cy="431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pu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48000" y="4797360"/>
            <a:ext cx="1224000" cy="432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utpu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11280" y="2637000"/>
            <a:ext cx="1224000" cy="431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de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95640" y="573408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r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New FAOSTAT Core Framework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1116000" y="1557360"/>
            <a:ext cx="6984720" cy="4392720"/>
            <a:chOff x="1116000" y="1557360"/>
            <a:chExt cx="6984720" cy="4392720"/>
          </a:xfrm>
        </p:grpSpPr>
        <p:sp>
          <p:nvSpPr>
            <p:cNvPr id="388" name=""/>
            <p:cNvSpPr/>
            <p:nvPr/>
          </p:nvSpPr>
          <p:spPr>
            <a:xfrm>
              <a:off x="1693440" y="1557360"/>
              <a:ext cx="2654640" cy="4446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37160" y="1557360"/>
              <a:ext cx="1038240" cy="4446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T INPU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07240" y="1557360"/>
              <a:ext cx="633600" cy="4446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16000" y="2113560"/>
              <a:ext cx="461880" cy="1000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93440" y="2113560"/>
              <a:ext cx="2654640" cy="1000080"/>
            </a:xfrm>
            <a:prstGeom prst="rect">
              <a:avLst/>
            </a:prstGeom>
            <a:solidFill>
              <a:srgbClr val="fbdc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-OUT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93440" y="3224160"/>
              <a:ext cx="2654640" cy="276840"/>
            </a:xfrm>
            <a:prstGeom prst="rect">
              <a:avLst/>
            </a:prstGeom>
            <a:solidFill>
              <a:srgbClr val="99d1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93440" y="3557520"/>
              <a:ext cx="2654640" cy="277920"/>
            </a:xfrm>
            <a:prstGeom prst="rect">
              <a:avLst/>
            </a:prstGeom>
            <a:solidFill>
              <a:srgbClr val="c7ee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 NET PRODUCT TRADE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93440" y="3890880"/>
              <a:ext cx="2654640" cy="277920"/>
            </a:xfrm>
            <a:prstGeom prst="rect">
              <a:avLst/>
            </a:prstGeom>
            <a:solidFill>
              <a:srgbClr val="d2d06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 SEED + FEED + WASTE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93440" y="4224240"/>
              <a:ext cx="2654640" cy="277920"/>
            </a:xfrm>
            <a:prstGeom prst="rect">
              <a:avLst/>
            </a:prstGeom>
            <a:solidFill>
              <a:srgbClr val="e0c9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 STOCK CHANGE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93440" y="4557600"/>
              <a:ext cx="2654640" cy="277920"/>
            </a:xfrm>
            <a:prstGeom prst="rect">
              <a:avLst/>
            </a:prstGeom>
            <a:solidFill>
              <a:srgbClr val="c1dd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CONSUM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93440" y="5004000"/>
              <a:ext cx="2654640" cy="443520"/>
            </a:xfrm>
            <a:prstGeom prst="rect">
              <a:avLst/>
            </a:prstGeom>
            <a:solidFill>
              <a:srgbClr val="efaba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( NUTRI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ONVERSION  COEFFICIENTS 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93440" y="5504040"/>
              <a:ext cx="2654640" cy="446040"/>
            </a:xfrm>
            <a:prstGeom prst="rect">
              <a:avLst/>
            </a:prstGeom>
            <a:solidFill>
              <a:srgbClr val="e574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NUTRIENT CONSUM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16000" y="3224160"/>
              <a:ext cx="461880" cy="27244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TION TO F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94400" y="2112120"/>
              <a:ext cx="404640" cy="1000080"/>
            </a:xfrm>
            <a:prstGeom prst="rect">
              <a:avLst/>
            </a:prstGeom>
            <a:solidFill>
              <a:srgbClr val="c7ee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14960" y="2112120"/>
              <a:ext cx="403200" cy="1000080"/>
            </a:xfrm>
            <a:prstGeom prst="rect">
              <a:avLst/>
            </a:prstGeom>
            <a:solidFill>
              <a:srgbClr val="c7ee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83120" y="2445840"/>
              <a:ext cx="3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79920" y="5004000"/>
              <a:ext cx="980640" cy="945000"/>
            </a:xfrm>
            <a:prstGeom prst="rect">
              <a:avLst/>
            </a:prstGeom>
            <a:solidFill>
              <a:srgbClr val="e574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t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tri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22800" y="2112120"/>
              <a:ext cx="404280" cy="1000080"/>
            </a:xfrm>
            <a:prstGeom prst="rect">
              <a:avLst/>
            </a:prstGeom>
            <a:solidFill>
              <a:srgbClr val="87bd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8320" y="24458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18160" y="2445840"/>
              <a:ext cx="3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07360" y="1557360"/>
              <a:ext cx="693360" cy="4446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T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VAIL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99520" y="1557360"/>
              <a:ext cx="634680" cy="4446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USE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15080" y="2112120"/>
              <a:ext cx="404280" cy="1000080"/>
            </a:xfrm>
            <a:prstGeom prst="rect">
              <a:avLst/>
            </a:prstGeom>
            <a:solidFill>
              <a:srgbClr val="d2d06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80520" y="2112120"/>
              <a:ext cx="403200" cy="1000080"/>
            </a:xfrm>
            <a:prstGeom prst="rect">
              <a:avLst/>
            </a:prstGeom>
            <a:solidFill>
              <a:srgbClr val="76d88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95400" y="24458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18640" y="2445840"/>
              <a:ext cx="4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18160" y="5004000"/>
              <a:ext cx="1211400" cy="322200"/>
            </a:xfrm>
            <a:prstGeom prst="rect">
              <a:avLst/>
            </a:prstGeom>
            <a:solidFill>
              <a:srgbClr val="e574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d 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18160" y="5392440"/>
              <a:ext cx="1211400" cy="556200"/>
            </a:xfrm>
            <a:prstGeom prst="rect">
              <a:avLst/>
            </a:prstGeom>
            <a:solidFill>
              <a:srgbClr val="e574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tr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ir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88240" y="5004000"/>
              <a:ext cx="1212480" cy="945000"/>
            </a:xfrm>
            <a:prstGeom prst="rect">
              <a:avLst/>
            </a:prstGeom>
            <a:solidFill>
              <a:srgbClr val="e574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ernourish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258920" y="10526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FAOSTAT Core Food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6:11:55Z</dcterms:created>
  <dc:creator>Robert Mayo, FAO</dc:creator>
  <dc:description/>
  <dc:language>en-US</dc:language>
  <cp:lastModifiedBy>CoviRo</cp:lastModifiedBy>
  <dcterms:modified xsi:type="dcterms:W3CDTF">2005-09-16T15:52:34Z</dcterms:modified>
  <cp:revision>4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3989950</vt:r8>
  </property>
  <property fmtid="{D5CDD505-2E9C-101B-9397-08002B2CF9AE}" pid="3" name="_AuthorEmail">
    <vt:lpwstr>Frank.Schmitt@fao.org</vt:lpwstr>
  </property>
  <property fmtid="{D5CDD505-2E9C-101B-9397-08002B2CF9AE}" pid="4" name="_AuthorEmailDisplayName">
    <vt:lpwstr>Schmitt, Frank (ESSD)</vt:lpwstr>
  </property>
  <property fmtid="{D5CDD505-2E9C-101B-9397-08002B2CF9AE}" pid="5" name="_EmailSubject">
    <vt:lpwstr>Classification.ppt</vt:lpwstr>
  </property>
  <property fmtid="{D5CDD505-2E9C-101B-9397-08002B2CF9AE}" pid="6" name="_ReviewingToolsShownOnce">
    <vt:lpwstr/>
  </property>
</Properties>
</file>