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DDD2B-54F2-4447-BCCF-28623357C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DC183-4D08-48AF-9A82-FFDB632F5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F47B0-4D2B-4F99-87CA-6003C284E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89B02-FC69-4FEC-9F06-4D786704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6B917-4169-438D-8F93-5C0B9E716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113BC-585F-4F3E-B334-7E2770A75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F969-4E58-4C3E-A30F-4A91FF48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316F-76CF-49FB-965E-A441B5C4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D075A-482C-48E0-AB66-B4B64533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BA5F-F5D9-453B-B461-523836C1E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F3B5-5425-4A7D-ABFA-EC8EE1B7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E3E0-8E40-46E3-8CF2-4DEE600E8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9D51-26E0-49BF-8E06-495FF7B8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sb.no/english/"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Times New Roman"/>
              </a:rPr>
              <a:t>GPS Equipment for Agricultural Statistics Surveys:</a:t>
            </a:r>
            <a:br>
              <a:rPr sz="3600"/>
            </a:br>
            <a:r>
              <a:rPr b="1" lang="nb-NO" sz="2000" spc="-1" strike="noStrike">
                <a:solidFill>
                  <a:srgbClr val="000000"/>
                </a:solidFill>
                <a:latin typeface="Arial"/>
                <a:ea typeface="Times New Roman"/>
              </a:rPr>
              <a:t>Lessons Learned From Fieldwork in Uganda - 2003</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295280" y="3428640"/>
            <a:ext cx="6553440" cy="16002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at the Third International Conference on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Statistics MEXSAI-ICAS-III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un, Mexico;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to 4</a:t>
            </a:r>
            <a:r>
              <a:rPr b="0" lang="en-US" sz="2000" spc="-1" strike="noStrike" baseline="30000">
                <a:solidFill>
                  <a:srgbClr val="000000"/>
                </a:solidFill>
                <a:latin typeface="Arial"/>
              </a:rPr>
              <a:t>th</a:t>
            </a:r>
            <a:r>
              <a:rPr b="0" lang="en-US" sz="2000" spc="-1" strike="noStrike">
                <a:solidFill>
                  <a:srgbClr val="000000"/>
                </a:solidFill>
                <a:latin typeface="Arial"/>
              </a:rPr>
              <a:t>  November 2004</a:t>
            </a:r>
            <a:endParaRPr b="0" lang="en-US" sz="2000" spc="-1" strike="noStrike">
              <a:solidFill>
                <a:srgbClr val="000000"/>
              </a:solidFill>
              <a:latin typeface="Times New Roman"/>
            </a:endParaRPr>
          </a:p>
        </p:txBody>
      </p:sp>
      <p:pic>
        <p:nvPicPr>
          <p:cNvPr id="43" name="uboslogo" descr=""/>
          <p:cNvPicPr/>
          <p:nvPr/>
        </p:nvPicPr>
        <p:blipFill>
          <a:blip r:embed="rId1"/>
          <a:stretch/>
        </p:blipFill>
        <p:spPr>
          <a:xfrm>
            <a:off x="281160" y="247680"/>
            <a:ext cx="1471320" cy="1239840"/>
          </a:xfrm>
          <a:prstGeom prst="rect">
            <a:avLst/>
          </a:prstGeom>
          <a:ln w="0">
            <a:noFill/>
          </a:ln>
        </p:spPr>
      </p:pic>
      <p:pic>
        <p:nvPicPr>
          <p:cNvPr id="44" name="logo-en" descr="Statistics Norway">
            <a:hlinkClick r:id="rId2"/>
          </p:cNvPr>
          <p:cNvPicPr/>
          <p:nvPr/>
        </p:nvPicPr>
        <p:blipFill>
          <a:blip r:embed="rId3"/>
          <a:stretch/>
        </p:blipFill>
        <p:spPr>
          <a:xfrm>
            <a:off x="4876920" y="533520"/>
            <a:ext cx="4038480" cy="787320"/>
          </a:xfrm>
          <a:prstGeom prst="rect">
            <a:avLst/>
          </a:prstGeom>
          <a:ln w="0">
            <a:noFill/>
          </a:ln>
        </p:spPr>
      </p:pic>
      <p:sp>
        <p:nvSpPr>
          <p:cNvPr id="45" name=""/>
          <p:cNvSpPr/>
          <p:nvPr/>
        </p:nvSpPr>
        <p:spPr>
          <a:xfrm>
            <a:off x="533520" y="5181480"/>
            <a:ext cx="8001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S. K. Muwanga-Zake, J. Magezi-Apuuli, E. Menyha and P. Sch</a:t>
            </a:r>
            <a:r>
              <a:rPr b="1" lang="en-US" sz="2000" spc="-1" strike="noStrike">
                <a:solidFill>
                  <a:srgbClr val="000000"/>
                </a:solidFill>
                <a:latin typeface="Times New Roman"/>
                <a:ea typeface="Times New Roman"/>
              </a:rPr>
              <a:t>ø</a:t>
            </a:r>
            <a:r>
              <a:rPr b="1" lang="en-US" sz="2000" spc="-1" strike="noStrike">
                <a:solidFill>
                  <a:srgbClr val="000000"/>
                </a:solidFill>
                <a:latin typeface="Times New Roman"/>
              </a:rPr>
              <a:t>n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2B426A-11D3-43A4-AE85-B1F112C29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Measured (PCA)</a:t>
            </a:r>
            <a:endParaRPr b="0" lang="en-US" sz="4400" spc="-1" strike="noStrike">
              <a:solidFill>
                <a:srgbClr val="000000"/>
              </a:solidFill>
              <a:latin typeface="Times New Roman"/>
            </a:endParaRPr>
          </a:p>
        </p:txBody>
      </p:sp>
      <p:sp>
        <p:nvSpPr>
          <p:cNvPr id="74" name=""/>
          <p:cNvSpPr/>
          <p:nvPr/>
        </p:nvSpPr>
        <p:spPr>
          <a:xfrm>
            <a:off x="4495680" y="2063880"/>
            <a:ext cx="2243160" cy="2584440"/>
          </a:xfrm>
          <a:custGeom>
            <a:avLst/>
            <a:gdLst/>
            <a:ahLst/>
            <a:rect l="l" t="t" r="r" b="b"/>
            <a:pathLst>
              <a:path w="1413" h="1628">
                <a:moveTo>
                  <a:pt x="384" y="14"/>
                </a:moveTo>
                <a:cubicBezTo>
                  <a:pt x="341" y="57"/>
                  <a:pt x="338" y="56"/>
                  <a:pt x="302" y="110"/>
                </a:cubicBezTo>
                <a:cubicBezTo>
                  <a:pt x="263" y="168"/>
                  <a:pt x="254" y="212"/>
                  <a:pt x="206" y="260"/>
                </a:cubicBezTo>
                <a:cubicBezTo>
                  <a:pt x="180" y="338"/>
                  <a:pt x="209" y="271"/>
                  <a:pt x="137" y="356"/>
                </a:cubicBezTo>
                <a:cubicBezTo>
                  <a:pt x="44" y="465"/>
                  <a:pt x="166" y="335"/>
                  <a:pt x="96" y="439"/>
                </a:cubicBezTo>
                <a:cubicBezTo>
                  <a:pt x="85" y="455"/>
                  <a:pt x="67" y="465"/>
                  <a:pt x="55" y="480"/>
                </a:cubicBezTo>
                <a:cubicBezTo>
                  <a:pt x="35" y="506"/>
                  <a:pt x="0" y="562"/>
                  <a:pt x="0" y="562"/>
                </a:cubicBezTo>
                <a:cubicBezTo>
                  <a:pt x="33" y="660"/>
                  <a:pt x="12" y="620"/>
                  <a:pt x="55" y="686"/>
                </a:cubicBezTo>
                <a:cubicBezTo>
                  <a:pt x="82" y="791"/>
                  <a:pt x="117" y="898"/>
                  <a:pt x="151" y="1001"/>
                </a:cubicBezTo>
                <a:cubicBezTo>
                  <a:pt x="175" y="1074"/>
                  <a:pt x="163" y="1081"/>
                  <a:pt x="220" y="1138"/>
                </a:cubicBezTo>
                <a:cubicBezTo>
                  <a:pt x="234" y="1182"/>
                  <a:pt x="240" y="1233"/>
                  <a:pt x="261" y="1275"/>
                </a:cubicBezTo>
                <a:cubicBezTo>
                  <a:pt x="298" y="1348"/>
                  <a:pt x="282" y="1283"/>
                  <a:pt x="302" y="1358"/>
                </a:cubicBezTo>
                <a:cubicBezTo>
                  <a:pt x="324" y="1439"/>
                  <a:pt x="327" y="1484"/>
                  <a:pt x="371" y="1550"/>
                </a:cubicBezTo>
                <a:cubicBezTo>
                  <a:pt x="375" y="1568"/>
                  <a:pt x="369" y="1593"/>
                  <a:pt x="384" y="1604"/>
                </a:cubicBezTo>
                <a:cubicBezTo>
                  <a:pt x="416" y="1628"/>
                  <a:pt x="470" y="1533"/>
                  <a:pt x="480" y="1522"/>
                </a:cubicBezTo>
                <a:cubicBezTo>
                  <a:pt x="560" y="1431"/>
                  <a:pt x="670" y="1312"/>
                  <a:pt x="768" y="1248"/>
                </a:cubicBezTo>
                <a:cubicBezTo>
                  <a:pt x="815" y="1179"/>
                  <a:pt x="891" y="1129"/>
                  <a:pt x="960" y="1083"/>
                </a:cubicBezTo>
                <a:cubicBezTo>
                  <a:pt x="1007" y="1052"/>
                  <a:pt x="972" y="1058"/>
                  <a:pt x="1015" y="1015"/>
                </a:cubicBezTo>
                <a:cubicBezTo>
                  <a:pt x="1040" y="990"/>
                  <a:pt x="1068" y="968"/>
                  <a:pt x="1097" y="946"/>
                </a:cubicBezTo>
                <a:cubicBezTo>
                  <a:pt x="1123" y="926"/>
                  <a:pt x="1152" y="909"/>
                  <a:pt x="1180" y="891"/>
                </a:cubicBezTo>
                <a:cubicBezTo>
                  <a:pt x="1214" y="869"/>
                  <a:pt x="1260" y="864"/>
                  <a:pt x="1289" y="836"/>
                </a:cubicBezTo>
                <a:cubicBezTo>
                  <a:pt x="1327" y="799"/>
                  <a:pt x="1366" y="778"/>
                  <a:pt x="1413" y="754"/>
                </a:cubicBezTo>
                <a:cubicBezTo>
                  <a:pt x="1408" y="736"/>
                  <a:pt x="1410" y="714"/>
                  <a:pt x="1399" y="699"/>
                </a:cubicBezTo>
                <a:cubicBezTo>
                  <a:pt x="1377" y="667"/>
                  <a:pt x="1339" y="649"/>
                  <a:pt x="1317" y="617"/>
                </a:cubicBezTo>
                <a:cubicBezTo>
                  <a:pt x="1308" y="603"/>
                  <a:pt x="1300" y="588"/>
                  <a:pt x="1289" y="576"/>
                </a:cubicBezTo>
                <a:cubicBezTo>
                  <a:pt x="1217" y="495"/>
                  <a:pt x="1133" y="443"/>
                  <a:pt x="1043" y="384"/>
                </a:cubicBezTo>
                <a:cubicBezTo>
                  <a:pt x="1008" y="361"/>
                  <a:pt x="950" y="315"/>
                  <a:pt x="919" y="288"/>
                </a:cubicBezTo>
                <a:cubicBezTo>
                  <a:pt x="899" y="271"/>
                  <a:pt x="886" y="247"/>
                  <a:pt x="864" y="233"/>
                </a:cubicBezTo>
                <a:cubicBezTo>
                  <a:pt x="837" y="215"/>
                  <a:pt x="812" y="193"/>
                  <a:pt x="782" y="178"/>
                </a:cubicBezTo>
                <a:cubicBezTo>
                  <a:pt x="764" y="169"/>
                  <a:pt x="745" y="161"/>
                  <a:pt x="727" y="151"/>
                </a:cubicBezTo>
                <a:cubicBezTo>
                  <a:pt x="667" y="115"/>
                  <a:pt x="628" y="75"/>
                  <a:pt x="563" y="55"/>
                </a:cubicBezTo>
                <a:cubicBezTo>
                  <a:pt x="518" y="25"/>
                  <a:pt x="476" y="17"/>
                  <a:pt x="425" y="0"/>
                </a:cubicBezTo>
                <a:cubicBezTo>
                  <a:pt x="380" y="29"/>
                  <a:pt x="384" y="43"/>
                  <a:pt x="384" y="1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56080" y="3384720"/>
            <a:ext cx="3178440" cy="3092400"/>
          </a:xfrm>
          <a:custGeom>
            <a:avLst/>
            <a:gdLst/>
            <a:ahLst/>
            <a:rect l="l" t="t" r="r" b="b"/>
            <a:pathLst>
              <a:path w="2002" h="1948">
                <a:moveTo>
                  <a:pt x="1001" y="0"/>
                </a:moveTo>
                <a:cubicBezTo>
                  <a:pt x="906" y="33"/>
                  <a:pt x="853" y="132"/>
                  <a:pt x="754" y="165"/>
                </a:cubicBezTo>
                <a:cubicBezTo>
                  <a:pt x="718" y="220"/>
                  <a:pt x="666" y="246"/>
                  <a:pt x="617" y="288"/>
                </a:cubicBezTo>
                <a:cubicBezTo>
                  <a:pt x="533" y="360"/>
                  <a:pt x="597" y="331"/>
                  <a:pt x="521" y="357"/>
                </a:cubicBezTo>
                <a:cubicBezTo>
                  <a:pt x="486" y="411"/>
                  <a:pt x="437" y="431"/>
                  <a:pt x="384" y="466"/>
                </a:cubicBezTo>
                <a:cubicBezTo>
                  <a:pt x="334" y="542"/>
                  <a:pt x="306" y="576"/>
                  <a:pt x="233" y="631"/>
                </a:cubicBezTo>
                <a:cubicBezTo>
                  <a:pt x="187" y="701"/>
                  <a:pt x="110" y="783"/>
                  <a:pt x="28" y="809"/>
                </a:cubicBezTo>
                <a:cubicBezTo>
                  <a:pt x="19" y="818"/>
                  <a:pt x="0" y="824"/>
                  <a:pt x="0" y="837"/>
                </a:cubicBezTo>
                <a:cubicBezTo>
                  <a:pt x="0" y="904"/>
                  <a:pt x="31" y="912"/>
                  <a:pt x="55" y="960"/>
                </a:cubicBezTo>
                <a:cubicBezTo>
                  <a:pt x="92" y="1035"/>
                  <a:pt x="90" y="1127"/>
                  <a:pt x="110" y="1207"/>
                </a:cubicBezTo>
                <a:cubicBezTo>
                  <a:pt x="122" y="1254"/>
                  <a:pt x="120" y="1243"/>
                  <a:pt x="151" y="1276"/>
                </a:cubicBezTo>
                <a:cubicBezTo>
                  <a:pt x="162" y="1354"/>
                  <a:pt x="175" y="1432"/>
                  <a:pt x="192" y="1509"/>
                </a:cubicBezTo>
                <a:cubicBezTo>
                  <a:pt x="200" y="1546"/>
                  <a:pt x="211" y="1582"/>
                  <a:pt x="220" y="1618"/>
                </a:cubicBezTo>
                <a:cubicBezTo>
                  <a:pt x="225" y="1636"/>
                  <a:pt x="233" y="1673"/>
                  <a:pt x="233" y="1673"/>
                </a:cubicBezTo>
                <a:cubicBezTo>
                  <a:pt x="238" y="1742"/>
                  <a:pt x="239" y="1811"/>
                  <a:pt x="247" y="1879"/>
                </a:cubicBezTo>
                <a:cubicBezTo>
                  <a:pt x="249" y="1893"/>
                  <a:pt x="248" y="1913"/>
                  <a:pt x="261" y="1920"/>
                </a:cubicBezTo>
                <a:cubicBezTo>
                  <a:pt x="294" y="1938"/>
                  <a:pt x="370" y="1948"/>
                  <a:pt x="370" y="1948"/>
                </a:cubicBezTo>
                <a:cubicBezTo>
                  <a:pt x="420" y="1943"/>
                  <a:pt x="471" y="1941"/>
                  <a:pt x="521" y="1934"/>
                </a:cubicBezTo>
                <a:cubicBezTo>
                  <a:pt x="535" y="1932"/>
                  <a:pt x="548" y="1920"/>
                  <a:pt x="562" y="1920"/>
                </a:cubicBezTo>
                <a:cubicBezTo>
                  <a:pt x="646" y="1920"/>
                  <a:pt x="811" y="1938"/>
                  <a:pt x="905" y="1948"/>
                </a:cubicBezTo>
                <a:cubicBezTo>
                  <a:pt x="1270" y="1936"/>
                  <a:pt x="1638" y="1937"/>
                  <a:pt x="2002" y="1906"/>
                </a:cubicBezTo>
                <a:cubicBezTo>
                  <a:pt x="1917" y="1649"/>
                  <a:pt x="1922" y="1380"/>
                  <a:pt x="1906" y="1111"/>
                </a:cubicBezTo>
                <a:cubicBezTo>
                  <a:pt x="1894" y="896"/>
                  <a:pt x="1862" y="681"/>
                  <a:pt x="1852" y="466"/>
                </a:cubicBezTo>
                <a:cubicBezTo>
                  <a:pt x="1847" y="366"/>
                  <a:pt x="1866" y="261"/>
                  <a:pt x="1838" y="165"/>
                </a:cubicBezTo>
                <a:cubicBezTo>
                  <a:pt x="1830" y="137"/>
                  <a:pt x="1783" y="146"/>
                  <a:pt x="1756" y="137"/>
                </a:cubicBezTo>
                <a:cubicBezTo>
                  <a:pt x="1669" y="107"/>
                  <a:pt x="1573" y="128"/>
                  <a:pt x="1481" y="124"/>
                </a:cubicBezTo>
                <a:cubicBezTo>
                  <a:pt x="1467" y="119"/>
                  <a:pt x="1454" y="114"/>
                  <a:pt x="1440" y="110"/>
                </a:cubicBezTo>
                <a:cubicBezTo>
                  <a:pt x="1418" y="104"/>
                  <a:pt x="1394" y="103"/>
                  <a:pt x="1372" y="96"/>
                </a:cubicBezTo>
                <a:cubicBezTo>
                  <a:pt x="1353" y="90"/>
                  <a:pt x="1336" y="77"/>
                  <a:pt x="1317" y="69"/>
                </a:cubicBezTo>
                <a:cubicBezTo>
                  <a:pt x="1266" y="47"/>
                  <a:pt x="1270" y="58"/>
                  <a:pt x="1207" y="41"/>
                </a:cubicBezTo>
                <a:cubicBezTo>
                  <a:pt x="1179" y="33"/>
                  <a:pt x="1152" y="23"/>
                  <a:pt x="1125" y="14"/>
                </a:cubicBezTo>
                <a:cubicBezTo>
                  <a:pt x="1111" y="9"/>
                  <a:pt x="1084" y="0"/>
                  <a:pt x="1084" y="0"/>
                </a:cubicBezTo>
                <a:cubicBezTo>
                  <a:pt x="964" y="15"/>
                  <a:pt x="941" y="31"/>
                  <a:pt x="1001" y="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283440" y="3387600"/>
            <a:ext cx="2046240" cy="1271880"/>
          </a:xfrm>
          <a:custGeom>
            <a:avLst/>
            <a:gdLst/>
            <a:ahLst/>
            <a:rect l="l" t="t" r="r" b="b"/>
            <a:pathLst>
              <a:path w="1289" h="801">
                <a:moveTo>
                  <a:pt x="5" y="335"/>
                </a:moveTo>
                <a:cubicBezTo>
                  <a:pt x="67" y="396"/>
                  <a:pt x="102" y="444"/>
                  <a:pt x="184" y="472"/>
                </a:cubicBezTo>
                <a:cubicBezTo>
                  <a:pt x="225" y="535"/>
                  <a:pt x="199" y="501"/>
                  <a:pt x="266" y="568"/>
                </a:cubicBezTo>
                <a:cubicBezTo>
                  <a:pt x="280" y="582"/>
                  <a:pt x="307" y="609"/>
                  <a:pt x="307" y="609"/>
                </a:cubicBezTo>
                <a:cubicBezTo>
                  <a:pt x="337" y="696"/>
                  <a:pt x="413" y="758"/>
                  <a:pt x="499" y="787"/>
                </a:cubicBezTo>
                <a:cubicBezTo>
                  <a:pt x="569" y="719"/>
                  <a:pt x="518" y="755"/>
                  <a:pt x="705" y="773"/>
                </a:cubicBezTo>
                <a:cubicBezTo>
                  <a:pt x="787" y="781"/>
                  <a:pt x="870" y="793"/>
                  <a:pt x="952" y="801"/>
                </a:cubicBezTo>
                <a:cubicBezTo>
                  <a:pt x="1066" y="784"/>
                  <a:pt x="1070" y="770"/>
                  <a:pt x="1185" y="787"/>
                </a:cubicBezTo>
                <a:cubicBezTo>
                  <a:pt x="1199" y="782"/>
                  <a:pt x="1212" y="777"/>
                  <a:pt x="1226" y="773"/>
                </a:cubicBezTo>
                <a:cubicBezTo>
                  <a:pt x="1244" y="768"/>
                  <a:pt x="1276" y="778"/>
                  <a:pt x="1281" y="760"/>
                </a:cubicBezTo>
                <a:cubicBezTo>
                  <a:pt x="1289" y="732"/>
                  <a:pt x="1253" y="677"/>
                  <a:pt x="1253" y="677"/>
                </a:cubicBezTo>
                <a:cubicBezTo>
                  <a:pt x="1249" y="540"/>
                  <a:pt x="1248" y="403"/>
                  <a:pt x="1240" y="266"/>
                </a:cubicBezTo>
                <a:cubicBezTo>
                  <a:pt x="1239" y="247"/>
                  <a:pt x="1241" y="222"/>
                  <a:pt x="1226" y="211"/>
                </a:cubicBezTo>
                <a:cubicBezTo>
                  <a:pt x="1203" y="195"/>
                  <a:pt x="1172" y="197"/>
                  <a:pt x="1144" y="197"/>
                </a:cubicBezTo>
                <a:cubicBezTo>
                  <a:pt x="1121" y="197"/>
                  <a:pt x="1189" y="206"/>
                  <a:pt x="1212" y="211"/>
                </a:cubicBezTo>
                <a:cubicBezTo>
                  <a:pt x="1221" y="220"/>
                  <a:pt x="1228" y="243"/>
                  <a:pt x="1240" y="239"/>
                </a:cubicBezTo>
                <a:cubicBezTo>
                  <a:pt x="1254" y="234"/>
                  <a:pt x="1259" y="211"/>
                  <a:pt x="1253" y="197"/>
                </a:cubicBezTo>
                <a:cubicBezTo>
                  <a:pt x="1244" y="174"/>
                  <a:pt x="1173" y="158"/>
                  <a:pt x="1157" y="156"/>
                </a:cubicBezTo>
                <a:cubicBezTo>
                  <a:pt x="1029" y="144"/>
                  <a:pt x="901" y="141"/>
                  <a:pt x="773" y="129"/>
                </a:cubicBezTo>
                <a:cubicBezTo>
                  <a:pt x="694" y="113"/>
                  <a:pt x="629" y="86"/>
                  <a:pt x="554" y="60"/>
                </a:cubicBezTo>
                <a:cubicBezTo>
                  <a:pt x="540" y="46"/>
                  <a:pt x="532" y="23"/>
                  <a:pt x="513" y="19"/>
                </a:cubicBezTo>
                <a:cubicBezTo>
                  <a:pt x="414" y="0"/>
                  <a:pt x="436" y="25"/>
                  <a:pt x="389" y="60"/>
                </a:cubicBezTo>
                <a:cubicBezTo>
                  <a:pt x="322" y="110"/>
                  <a:pt x="249" y="172"/>
                  <a:pt x="170" y="197"/>
                </a:cubicBezTo>
                <a:cubicBezTo>
                  <a:pt x="39" y="331"/>
                  <a:pt x="211" y="161"/>
                  <a:pt x="88" y="266"/>
                </a:cubicBezTo>
                <a:cubicBezTo>
                  <a:pt x="0" y="341"/>
                  <a:pt x="67" y="304"/>
                  <a:pt x="5" y="335"/>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15120" y="3971880"/>
            <a:ext cx="1971360" cy="2529000"/>
          </a:xfrm>
          <a:custGeom>
            <a:avLst/>
            <a:gdLst/>
            <a:ahLst/>
            <a:rect l="l" t="t" r="r" b="b"/>
            <a:pathLst>
              <a:path w="1242" h="1593">
                <a:moveTo>
                  <a:pt x="549" y="0"/>
                </a:moveTo>
                <a:cubicBezTo>
                  <a:pt x="540" y="3"/>
                  <a:pt x="528" y="2"/>
                  <a:pt x="522" y="9"/>
                </a:cubicBezTo>
                <a:cubicBezTo>
                  <a:pt x="508" y="26"/>
                  <a:pt x="522" y="60"/>
                  <a:pt x="504" y="72"/>
                </a:cubicBezTo>
                <a:cubicBezTo>
                  <a:pt x="491" y="80"/>
                  <a:pt x="474" y="78"/>
                  <a:pt x="459" y="81"/>
                </a:cubicBezTo>
                <a:cubicBezTo>
                  <a:pt x="428" y="96"/>
                  <a:pt x="402" y="115"/>
                  <a:pt x="369" y="126"/>
                </a:cubicBezTo>
                <a:cubicBezTo>
                  <a:pt x="348" y="190"/>
                  <a:pt x="378" y="113"/>
                  <a:pt x="333" y="180"/>
                </a:cubicBezTo>
                <a:cubicBezTo>
                  <a:pt x="328" y="188"/>
                  <a:pt x="330" y="200"/>
                  <a:pt x="324" y="207"/>
                </a:cubicBezTo>
                <a:cubicBezTo>
                  <a:pt x="283" y="260"/>
                  <a:pt x="229" y="281"/>
                  <a:pt x="180" y="324"/>
                </a:cubicBezTo>
                <a:cubicBezTo>
                  <a:pt x="88" y="406"/>
                  <a:pt x="160" y="355"/>
                  <a:pt x="99" y="396"/>
                </a:cubicBezTo>
                <a:cubicBezTo>
                  <a:pt x="76" y="431"/>
                  <a:pt x="40" y="464"/>
                  <a:pt x="0" y="477"/>
                </a:cubicBezTo>
                <a:cubicBezTo>
                  <a:pt x="6" y="495"/>
                  <a:pt x="12" y="513"/>
                  <a:pt x="18" y="531"/>
                </a:cubicBezTo>
                <a:cubicBezTo>
                  <a:pt x="21" y="540"/>
                  <a:pt x="27" y="558"/>
                  <a:pt x="27" y="558"/>
                </a:cubicBezTo>
                <a:cubicBezTo>
                  <a:pt x="34" y="616"/>
                  <a:pt x="33" y="639"/>
                  <a:pt x="63" y="684"/>
                </a:cubicBezTo>
                <a:cubicBezTo>
                  <a:pt x="71" y="734"/>
                  <a:pt x="79" y="788"/>
                  <a:pt x="90" y="837"/>
                </a:cubicBezTo>
                <a:cubicBezTo>
                  <a:pt x="116" y="948"/>
                  <a:pt x="95" y="848"/>
                  <a:pt x="126" y="918"/>
                </a:cubicBezTo>
                <a:cubicBezTo>
                  <a:pt x="143" y="955"/>
                  <a:pt x="149" y="997"/>
                  <a:pt x="162" y="1035"/>
                </a:cubicBezTo>
                <a:cubicBezTo>
                  <a:pt x="165" y="1086"/>
                  <a:pt x="164" y="1137"/>
                  <a:pt x="171" y="1188"/>
                </a:cubicBezTo>
                <a:cubicBezTo>
                  <a:pt x="177" y="1237"/>
                  <a:pt x="199" y="1291"/>
                  <a:pt x="207" y="1341"/>
                </a:cubicBezTo>
                <a:cubicBezTo>
                  <a:pt x="208" y="1355"/>
                  <a:pt x="212" y="1521"/>
                  <a:pt x="234" y="1548"/>
                </a:cubicBezTo>
                <a:cubicBezTo>
                  <a:pt x="242" y="1559"/>
                  <a:pt x="288" y="1580"/>
                  <a:pt x="297" y="1584"/>
                </a:cubicBezTo>
                <a:cubicBezTo>
                  <a:pt x="441" y="1536"/>
                  <a:pt x="598" y="1574"/>
                  <a:pt x="747" y="1584"/>
                </a:cubicBezTo>
                <a:cubicBezTo>
                  <a:pt x="825" y="1571"/>
                  <a:pt x="904" y="1567"/>
                  <a:pt x="981" y="1593"/>
                </a:cubicBezTo>
                <a:cubicBezTo>
                  <a:pt x="1037" y="1556"/>
                  <a:pt x="979" y="1584"/>
                  <a:pt x="1035" y="1584"/>
                </a:cubicBezTo>
                <a:cubicBezTo>
                  <a:pt x="1104" y="1584"/>
                  <a:pt x="1173" y="1578"/>
                  <a:pt x="1242" y="1575"/>
                </a:cubicBezTo>
                <a:cubicBezTo>
                  <a:pt x="1152" y="1515"/>
                  <a:pt x="1151" y="1344"/>
                  <a:pt x="1143" y="1251"/>
                </a:cubicBezTo>
                <a:cubicBezTo>
                  <a:pt x="1139" y="1148"/>
                  <a:pt x="1142" y="1039"/>
                  <a:pt x="1125" y="936"/>
                </a:cubicBezTo>
                <a:cubicBezTo>
                  <a:pt x="1110" y="845"/>
                  <a:pt x="1074" y="759"/>
                  <a:pt x="1062" y="666"/>
                </a:cubicBezTo>
                <a:cubicBezTo>
                  <a:pt x="1053" y="598"/>
                  <a:pt x="1062" y="492"/>
                  <a:pt x="999" y="450"/>
                </a:cubicBezTo>
                <a:cubicBezTo>
                  <a:pt x="957" y="386"/>
                  <a:pt x="1012" y="463"/>
                  <a:pt x="945" y="396"/>
                </a:cubicBezTo>
                <a:cubicBezTo>
                  <a:pt x="937" y="388"/>
                  <a:pt x="935" y="376"/>
                  <a:pt x="927" y="369"/>
                </a:cubicBezTo>
                <a:cubicBezTo>
                  <a:pt x="903" y="348"/>
                  <a:pt x="865" y="341"/>
                  <a:pt x="846" y="315"/>
                </a:cubicBezTo>
                <a:cubicBezTo>
                  <a:pt x="785" y="234"/>
                  <a:pt x="722" y="124"/>
                  <a:pt x="621" y="90"/>
                </a:cubicBezTo>
                <a:cubicBezTo>
                  <a:pt x="545" y="14"/>
                  <a:pt x="549" y="52"/>
                  <a:pt x="549" y="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2200" y="4614840"/>
            <a:ext cx="1652760" cy="1886040"/>
          </a:xfrm>
          <a:custGeom>
            <a:avLst/>
            <a:gdLst/>
            <a:ahLst/>
            <a:rect l="l" t="t" r="r" b="b"/>
            <a:pathLst>
              <a:path w="1041" h="1188">
                <a:moveTo>
                  <a:pt x="0" y="36"/>
                </a:moveTo>
                <a:cubicBezTo>
                  <a:pt x="19" y="65"/>
                  <a:pt x="34" y="93"/>
                  <a:pt x="45" y="126"/>
                </a:cubicBezTo>
                <a:cubicBezTo>
                  <a:pt x="55" y="271"/>
                  <a:pt x="71" y="428"/>
                  <a:pt x="117" y="567"/>
                </a:cubicBezTo>
                <a:cubicBezTo>
                  <a:pt x="130" y="735"/>
                  <a:pt x="135" y="889"/>
                  <a:pt x="144" y="1062"/>
                </a:cubicBezTo>
                <a:cubicBezTo>
                  <a:pt x="146" y="1098"/>
                  <a:pt x="164" y="1137"/>
                  <a:pt x="198" y="1152"/>
                </a:cubicBezTo>
                <a:cubicBezTo>
                  <a:pt x="238" y="1169"/>
                  <a:pt x="365" y="1170"/>
                  <a:pt x="369" y="1170"/>
                </a:cubicBezTo>
                <a:cubicBezTo>
                  <a:pt x="390" y="1167"/>
                  <a:pt x="412" y="1167"/>
                  <a:pt x="432" y="1161"/>
                </a:cubicBezTo>
                <a:cubicBezTo>
                  <a:pt x="442" y="1158"/>
                  <a:pt x="448" y="1145"/>
                  <a:pt x="459" y="1143"/>
                </a:cubicBezTo>
                <a:cubicBezTo>
                  <a:pt x="471" y="1141"/>
                  <a:pt x="483" y="1150"/>
                  <a:pt x="495" y="1152"/>
                </a:cubicBezTo>
                <a:cubicBezTo>
                  <a:pt x="555" y="1159"/>
                  <a:pt x="615" y="1165"/>
                  <a:pt x="675" y="1170"/>
                </a:cubicBezTo>
                <a:cubicBezTo>
                  <a:pt x="753" y="1177"/>
                  <a:pt x="831" y="1182"/>
                  <a:pt x="909" y="1188"/>
                </a:cubicBezTo>
                <a:cubicBezTo>
                  <a:pt x="948" y="1185"/>
                  <a:pt x="988" y="1188"/>
                  <a:pt x="1026" y="1179"/>
                </a:cubicBezTo>
                <a:cubicBezTo>
                  <a:pt x="1041" y="1175"/>
                  <a:pt x="996" y="1173"/>
                  <a:pt x="981" y="1170"/>
                </a:cubicBezTo>
                <a:cubicBezTo>
                  <a:pt x="867" y="1145"/>
                  <a:pt x="1036" y="1179"/>
                  <a:pt x="900" y="1152"/>
                </a:cubicBezTo>
                <a:cubicBezTo>
                  <a:pt x="889" y="1095"/>
                  <a:pt x="862" y="1039"/>
                  <a:pt x="855" y="981"/>
                </a:cubicBezTo>
                <a:cubicBezTo>
                  <a:pt x="846" y="906"/>
                  <a:pt x="834" y="830"/>
                  <a:pt x="819" y="756"/>
                </a:cubicBezTo>
                <a:cubicBezTo>
                  <a:pt x="808" y="606"/>
                  <a:pt x="798" y="456"/>
                  <a:pt x="783" y="306"/>
                </a:cubicBezTo>
                <a:cubicBezTo>
                  <a:pt x="775" y="230"/>
                  <a:pt x="774" y="109"/>
                  <a:pt x="747" y="27"/>
                </a:cubicBezTo>
                <a:cubicBezTo>
                  <a:pt x="640" y="107"/>
                  <a:pt x="220" y="45"/>
                  <a:pt x="216" y="45"/>
                </a:cubicBezTo>
                <a:cubicBezTo>
                  <a:pt x="169" y="33"/>
                  <a:pt x="124" y="22"/>
                  <a:pt x="81" y="0"/>
                </a:cubicBezTo>
                <a:cubicBezTo>
                  <a:pt x="54" y="18"/>
                  <a:pt x="31" y="26"/>
                  <a:pt x="0" y="36"/>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010280" y="373392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20120" y="426708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388620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32640" y="3581280"/>
            <a:ext cx="173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stead</a:t>
            </a:r>
            <a:endParaRPr b="0" lang="en-US" sz="2400" spc="-1" strike="noStrike">
              <a:solidFill>
                <a:srgbClr val="000000"/>
              </a:solidFill>
              <a:latin typeface="Times New Roman"/>
            </a:endParaRPr>
          </a:p>
        </p:txBody>
      </p:sp>
      <p:sp>
        <p:nvSpPr>
          <p:cNvPr id="83" name=""/>
          <p:cNvSpPr/>
          <p:nvPr/>
        </p:nvSpPr>
        <p:spPr>
          <a:xfrm>
            <a:off x="7283160" y="4997520"/>
            <a:ext cx="104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ns</a:t>
            </a:r>
            <a:endParaRPr b="0" lang="en-US" sz="2400" spc="-1" strike="noStrike">
              <a:solidFill>
                <a:srgbClr val="000000"/>
              </a:solidFill>
              <a:latin typeface="Times New Roman"/>
            </a:endParaRPr>
          </a:p>
        </p:txBody>
      </p:sp>
      <p:sp>
        <p:nvSpPr>
          <p:cNvPr id="84" name=""/>
          <p:cNvSpPr/>
          <p:nvPr/>
        </p:nvSpPr>
        <p:spPr>
          <a:xfrm>
            <a:off x="4684320" y="2540160"/>
            <a:ext cx="202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mp;beans</a:t>
            </a:r>
            <a:endParaRPr b="0" lang="en-US" sz="2400" spc="-1" strike="noStrike">
              <a:solidFill>
                <a:srgbClr val="000000"/>
              </a:solidFill>
              <a:latin typeface="Times New Roman"/>
            </a:endParaRPr>
          </a:p>
        </p:txBody>
      </p:sp>
      <p:sp>
        <p:nvSpPr>
          <p:cNvPr id="85" name=""/>
          <p:cNvSpPr/>
          <p:nvPr/>
        </p:nvSpPr>
        <p:spPr>
          <a:xfrm>
            <a:off x="5923440" y="4722840"/>
            <a:ext cx="1078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ee</a:t>
            </a:r>
            <a:endParaRPr b="0" lang="en-US" sz="2400" spc="-1" strike="noStrike">
              <a:solidFill>
                <a:srgbClr val="000000"/>
              </a:solidFill>
              <a:latin typeface="Times New Roman"/>
            </a:endParaRPr>
          </a:p>
        </p:txBody>
      </p:sp>
      <p:sp>
        <p:nvSpPr>
          <p:cNvPr id="86" name=""/>
          <p:cNvSpPr/>
          <p:nvPr/>
        </p:nvSpPr>
        <p:spPr>
          <a:xfrm>
            <a:off x="6329520" y="1887480"/>
            <a:ext cx="272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Parcels and Plots   </a:t>
            </a:r>
            <a:endParaRPr b="0" lang="en-US" sz="2400" spc="-1" strike="noStrike">
              <a:solidFill>
                <a:srgbClr val="000000"/>
              </a:solidFill>
              <a:latin typeface="Times New Roman"/>
            </a:endParaRPr>
          </a:p>
        </p:txBody>
      </p:sp>
      <p:sp>
        <p:nvSpPr>
          <p:cNvPr id="87" name=""/>
          <p:cNvSpPr/>
          <p:nvPr/>
        </p:nvSpPr>
        <p:spPr>
          <a:xfrm>
            <a:off x="4498560" y="38098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l 2</a:t>
            </a:r>
            <a:endParaRPr b="0" lang="en-US" sz="2400" spc="-1" strike="noStrike">
              <a:solidFill>
                <a:srgbClr val="000000"/>
              </a:solidFill>
              <a:latin typeface="Times New Roman"/>
            </a:endParaRPr>
          </a:p>
        </p:txBody>
      </p:sp>
      <p:sp>
        <p:nvSpPr>
          <p:cNvPr id="88" name=""/>
          <p:cNvSpPr/>
          <p:nvPr/>
        </p:nvSpPr>
        <p:spPr>
          <a:xfrm>
            <a:off x="4884120" y="570564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l 1</a:t>
            </a:r>
            <a:endParaRPr b="0" lang="en-US" sz="2400" spc="-1" strike="noStrike">
              <a:solidFill>
                <a:srgbClr val="000000"/>
              </a:solidFill>
              <a:latin typeface="Times New Roman"/>
            </a:endParaRPr>
          </a:p>
        </p:txBody>
      </p:sp>
      <p:sp>
        <p:nvSpPr>
          <p:cNvPr id="89" name=""/>
          <p:cNvSpPr/>
          <p:nvPr/>
        </p:nvSpPr>
        <p:spPr>
          <a:xfrm>
            <a:off x="4471920" y="1986120"/>
            <a:ext cx="4500720" cy="4586040"/>
          </a:xfrm>
          <a:custGeom>
            <a:avLst/>
            <a:gdLst/>
            <a:ahLst/>
            <a:rect l="l" t="t" r="r" b="b"/>
            <a:pathLst>
              <a:path w="2835" h="2889">
                <a:moveTo>
                  <a:pt x="432" y="0"/>
                </a:moveTo>
                <a:cubicBezTo>
                  <a:pt x="405" y="81"/>
                  <a:pt x="352" y="134"/>
                  <a:pt x="297" y="198"/>
                </a:cubicBezTo>
                <a:cubicBezTo>
                  <a:pt x="249" y="255"/>
                  <a:pt x="206" y="317"/>
                  <a:pt x="162" y="378"/>
                </a:cubicBezTo>
                <a:cubicBezTo>
                  <a:pt x="134" y="417"/>
                  <a:pt x="107" y="455"/>
                  <a:pt x="81" y="495"/>
                </a:cubicBezTo>
                <a:cubicBezTo>
                  <a:pt x="69" y="513"/>
                  <a:pt x="45" y="549"/>
                  <a:pt x="45" y="549"/>
                </a:cubicBezTo>
                <a:cubicBezTo>
                  <a:pt x="35" y="587"/>
                  <a:pt x="22" y="615"/>
                  <a:pt x="0" y="648"/>
                </a:cubicBezTo>
                <a:cubicBezTo>
                  <a:pt x="13" y="700"/>
                  <a:pt x="41" y="704"/>
                  <a:pt x="63" y="747"/>
                </a:cubicBezTo>
                <a:cubicBezTo>
                  <a:pt x="81" y="782"/>
                  <a:pt x="85" y="819"/>
                  <a:pt x="99" y="855"/>
                </a:cubicBezTo>
                <a:cubicBezTo>
                  <a:pt x="109" y="883"/>
                  <a:pt x="125" y="908"/>
                  <a:pt x="135" y="936"/>
                </a:cubicBezTo>
                <a:cubicBezTo>
                  <a:pt x="175" y="1042"/>
                  <a:pt x="198" y="1153"/>
                  <a:pt x="234" y="1260"/>
                </a:cubicBezTo>
                <a:cubicBezTo>
                  <a:pt x="254" y="1320"/>
                  <a:pt x="287" y="1367"/>
                  <a:pt x="315" y="1422"/>
                </a:cubicBezTo>
                <a:cubicBezTo>
                  <a:pt x="341" y="1474"/>
                  <a:pt x="355" y="1534"/>
                  <a:pt x="396" y="1575"/>
                </a:cubicBezTo>
                <a:cubicBezTo>
                  <a:pt x="411" y="1637"/>
                  <a:pt x="430" y="1695"/>
                  <a:pt x="468" y="1746"/>
                </a:cubicBezTo>
                <a:cubicBezTo>
                  <a:pt x="489" y="1810"/>
                  <a:pt x="475" y="1784"/>
                  <a:pt x="504" y="1827"/>
                </a:cubicBezTo>
                <a:cubicBezTo>
                  <a:pt x="518" y="1897"/>
                  <a:pt x="562" y="1957"/>
                  <a:pt x="585" y="2025"/>
                </a:cubicBezTo>
                <a:cubicBezTo>
                  <a:pt x="593" y="2048"/>
                  <a:pt x="597" y="2073"/>
                  <a:pt x="603" y="2097"/>
                </a:cubicBezTo>
                <a:cubicBezTo>
                  <a:pt x="606" y="2110"/>
                  <a:pt x="616" y="2121"/>
                  <a:pt x="621" y="2133"/>
                </a:cubicBezTo>
                <a:cubicBezTo>
                  <a:pt x="642" y="2186"/>
                  <a:pt x="667" y="2241"/>
                  <a:pt x="684" y="2295"/>
                </a:cubicBezTo>
                <a:cubicBezTo>
                  <a:pt x="684" y="2295"/>
                  <a:pt x="706" y="2385"/>
                  <a:pt x="711" y="2403"/>
                </a:cubicBezTo>
                <a:cubicBezTo>
                  <a:pt x="722" y="2447"/>
                  <a:pt x="743" y="2486"/>
                  <a:pt x="756" y="2529"/>
                </a:cubicBezTo>
                <a:cubicBezTo>
                  <a:pt x="772" y="2582"/>
                  <a:pt x="772" y="2611"/>
                  <a:pt x="801" y="2655"/>
                </a:cubicBezTo>
                <a:cubicBezTo>
                  <a:pt x="817" y="2733"/>
                  <a:pt x="830" y="2811"/>
                  <a:pt x="846" y="2889"/>
                </a:cubicBezTo>
                <a:cubicBezTo>
                  <a:pt x="912" y="2880"/>
                  <a:pt x="981" y="2883"/>
                  <a:pt x="1044" y="2862"/>
                </a:cubicBezTo>
                <a:cubicBezTo>
                  <a:pt x="1335" y="2875"/>
                  <a:pt x="1627" y="2882"/>
                  <a:pt x="1917" y="2853"/>
                </a:cubicBezTo>
                <a:cubicBezTo>
                  <a:pt x="1949" y="2854"/>
                  <a:pt x="2238" y="2845"/>
                  <a:pt x="2322" y="2862"/>
                </a:cubicBezTo>
                <a:cubicBezTo>
                  <a:pt x="2479" y="2856"/>
                  <a:pt x="2684" y="2873"/>
                  <a:pt x="2835" y="2835"/>
                </a:cubicBezTo>
                <a:cubicBezTo>
                  <a:pt x="2740" y="2797"/>
                  <a:pt x="2615" y="2872"/>
                  <a:pt x="2565" y="2772"/>
                </a:cubicBezTo>
                <a:cubicBezTo>
                  <a:pt x="2558" y="2597"/>
                  <a:pt x="2566" y="2597"/>
                  <a:pt x="2538" y="2484"/>
                </a:cubicBezTo>
                <a:cubicBezTo>
                  <a:pt x="2525" y="2354"/>
                  <a:pt x="2510" y="2216"/>
                  <a:pt x="2484" y="2088"/>
                </a:cubicBezTo>
                <a:cubicBezTo>
                  <a:pt x="2466" y="1875"/>
                  <a:pt x="2480" y="1662"/>
                  <a:pt x="2493" y="1449"/>
                </a:cubicBezTo>
                <a:cubicBezTo>
                  <a:pt x="2488" y="1326"/>
                  <a:pt x="2504" y="1173"/>
                  <a:pt x="2430" y="1062"/>
                </a:cubicBezTo>
                <a:cubicBezTo>
                  <a:pt x="2379" y="985"/>
                  <a:pt x="2253" y="966"/>
                  <a:pt x="2169" y="945"/>
                </a:cubicBezTo>
                <a:cubicBezTo>
                  <a:pt x="1915" y="881"/>
                  <a:pt x="1647" y="880"/>
                  <a:pt x="1386" y="864"/>
                </a:cubicBezTo>
                <a:cubicBezTo>
                  <a:pt x="1317" y="850"/>
                  <a:pt x="1337" y="850"/>
                  <a:pt x="1377" y="873"/>
                </a:cubicBezTo>
                <a:cubicBezTo>
                  <a:pt x="1386" y="878"/>
                  <a:pt x="1394" y="887"/>
                  <a:pt x="1404" y="891"/>
                </a:cubicBezTo>
                <a:cubicBezTo>
                  <a:pt x="1425" y="900"/>
                  <a:pt x="1488" y="907"/>
                  <a:pt x="1503" y="909"/>
                </a:cubicBezTo>
                <a:cubicBezTo>
                  <a:pt x="1527" y="906"/>
                  <a:pt x="1557" y="916"/>
                  <a:pt x="1575" y="900"/>
                </a:cubicBezTo>
                <a:cubicBezTo>
                  <a:pt x="1588" y="889"/>
                  <a:pt x="1557" y="836"/>
                  <a:pt x="1548" y="828"/>
                </a:cubicBezTo>
                <a:cubicBezTo>
                  <a:pt x="1524" y="807"/>
                  <a:pt x="1486" y="800"/>
                  <a:pt x="1467" y="774"/>
                </a:cubicBezTo>
                <a:cubicBezTo>
                  <a:pt x="1440" y="738"/>
                  <a:pt x="1448" y="740"/>
                  <a:pt x="1413" y="720"/>
                </a:cubicBezTo>
                <a:cubicBezTo>
                  <a:pt x="1356" y="687"/>
                  <a:pt x="1312" y="649"/>
                  <a:pt x="1260" y="612"/>
                </a:cubicBezTo>
                <a:cubicBezTo>
                  <a:pt x="1249" y="604"/>
                  <a:pt x="1235" y="602"/>
                  <a:pt x="1224" y="594"/>
                </a:cubicBezTo>
                <a:cubicBezTo>
                  <a:pt x="1197" y="575"/>
                  <a:pt x="1178" y="538"/>
                  <a:pt x="1161" y="513"/>
                </a:cubicBezTo>
                <a:cubicBezTo>
                  <a:pt x="1136" y="476"/>
                  <a:pt x="1070" y="426"/>
                  <a:pt x="1035" y="396"/>
                </a:cubicBezTo>
                <a:cubicBezTo>
                  <a:pt x="1013" y="377"/>
                  <a:pt x="998" y="375"/>
                  <a:pt x="972" y="360"/>
                </a:cubicBezTo>
                <a:cubicBezTo>
                  <a:pt x="913" y="326"/>
                  <a:pt x="859" y="280"/>
                  <a:pt x="801" y="243"/>
                </a:cubicBezTo>
                <a:cubicBezTo>
                  <a:pt x="775" y="226"/>
                  <a:pt x="746" y="215"/>
                  <a:pt x="720" y="198"/>
                </a:cubicBezTo>
                <a:cubicBezTo>
                  <a:pt x="664" y="161"/>
                  <a:pt x="624" y="115"/>
                  <a:pt x="558" y="99"/>
                </a:cubicBezTo>
                <a:cubicBezTo>
                  <a:pt x="542" y="88"/>
                  <a:pt x="456" y="38"/>
                  <a:pt x="450" y="36"/>
                </a:cubicBezTo>
                <a:cubicBezTo>
                  <a:pt x="441" y="33"/>
                  <a:pt x="427" y="35"/>
                  <a:pt x="423" y="27"/>
                </a:cubicBezTo>
                <a:cubicBezTo>
                  <a:pt x="419" y="19"/>
                  <a:pt x="429" y="9"/>
                  <a:pt x="432" y="0"/>
                </a:cubicBez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rea of the hold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of each parce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of each crop-p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17D74D-F96E-4876-A731-1E33982FB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area with GPS</a:t>
            </a:r>
            <a:br>
              <a:rPr sz="4400"/>
            </a:br>
            <a:r>
              <a:rPr b="0" lang="en-US" sz="2400" spc="-1" strike="noStrike">
                <a:solidFill>
                  <a:srgbClr val="000000"/>
                </a:solidFill>
                <a:latin typeface="Arial"/>
              </a:rPr>
              <a:t>A fast and cost efficient method?</a:t>
            </a:r>
            <a:endParaRPr b="0" lang="en-US" sz="2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 the starting point</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the perimeter of the area (plot or parcel)</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rea either by:</a:t>
            </a:r>
            <a:endParaRPr b="0" lang="en-US" sz="2400" spc="-1" strike="noStrike">
              <a:solidFill>
                <a:srgbClr val="000000"/>
              </a:solidFill>
              <a:latin typeface="Times New Roman"/>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oring of the track-log and calculate the area on a PC</a:t>
            </a:r>
            <a:endParaRPr b="0" lang="en-US" sz="2000" spc="-1" strike="noStrike">
              <a:solidFill>
                <a:srgbClr val="000000"/>
              </a:solidFill>
              <a:latin typeface="Times New Roman"/>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lculate the area directly with the GPS tool and fill in the results on a form </a:t>
            </a:r>
            <a:endParaRPr b="0" lang="en-US" sz="2000" spc="-1" strike="noStrike">
              <a:solidFill>
                <a:srgbClr val="000000"/>
              </a:solidFill>
              <a:latin typeface="Times New Roman"/>
            </a:endParaRPr>
          </a:p>
        </p:txBody>
      </p:sp>
      <p:pic>
        <p:nvPicPr>
          <p:cNvPr id="93" name="CIMG0022" descr=""/>
          <p:cNvPicPr/>
          <p:nvPr/>
        </p:nvPicPr>
        <p:blipFill>
          <a:blip r:embed="rId1"/>
          <a:stretch/>
        </p:blipFill>
        <p:spPr>
          <a:xfrm>
            <a:off x="4648320" y="2319480"/>
            <a:ext cx="3809880" cy="3436920"/>
          </a:xfrm>
          <a:prstGeom prst="rect">
            <a:avLst/>
          </a:prstGeom>
          <a:ln w="0">
            <a:noFill/>
          </a:ln>
        </p:spPr>
      </p:pic>
      <p:sp>
        <p:nvSpPr>
          <p:cNvPr id="94" name=""/>
          <p:cNvSpPr/>
          <p:nvPr/>
        </p:nvSpPr>
        <p:spPr>
          <a:xfrm>
            <a:off x="4809960" y="2035080"/>
            <a:ext cx="20574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E45A73-8DAE-4ABF-AD2A-094A9A4CA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5" name="CIMG0003" descr=""/>
          <p:cNvPicPr/>
          <p:nvPr/>
        </p:nvPicPr>
        <p:blipFill>
          <a:blip r:embed="rId1"/>
          <a:stretch/>
        </p:blipFill>
        <p:spPr>
          <a:xfrm>
            <a:off x="119160" y="95400"/>
            <a:ext cx="8915400" cy="6686280"/>
          </a:xfrm>
          <a:prstGeom prst="rect">
            <a:avLst/>
          </a:prstGeom>
          <a:ln w="0">
            <a:noFill/>
          </a:ln>
        </p:spPr>
      </p:pic>
      <p:sp>
        <p:nvSpPr>
          <p:cNvPr id="96" name=""/>
          <p:cNvSpPr/>
          <p:nvPr/>
        </p:nvSpPr>
        <p:spPr>
          <a:xfrm>
            <a:off x="3184560" y="2962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676BC9-F2C0-4DD0-99E7-E1BFADEBF6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81160"/>
            <a:ext cx="7467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a:t>
            </a:r>
            <a:br>
              <a:rPr sz="2800"/>
            </a:br>
            <a:r>
              <a:rPr b="0" lang="en-US" sz="2000" spc="-1" strike="noStrike">
                <a:solidFill>
                  <a:srgbClr val="000000"/>
                </a:solidFill>
                <a:latin typeface="Arial"/>
              </a:rPr>
              <a:t>Results from traversing (tape&amp;compass) compared with results from use of GPS – measuring area at parcel level</a:t>
            </a:r>
            <a:endParaRPr b="0" lang="en-US" sz="2000" spc="-1" strike="noStrike">
              <a:solidFill>
                <a:srgbClr val="000000"/>
              </a:solidFill>
              <a:latin typeface="Times New Roman"/>
            </a:endParaRPr>
          </a:p>
        </p:txBody>
      </p:sp>
      <p:graphicFrame>
        <p:nvGraphicFramePr>
          <p:cNvPr id="98" name=""/>
          <p:cNvGraphicFramePr/>
          <p:nvPr/>
        </p:nvGraphicFramePr>
        <p:xfrm>
          <a:off x="1019160" y="1257480"/>
          <a:ext cx="6858000" cy="5487840"/>
        </p:xfrm>
        <a:graphic>
          <a:graphicData uri="http://schemas.openxmlformats.org/presentationml/2006/ole">
            <p:oleObj r:id="rId1" spid="">
              <p:embed/>
              <p:pic>
                <p:nvPicPr>
                  <p:cNvPr id="99" name="" descr=""/>
                  <p:cNvPicPr/>
                  <p:nvPr/>
                </p:nvPicPr>
                <p:blipFill>
                  <a:blip r:embed="rId2"/>
                  <a:stretch/>
                </p:blipFill>
                <p:spPr>
                  <a:xfrm>
                    <a:off x="1019160" y="1257480"/>
                    <a:ext cx="6858000" cy="5487840"/>
                  </a:xfrm>
                  <a:prstGeom prst="rect">
                    <a:avLst/>
                  </a:prstGeom>
                  <a:ln w="0">
                    <a:noFill/>
                  </a:ln>
                </p:spPr>
              </p:pic>
            </p:oleObj>
          </a:graphicData>
        </a:graphic>
      </p:graphicFrame>
      <p:pic>
        <p:nvPicPr>
          <p:cNvPr id="100" name="" descr=""/>
          <p:cNvPicPr/>
          <p:nvPr/>
        </p:nvPicPr>
        <p:blipFill>
          <a:blip r:embed="rId3"/>
          <a:stretch/>
        </p:blipFill>
        <p:spPr>
          <a:xfrm>
            <a:off x="2666880" y="1905120"/>
            <a:ext cx="6172200" cy="1209600"/>
          </a:xfrm>
          <a:prstGeom prst="rect">
            <a:avLst/>
          </a:prstGeom>
          <a:ln w="0">
            <a:noFill/>
          </a:ln>
        </p:spPr>
      </p:pic>
      <p:sp>
        <p:nvSpPr>
          <p:cNvPr id="101" name=""/>
          <p:cNvSpPr/>
          <p:nvPr/>
        </p:nvSpPr>
        <p:spPr>
          <a:xfrm>
            <a:off x="5867280" y="2286000"/>
            <a:ext cx="91440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B6B3AB-432D-402E-A51D-1F294172E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305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 cont.</a:t>
            </a:r>
            <a:br>
              <a:rPr sz="2800"/>
            </a:br>
            <a:r>
              <a:rPr b="1" lang="en-US" sz="2800" spc="-1" strike="noStrike">
                <a:solidFill>
                  <a:srgbClr val="000000"/>
                </a:solidFill>
                <a:latin typeface="Arial"/>
              </a:rPr>
              <a:t>Measuring area at parcel level</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4114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the two means is highly insignificant and therefore the results obtained by the GPS tool are statistically not different from those obtained by traversing using tape &amp; compas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57200" y="1481040"/>
            <a:ext cx="8686800" cy="2633760"/>
          </a:xfrm>
          <a:prstGeom prst="rect">
            <a:avLst/>
          </a:prstGeom>
          <a:ln w="0">
            <a:noFill/>
          </a:ln>
        </p:spPr>
      </p:pic>
      <p:sp>
        <p:nvSpPr>
          <p:cNvPr id="105" name=""/>
          <p:cNvSpPr/>
          <p:nvPr/>
        </p:nvSpPr>
        <p:spPr>
          <a:xfrm>
            <a:off x="3809880" y="3276720"/>
            <a:ext cx="83844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10280" y="3200400"/>
            <a:ext cx="1752840" cy="824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1EBFA-3856-4901-B6AB-7B9E09E68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7" name=""/>
          <p:cNvSpPr/>
          <p:nvPr/>
        </p:nvSpPr>
        <p:spPr>
          <a:xfrm>
            <a:off x="2895480" y="2362320"/>
            <a:ext cx="1447920" cy="1752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04560" y="609120"/>
            <a:ext cx="8305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 cont.</a:t>
            </a:r>
            <a:br>
              <a:rPr sz="2800"/>
            </a:br>
            <a:r>
              <a:rPr b="1" lang="en-US" sz="2800" spc="-1" strike="noStrike">
                <a:solidFill>
                  <a:srgbClr val="000000"/>
                </a:solidFill>
                <a:latin typeface="Arial"/>
              </a:rPr>
              <a:t>Minutes used to measure area per holding</a:t>
            </a:r>
            <a:endParaRPr b="0" lang="en-US" sz="2800" spc="-1" strike="noStrike">
              <a:solidFill>
                <a:srgbClr val="000000"/>
              </a:solidFill>
              <a:latin typeface="Times New Roman"/>
            </a:endParaRPr>
          </a:p>
        </p:txBody>
      </p:sp>
      <p:sp>
        <p:nvSpPr>
          <p:cNvPr id="109" name="PlaceHolder 2"/>
          <p:cNvSpPr>
            <a:spLocks noGrp="1"/>
          </p:cNvSpPr>
          <p:nvPr>
            <p:ph/>
          </p:nvPr>
        </p:nvSpPr>
        <p:spPr>
          <a:xfrm>
            <a:off x="685800" y="4114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 observations of time used where areas are both measured by traversing (tape &amp; compass) and by G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GPS measure requires 28.5 percent of the time required for traversing the same area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685800" y="1527120"/>
            <a:ext cx="7620120" cy="2592360"/>
          </a:xfrm>
          <a:prstGeom prst="rect">
            <a:avLst/>
          </a:prstGeom>
          <a:ln w="0">
            <a:noFill/>
          </a:ln>
        </p:spPr>
      </p:pic>
      <p:sp>
        <p:nvSpPr>
          <p:cNvPr id="111" name=""/>
          <p:cNvSpPr/>
          <p:nvPr/>
        </p:nvSpPr>
        <p:spPr>
          <a:xfrm>
            <a:off x="2895480" y="2514600"/>
            <a:ext cx="1524240" cy="144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66880" y="2286000"/>
            <a:ext cx="1828800" cy="1752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2673E2-BA18-4F28-9A01-AD2B43D42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tive Costs</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PS Equipmen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ly expensiv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model used cost about US$150 per Uni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numerators shared 2 GPS equipmen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4 expensive high quality AA batteries @US$1.25 per pair</a:t>
            </a:r>
            <a:endParaRPr b="0" lang="en-US" sz="2800" spc="-1" strike="noStrike">
              <a:solidFill>
                <a:srgbClr val="000000"/>
              </a:solidFill>
              <a:latin typeface="Times New Roman"/>
            </a:endParaRPr>
          </a:p>
        </p:txBody>
      </p:sp>
      <p:sp>
        <p:nvSpPr>
          <p:cNvPr id="115" name="PlaceHolder 3"/>
          <p:cNvSpPr>
            <a:spLocks noGrp="1"/>
          </p:cNvSpPr>
          <p:nvPr>
            <p:ph/>
          </p:nvPr>
        </p:nvSpPr>
        <p:spPr>
          <a:xfrm>
            <a:off x="4647960" y="14475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pe and Compas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pe about US$25</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ss about US$100</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programmable calculator (fairly expensiv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umerator needs assistance for tap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E2F14029-C37F-464D-A647-FE8AE7977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test I: </a:t>
            </a:r>
            <a:r>
              <a:rPr b="1" lang="en-US" sz="2400" spc="-1" strike="noStrike" u="sng">
                <a:solidFill>
                  <a:srgbClr val="000000"/>
                </a:solidFill>
                <a:uFillTx/>
                <a:latin typeface="Arial"/>
              </a:rPr>
              <a:t>Variation between tools</a:t>
            </a:r>
            <a:r>
              <a:rPr b="1" lang="en-US" sz="2400" spc="-1" strike="noStrike">
                <a:solidFill>
                  <a:srgbClr val="000000"/>
                </a:solidFill>
                <a:latin typeface="Arial"/>
              </a:rPr>
              <a:t> using several GPS tools</a:t>
            </a:r>
            <a:endParaRPr b="0" lang="en-US" sz="2400" spc="-1" strike="noStrike">
              <a:solidFill>
                <a:srgbClr val="000000"/>
              </a:solidFill>
              <a:latin typeface="Times New Roman"/>
            </a:endParaRPr>
          </a:p>
        </p:txBody>
      </p:sp>
      <p:sp>
        <p:nvSpPr>
          <p:cNvPr id="117" name="PlaceHolder 2"/>
          <p:cNvSpPr>
            <a:spLocks noGrp="1"/>
          </p:cNvSpPr>
          <p:nvPr>
            <p:ph/>
          </p:nvPr>
        </p:nvSpPr>
        <p:spPr>
          <a:xfrm>
            <a:off x="456840" y="1981080"/>
            <a:ext cx="426708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x GPS tools tested in 3 districts</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ittle variance both between tools and for each  tool when repeated observation in Wakis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variance both between tools and for each tool when repeated observation in Kabarole I-II (more difficult terrain?)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few observations to draw robust conclusion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067360" y="2666880"/>
            <a:ext cx="8153280" cy="4191120"/>
          </a:xfrm>
          <a:prstGeom prst="rect">
            <a:avLst/>
          </a:prstGeom>
          <a:ln w="0">
            <a:noFill/>
          </a:ln>
        </p:spPr>
      </p:pic>
      <p:sp>
        <p:nvSpPr>
          <p:cNvPr id="119" name=""/>
          <p:cNvSpPr/>
          <p:nvPr/>
        </p:nvSpPr>
        <p:spPr>
          <a:xfrm>
            <a:off x="50896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5096880" y="202104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plot areas.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2469F-6E1F-4BAC-8785-937AD5FFF3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test II: </a:t>
            </a:r>
            <a:r>
              <a:rPr b="1" lang="en-US" sz="2400" spc="-1" strike="noStrike" u="sng">
                <a:solidFill>
                  <a:srgbClr val="000000"/>
                </a:solidFill>
                <a:uFillTx/>
                <a:latin typeface="Arial"/>
              </a:rPr>
              <a:t>Variation over time</a:t>
            </a:r>
            <a:r>
              <a:rPr b="1" lang="en-US" sz="2400" spc="-1" strike="noStrike">
                <a:solidFill>
                  <a:srgbClr val="000000"/>
                </a:solidFill>
                <a:latin typeface="Arial"/>
              </a:rPr>
              <a:t> using the same GPS tool</a:t>
            </a:r>
            <a:endParaRPr b="0" lang="en-US" sz="2400" spc="-1" strike="noStrike">
              <a:solidFill>
                <a:srgbClr val="0000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 GPS tool tested 22 times on the same are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variation +/- around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f observations deviates 1.9 percent from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of observations deviates 0.1 percent from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ge is wi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4"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4" name=""/>
          <p:cNvGrpSpPr/>
          <p:nvPr/>
        </p:nvGrpSpPr>
        <p:grpSpPr>
          <a:xfrm>
            <a:off x="0" y="-11028240"/>
            <a:ext cx="4460760" cy="7681680"/>
            <a:chOff x="0" y="-11028240"/>
            <a:chExt cx="4460760" cy="7681680"/>
          </a:xfrm>
        </p:grpSpPr>
        <p:sp>
          <p:nvSpPr>
            <p:cNvPr id="135"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139"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1"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143"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4"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147"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151"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155"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0" y="-11028240"/>
              <a:ext cx="1028880" cy="609480"/>
              <a:chOff x="0" y="-11028240"/>
              <a:chExt cx="1028880" cy="609480"/>
            </a:xfrm>
          </p:grpSpPr>
          <p:sp>
            <p:nvSpPr>
              <p:cNvPr id="159"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028880" y="-11028240"/>
              <a:ext cx="1714320" cy="609480"/>
              <a:chOff x="1028880" y="-11028240"/>
              <a:chExt cx="1714320" cy="609480"/>
            </a:xfrm>
          </p:grpSpPr>
          <p:sp>
            <p:nvSpPr>
              <p:cNvPr id="162"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2743200" y="-11028240"/>
              <a:ext cx="685800" cy="609480"/>
              <a:chOff x="2743200" y="-11028240"/>
              <a:chExt cx="685800" cy="609480"/>
            </a:xfrm>
          </p:grpSpPr>
          <p:sp>
            <p:nvSpPr>
              <p:cNvPr id="165"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429000" y="-11028240"/>
              <a:ext cx="1028880" cy="609480"/>
              <a:chOff x="3429000" y="-11028240"/>
              <a:chExt cx="1028880" cy="609480"/>
            </a:xfrm>
          </p:grpSpPr>
          <p:sp>
            <p:nvSpPr>
              <p:cNvPr id="168"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0" y="-10418400"/>
              <a:ext cx="1714680" cy="244080"/>
              <a:chOff x="0" y="-10418400"/>
              <a:chExt cx="1714680" cy="244080"/>
            </a:xfrm>
          </p:grpSpPr>
          <p:sp>
            <p:nvSpPr>
              <p:cNvPr id="171"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172"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0" y="-10173960"/>
              <a:ext cx="1028880" cy="639360"/>
              <a:chOff x="0" y="-10173960"/>
              <a:chExt cx="1028880" cy="639360"/>
            </a:xfrm>
          </p:grpSpPr>
          <p:sp>
            <p:nvSpPr>
              <p:cNvPr id="174"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028880" y="-10173960"/>
              <a:ext cx="685800" cy="639360"/>
              <a:chOff x="1028880" y="-10173960"/>
              <a:chExt cx="685800" cy="639360"/>
            </a:xfrm>
          </p:grpSpPr>
          <p:sp>
            <p:nvSpPr>
              <p:cNvPr id="177"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1714680" y="-10173960"/>
              <a:ext cx="1028520" cy="639360"/>
              <a:chOff x="1714680" y="-10173960"/>
              <a:chExt cx="1028520" cy="639360"/>
            </a:xfrm>
          </p:grpSpPr>
          <p:sp>
            <p:nvSpPr>
              <p:cNvPr id="180"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0" y="-9534240"/>
              <a:ext cx="1028880" cy="609120"/>
              <a:chOff x="0" y="-9534240"/>
              <a:chExt cx="1028880" cy="609120"/>
            </a:xfrm>
          </p:grpSpPr>
          <p:sp>
            <p:nvSpPr>
              <p:cNvPr id="183"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1028880" y="-9534240"/>
              <a:ext cx="1714320" cy="609120"/>
              <a:chOff x="1028880" y="-9534240"/>
              <a:chExt cx="1714320" cy="609120"/>
            </a:xfrm>
          </p:grpSpPr>
          <p:sp>
            <p:nvSpPr>
              <p:cNvPr id="186"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743200" y="-9534240"/>
              <a:ext cx="685800" cy="609120"/>
              <a:chOff x="2743200" y="-9534240"/>
              <a:chExt cx="685800" cy="609120"/>
            </a:xfrm>
          </p:grpSpPr>
          <p:sp>
            <p:nvSpPr>
              <p:cNvPr id="189"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429000" y="-9534240"/>
              <a:ext cx="1028880" cy="609120"/>
              <a:chOff x="3429000" y="-9534240"/>
              <a:chExt cx="1028880" cy="609120"/>
            </a:xfrm>
          </p:grpSpPr>
          <p:sp>
            <p:nvSpPr>
              <p:cNvPr id="192"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0" y="-8924760"/>
              <a:ext cx="1028880" cy="1311120"/>
              <a:chOff x="0" y="-8924760"/>
              <a:chExt cx="1028880" cy="1311120"/>
            </a:xfrm>
          </p:grpSpPr>
          <p:sp>
            <p:nvSpPr>
              <p:cNvPr id="195"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196"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457880" y="-8223120"/>
              <a:ext cx="2880" cy="609480"/>
              <a:chOff x="4457880" y="-8223120"/>
              <a:chExt cx="2880" cy="609480"/>
            </a:xfrm>
          </p:grpSpPr>
          <p:sp>
            <p:nvSpPr>
              <p:cNvPr id="198"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199"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0" y="-7613280"/>
              <a:ext cx="1028880" cy="609120"/>
              <a:chOff x="0" y="-7613280"/>
              <a:chExt cx="1028880" cy="609120"/>
            </a:xfrm>
          </p:grpSpPr>
          <p:sp>
            <p:nvSpPr>
              <p:cNvPr id="201"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1028880" y="-7613280"/>
              <a:ext cx="685800" cy="609120"/>
              <a:chOff x="1028880" y="-7613280"/>
              <a:chExt cx="685800" cy="609120"/>
            </a:xfrm>
          </p:grpSpPr>
          <p:sp>
            <p:nvSpPr>
              <p:cNvPr id="204"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429000" y="-4565520"/>
              <a:ext cx="1028880" cy="609480"/>
              <a:chOff x="3429000" y="-4565520"/>
              <a:chExt cx="1028880" cy="609480"/>
            </a:xfrm>
          </p:grpSpPr>
          <p:sp>
            <p:nvSpPr>
              <p:cNvPr id="207"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208"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0" y="-3955680"/>
              <a:ext cx="1714680" cy="609120"/>
              <a:chOff x="0" y="-3955680"/>
              <a:chExt cx="1714680" cy="609120"/>
            </a:xfrm>
          </p:grpSpPr>
          <p:sp>
            <p:nvSpPr>
              <p:cNvPr id="210"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1714680" y="-3955680"/>
              <a:ext cx="1028520" cy="609120"/>
              <a:chOff x="1714680" y="-3955680"/>
              <a:chExt cx="1028520" cy="609120"/>
            </a:xfrm>
          </p:grpSpPr>
          <p:sp>
            <p:nvSpPr>
              <p:cNvPr id="213"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743200" y="-3955680"/>
              <a:ext cx="685800" cy="609120"/>
              <a:chOff x="2743200" y="-3955680"/>
              <a:chExt cx="685800" cy="609120"/>
            </a:xfrm>
          </p:grpSpPr>
          <p:sp>
            <p:nvSpPr>
              <p:cNvPr id="216"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19"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1"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29" name=""/>
          <p:cNvGrpSpPr/>
          <p:nvPr/>
        </p:nvGrpSpPr>
        <p:grpSpPr>
          <a:xfrm>
            <a:off x="0" y="-11028240"/>
            <a:ext cx="4460760" cy="7681680"/>
            <a:chOff x="0" y="-11028240"/>
            <a:chExt cx="4460760" cy="7681680"/>
          </a:xfrm>
        </p:grpSpPr>
        <p:sp>
          <p:nvSpPr>
            <p:cNvPr id="230"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234"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238"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242"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246"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250"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53" name=""/>
            <p:cNvGrpSpPr/>
            <p:nvPr/>
          </p:nvGrpSpPr>
          <p:grpSpPr>
            <a:xfrm>
              <a:off x="0" y="-11028240"/>
              <a:ext cx="1028880" cy="609480"/>
              <a:chOff x="0" y="-11028240"/>
              <a:chExt cx="1028880" cy="609480"/>
            </a:xfrm>
          </p:grpSpPr>
          <p:sp>
            <p:nvSpPr>
              <p:cNvPr id="254"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1028880" y="-11028240"/>
              <a:ext cx="1714320" cy="609480"/>
              <a:chOff x="1028880" y="-11028240"/>
              <a:chExt cx="1714320" cy="609480"/>
            </a:xfrm>
          </p:grpSpPr>
          <p:sp>
            <p:nvSpPr>
              <p:cNvPr id="257"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2743200" y="-11028240"/>
              <a:ext cx="685800" cy="609480"/>
              <a:chOff x="2743200" y="-11028240"/>
              <a:chExt cx="685800" cy="609480"/>
            </a:xfrm>
          </p:grpSpPr>
          <p:sp>
            <p:nvSpPr>
              <p:cNvPr id="260"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3429000" y="-11028240"/>
              <a:ext cx="1028880" cy="609480"/>
              <a:chOff x="3429000" y="-11028240"/>
              <a:chExt cx="1028880" cy="609480"/>
            </a:xfrm>
          </p:grpSpPr>
          <p:sp>
            <p:nvSpPr>
              <p:cNvPr id="263"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0" y="-10418400"/>
              <a:ext cx="1714680" cy="244080"/>
              <a:chOff x="0" y="-10418400"/>
              <a:chExt cx="1714680" cy="244080"/>
            </a:xfrm>
          </p:grpSpPr>
          <p:sp>
            <p:nvSpPr>
              <p:cNvPr id="266"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267"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0" y="-10173960"/>
              <a:ext cx="1028880" cy="639360"/>
              <a:chOff x="0" y="-10173960"/>
              <a:chExt cx="1028880" cy="639360"/>
            </a:xfrm>
          </p:grpSpPr>
          <p:sp>
            <p:nvSpPr>
              <p:cNvPr id="269"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028880" y="-10173960"/>
              <a:ext cx="685800" cy="639360"/>
              <a:chOff x="1028880" y="-10173960"/>
              <a:chExt cx="685800" cy="639360"/>
            </a:xfrm>
          </p:grpSpPr>
          <p:sp>
            <p:nvSpPr>
              <p:cNvPr id="272"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1714680" y="-10173960"/>
              <a:ext cx="1028520" cy="639360"/>
              <a:chOff x="1714680" y="-10173960"/>
              <a:chExt cx="1028520" cy="639360"/>
            </a:xfrm>
          </p:grpSpPr>
          <p:sp>
            <p:nvSpPr>
              <p:cNvPr id="275"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0" y="-9534240"/>
              <a:ext cx="1028880" cy="609120"/>
              <a:chOff x="0" y="-9534240"/>
              <a:chExt cx="1028880" cy="609120"/>
            </a:xfrm>
          </p:grpSpPr>
          <p:sp>
            <p:nvSpPr>
              <p:cNvPr id="278"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1028880" y="-9534240"/>
              <a:ext cx="1714320" cy="609120"/>
              <a:chOff x="1028880" y="-9534240"/>
              <a:chExt cx="1714320" cy="609120"/>
            </a:xfrm>
          </p:grpSpPr>
          <p:sp>
            <p:nvSpPr>
              <p:cNvPr id="281"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2"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2743200" y="-9534240"/>
              <a:ext cx="685800" cy="609120"/>
              <a:chOff x="2743200" y="-9534240"/>
              <a:chExt cx="685800" cy="609120"/>
            </a:xfrm>
          </p:grpSpPr>
          <p:sp>
            <p:nvSpPr>
              <p:cNvPr id="284"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429000" y="-9534240"/>
              <a:ext cx="1028880" cy="609120"/>
              <a:chOff x="3429000" y="-9534240"/>
              <a:chExt cx="1028880" cy="609120"/>
            </a:xfrm>
          </p:grpSpPr>
          <p:sp>
            <p:nvSpPr>
              <p:cNvPr id="287"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0" y="-8924760"/>
              <a:ext cx="1028880" cy="1311120"/>
              <a:chOff x="0" y="-8924760"/>
              <a:chExt cx="1028880" cy="1311120"/>
            </a:xfrm>
          </p:grpSpPr>
          <p:sp>
            <p:nvSpPr>
              <p:cNvPr id="290"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291"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4457880" y="-8223120"/>
              <a:ext cx="2880" cy="609480"/>
              <a:chOff x="4457880" y="-8223120"/>
              <a:chExt cx="2880" cy="609480"/>
            </a:xfrm>
          </p:grpSpPr>
          <p:sp>
            <p:nvSpPr>
              <p:cNvPr id="293"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294"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0" y="-7613280"/>
              <a:ext cx="1028880" cy="609120"/>
              <a:chOff x="0" y="-7613280"/>
              <a:chExt cx="1028880" cy="609120"/>
            </a:xfrm>
          </p:grpSpPr>
          <p:sp>
            <p:nvSpPr>
              <p:cNvPr id="296"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1028880" y="-7613280"/>
              <a:ext cx="685800" cy="609120"/>
              <a:chOff x="1028880" y="-7613280"/>
              <a:chExt cx="685800" cy="609120"/>
            </a:xfrm>
          </p:grpSpPr>
          <p:sp>
            <p:nvSpPr>
              <p:cNvPr id="299"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429000" y="-4565520"/>
              <a:ext cx="1028880" cy="609480"/>
              <a:chOff x="3429000" y="-4565520"/>
              <a:chExt cx="1028880" cy="609480"/>
            </a:xfrm>
          </p:grpSpPr>
          <p:sp>
            <p:nvSpPr>
              <p:cNvPr id="302"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303"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0" y="-3955680"/>
              <a:ext cx="1714680" cy="609120"/>
              <a:chOff x="0" y="-3955680"/>
              <a:chExt cx="1714680" cy="609120"/>
            </a:xfrm>
          </p:grpSpPr>
          <p:sp>
            <p:nvSpPr>
              <p:cNvPr id="305"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6"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1714680" y="-3955680"/>
              <a:ext cx="1028520" cy="609120"/>
              <a:chOff x="1714680" y="-3955680"/>
              <a:chExt cx="1028520" cy="609120"/>
            </a:xfrm>
          </p:grpSpPr>
          <p:sp>
            <p:nvSpPr>
              <p:cNvPr id="308"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43200" y="-3955680"/>
              <a:ext cx="685800" cy="609120"/>
              <a:chOff x="2743200" y="-3955680"/>
              <a:chExt cx="685800" cy="609120"/>
            </a:xfrm>
          </p:grpSpPr>
          <p:sp>
            <p:nvSpPr>
              <p:cNvPr id="311"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2"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3"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14"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6"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7"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3"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24" name=""/>
          <p:cNvGrpSpPr/>
          <p:nvPr/>
        </p:nvGrpSpPr>
        <p:grpSpPr>
          <a:xfrm>
            <a:off x="0" y="-11028240"/>
            <a:ext cx="4460760" cy="7681680"/>
            <a:chOff x="0" y="-11028240"/>
            <a:chExt cx="4460760" cy="7681680"/>
          </a:xfrm>
        </p:grpSpPr>
        <p:sp>
          <p:nvSpPr>
            <p:cNvPr id="325"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6"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7"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329"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2"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333"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4"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337"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9"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341"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4"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345"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48" name=""/>
            <p:cNvGrpSpPr/>
            <p:nvPr/>
          </p:nvGrpSpPr>
          <p:grpSpPr>
            <a:xfrm>
              <a:off x="0" y="-11028240"/>
              <a:ext cx="1028880" cy="609480"/>
              <a:chOff x="0" y="-11028240"/>
              <a:chExt cx="1028880" cy="609480"/>
            </a:xfrm>
          </p:grpSpPr>
          <p:sp>
            <p:nvSpPr>
              <p:cNvPr id="349"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1028880" y="-11028240"/>
              <a:ext cx="1714320" cy="609480"/>
              <a:chOff x="1028880" y="-11028240"/>
              <a:chExt cx="1714320" cy="609480"/>
            </a:xfrm>
          </p:grpSpPr>
          <p:sp>
            <p:nvSpPr>
              <p:cNvPr id="352"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2743200" y="-11028240"/>
              <a:ext cx="685800" cy="609480"/>
              <a:chOff x="2743200" y="-11028240"/>
              <a:chExt cx="685800" cy="609480"/>
            </a:xfrm>
          </p:grpSpPr>
          <p:sp>
            <p:nvSpPr>
              <p:cNvPr id="355"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6"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29000" y="-11028240"/>
              <a:ext cx="1028880" cy="609480"/>
              <a:chOff x="3429000" y="-11028240"/>
              <a:chExt cx="1028880" cy="609480"/>
            </a:xfrm>
          </p:grpSpPr>
          <p:sp>
            <p:nvSpPr>
              <p:cNvPr id="358"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9"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0" y="-10418400"/>
              <a:ext cx="1714680" cy="244080"/>
              <a:chOff x="0" y="-10418400"/>
              <a:chExt cx="1714680" cy="244080"/>
            </a:xfrm>
          </p:grpSpPr>
          <p:sp>
            <p:nvSpPr>
              <p:cNvPr id="361"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362"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0" y="-10173960"/>
              <a:ext cx="1028880" cy="639360"/>
              <a:chOff x="0" y="-10173960"/>
              <a:chExt cx="1028880" cy="639360"/>
            </a:xfrm>
          </p:grpSpPr>
          <p:sp>
            <p:nvSpPr>
              <p:cNvPr id="364"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1028880" y="-10173960"/>
              <a:ext cx="685800" cy="639360"/>
              <a:chOff x="1028880" y="-10173960"/>
              <a:chExt cx="685800" cy="639360"/>
            </a:xfrm>
          </p:grpSpPr>
          <p:sp>
            <p:nvSpPr>
              <p:cNvPr id="367"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714680" y="-10173960"/>
              <a:ext cx="1028520" cy="639360"/>
              <a:chOff x="1714680" y="-10173960"/>
              <a:chExt cx="1028520" cy="639360"/>
            </a:xfrm>
          </p:grpSpPr>
          <p:sp>
            <p:nvSpPr>
              <p:cNvPr id="370"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0" y="-9534240"/>
              <a:ext cx="1028880" cy="609120"/>
              <a:chOff x="0" y="-9534240"/>
              <a:chExt cx="1028880" cy="609120"/>
            </a:xfrm>
          </p:grpSpPr>
          <p:sp>
            <p:nvSpPr>
              <p:cNvPr id="373"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028880" y="-9534240"/>
              <a:ext cx="1714320" cy="609120"/>
              <a:chOff x="1028880" y="-9534240"/>
              <a:chExt cx="1714320" cy="609120"/>
            </a:xfrm>
          </p:grpSpPr>
          <p:sp>
            <p:nvSpPr>
              <p:cNvPr id="376"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2743200" y="-9534240"/>
              <a:ext cx="685800" cy="609120"/>
              <a:chOff x="2743200" y="-9534240"/>
              <a:chExt cx="685800" cy="609120"/>
            </a:xfrm>
          </p:grpSpPr>
          <p:sp>
            <p:nvSpPr>
              <p:cNvPr id="379"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429000" y="-9534240"/>
              <a:ext cx="1028880" cy="609120"/>
              <a:chOff x="3429000" y="-9534240"/>
              <a:chExt cx="1028880" cy="609120"/>
            </a:xfrm>
          </p:grpSpPr>
          <p:sp>
            <p:nvSpPr>
              <p:cNvPr id="382"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0" y="-8924760"/>
              <a:ext cx="1028880" cy="1311120"/>
              <a:chOff x="0" y="-8924760"/>
              <a:chExt cx="1028880" cy="1311120"/>
            </a:xfrm>
          </p:grpSpPr>
          <p:sp>
            <p:nvSpPr>
              <p:cNvPr id="385"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386"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457880" y="-8223120"/>
              <a:ext cx="2880" cy="609480"/>
              <a:chOff x="4457880" y="-8223120"/>
              <a:chExt cx="2880" cy="609480"/>
            </a:xfrm>
          </p:grpSpPr>
          <p:sp>
            <p:nvSpPr>
              <p:cNvPr id="388"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389"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0" y="-7613280"/>
              <a:ext cx="1028880" cy="609120"/>
              <a:chOff x="0" y="-7613280"/>
              <a:chExt cx="1028880" cy="609120"/>
            </a:xfrm>
          </p:grpSpPr>
          <p:sp>
            <p:nvSpPr>
              <p:cNvPr id="391"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2"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028880" y="-7613280"/>
              <a:ext cx="685800" cy="609120"/>
              <a:chOff x="1028880" y="-7613280"/>
              <a:chExt cx="685800" cy="609120"/>
            </a:xfrm>
          </p:grpSpPr>
          <p:sp>
            <p:nvSpPr>
              <p:cNvPr id="394"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29000" y="-4565520"/>
              <a:ext cx="1028880" cy="609480"/>
              <a:chOff x="3429000" y="-4565520"/>
              <a:chExt cx="1028880" cy="609480"/>
            </a:xfrm>
          </p:grpSpPr>
          <p:sp>
            <p:nvSpPr>
              <p:cNvPr id="397"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398"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0" y="-3955680"/>
              <a:ext cx="1714680" cy="609120"/>
              <a:chOff x="0" y="-3955680"/>
              <a:chExt cx="1714680" cy="609120"/>
            </a:xfrm>
          </p:grpSpPr>
          <p:sp>
            <p:nvSpPr>
              <p:cNvPr id="400"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714680" y="-3955680"/>
              <a:ext cx="1028520" cy="609120"/>
              <a:chOff x="1714680" y="-3955680"/>
              <a:chExt cx="1028520" cy="609120"/>
            </a:xfrm>
          </p:grpSpPr>
          <p:sp>
            <p:nvSpPr>
              <p:cNvPr id="403"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4"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743200" y="-3955680"/>
              <a:ext cx="685800" cy="609120"/>
              <a:chOff x="2743200" y="-3955680"/>
              <a:chExt cx="685800" cy="609120"/>
            </a:xfrm>
          </p:grpSpPr>
          <p:sp>
            <p:nvSpPr>
              <p:cNvPr id="406"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08" name="" descr=""/>
          <p:cNvPicPr/>
          <p:nvPr/>
        </p:nvPicPr>
        <p:blipFill>
          <a:blip r:embed="rId1"/>
          <a:stretch/>
        </p:blipFill>
        <p:spPr>
          <a:xfrm>
            <a:off x="4724280" y="3352680"/>
            <a:ext cx="9220320" cy="3048120"/>
          </a:xfrm>
          <a:prstGeom prst="rect">
            <a:avLst/>
          </a:prstGeom>
          <a:ln w="0">
            <a:noFill/>
          </a:ln>
        </p:spPr>
      </p:pic>
      <p:sp>
        <p:nvSpPr>
          <p:cNvPr id="409" name=""/>
          <p:cNvSpPr/>
          <p:nvPr/>
        </p:nvSpPr>
        <p:spPr>
          <a:xfrm>
            <a:off x="4862160" y="1944720"/>
            <a:ext cx="4230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rea measure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of variation of 1x G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value 483 m</a:t>
            </a:r>
            <a:r>
              <a:rPr b="0" lang="en-US" sz="20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D4B32-B417-44BF-BA70-D58E806630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s learned using GP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11" name="PlaceHolder 2"/>
          <p:cNvSpPr>
            <a:spLocks noGrp="1"/>
          </p:cNvSpPr>
          <p:nvPr>
            <p:ph/>
          </p:nvPr>
        </p:nvSpPr>
        <p:spPr>
          <a:xfrm>
            <a:off x="685440" y="173844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 tool with acceptable accura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se even for trained non-expe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ment gives “high-tech status” to the Enumerator i.e. built-in motivation for u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used to geo-reference holdings (x/y coordinat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PlaceHolder 3"/>
          <p:cNvSpPr>
            <a:spLocks noGrp="1"/>
          </p:cNvSpPr>
          <p:nvPr>
            <p:ph/>
          </p:nvPr>
        </p:nvSpPr>
        <p:spPr>
          <a:xfrm>
            <a:off x="4647960" y="173844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facilities are vulnerable for un-prescribed chang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consumption is high</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p slopes give inaccurate results (projection problems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tree canopy  gives inaccuracy (consider to use extended antenna)</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84EB3D0-AEE8-4A2B-AA63-6C241ED402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ea typeface="Times New Roman"/>
              </a:rPr>
              <a:t>	</a:t>
            </a:r>
            <a:r>
              <a:rPr b="0" lang="nb-NO" sz="3200" spc="-1" strike="noStrike">
                <a:solidFill>
                  <a:srgbClr val="000000"/>
                </a:solidFill>
                <a:latin typeface="Times New Roman"/>
                <a:ea typeface="Times New Roman"/>
              </a:rPr>
              <a:t>To discuss the results from a pilot census of Agriculture in Uganda which indicates that there is potential to use relatively cheap </a:t>
            </a:r>
            <a:r>
              <a:rPr b="1" lang="nb-NO" sz="3200" spc="-1" strike="noStrike">
                <a:solidFill>
                  <a:srgbClr val="000000"/>
                </a:solidFill>
                <a:latin typeface="Times New Roman"/>
                <a:ea typeface="Times New Roman"/>
              </a:rPr>
              <a:t>Global Positioning System (GPS)</a:t>
            </a:r>
            <a:r>
              <a:rPr b="0" lang="nb-NO" sz="3200" spc="-1" strike="noStrike">
                <a:solidFill>
                  <a:srgbClr val="000000"/>
                </a:solidFill>
                <a:latin typeface="Times New Roman"/>
                <a:ea typeface="Times New Roman"/>
              </a:rPr>
              <a:t> equipment for measuring of area and for geo-referencing of holdings in the context of agricultural statistics.</a:t>
            </a:r>
            <a:r>
              <a:rPr b="0" lang="nb-NO"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18622E-BD15-45E1-BF29-2A18BDD3D7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Times New Roman"/>
                <a:ea typeface="Times New Roman"/>
              </a:rPr>
              <a:t>Conclusions</a:t>
            </a:r>
            <a:br>
              <a:rPr sz="4000"/>
            </a:br>
            <a:endParaRPr b="0" lang="en-US" sz="4000" spc="-1" strike="noStrike">
              <a:solidFill>
                <a:srgbClr val="000000"/>
              </a:solidFill>
              <a:latin typeface="Times New Roman"/>
            </a:endParaRPr>
          </a:p>
        </p:txBody>
      </p:sp>
      <p:sp>
        <p:nvSpPr>
          <p:cNvPr id="414" name="PlaceHolder 2"/>
          <p:cNvSpPr>
            <a:spLocks noGrp="1"/>
          </p:cNvSpPr>
          <p:nvPr>
            <p:ph/>
          </p:nvPr>
        </p:nvSpPr>
        <p:spPr>
          <a:xfrm>
            <a:off x="685800" y="761760"/>
            <a:ext cx="77724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rea measurements by the GPS equipment and those by the compass and tape are very close – no statistically significant difference for parcel are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Farmers overestimated areas for both parcels and plots compared to  GPS and traversing techn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GPS equipment is much faster and costs are fairly comparable to those of traversing, so there is a potential for the GPS equipment for agricultural area measur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There is need for cheaper GPS equipment and reduction of running costs or at least more efficient u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There is also need for more thorough training of field staff.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More study is required on the variability and consistency of the equip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Special studies concerning effects of steep slopes and under tree and cloud cover should also be conduc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1B871-C7D1-4DD7-ADF3-C1562EBB4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sues and Further Work</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 international effort be made to develop a GPS version specifically for area measur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ther versions of  the GPS equipment that can be more cost-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mprove efficiency in use GPS tools e.g.switch off when not in use; more enumerators to share single equi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re-chargeable batteries as more cost-efficient op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A838C8-FA65-466C-A5FD-0AD4B0EE99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456840" y="1371600"/>
            <a:ext cx="7924680" cy="3200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Arial"/>
              </a:rPr>
              <a:t>GRACIAS A TODOS  /  Thanks you al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br>
              <a:rPr sz="3200"/>
            </a:b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8A6F986-D996-4D50-B370-A6332AFFD13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Times New Roman"/>
                <a:ea typeface="Times New Roman"/>
              </a:rPr>
              <a:t>Presentation co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roduction</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reas in the Context of Agricultural Statistics</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Testing of GPS equipment during the Pilot Census of Agriculture, 2003</a:t>
            </a:r>
            <a:endParaRPr b="0" lang="en-US" sz="28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400" spc="-1" strike="noStrike">
                <a:solidFill>
                  <a:srgbClr val="000000"/>
                </a:solidFill>
                <a:latin typeface="Times New Roman"/>
              </a:rPr>
              <a:t>3.1 Experimental Design</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2 Comparison of Results of Area Measurements</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3 Comparison of Results of Time Taken</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4 Comparison of Costs of the Instruments</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5 Lessons Learnt</a:t>
            </a:r>
            <a:endParaRPr b="0" lang="en-US" sz="24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Conclusions</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Issues and Further Work</a:t>
            </a:r>
            <a:endParaRPr b="0" lang="en-US" sz="2800" spc="-1" strike="noStrike">
              <a:solidFill>
                <a:srgbClr val="000000"/>
              </a:solidFill>
              <a:latin typeface="Times New Roman"/>
            </a:endParaRPr>
          </a:p>
          <a:p>
            <a:pPr marL="576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4D613-0485-40DE-B8D4-785F14F205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ganda no complete set of cadastral and/or land registers from which to get area inform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od and Agricultural Statistics in general and area statistics, in particular, very po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Pilot Census of Agriculture (PCA) in Uganda, in 2003 it was decided to experiment with different methods and equipment for area, yield estimation, production estimation, compilation of conversion factors, etc.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982FDE-62A8-4F13-BF21-2600E0D55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ea typeface="Times New Roman"/>
              </a:rPr>
              <a:t>Areas in the Context of Agricultural Statistics</a:t>
            </a:r>
            <a:r>
              <a:rPr b="0" lang="nb-N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 is one of the most important factors of p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of land use varies  by season, region,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48320" y="2057400"/>
            <a:ext cx="411480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Measurement Used f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rmination of structural changes of agric. Holdings; an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imation of Agricultural Production b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REA x YIEL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316089E-4DE0-4764-A0E7-C16F265ED8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80880"/>
            <a:ext cx="8077320" cy="198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ative studies of methods and tools used for area measurement conducted under the PCA 2003</a:t>
            </a:r>
            <a:endParaRPr b="0" lang="en-US" sz="3200" spc="-1" strike="noStrike">
              <a:solidFill>
                <a:srgbClr val="000000"/>
              </a:solidFill>
              <a:latin typeface="Times New Roman"/>
            </a:endParaRPr>
          </a:p>
        </p:txBody>
      </p:sp>
      <p:sp>
        <p:nvSpPr>
          <p:cNvPr id="56" name="PlaceHolder 2"/>
          <p:cNvSpPr>
            <a:spLocks noGrp="1"/>
          </p:cNvSpPr>
          <p:nvPr>
            <p:ph/>
          </p:nvPr>
        </p:nvSpPr>
        <p:spPr>
          <a:xfrm>
            <a:off x="609480" y="2438280"/>
            <a:ext cx="7848720" cy="373392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ethods and tools tested were: </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r’s/respondent’s Eye-estimate</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or’s eye-estimates</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 and Compass (traversing)</a:t>
            </a:r>
            <a:endParaRPr b="0" lang="en-US" sz="2400" spc="-1" strike="noStrike">
              <a:solidFill>
                <a:srgbClr val="000000"/>
              </a:solidFill>
              <a:latin typeface="Times New Roman"/>
            </a:endParaRPr>
          </a:p>
          <a:p>
            <a:pPr lvl="1" marL="914400" indent="-457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bal Positioning Systems (GPS) Equipment</a:t>
            </a:r>
            <a:endParaRPr b="0" lang="en-US" sz="2400" spc="-1" strike="noStrike">
              <a:solidFill>
                <a:srgbClr val="000000"/>
              </a:solidFill>
              <a:latin typeface="Times New Roman"/>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nsure that the different Methods and tools are </a:t>
            </a:r>
            <a:r>
              <a:rPr b="1" lang="en-US" sz="2800" spc="-1" strike="noStrike">
                <a:solidFill>
                  <a:srgbClr val="000000"/>
                </a:solidFill>
                <a:latin typeface="Arial"/>
              </a:rPr>
              <a:t>INDEPENDENT</a:t>
            </a:r>
            <a:endParaRPr b="0" lang="en-US" sz="2800" spc="-1" strike="noStrike">
              <a:solidFill>
                <a:srgbClr val="000000"/>
              </a:solidFill>
              <a:latin typeface="Times New Roman"/>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EF1BA9-AE84-4159-AF1D-27C7198A2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1219320"/>
            <a:ext cx="5791320" cy="4549680"/>
          </a:xfrm>
          <a:prstGeom prst="rect">
            <a:avLst/>
          </a:prstGeom>
          <a:ln w="0">
            <a:noFill/>
          </a:ln>
        </p:spPr>
      </p:pic>
      <p:pic>
        <p:nvPicPr>
          <p:cNvPr id="58" name="CIMG0031" descr=""/>
          <p:cNvPicPr/>
          <p:nvPr/>
        </p:nvPicPr>
        <p:blipFill>
          <a:blip r:embed="rId2"/>
          <a:stretch/>
        </p:blipFill>
        <p:spPr>
          <a:xfrm>
            <a:off x="4952880" y="3429000"/>
            <a:ext cx="3810240" cy="2857680"/>
          </a:xfrm>
          <a:prstGeom prst="rect">
            <a:avLst/>
          </a:prstGeom>
          <a:ln w="0">
            <a:noFill/>
          </a:ln>
        </p:spPr>
      </p:pic>
      <p:sp>
        <p:nvSpPr>
          <p:cNvPr id="59" name="PlaceHolder 1"/>
          <p:cNvSpPr>
            <a:spLocks noGrp="1"/>
          </p:cNvSpPr>
          <p:nvPr>
            <p:ph type="title"/>
          </p:nvPr>
        </p:nvSpPr>
        <p:spPr>
          <a:xfrm>
            <a:off x="3809880" y="2133720"/>
            <a:ext cx="5029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ing the track-log as vector data</a:t>
            </a:r>
            <a:br>
              <a:rPr sz="2400"/>
            </a:br>
            <a:r>
              <a:rPr b="0" lang="en-US" sz="2400" spc="-1" strike="noStrike">
                <a:solidFill>
                  <a:srgbClr val="000000"/>
                </a:solidFill>
                <a:latin typeface="Arial"/>
              </a:rPr>
              <a:t>i.e. “cadastral mapp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676520" y="5943600"/>
            <a:ext cx="6324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ing in questionnaires for area&amp;coordin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traditional statistical approach</a:t>
            </a:r>
            <a:endParaRPr b="0" lang="en-US" sz="2400" spc="-1" strike="noStrike">
              <a:solidFill>
                <a:srgbClr val="000000"/>
              </a:solidFill>
              <a:latin typeface="Times New Roman"/>
            </a:endParaRPr>
          </a:p>
        </p:txBody>
      </p:sp>
      <p:sp>
        <p:nvSpPr>
          <p:cNvPr id="61" name=""/>
          <p:cNvSpPr/>
          <p:nvPr/>
        </p:nvSpPr>
        <p:spPr>
          <a:xfrm>
            <a:off x="380880" y="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sible uses of the GPS Equipment Data</a:t>
            </a:r>
            <a:endParaRPr b="0" lang="en-US" sz="3200" spc="-1" strike="noStrike">
              <a:solidFill>
                <a:srgbClr val="000000"/>
              </a:solidFill>
              <a:latin typeface="Times New Roman"/>
            </a:endParaRPr>
          </a:p>
        </p:txBody>
      </p:sp>
      <p:sp>
        <p:nvSpPr>
          <p:cNvPr id="62" name=""/>
          <p:cNvSpPr/>
          <p:nvPr/>
        </p:nvSpPr>
        <p:spPr>
          <a:xfrm>
            <a:off x="4876920" y="2895480"/>
            <a:ext cx="3886200" cy="3733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B04B48-2671-4BEE-9365-8CC8E7D6D9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Specification (GPS)</a:t>
            </a:r>
            <a:br>
              <a:rPr sz="4400"/>
            </a:br>
            <a:r>
              <a:rPr b="0" lang="en-US" sz="2400" spc="-1" strike="noStrike">
                <a:solidFill>
                  <a:srgbClr val="000000"/>
                </a:solidFill>
                <a:latin typeface="Arial"/>
              </a:rPr>
              <a:t>Garmin Handheld GPS 12 / GPS 12XL</a:t>
            </a:r>
            <a:endParaRPr b="0" lang="en-US" sz="2400" spc="-1" strike="noStrike">
              <a:solidFill>
                <a:srgbClr val="000000"/>
              </a:solidFill>
              <a:latin typeface="Times New Roman"/>
            </a:endParaRPr>
          </a:p>
        </p:txBody>
      </p:sp>
      <p:sp>
        <p:nvSpPr>
          <p:cNvPr id="64"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 program for area calcul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tracking &lt;=12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lt;=15 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point capacity &lt;=500</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time 45 sec.</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ource 4 x A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life 24 hour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temperature   -15</a:t>
            </a:r>
            <a:r>
              <a:rPr b="0" lang="en-US" sz="2400" spc="-1" strike="noStrike" baseline="30000">
                <a:solidFill>
                  <a:srgbClr val="000000"/>
                </a:solidFill>
                <a:latin typeface="Arial"/>
              </a:rPr>
              <a:t>O</a:t>
            </a:r>
            <a:r>
              <a:rPr b="0" lang="en-US" sz="2400" spc="-1" strike="noStrike">
                <a:solidFill>
                  <a:srgbClr val="000000"/>
                </a:solidFill>
                <a:latin typeface="Arial"/>
              </a:rPr>
              <a:t>C to +70</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65"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ntrast displ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ernal antenna (GPS 12X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ensions 2” x 6.15” x 1.23”</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GPS12:          USD 149.5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GPS12XL:      USD 229.00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947120" y="5753160"/>
            <a:ext cx="41263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attery life less than 12h as batteries 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nged when half of power is us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34823DC-F2C9-43BE-8CEB-6ADC8633C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
          <p:cNvSpPr txBox="1"/>
          <p:nvPr/>
        </p:nvSpPr>
        <p:spPr>
          <a:xfrm>
            <a:off x="4648320" y="2057040"/>
            <a:ext cx="41148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
          <p:cNvSpPr/>
          <p:nvPr/>
        </p:nvSpPr>
        <p:spPr>
          <a:xfrm>
            <a:off x="4800600" y="2057400"/>
            <a:ext cx="38862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800600" y="202248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group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r’s area eye-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y tape&amp;compass       -Measure by G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Experimental Design (PCA)</a:t>
            </a:r>
            <a:r>
              <a:rPr b="0" lang="en-US" sz="4400" spc="-1" strike="noStrike">
                <a:solidFill>
                  <a:srgbClr val="000000"/>
                </a:solidFill>
                <a:latin typeface="Arial"/>
              </a:rPr>
              <a:t> </a:t>
            </a:r>
            <a:br>
              <a:rPr sz="4400"/>
            </a:br>
            <a:r>
              <a:rPr b="1" lang="en-US" sz="2000" spc="-1" strike="noStrike">
                <a:solidFill>
                  <a:srgbClr val="000000"/>
                </a:solidFill>
                <a:latin typeface="Arial"/>
              </a:rPr>
              <a:t>A trade-off between cost, enumerator’s capacity and scientific desig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900 holdings distributed on 60 EAs and 10 Distri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rata of 5 holdings in each 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rea &amp; crop measurement/estim-ation techniques applied to each stratum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00600" y="4267080"/>
            <a:ext cx="388620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group II + I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or’s ar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ye-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y GPS Equ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42B593-982C-4A01-AFBB-469C469725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5:55:19Z</dcterms:created>
  <dc:creator>Statistisk sentralbrå</dc:creator>
  <dc:description/>
  <dc:language>en-US</dc:language>
  <cp:lastModifiedBy>jkamya</cp:lastModifiedBy>
  <dcterms:modified xsi:type="dcterms:W3CDTF">2004-10-27T14:18:37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49726453</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11:30 room 3</vt:lpwstr>
  </property>
</Properties>
</file>