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8960" y="428940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797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9844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7828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896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89844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7828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89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89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2797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18960" y="428940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2797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844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78280" y="19807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1896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89844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78280" y="428940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19320" y="60912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79760" y="428940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79760" y="19807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8960" y="4289400"/>
            <a:ext cx="7924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7319880" y="6521400"/>
            <a:ext cx="1824120" cy="3366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2" name="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4" name="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" name="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10" name="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" name="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" name="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4" name="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" name="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6" name="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" name="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" name="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" name="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3" name="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73b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2189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6661080"/>
            <a:ext cx="2743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irectorate for Food, Agriculture, and Fish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29600" y="6516360"/>
            <a:ext cx="22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AE0A-0618-49E8-B071-8DF11862C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228600" y="152280"/>
            <a:ext cx="982800" cy="198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73b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661080"/>
            <a:ext cx="2743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Directorate for Food, Agriculture, and Fishe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15400" y="6592680"/>
            <a:ext cx="228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41A2-FEFC-4179-B32C-92C5ABC1D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143000"/>
            <a:ext cx="457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GANISATION FOR ECONOMIC CO-OPERATION AND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80120" y="0"/>
            <a:ext cx="47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GANISATION DE COOPÉRATION ET DE DEVELOPMENT ÉCONOMIQ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4952880" cy="969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980720"/>
            <a:ext cx="88200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66cc"/>
                </a:solidFill>
                <a:latin typeface="Arial"/>
              </a:rPr>
              <a:t>Information Needs for Policy Evaluation: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The Example of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66cc"/>
                </a:solidFill>
                <a:latin typeface="Arial"/>
              </a:rPr>
              <a:t>Income Objectives of Agricultural Policies in OECD Countries</a:t>
            </a:r>
            <a:endParaRPr b="1" lang="en-US" sz="28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140360" y="6019920"/>
            <a:ext cx="4622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XSAI Conference, Cancún,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-4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4447440"/>
            <a:ext cx="647676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therine Moredd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ate for Food, Agriculture and Fishe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What information was used in the income study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2060640"/>
            <a:ext cx="866448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d data for average level, composition and comparison with other households (e.g. IAH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farm account data for distribution study, wealth included (ARMS, FAD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income survey data to evaluate the incidence of low income (Luxembourg Income Stu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series to measure income vari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of support: PSE as a % of farm receip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692280"/>
            <a:ext cx="676584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Income comparison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2491920"/>
            <a:ext cx="82296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of the agricultural households sector (EUROST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gregate picture of the total and disposable income of farm househo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47640" y="609120"/>
            <a:ext cx="691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Structural Indicators Project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70256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 account data + household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iles based on gross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urveys and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as broad as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7640" y="836280"/>
            <a:ext cx="69105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Data quality and availability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79185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coverage of th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plete and more or less detail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definitions of farm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ources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acces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58920" y="6093000"/>
            <a:ext cx="1081080" cy="360360"/>
          </a:xfrm>
          <a:prstGeom prst="rightArrow">
            <a:avLst>
              <a:gd name="adj1" fmla="val 50000"/>
              <a:gd name="adj2" fmla="val 7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6165720"/>
            <a:ext cx="1439640" cy="358920"/>
          </a:xfrm>
          <a:prstGeom prst="rightArrow">
            <a:avLst>
              <a:gd name="adj1" fmla="val 50000"/>
              <a:gd name="adj2" fmla="val 10027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5877000"/>
            <a:ext cx="1223640" cy="431640"/>
          </a:xfrm>
          <a:prstGeom prst="rightArrow">
            <a:avLst>
              <a:gd name="adj1" fmla="val 50000"/>
              <a:gd name="adj2" fmla="val 7087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2360" y="5805360"/>
            <a:ext cx="74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Data not comparable across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34920" y="609120"/>
            <a:ext cx="662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As a result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2437920"/>
            <a:ext cx="7705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comparison is very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nd results have to be docu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has to be care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ments can and should be m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Luxembourg Income Study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777708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b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ss through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dentiality respected but difficulty in  interpreting aggreg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exible definition of farm househo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rm households often not represent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structural information other tha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360" y="476280"/>
            <a:ext cx="69818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Results of the OECD analysis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686800" cy="43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raises farm household income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87"/>
              </a:spcBef>
              <a:spcAft>
                <a:spcPts val="3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revenue variabilit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b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unequally distributed (most goes to larger farme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virtually no redistributive impact by farm siz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increases income disparitie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176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efficiency in transferring income to farm households is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Most support is linked to production levels or input use and does not take account of the income situation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560" y="2514240"/>
            <a:ext cx="7921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targeted to low income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ot equi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amounts are transferred to unintended beneficiaries (rich farmers, input suppliers, non-farming landlords,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negative international spillov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In conclusion, if required, decoupled and targeted payments would be more efficient</a:t>
            </a:r>
            <a:r>
              <a:rPr b="1" lang="en-US" sz="3200" spc="-1" strike="noStrike">
                <a:solidFill>
                  <a:srgbClr val="2973bd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9948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lement such payments, there is a need for clearer criteria and better information on the incidence and causes of financial problems among farm households to find the most efficient so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The OECD  suggests more effective and equitable solutions, </a:t>
            </a:r>
            <a:br>
              <a:rPr sz="3200"/>
            </a:b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to be applied sequentially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market solutions for the provision of public goods and for 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nvisage payments for certain public goods, provide risk management instr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vest in general services to improve rural infrastructure and off-farm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Use the general tax and social security systems to address remaining incom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609120"/>
            <a:ext cx="676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Main messages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000" y="1980720"/>
            <a:ext cx="8459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gricultural policies support farm household income but in a very inefficient and inequitabl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ies are designed and implemented in the absence of adequate information on the income situation of farm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mplement more efficient, decoupled and targeted policies, there is a need for clearer criteria and bett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996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Remarks on information needs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7918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ccurate information on the situation in agriculture, problems cannot be identified and efficient remedies cannot be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mportance of collecting precise and flexible data to be able to design, monitor and evaluate effective policies should be recogni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o individual data should be improved (legal and practical proble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25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609120"/>
            <a:ext cx="705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What are the obstacles to obtaining and using relevant information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19320" y="2349360"/>
            <a:ext cx="6881760" cy="40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How to obtain better information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425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ing political commitment is crucial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e and effective communication, focusing on key play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communication between government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data collection costs: IT, merging of existing data s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re them with the cost of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tach data collection costs to specific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ing best practices and working together on international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618920" y="609120"/>
            <a:ext cx="683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How would such information help policy makers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1980720"/>
            <a:ext cx="81374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ssess the extent of incom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fine measurable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sign program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valuate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mprove current 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ssess the impact of a re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compare alternative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spcAft>
                <a:spcPts val="349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o communicate accurate and clea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3280" y="60912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Continuous OECD efforts in this area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00000" y="2491920"/>
            <a:ext cx="7920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seminate policy-relevant information an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vide a forum for countries to exchange exper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in other networks active in th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92360" y="304560"/>
            <a:ext cx="72230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Context: OECD work on farm household income issues (1)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28180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38"/>
              </a:spcBef>
              <a:spcAft>
                <a:spcPts val="938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Synthesis Repo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ublished in 2003: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arm Household Income: Issues and Policy Responses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ECD, Par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views the income situation of farm households </a:t>
            </a: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using available data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evaluates current polic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814"/>
              </a:spcBef>
              <a:spcAft>
                <a:spcPts val="81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ncludes that income policies are designed and implemented in the absence of adequate inform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7640" y="304560"/>
            <a:ext cx="73677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6cc"/>
                </a:solidFill>
                <a:latin typeface="Arial"/>
              </a:rPr>
              <a:t>Context: OECD work on farm household income issues (2)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2420640"/>
            <a:ext cx="828180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3300"/>
                </a:solidFill>
                <a:latin typeface="Arial"/>
              </a:rPr>
              <a:t>OECD/PACIOLI Workshop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on income needs for analysing farm household income issu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29-30 April 2004, Par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licy Brief entitl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Farm Household Income: Towards Better Informed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edings to be published by LEI, The Hague at the end of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19280" y="609480"/>
            <a:ext cx="691344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What are the income objectives of agricultural policies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204640"/>
            <a:ext cx="79200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ECD countries, income objectives are still prominent, but almost never clearly stated or qua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are expressed in term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rity with other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parities within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ce of low-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72723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What indicators are needed to evaluate progress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71640" y="2707920"/>
            <a:ext cx="792144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interpret objectives and propose indicators as measurable criteria are not set 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, accurate, complete and flexible data to derive 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dicators of achiev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 income provides only a partial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92360" y="609480"/>
            <a:ext cx="67658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Income composition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60400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748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Farm households derive a significant share of their income from non-farm sources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2349360"/>
          <a:ext cx="8553240" cy="40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349360"/>
                    <a:ext cx="855324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0" y="1980360"/>
            <a:ext cx="954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Arial"/>
              </a:rPr>
              <a:t>% share of non-farm income in total farm household inc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6381720"/>
            <a:ext cx="691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6237360"/>
            <a:ext cx="66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3300"/>
                </a:solidFill>
                <a:latin typeface="Arial"/>
              </a:rPr>
              <a:t>Note.</a:t>
            </a:r>
            <a:r>
              <a:rPr b="0" lang="en-GB" sz="2200" spc="-1" strike="noStrike">
                <a:solidFill>
                  <a:srgbClr val="ff3300"/>
                </a:solidFill>
                <a:latin typeface="Arial"/>
              </a:rPr>
              <a:t> Data are not comparable across countr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2637000"/>
            <a:ext cx="0" cy="2519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79640" y="2781360"/>
            <a:ext cx="13683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rrow definition of house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48360" y="2637000"/>
            <a:ext cx="180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oad definition of househo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475920"/>
            <a:ext cx="7272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What indicators are needed to evaluate progress?</a:t>
            </a:r>
            <a:endParaRPr b="1" lang="en-US" sz="3200" spc="-1" strike="noStrike">
              <a:solidFill>
                <a:srgbClr val="2973b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indicators of farm household income and wealth ar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definition of farm househo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, flexib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able information across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9:52:50Z</dcterms:created>
  <dc:creator>E. ESPINASSE</dc:creator>
  <dc:description/>
  <dc:language>en-US</dc:language>
  <cp:lastModifiedBy>CoviRo</cp:lastModifiedBy>
  <cp:lastPrinted>2002-05-16T12:32:18Z</cp:lastPrinted>
  <dcterms:modified xsi:type="dcterms:W3CDTF">2005-03-02T16:15:29Z</dcterms:modified>
  <cp:revision>83</cp:revision>
  <dc:subject/>
  <dc:title>Template for OECD/AGR presentations</dc:title>
</cp:coreProperties>
</file>