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D7B30-2146-4BB0-9EAD-3952AA53B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59A34-B52A-4682-BB0D-D547EBEB2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FE9B9-D141-43A1-93A5-AA7F25BDA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07774-FBFD-449C-9298-4E8B4C976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2CDBEE-5857-4705-A2E9-1955D4A0A2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C848C-61DD-48AD-BBD0-D70B1C4E7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091ACA-543C-461D-A653-FAF786FE6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632A3-5E2E-48F3-B485-2EB6A01DA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18E54-A9FD-45B4-85F0-0F239078C7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6A3D7-4DBC-4B9A-BB48-0245C81006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6DC3C-C41B-4CC5-8F48-02EDCBF3AC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E6420-3452-4E6F-A4FC-B729DC6FB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AC3D6-87C0-4485-B7F6-E08B910ED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3D0A0-601E-4BD7-AAB3-9D9DA55CC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5E692-DF0C-40C3-AA3B-85A7A7BE8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93EB51-A966-4007-AD70-D49CCD60DA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AAC46B-A073-4892-8AF1-AFF3D77D30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FE9D67-B29B-4868-8E83-5109D5B99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A8D48-BC27-4B08-8D68-668592277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5D8DC-CFE2-495D-87D4-BAABC479F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32A7E-8C13-4750-A7DB-C6E392C87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86CF0-0215-4D6B-800B-1CB1718FF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32DCC-5F2A-45F4-AC7E-32BA9F7CD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76686-8EB4-4296-BA46-34AC12FE4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FCC1F-7D95-48C4-9B75-FA0FE2D1E8F5}" type="slidenum">
              <a:rPr b="0" lang="en-GB"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AF312-0796-46F3-BDD7-2BC395A9A4B4}" type="slidenum">
              <a:rPr b="0" lang="en-GB"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6633"/>
                </a:solidFill>
                <a:latin typeface="Garamond"/>
              </a:rPr>
              <a:t>Key issues for a better measurement of income and employment</a:t>
            </a:r>
            <a:endParaRPr b="0" lang="en-US" sz="46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Berkeley Hill, University of Lond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5280" y="385560"/>
            <a:ext cx="7629480" cy="911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ricultural Household spectrum</a:t>
            </a:r>
            <a:endParaRPr b="0" lang="en-US" sz="4200" spc="-1" strike="noStrike">
              <a:solidFill>
                <a:srgbClr val="006633"/>
              </a:solidFill>
              <a:latin typeface="Garamond"/>
            </a:endParaRPr>
          </a:p>
        </p:txBody>
      </p:sp>
      <p:sp>
        <p:nvSpPr>
          <p:cNvPr id="105" name=""/>
          <p:cNvSpPr/>
          <p:nvPr/>
        </p:nvSpPr>
        <p:spPr>
          <a:xfrm>
            <a:off x="2057400" y="2209680"/>
            <a:ext cx="5638680" cy="12956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06" name=""/>
          <p:cNvSpPr/>
          <p:nvPr/>
        </p:nvSpPr>
        <p:spPr>
          <a:xfrm>
            <a:off x="7315200" y="2209680"/>
            <a:ext cx="0" cy="129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553080" y="2209680"/>
            <a:ext cx="0" cy="129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553080" y="3505320"/>
            <a:ext cx="0" cy="22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553080" y="3505320"/>
            <a:ext cx="762120" cy="23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7315200" y="3505320"/>
            <a:ext cx="0" cy="23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837720" y="2209680"/>
            <a:ext cx="1219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H="1">
            <a:off x="837720" y="3505320"/>
            <a:ext cx="121932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048120" y="2438280"/>
            <a:ext cx="1600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Times New Roman"/>
              </a:rPr>
              <a:t>HOUSEHOLDS - AGRICULTURAL</a:t>
            </a:r>
            <a:endParaRPr b="0" lang="en-US" sz="1200" spc="-1" strike="noStrike">
              <a:solidFill>
                <a:srgbClr val="000000"/>
              </a:solidFill>
              <a:latin typeface="Arial"/>
            </a:endParaRPr>
          </a:p>
        </p:txBody>
      </p:sp>
      <p:sp>
        <p:nvSpPr>
          <p:cNvPr id="114" name=""/>
          <p:cNvSpPr/>
          <p:nvPr/>
        </p:nvSpPr>
        <p:spPr>
          <a:xfrm>
            <a:off x="5181480" y="2438280"/>
            <a:ext cx="1295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Times New Roman"/>
              </a:rPr>
              <a:t>OTHER HOUSEHOLDS</a:t>
            </a:r>
            <a:endParaRPr b="0" lang="en-US" sz="1200" spc="-1" strike="noStrike">
              <a:solidFill>
                <a:srgbClr val="000000"/>
              </a:solidFill>
              <a:latin typeface="Arial"/>
            </a:endParaRPr>
          </a:p>
        </p:txBody>
      </p:sp>
      <p:sp>
        <p:nvSpPr>
          <p:cNvPr id="115" name=""/>
          <p:cNvSpPr/>
          <p:nvPr/>
        </p:nvSpPr>
        <p:spPr>
          <a:xfrm>
            <a:off x="2057400" y="1600200"/>
            <a:ext cx="0" cy="609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flipV="1">
            <a:off x="7696080" y="1599840"/>
            <a:ext cx="0" cy="609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581280" y="1752480"/>
            <a:ext cx="2590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Times New Roman"/>
              </a:rPr>
              <a:t>REAL INSTITUTIONAL UNITS</a:t>
            </a:r>
            <a:endParaRPr b="0" lang="en-US" sz="1200" spc="-1" strike="noStrike">
              <a:solidFill>
                <a:srgbClr val="000000"/>
              </a:solidFill>
              <a:latin typeface="Arial"/>
            </a:endParaRPr>
          </a:p>
        </p:txBody>
      </p:sp>
      <p:sp>
        <p:nvSpPr>
          <p:cNvPr id="118" name=""/>
          <p:cNvSpPr/>
          <p:nvPr/>
        </p:nvSpPr>
        <p:spPr>
          <a:xfrm>
            <a:off x="838080" y="2286000"/>
            <a:ext cx="11430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1200" spc="-1" strike="noStrike">
                <a:solidFill>
                  <a:srgbClr val="000000"/>
                </a:solidFill>
                <a:latin typeface="Times New Roman"/>
              </a:rPr>
              <a:t>Mixed income (Operating surplus) of agricultural LKAUs</a:t>
            </a:r>
            <a:endParaRPr b="0" lang="en-US" sz="1200" spc="-1" strike="noStrike">
              <a:solidFill>
                <a:srgbClr val="000000"/>
              </a:solidFill>
              <a:latin typeface="Arial"/>
            </a:endParaRPr>
          </a:p>
        </p:txBody>
      </p:sp>
      <p:sp>
        <p:nvSpPr>
          <p:cNvPr id="119" name=""/>
          <p:cNvSpPr/>
          <p:nvPr/>
        </p:nvSpPr>
        <p:spPr>
          <a:xfrm>
            <a:off x="5257800" y="3505320"/>
            <a:ext cx="1371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Times New Roman"/>
              </a:rPr>
              <a:t>Other income from independent and dependent</a:t>
            </a:r>
            <a:r>
              <a:rPr b="0" lang="en-US" sz="1200" spc="-1" strike="noStrike">
                <a:solidFill>
                  <a:srgbClr val="000000"/>
                </a:solidFill>
                <a:latin typeface="Times New Roman"/>
              </a:rPr>
              <a:t> </a:t>
            </a:r>
            <a:r>
              <a:rPr b="0" i="1" lang="en-US" sz="1200" spc="-1" strike="noStrike">
                <a:solidFill>
                  <a:srgbClr val="000000"/>
                </a:solidFill>
                <a:latin typeface="Times New Roman"/>
              </a:rPr>
              <a:t>activity, transfers etc.</a:t>
            </a:r>
            <a:endParaRPr b="0" lang="en-US" sz="1200" spc="-1" strike="noStrike">
              <a:solidFill>
                <a:srgbClr val="000000"/>
              </a:solidFill>
              <a:latin typeface="Arial"/>
            </a:endParaRPr>
          </a:p>
        </p:txBody>
      </p:sp>
      <p:sp>
        <p:nvSpPr>
          <p:cNvPr id="120" name=""/>
          <p:cNvSpPr/>
          <p:nvPr/>
        </p:nvSpPr>
        <p:spPr>
          <a:xfrm rot="16195800">
            <a:off x="6188760" y="2644920"/>
            <a:ext cx="1273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000" spc="-1" strike="noStrike">
                <a:solidFill>
                  <a:srgbClr val="000000"/>
                </a:solidFill>
                <a:latin typeface="Times New Roman"/>
              </a:rPr>
              <a:t>CORPORATIONS</a:t>
            </a:r>
            <a:endParaRPr b="0" lang="en-US" sz="1000" spc="-1" strike="noStrike">
              <a:solidFill>
                <a:srgbClr val="000000"/>
              </a:solidFill>
              <a:latin typeface="Arial"/>
            </a:endParaRPr>
          </a:p>
        </p:txBody>
      </p:sp>
      <p:sp>
        <p:nvSpPr>
          <p:cNvPr id="121" name=""/>
          <p:cNvSpPr/>
          <p:nvPr/>
        </p:nvSpPr>
        <p:spPr>
          <a:xfrm rot="16200000">
            <a:off x="7119360" y="2481840"/>
            <a:ext cx="82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Times New Roman"/>
              </a:rPr>
              <a:t>OTHER</a:t>
            </a:r>
            <a:endParaRPr b="0" lang="en-US" sz="1200" spc="-1" strike="noStrike">
              <a:solidFill>
                <a:srgbClr val="000000"/>
              </a:solidFill>
              <a:latin typeface="Arial"/>
            </a:endParaRPr>
          </a:p>
        </p:txBody>
      </p:sp>
      <p:sp>
        <p:nvSpPr>
          <p:cNvPr id="122" name=""/>
          <p:cNvSpPr/>
          <p:nvPr/>
        </p:nvSpPr>
        <p:spPr>
          <a:xfrm>
            <a:off x="5867280" y="1905120"/>
            <a:ext cx="685800" cy="533160"/>
          </a:xfrm>
          <a:prstGeom prst="ellipse">
            <a:avLst/>
          </a:prstGeom>
          <a:blipFill rotWithShape="0">
            <a:blip r:embed="rId1"/>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057400" y="2971800"/>
            <a:ext cx="563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048120" y="3124080"/>
            <a:ext cx="34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Times New Roman"/>
              </a:rPr>
              <a:t>Entrepreneurial income from agricultural activity</a:t>
            </a:r>
            <a:endParaRPr b="0" lang="en-US" sz="1200" spc="-1" strike="noStrike">
              <a:solidFill>
                <a:srgbClr val="000000"/>
              </a:solidFill>
              <a:latin typeface="Arial"/>
            </a:endParaRPr>
          </a:p>
        </p:txBody>
      </p:sp>
      <p:sp>
        <p:nvSpPr>
          <p:cNvPr id="125" name=""/>
          <p:cNvSpPr/>
          <p:nvPr/>
        </p:nvSpPr>
        <p:spPr>
          <a:xfrm flipV="1">
            <a:off x="5105520" y="2209680"/>
            <a:ext cx="0" cy="19051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057400" y="3505320"/>
            <a:ext cx="4495680" cy="2286000"/>
          </a:xfrm>
          <a:custGeom>
            <a:avLst/>
            <a:gdLst/>
            <a:ahLst/>
            <a:rect l="l" t="t" r="r" b="b"/>
            <a:pathLst>
              <a:path w="2832" h="1440">
                <a:moveTo>
                  <a:pt x="0" y="0"/>
                </a:moveTo>
                <a:cubicBezTo>
                  <a:pt x="724" y="72"/>
                  <a:pt x="1448" y="144"/>
                  <a:pt x="1920" y="384"/>
                </a:cubicBezTo>
                <a:cubicBezTo>
                  <a:pt x="2392" y="624"/>
                  <a:pt x="2680" y="1272"/>
                  <a:pt x="2832" y="144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696080" y="3505320"/>
            <a:ext cx="0" cy="236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7315200" y="3505320"/>
            <a:ext cx="380880" cy="243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6781680" y="3581280"/>
            <a:ext cx="609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Times New Roman"/>
              </a:rPr>
              <a:t>Other EI</a:t>
            </a:r>
            <a:endParaRPr b="0" lang="en-US" sz="1200" spc="-1" strike="noStrike">
              <a:solidFill>
                <a:srgbClr val="000000"/>
              </a:solidFill>
              <a:latin typeface="Arial"/>
            </a:endParaRPr>
          </a:p>
        </p:txBody>
      </p:sp>
      <p:sp>
        <p:nvSpPr>
          <p:cNvPr id="130" name=""/>
          <p:cNvSpPr/>
          <p:nvPr/>
        </p:nvSpPr>
        <p:spPr>
          <a:xfrm>
            <a:off x="5867280" y="1905120"/>
            <a:ext cx="68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Times New Roman"/>
              </a:rPr>
              <a:t>Kitchen garde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00000" y="33300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33"/>
                </a:solidFill>
                <a:latin typeface="Garamond"/>
              </a:rPr>
              <a:t>Difference between “broad” and “narrow” in IAHS results </a:t>
            </a:r>
            <a:endParaRPr b="0" lang="en-US" sz="2500" spc="-1" strike="noStrike">
              <a:solidFill>
                <a:srgbClr val="006633"/>
              </a:solidFill>
              <a:latin typeface="Garamond"/>
            </a:endParaRPr>
          </a:p>
        </p:txBody>
      </p:sp>
      <p:sp>
        <p:nvSpPr>
          <p:cNvPr id="132" name=""/>
          <p:cNvSpPr/>
          <p:nvPr/>
        </p:nvSpPr>
        <p:spPr>
          <a:xfrm>
            <a:off x="0" y="1623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graphicFrame>
        <p:nvGraphicFramePr>
          <p:cNvPr id="133" name=""/>
          <p:cNvGraphicFramePr/>
          <p:nvPr/>
        </p:nvGraphicFramePr>
        <p:xfrm>
          <a:off x="611280" y="907920"/>
          <a:ext cx="7777080" cy="5648400"/>
        </p:xfrm>
        <a:graphic>
          <a:graphicData uri="http://schemas.openxmlformats.org/drawingml/2006/table">
            <a:tbl>
              <a:tblPr/>
              <a:tblGrid>
                <a:gridCol w="1324800"/>
                <a:gridCol w="216000"/>
                <a:gridCol w="216000"/>
                <a:gridCol w="615240"/>
                <a:gridCol w="280080"/>
                <a:gridCol w="697320"/>
                <a:gridCol w="278280"/>
                <a:gridCol w="542880"/>
                <a:gridCol w="278640"/>
                <a:gridCol w="698760"/>
                <a:gridCol w="992520"/>
                <a:gridCol w="820080"/>
                <a:gridCol w="816480"/>
              </a:tblGrid>
              <a:tr h="795600">
                <a:tc gridSpan="2">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2762280"/>
                          <a:tab algn="l" pos="3143160"/>
                          <a:tab algn="l" pos="3524400"/>
                          <a:tab algn="l" pos="4133880"/>
                          <a:tab algn="l" pos="6039000"/>
                          <a:tab algn="l" pos="6400800"/>
                          <a:tab algn="l" pos="7315200"/>
                          <a:tab algn="l" pos="8229600"/>
                          <a:tab algn="l" pos="9144000"/>
                          <a:tab algn="l" pos="10058400"/>
                        </a:tabLst>
                      </a:pPr>
                      <a:r>
                        <a:rPr b="1" lang="en-GB" sz="1800" spc="-1" strike="noStrike">
                          <a:solidFill>
                            <a:srgbClr val="000000"/>
                          </a:solidFill>
                          <a:latin typeface="Arial"/>
                          <a:ea typeface="Times New Roman"/>
                        </a:rPr>
                        <a:t>Dk </a:t>
                      </a:r>
                      <a:br>
                        <a:rPr sz="1800"/>
                      </a:br>
                      <a:r>
                        <a:rPr b="1" lang="en-GB" sz="1800" spc="-1" strike="noStrike">
                          <a:solidFill>
                            <a:srgbClr val="000000"/>
                          </a:solidFill>
                          <a:latin typeface="Arial"/>
                          <a:ea typeface="Times New Roman"/>
                        </a:rPr>
                        <a:t>199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3392640"/>
                          <a:tab algn="l" pos="3773520"/>
                          <a:tab algn="l" pos="4154400"/>
                          <a:tab algn="l" pos="4764240"/>
                          <a:tab algn="l" pos="6669000"/>
                          <a:tab algn="l" pos="7315200"/>
                          <a:tab algn="l" pos="8229600"/>
                          <a:tab algn="l" pos="9144000"/>
                          <a:tab algn="l" pos="10058400"/>
                        </a:tabLst>
                      </a:pPr>
                      <a:r>
                        <a:rPr b="1" lang="en-US" sz="1800" spc="-1" strike="noStrike">
                          <a:solidFill>
                            <a:srgbClr val="000000"/>
                          </a:solidFill>
                          <a:latin typeface="Arial"/>
                          <a:ea typeface="Times New Roman"/>
                        </a:rPr>
                        <a:t>D </a:t>
                      </a:r>
                      <a:br>
                        <a:rPr sz="1800"/>
                      </a:br>
                      <a:r>
                        <a:rPr b="1" lang="en-US" sz="1800" spc="-1" strike="noStrike">
                          <a:solidFill>
                            <a:srgbClr val="000000"/>
                          </a:solidFill>
                          <a:latin typeface="Arial"/>
                          <a:ea typeface="Times New Roman"/>
                        </a:rPr>
                        <a:t>198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ctr">
                        <a:tabLst>
                          <a:tab algn="l" pos="0"/>
                          <a:tab algn="l" pos="4113360"/>
                          <a:tab algn="l" pos="4494240"/>
                          <a:tab algn="l" pos="4875120"/>
                          <a:tab algn="l" pos="5484960"/>
                          <a:tab algn="l" pos="7389720"/>
                          <a:tab algn="l" pos="8229600"/>
                          <a:tab algn="l" pos="9144000"/>
                          <a:tab algn="l" pos="10058400"/>
                        </a:tabLst>
                      </a:pPr>
                      <a:r>
                        <a:rPr b="1" lang="en-US" sz="1800" spc="-1" strike="noStrike">
                          <a:solidFill>
                            <a:srgbClr val="000000"/>
                          </a:solidFill>
                          <a:latin typeface="Arial"/>
                          <a:ea typeface="Times New Roman"/>
                        </a:rPr>
                        <a:t>ELL</a:t>
                      </a:r>
                      <a:endParaRPr b="0" lang="en-US" sz="1800" spc="-1" strike="noStrike">
                        <a:solidFill>
                          <a:srgbClr val="000000"/>
                        </a:solidFill>
                        <a:latin typeface="Arial"/>
                      </a:endParaRPr>
                    </a:p>
                    <a:p>
                      <a:pPr marL="343080" indent="-343080" algn="ctr">
                        <a:tabLst>
                          <a:tab algn="l" pos="0"/>
                          <a:tab algn="l" pos="4113360"/>
                          <a:tab algn="l" pos="4494240"/>
                          <a:tab algn="l" pos="4875120"/>
                          <a:tab algn="l" pos="5484960"/>
                          <a:tab algn="l" pos="7389720"/>
                          <a:tab algn="l" pos="8229600"/>
                          <a:tab algn="l" pos="9144000"/>
                          <a:tab algn="l" pos="10058400"/>
                        </a:tabLst>
                      </a:pPr>
                      <a:r>
                        <a:rPr b="1" lang="en-US" sz="1800" spc="-1" strike="noStrike">
                          <a:solidFill>
                            <a:srgbClr val="000000"/>
                          </a:solidFill>
                          <a:latin typeface="Arial"/>
                          <a:ea typeface="Times New Roman"/>
                        </a:rPr>
                        <a:t>199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tabLst>
                          <a:tab algn="l" pos="0"/>
                          <a:tab algn="l" pos="4113360"/>
                          <a:tab algn="l" pos="4494240"/>
                          <a:tab algn="l" pos="4875120"/>
                          <a:tab algn="l" pos="5484960"/>
                          <a:tab algn="l" pos="7389720"/>
                          <a:tab algn="l" pos="8229600"/>
                          <a:tab algn="l" pos="9144000"/>
                          <a:tab algn="l" pos="10058400"/>
                        </a:tabLst>
                      </a:pPr>
                      <a:r>
                        <a:rPr b="1" lang="en-US" sz="1800" spc="-1" strike="noStrike">
                          <a:solidFill>
                            <a:srgbClr val="000000"/>
                          </a:solidFill>
                          <a:latin typeface="Arial"/>
                          <a:ea typeface="Times New Roman"/>
                        </a:rPr>
                        <a:t>IRL</a:t>
                      </a:r>
                      <a:br>
                        <a:rPr sz="1800"/>
                      </a:br>
                      <a:r>
                        <a:rPr b="1" lang="en-US" sz="1800" spc="-1" strike="noStrike">
                          <a:solidFill>
                            <a:srgbClr val="000000"/>
                          </a:solidFill>
                          <a:latin typeface="Arial"/>
                          <a:ea typeface="Times New Roman"/>
                        </a:rPr>
                        <a:t>1987</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4743360"/>
                          <a:tab algn="l" pos="5124600"/>
                          <a:tab algn="l" pos="5505480"/>
                          <a:tab algn="l" pos="6114960"/>
                          <a:tab algn="l" pos="8020080"/>
                          <a:tab algn="l" pos="8229600"/>
                          <a:tab algn="l" pos="9144000"/>
                          <a:tab algn="l" pos="10058400"/>
                        </a:tabLst>
                      </a:pPr>
                      <a:r>
                        <a:rPr b="1" lang="en-US" sz="1800" spc="-1" strike="noStrike">
                          <a:solidFill>
                            <a:srgbClr val="000000"/>
                          </a:solidFill>
                          <a:latin typeface="Arial"/>
                          <a:ea typeface="Times New Roman"/>
                        </a:rPr>
                        <a:t>NED</a:t>
                      </a:r>
                      <a:br>
                        <a:rPr sz="1800"/>
                      </a:br>
                      <a:r>
                        <a:rPr b="1" lang="en-US" sz="1800" spc="-1" strike="noStrike">
                          <a:solidFill>
                            <a:srgbClr val="000000"/>
                          </a:solidFill>
                          <a:latin typeface="Arial"/>
                          <a:ea typeface="Times New Roman"/>
                        </a:rPr>
                        <a:t>198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5508720"/>
                          <a:tab algn="l" pos="5889600"/>
                          <a:tab algn="l" pos="6270480"/>
                          <a:tab algn="l" pos="6880320"/>
                          <a:tab algn="l" pos="8785080"/>
                          <a:tab algn="l" pos="9144000"/>
                          <a:tab algn="l" pos="10058400"/>
                        </a:tabLst>
                      </a:pPr>
                      <a:r>
                        <a:rPr b="1" lang="en-US" sz="1800" spc="-1" strike="noStrike">
                          <a:solidFill>
                            <a:srgbClr val="000000"/>
                          </a:solidFill>
                          <a:latin typeface="Arial"/>
                          <a:ea typeface="Times New Roman"/>
                        </a:rPr>
                        <a:t>FIN 199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5508720"/>
                          <a:tab algn="l" pos="5889600"/>
                          <a:tab algn="l" pos="6270480"/>
                          <a:tab algn="l" pos="6880320"/>
                          <a:tab algn="l" pos="8785080"/>
                          <a:tab algn="l" pos="9144000"/>
                          <a:tab algn="l" pos="10058400"/>
                        </a:tabLst>
                      </a:pPr>
                      <a:r>
                        <a:rPr b="1" lang="en-US" sz="1800" spc="-1" strike="noStrike">
                          <a:solidFill>
                            <a:srgbClr val="000000"/>
                          </a:solidFill>
                          <a:latin typeface="Arial"/>
                          <a:ea typeface="Times New Roman"/>
                        </a:rPr>
                        <a:t>SWE 199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gridSpan="13">
                  <a:txBody>
                    <a:bodyPr lIns="90000" rIns="90000" tIns="46800" bIns="46800" anchor="t">
                      <a:noAutofit/>
                    </a:bodyPr>
                    <a:p>
                      <a:pPr marL="343080" indent="-343080" algn="just">
                        <a:tabLst>
                          <a:tab algn="l" pos="0"/>
                          <a:tab algn="l" pos="1973160"/>
                          <a:tab algn="l" pos="38782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No. agricultural households (x 1 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marL="343080" indent="-343080" algn="ctr">
                        <a:tabLst>
                          <a:tab algn="l" pos="0"/>
                          <a:tab algn="l" pos="1973160"/>
                          <a:tab algn="l" pos="38782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broad”</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gridSpan="3">
                  <a:txBody>
                    <a:bodyPr lIns="90000" rIns="90000" tIns="46800" bIns="46800" anchor="t">
                      <a:noAutofit/>
                    </a:bodyPr>
                    <a:p>
                      <a:pPr marL="343080" indent="-343080" algn="r">
                        <a:tabLst>
                          <a:tab algn="l" pos="0"/>
                          <a:tab algn="l" pos="2762280"/>
                          <a:tab algn="l" pos="3143160"/>
                          <a:tab algn="l" pos="3524400"/>
                          <a:tab algn="l" pos="4133880"/>
                          <a:tab algn="l" pos="6039000"/>
                          <a:tab algn="l" pos="6400800"/>
                          <a:tab algn="l" pos="7315200"/>
                          <a:tab algn="l" pos="8229600"/>
                          <a:tab algn="l" pos="9144000"/>
                          <a:tab algn="l" pos="10058400"/>
                        </a:tabLst>
                      </a:pPr>
                      <a:r>
                        <a:rPr b="0" lang="en-US" sz="1800" spc="-1" strike="noStrike">
                          <a:solidFill>
                            <a:srgbClr val="000000"/>
                          </a:solidFill>
                          <a:latin typeface="Arial"/>
                          <a:ea typeface="Times New Roman"/>
                        </a:rPr>
                        <a:t>64</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3392640"/>
                          <a:tab algn="l" pos="3773520"/>
                          <a:tab algn="l" pos="4154400"/>
                          <a:tab algn="l" pos="4764240"/>
                          <a:tab algn="l" pos="6669000"/>
                          <a:tab algn="l" pos="7315200"/>
                          <a:tab algn="l" pos="8229600"/>
                          <a:tab algn="l" pos="9144000"/>
                          <a:tab algn="l" pos="10058400"/>
                        </a:tabLst>
                      </a:pPr>
                      <a:r>
                        <a:rPr b="0" lang="en-US" sz="1800" spc="-1" strike="noStrike">
                          <a:solidFill>
                            <a:srgbClr val="000000"/>
                          </a:solidFill>
                          <a:latin typeface="Arial"/>
                          <a:ea typeface="Times New Roman"/>
                        </a:rPr>
                        <a:t>613</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4113360"/>
                          <a:tab algn="l" pos="4494240"/>
                          <a:tab algn="l" pos="4875120"/>
                          <a:tab algn="l" pos="5484960"/>
                          <a:tab algn="l" pos="7389720"/>
                          <a:tab algn="l" pos="8229600"/>
                          <a:tab algn="l" pos="9144000"/>
                          <a:tab algn="l" pos="10058400"/>
                        </a:tabLst>
                      </a:pPr>
                      <a:r>
                        <a:rPr b="0" lang="en-US" sz="1800" spc="-1" strike="noStrike">
                          <a:solidFill>
                            <a:srgbClr val="000000"/>
                          </a:solidFill>
                          <a:latin typeface="Arial"/>
                          <a:ea typeface="Times New Roman"/>
                        </a:rPr>
                        <a:t>615</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4113360"/>
                          <a:tab algn="l" pos="4494240"/>
                          <a:tab algn="l" pos="4875120"/>
                          <a:tab algn="l" pos="5484960"/>
                          <a:tab algn="l" pos="7389720"/>
                          <a:tab algn="l" pos="8229600"/>
                          <a:tab algn="l" pos="9144000"/>
                          <a:tab algn="l" pos="10058400"/>
                        </a:tabLst>
                      </a:pPr>
                      <a:r>
                        <a:rPr b="0" lang="en-US" sz="1800" spc="-1" strike="noStrike">
                          <a:solidFill>
                            <a:srgbClr val="000000"/>
                          </a:solidFill>
                          <a:latin typeface="Arial"/>
                          <a:ea typeface="Times New Roman"/>
                        </a:rPr>
                        <a:t>207</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tabLst>
                          <a:tab algn="l" pos="0"/>
                          <a:tab algn="l" pos="4743360"/>
                          <a:tab algn="l" pos="5124600"/>
                          <a:tab algn="l" pos="5505480"/>
                          <a:tab algn="l" pos="6114960"/>
                          <a:tab algn="l" pos="8020080"/>
                          <a:tab algn="l" pos="8229600"/>
                          <a:tab algn="l" pos="9144000"/>
                          <a:tab algn="l" pos="10058400"/>
                        </a:tabLst>
                      </a:pPr>
                      <a:r>
                        <a:rPr b="0" lang="en-US" sz="1800" spc="-1" strike="noStrike">
                          <a:solidFill>
                            <a:srgbClr val="000000"/>
                          </a:solidFill>
                          <a:latin typeface="Arial"/>
                          <a:ea typeface="Times New Roman"/>
                        </a:rPr>
                        <a:t>13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tabLst>
                          <a:tab algn="l" pos="0"/>
                          <a:tab algn="l" pos="5508720"/>
                          <a:tab algn="l" pos="5889600"/>
                          <a:tab algn="l" pos="6270480"/>
                          <a:tab algn="l" pos="6880320"/>
                          <a:tab algn="l" pos="8785080"/>
                          <a:tab algn="l" pos="9144000"/>
                          <a:tab algn="l" pos="10058400"/>
                        </a:tabLst>
                      </a:pPr>
                      <a:r>
                        <a:rPr b="0" lang="en-US" sz="1800" spc="-1" strike="noStrike">
                          <a:solidFill>
                            <a:srgbClr val="000000"/>
                          </a:solidFill>
                          <a:latin typeface="Arial"/>
                          <a:ea typeface="Times New Roman"/>
                        </a:rPr>
                        <a:t>13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tabLst>
                          <a:tab algn="l" pos="0"/>
                          <a:tab algn="l" pos="5508720"/>
                          <a:tab algn="l" pos="5889600"/>
                          <a:tab algn="l" pos="6270480"/>
                          <a:tab algn="l" pos="6880320"/>
                          <a:tab algn="l" pos="8785080"/>
                          <a:tab algn="l" pos="9144000"/>
                          <a:tab algn="l" pos="10058400"/>
                        </a:tabLst>
                      </a:pPr>
                      <a:r>
                        <a:rPr b="0" lang="en-US" sz="1800" spc="-1" strike="noStrike">
                          <a:solidFill>
                            <a:srgbClr val="000000"/>
                          </a:solidFill>
                          <a:latin typeface="Arial"/>
                          <a:ea typeface="Times New Roman"/>
                        </a:rPr>
                        <a:t>94</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68280">
                <a:tc>
                  <a:txBody>
                    <a:bodyPr lIns="90000" rIns="90000" tIns="46800" bIns="46800" anchor="t">
                      <a:noAutofit/>
                    </a:bodyPr>
                    <a:p>
                      <a:pPr marL="343080" indent="-343080" algn="ctr">
                        <a:tabLst>
                          <a:tab algn="l" pos="0"/>
                          <a:tab algn="l" pos="1973160"/>
                          <a:tab algn="l" pos="38782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narrow”</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gridSpan="3">
                  <a:txBody>
                    <a:bodyPr lIns="90000" rIns="90000" tIns="46800" bIns="46800" anchor="t">
                      <a:noAutofit/>
                    </a:bodyPr>
                    <a:p>
                      <a:pPr marL="343080" indent="-343080" algn="r">
                        <a:tabLst>
                          <a:tab algn="l" pos="0"/>
                          <a:tab algn="l" pos="2762280"/>
                          <a:tab algn="l" pos="3143160"/>
                          <a:tab algn="l" pos="3524400"/>
                          <a:tab algn="l" pos="4133880"/>
                          <a:tab algn="l" pos="6039000"/>
                          <a:tab algn="l" pos="6400800"/>
                          <a:tab algn="l" pos="7315200"/>
                          <a:tab algn="l" pos="8229600"/>
                          <a:tab algn="l" pos="9144000"/>
                          <a:tab algn="l" pos="10058400"/>
                        </a:tabLst>
                      </a:pPr>
                      <a:r>
                        <a:rPr b="0" lang="en-US" sz="1800" spc="-1" strike="noStrike">
                          <a:solidFill>
                            <a:srgbClr val="000000"/>
                          </a:solidFill>
                          <a:latin typeface="Arial"/>
                          <a:ea typeface="Times New Roman"/>
                        </a:rPr>
                        <a:t>21</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3392640"/>
                          <a:tab algn="l" pos="3773520"/>
                          <a:tab algn="l" pos="4154400"/>
                          <a:tab algn="l" pos="4764240"/>
                          <a:tab algn="l" pos="6669000"/>
                          <a:tab algn="l" pos="7315200"/>
                          <a:tab algn="l" pos="8229600"/>
                          <a:tab algn="l" pos="9144000"/>
                          <a:tab algn="l" pos="10058400"/>
                        </a:tabLst>
                      </a:pPr>
                      <a:r>
                        <a:rPr b="0" lang="en-US" sz="1800" spc="-1" strike="noStrike">
                          <a:solidFill>
                            <a:srgbClr val="000000"/>
                          </a:solidFill>
                          <a:latin typeface="Arial"/>
                          <a:ea typeface="Times New Roman"/>
                        </a:rPr>
                        <a:t>353</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4113360"/>
                          <a:tab algn="l" pos="4494240"/>
                          <a:tab algn="l" pos="4875120"/>
                          <a:tab algn="l" pos="5484960"/>
                          <a:tab algn="l" pos="7389720"/>
                          <a:tab algn="l" pos="8229600"/>
                          <a:tab algn="l" pos="9144000"/>
                          <a:tab algn="l" pos="10058400"/>
                        </a:tabLst>
                      </a:pPr>
                      <a:r>
                        <a:rPr b="0" lang="en-US" sz="1800" spc="-1" strike="noStrike">
                          <a:solidFill>
                            <a:srgbClr val="000000"/>
                          </a:solidFill>
                          <a:latin typeface="Arial"/>
                          <a:ea typeface="Times New Roman"/>
                        </a:rPr>
                        <a:t>398</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4113360"/>
                          <a:tab algn="l" pos="4494240"/>
                          <a:tab algn="l" pos="4875120"/>
                          <a:tab algn="l" pos="5484960"/>
                          <a:tab algn="l" pos="7389720"/>
                          <a:tab algn="l" pos="8229600"/>
                          <a:tab algn="l" pos="9144000"/>
                          <a:tab algn="l" pos="10058400"/>
                        </a:tabLst>
                      </a:pPr>
                      <a:r>
                        <a:rPr b="0" lang="en-US" sz="1800" spc="-1" strike="noStrike">
                          <a:solidFill>
                            <a:srgbClr val="000000"/>
                          </a:solidFill>
                          <a:latin typeface="Arial"/>
                          <a:ea typeface="Times New Roman"/>
                        </a:rPr>
                        <a:t>85</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tabLst>
                          <a:tab algn="l" pos="0"/>
                          <a:tab algn="l" pos="4743360"/>
                          <a:tab algn="l" pos="5124600"/>
                          <a:tab algn="l" pos="5505480"/>
                          <a:tab algn="l" pos="6114960"/>
                          <a:tab algn="l" pos="8020080"/>
                          <a:tab algn="l" pos="8229600"/>
                          <a:tab algn="l" pos="9144000"/>
                          <a:tab algn="l" pos="10058400"/>
                        </a:tabLst>
                      </a:pPr>
                      <a:r>
                        <a:rPr b="0" lang="en-US" sz="1800" spc="-1" strike="noStrike">
                          <a:solidFill>
                            <a:srgbClr val="000000"/>
                          </a:solidFill>
                          <a:latin typeface="Arial"/>
                          <a:ea typeface="Times New Roman"/>
                        </a:rPr>
                        <a:t>8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tabLst>
                          <a:tab algn="l" pos="0"/>
                          <a:tab algn="l" pos="5508720"/>
                          <a:tab algn="l" pos="5889600"/>
                          <a:tab algn="l" pos="6270480"/>
                          <a:tab algn="l" pos="6880320"/>
                          <a:tab algn="l" pos="8785080"/>
                          <a:tab algn="l" pos="9144000"/>
                          <a:tab algn="l" pos="10058400"/>
                        </a:tabLst>
                      </a:pPr>
                      <a:r>
                        <a:rPr b="0" lang="en-US" sz="1800" spc="-1" strike="noStrike">
                          <a:solidFill>
                            <a:srgbClr val="000000"/>
                          </a:solidFill>
                          <a:latin typeface="Arial"/>
                          <a:ea typeface="Times New Roman"/>
                        </a:rPr>
                        <a:t>7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tabLst>
                          <a:tab algn="l" pos="0"/>
                          <a:tab algn="l" pos="5508720"/>
                          <a:tab algn="l" pos="5889600"/>
                          <a:tab algn="l" pos="6270480"/>
                          <a:tab algn="l" pos="6880320"/>
                          <a:tab algn="l" pos="8785080"/>
                          <a:tab algn="l" pos="9144000"/>
                          <a:tab algn="l" pos="10058400"/>
                        </a:tabLst>
                      </a:pPr>
                      <a:r>
                        <a:rPr b="0" lang="en-US" sz="1800" spc="-1" strike="noStrike">
                          <a:solidFill>
                            <a:srgbClr val="000000"/>
                          </a:solidFill>
                          <a:latin typeface="Arial"/>
                          <a:ea typeface="Times New Roman"/>
                        </a:rPr>
                        <a:t>54</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68280">
                <a:tc>
                  <a:txBody>
                    <a:bodyPr lIns="90000" rIns="90000" tIns="46800" bIns="46800" anchor="t">
                      <a:noAutofit/>
                    </a:bodyPr>
                    <a:p>
                      <a:pPr marL="343080" indent="-343080" algn="ctr">
                        <a:tabLst>
                          <a:tab algn="l" pos="0"/>
                          <a:tab algn="l" pos="1973160"/>
                          <a:tab algn="l" pos="387828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marginal”</a:t>
                      </a:r>
                      <a:endParaRPr b="0" lang="en-US" sz="1600" spc="-1" strike="noStrike">
                        <a:solidFill>
                          <a:srgbClr val="000000"/>
                        </a:solidFill>
                        <a:latin typeface="Arial"/>
                      </a:endParaRPr>
                    </a:p>
                  </a:txBody>
                  <a:tcPr anchor="t" marL="90000" marR="90000">
                    <a:lnL w="5760">
                      <a:solidFill>
                        <a:srgbClr val="000000"/>
                      </a:solidFill>
                    </a:lnL>
                    <a:lnR>
                      <a:noFill/>
                    </a:lnR>
                    <a:lnT>
                      <a:noFill/>
                    </a:lnT>
                    <a:lnB>
                      <a:noFill/>
                    </a:lnB>
                    <a:noFill/>
                  </a:tcPr>
                </a:tc>
                <a:tc gridSpan="3">
                  <a:txBody>
                    <a:bodyPr lIns="90000" rIns="90000" tIns="46800" bIns="46800" anchor="t">
                      <a:noAutofit/>
                    </a:bodyPr>
                    <a:p>
                      <a:pPr marL="343080" indent="-343080" algn="r">
                        <a:tabLst>
                          <a:tab algn="l" pos="0"/>
                          <a:tab algn="l" pos="2762280"/>
                          <a:tab algn="l" pos="3143160"/>
                          <a:tab algn="l" pos="3524400"/>
                          <a:tab algn="l" pos="4133880"/>
                          <a:tab algn="l" pos="6039000"/>
                          <a:tab algn="l" pos="6400800"/>
                          <a:tab algn="l" pos="7315200"/>
                          <a:tab algn="l" pos="8229600"/>
                          <a:tab algn="l" pos="9144000"/>
                          <a:tab algn="l" pos="10058400"/>
                        </a:tabLst>
                      </a:pPr>
                      <a:r>
                        <a:rPr b="0" lang="en-US" sz="1800" spc="-1" strike="noStrike">
                          <a:solidFill>
                            <a:srgbClr val="000000"/>
                          </a:solidFill>
                          <a:latin typeface="Arial"/>
                          <a:ea typeface="Times New Roman"/>
                        </a:rPr>
                        <a:t>43</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3392640"/>
                          <a:tab algn="l" pos="3773520"/>
                          <a:tab algn="l" pos="4154400"/>
                          <a:tab algn="l" pos="4764240"/>
                          <a:tab algn="l" pos="6669000"/>
                          <a:tab algn="l" pos="7315200"/>
                          <a:tab algn="l" pos="8229600"/>
                          <a:tab algn="l" pos="9144000"/>
                          <a:tab algn="l" pos="10058400"/>
                        </a:tabLst>
                      </a:pPr>
                      <a:r>
                        <a:rPr b="0" lang="en-US" sz="1800" spc="-1" strike="noStrike">
                          <a:solidFill>
                            <a:srgbClr val="000000"/>
                          </a:solidFill>
                          <a:latin typeface="Arial"/>
                          <a:ea typeface="Times New Roman"/>
                        </a:rPr>
                        <a:t>260</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4113360"/>
                          <a:tab algn="l" pos="4494240"/>
                          <a:tab algn="l" pos="4875120"/>
                          <a:tab algn="l" pos="5484960"/>
                          <a:tab algn="l" pos="7389720"/>
                          <a:tab algn="l" pos="8229600"/>
                          <a:tab algn="l" pos="9144000"/>
                          <a:tab algn="l" pos="10058400"/>
                        </a:tabLst>
                      </a:pPr>
                      <a:r>
                        <a:rPr b="0" lang="en-US" sz="1800" spc="-1" strike="noStrike">
                          <a:solidFill>
                            <a:srgbClr val="000000"/>
                          </a:solidFill>
                          <a:latin typeface="Arial"/>
                          <a:ea typeface="Times New Roman"/>
                        </a:rPr>
                        <a:t>217</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4113360"/>
                          <a:tab algn="l" pos="4494240"/>
                          <a:tab algn="l" pos="4875120"/>
                          <a:tab algn="l" pos="5484960"/>
                          <a:tab algn="l" pos="7389720"/>
                          <a:tab algn="l" pos="8229600"/>
                          <a:tab algn="l" pos="9144000"/>
                          <a:tab algn="l" pos="10058400"/>
                        </a:tabLst>
                      </a:pPr>
                      <a:r>
                        <a:rPr b="0" lang="en-US" sz="1800" spc="-1" strike="noStrike">
                          <a:solidFill>
                            <a:srgbClr val="000000"/>
                          </a:solidFill>
                          <a:latin typeface="Arial"/>
                          <a:ea typeface="Times New Roman"/>
                        </a:rPr>
                        <a:t>122</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tabLst>
                          <a:tab algn="l" pos="0"/>
                          <a:tab algn="l" pos="4743360"/>
                          <a:tab algn="l" pos="5124600"/>
                          <a:tab algn="l" pos="5505480"/>
                          <a:tab algn="l" pos="6114960"/>
                          <a:tab algn="l" pos="8020080"/>
                          <a:tab algn="l" pos="8229600"/>
                          <a:tab algn="l" pos="9144000"/>
                          <a:tab algn="l" pos="10058400"/>
                        </a:tabLst>
                      </a:pPr>
                      <a:r>
                        <a:rPr b="0" lang="en-US" sz="1800" spc="-1" strike="noStrike">
                          <a:solidFill>
                            <a:srgbClr val="000000"/>
                          </a:solidFill>
                          <a:latin typeface="Arial"/>
                          <a:ea typeface="Times New Roman"/>
                        </a:rPr>
                        <a:t>4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tabLst>
                          <a:tab algn="l" pos="0"/>
                          <a:tab algn="l" pos="5508720"/>
                          <a:tab algn="l" pos="5889600"/>
                          <a:tab algn="l" pos="6270480"/>
                          <a:tab algn="l" pos="6880320"/>
                          <a:tab algn="l" pos="8785080"/>
                          <a:tab algn="l" pos="9144000"/>
                          <a:tab algn="l" pos="10058400"/>
                        </a:tabLst>
                      </a:pPr>
                      <a:r>
                        <a:rPr b="0" lang="en-US" sz="1800" spc="-1" strike="noStrike">
                          <a:solidFill>
                            <a:srgbClr val="000000"/>
                          </a:solidFill>
                          <a:latin typeface="Arial"/>
                          <a:ea typeface="Times New Roman"/>
                        </a:rPr>
                        <a:t>6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tabLst>
                          <a:tab algn="l" pos="0"/>
                          <a:tab algn="l" pos="5508720"/>
                          <a:tab algn="l" pos="5889600"/>
                          <a:tab algn="l" pos="6270480"/>
                          <a:tab algn="l" pos="6880320"/>
                          <a:tab algn="l" pos="8785080"/>
                          <a:tab algn="l" pos="9144000"/>
                          <a:tab algn="l" pos="10058400"/>
                        </a:tabLst>
                      </a:pPr>
                      <a:r>
                        <a:rPr b="0" lang="en-US" sz="1800" spc="-1" strike="noStrike">
                          <a:solidFill>
                            <a:srgbClr val="000000"/>
                          </a:solidFill>
                          <a:latin typeface="Arial"/>
                          <a:ea typeface="Times New Roman"/>
                        </a:rPr>
                        <a:t>41</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68280">
                <a:tc gridSpan="13">
                  <a:txBody>
                    <a:bodyPr lIns="90000" rIns="90000" tIns="46800" bIns="46800" anchor="t">
                      <a:noAutofit/>
                    </a:bodyPr>
                    <a:p>
                      <a:pPr marL="343080" indent="-343080">
                        <a:tabLst>
                          <a:tab algn="l" pos="0"/>
                          <a:tab algn="l" pos="1973160"/>
                          <a:tab algn="l" pos="38782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Disposable income per household (inde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3">
                  <a:txBody>
                    <a:bodyPr lIns="90000" rIns="90000" tIns="46800" bIns="46800" anchor="t">
                      <a:noAutofit/>
                    </a:bodyPr>
                    <a:p>
                      <a:pPr marL="343080" indent="-343080">
                        <a:tabLst>
                          <a:tab algn="l" pos="0"/>
                          <a:tab algn="l" pos="1973160"/>
                          <a:tab algn="l" pos="387828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All households</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2762280"/>
                          <a:tab algn="l" pos="3143160"/>
                          <a:tab algn="l" pos="3524400"/>
                          <a:tab algn="l" pos="4133880"/>
                          <a:tab algn="l" pos="6039000"/>
                          <a:tab algn="l" pos="6400800"/>
                          <a:tab algn="l" pos="7315200"/>
                          <a:tab algn="l" pos="8229600"/>
                          <a:tab algn="l" pos="9144000"/>
                          <a:tab algn="l" pos="10058400"/>
                        </a:tabLst>
                      </a:pPr>
                      <a:r>
                        <a:rPr b="0" lang="en-U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3392640"/>
                          <a:tab algn="l" pos="3773520"/>
                          <a:tab algn="l" pos="4154400"/>
                          <a:tab algn="l" pos="4764240"/>
                          <a:tab algn="l" pos="6669000"/>
                          <a:tab algn="l" pos="7315200"/>
                          <a:tab algn="l" pos="8229600"/>
                          <a:tab algn="l" pos="9144000"/>
                          <a:tab algn="l" pos="10058400"/>
                        </a:tabLst>
                      </a:pPr>
                      <a:r>
                        <a:rPr b="0" lang="en-U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4113360"/>
                          <a:tab algn="l" pos="4494240"/>
                          <a:tab algn="l" pos="4875120"/>
                          <a:tab algn="l" pos="5484960"/>
                          <a:tab algn="l" pos="7389720"/>
                          <a:tab algn="l" pos="8229600"/>
                          <a:tab algn="l" pos="9144000"/>
                          <a:tab algn="l" pos="10058400"/>
                        </a:tabLst>
                      </a:pPr>
                      <a:r>
                        <a:rPr b="0" lang="en-U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tabLst>
                          <a:tab algn="l" pos="0"/>
                          <a:tab algn="l" pos="4113360"/>
                          <a:tab algn="l" pos="4494240"/>
                          <a:tab algn="l" pos="4875120"/>
                          <a:tab algn="l" pos="5484960"/>
                          <a:tab algn="l" pos="7389720"/>
                          <a:tab algn="l" pos="8229600"/>
                          <a:tab algn="l" pos="9144000"/>
                          <a:tab algn="l" pos="10058400"/>
                        </a:tabLst>
                      </a:pPr>
                      <a:r>
                        <a:rPr b="0" lang="en-U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tabLst>
                          <a:tab algn="l" pos="0"/>
                          <a:tab algn="l" pos="4743360"/>
                          <a:tab algn="l" pos="5124600"/>
                          <a:tab algn="l" pos="5505480"/>
                          <a:tab algn="l" pos="6114960"/>
                          <a:tab algn="l" pos="8020080"/>
                          <a:tab algn="l" pos="8229600"/>
                          <a:tab algn="l" pos="9144000"/>
                          <a:tab algn="l" pos="10058400"/>
                        </a:tabLst>
                      </a:pPr>
                      <a:r>
                        <a:rPr b="0" lang="en-U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tabLst>
                          <a:tab algn="l" pos="0"/>
                          <a:tab algn="l" pos="5508720"/>
                          <a:tab algn="l" pos="5889600"/>
                          <a:tab algn="l" pos="6270480"/>
                          <a:tab algn="l" pos="6880320"/>
                          <a:tab algn="l" pos="8785080"/>
                          <a:tab algn="l" pos="9144000"/>
                          <a:tab algn="l" pos="10058400"/>
                        </a:tabLst>
                      </a:pPr>
                      <a:r>
                        <a:rPr b="0" lang="en-U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tabLst>
                          <a:tab algn="l" pos="0"/>
                          <a:tab algn="l" pos="5508720"/>
                          <a:tab algn="l" pos="5889600"/>
                          <a:tab algn="l" pos="6270480"/>
                          <a:tab algn="l" pos="6880320"/>
                          <a:tab algn="l" pos="8785080"/>
                          <a:tab algn="l" pos="9144000"/>
                          <a:tab algn="l" pos="10058400"/>
                        </a:tabLst>
                      </a:pPr>
                      <a:r>
                        <a:rPr b="0" lang="en-U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743400">
                <a:tc gridSpan="7">
                  <a:txBody>
                    <a:bodyPr lIns="90000" rIns="90000" tIns="46800" bIns="46800" anchor="t">
                      <a:noAutofit/>
                    </a:bodyPr>
                    <a:p>
                      <a:pPr marL="343080" indent="-343080">
                        <a:tabLst>
                          <a:tab algn="l" pos="0"/>
                          <a:tab algn="l" pos="3392640"/>
                          <a:tab algn="l" pos="3773520"/>
                          <a:tab algn="l" pos="4154400"/>
                          <a:tab algn="l" pos="4764240"/>
                          <a:tab algn="l" pos="6669000"/>
                          <a:tab algn="l" pos="7315200"/>
                          <a:tab algn="l" pos="8229600"/>
                          <a:tab algn="l" pos="9144000"/>
                          <a:tab algn="l" pos="10058400"/>
                        </a:tabLst>
                      </a:pPr>
                      <a:r>
                        <a:rPr b="0" i="1" lang="en-US" sz="1800" spc="-1" strike="noStrike">
                          <a:solidFill>
                            <a:srgbClr val="000000"/>
                          </a:solidFill>
                          <a:latin typeface="Arial"/>
                          <a:ea typeface="Times New Roman"/>
                        </a:rPr>
                        <a:t>Agricultural households</a:t>
                      </a: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68280">
                <a:tc>
                  <a:txBody>
                    <a:bodyPr lIns="90000" rIns="90000" tIns="46800" bIns="46800" anchor="t">
                      <a:noAutofit/>
                    </a:bodyPr>
                    <a:p>
                      <a:pPr marL="343080" indent="-343080" algn="ctr">
                        <a:tabLst>
                          <a:tab algn="l" pos="0"/>
                          <a:tab algn="l" pos="1973160"/>
                          <a:tab algn="l" pos="38782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r>
                        <a:rPr b="0" lang="en-US" sz="1400" spc="-1" strike="noStrike">
                          <a:solidFill>
                            <a:srgbClr val="000000"/>
                          </a:solidFill>
                          <a:latin typeface="Arial"/>
                          <a:ea typeface="Times New Roman"/>
                        </a:rPr>
                        <a:t>broad”</a:t>
                      </a:r>
                      <a:endParaRPr b="0" lang="en-US" sz="1400" spc="-1" strike="noStrike">
                        <a:solidFill>
                          <a:srgbClr val="000000"/>
                        </a:solidFill>
                        <a:latin typeface="Arial"/>
                      </a:endParaRPr>
                    </a:p>
                  </a:txBody>
                  <a:tcPr anchor="t" marL="90000" marR="90000">
                    <a:lnL w="5760">
                      <a:solidFill>
                        <a:srgbClr val="000000"/>
                      </a:solidFill>
                    </a:lnL>
                    <a:lnR>
                      <a:noFill/>
                    </a:lnR>
                    <a:lnT>
                      <a:noFill/>
                    </a:lnT>
                    <a:lnB>
                      <a:noFill/>
                    </a:lnB>
                    <a:noFill/>
                  </a:tcPr>
                </a:tc>
                <a:tc gridSpan="4">
                  <a:txBody>
                    <a:bodyPr lIns="90000" rIns="90000" tIns="46800" bIns="46800" anchor="t">
                      <a:noAutofit/>
                    </a:bodyPr>
                    <a:p>
                      <a:pPr marL="343080" indent="-343080" algn="r">
                        <a:tabLst>
                          <a:tab algn="l" pos="0"/>
                          <a:tab algn="l" pos="2762280"/>
                          <a:tab algn="l" pos="3143160"/>
                          <a:tab algn="l" pos="3524400"/>
                          <a:tab algn="l" pos="4133880"/>
                          <a:tab algn="l" pos="6039000"/>
                          <a:tab algn="l" pos="6400800"/>
                          <a:tab algn="l" pos="7315200"/>
                          <a:tab algn="l" pos="8229600"/>
                          <a:tab algn="l" pos="9144000"/>
                          <a:tab algn="l" pos="10058400"/>
                        </a:tabLst>
                      </a:pPr>
                      <a:r>
                        <a:rPr b="0" lang="en-US" sz="1800" spc="-1" strike="noStrike">
                          <a:solidFill>
                            <a:srgbClr val="000000"/>
                          </a:solidFill>
                          <a:latin typeface="Arial"/>
                          <a:ea typeface="Times New Roman"/>
                        </a:rPr>
                        <a:t>101</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3392640"/>
                          <a:tab algn="l" pos="3773520"/>
                          <a:tab algn="l" pos="4154400"/>
                          <a:tab algn="l" pos="4764240"/>
                          <a:tab algn="l" pos="6669000"/>
                          <a:tab algn="l" pos="7315200"/>
                          <a:tab algn="l" pos="8229600"/>
                          <a:tab algn="l" pos="9144000"/>
                          <a:tab algn="l" pos="10058400"/>
                        </a:tabLst>
                      </a:pPr>
                      <a:r>
                        <a:rPr b="0" lang="en-US" sz="1800" spc="-1" strike="noStrike">
                          <a:solidFill>
                            <a:srgbClr val="000000"/>
                          </a:solidFill>
                          <a:latin typeface="Arial"/>
                          <a:ea typeface="Times New Roman"/>
                        </a:rPr>
                        <a:t>110</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4113360"/>
                          <a:tab algn="l" pos="4494240"/>
                          <a:tab algn="l" pos="4875120"/>
                          <a:tab algn="l" pos="5484960"/>
                          <a:tab algn="l" pos="7389720"/>
                          <a:tab algn="l" pos="8229600"/>
                          <a:tab algn="l" pos="9144000"/>
                          <a:tab algn="l" pos="10058400"/>
                        </a:tabLst>
                      </a:pPr>
                      <a:r>
                        <a:rPr b="0" lang="en-US" sz="1800" spc="-1" strike="noStrike">
                          <a:solidFill>
                            <a:srgbClr val="000000"/>
                          </a:solidFill>
                          <a:latin typeface="Arial"/>
                          <a:ea typeface="Times New Roman"/>
                        </a:rPr>
                        <a:t>114</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tabLst>
                          <a:tab algn="l" pos="0"/>
                          <a:tab algn="l" pos="4113360"/>
                          <a:tab algn="l" pos="4494240"/>
                          <a:tab algn="l" pos="4875120"/>
                          <a:tab algn="l" pos="5484960"/>
                          <a:tab algn="l" pos="7389720"/>
                          <a:tab algn="l" pos="8229600"/>
                          <a:tab algn="l" pos="9144000"/>
                          <a:tab algn="l" pos="10058400"/>
                        </a:tabLst>
                      </a:pPr>
                      <a:r>
                        <a:rPr b="0" lang="en-US" sz="1800" spc="-1" strike="noStrike">
                          <a:solidFill>
                            <a:srgbClr val="000000"/>
                          </a:solidFill>
                          <a:latin typeface="Arial"/>
                          <a:ea typeface="Times New Roman"/>
                        </a:rPr>
                        <a:t>10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tabLst>
                          <a:tab algn="l" pos="0"/>
                          <a:tab algn="l" pos="4743360"/>
                          <a:tab algn="l" pos="5124600"/>
                          <a:tab algn="l" pos="5505480"/>
                          <a:tab algn="l" pos="6114960"/>
                          <a:tab algn="l" pos="8020080"/>
                          <a:tab algn="l" pos="8229600"/>
                          <a:tab algn="l" pos="9144000"/>
                          <a:tab algn="l" pos="10058400"/>
                        </a:tabLst>
                      </a:pPr>
                      <a:r>
                        <a:rPr b="0" lang="en-US" sz="1800" spc="-1" strike="noStrike">
                          <a:solidFill>
                            <a:srgbClr val="000000"/>
                          </a:solidFill>
                          <a:latin typeface="Arial"/>
                          <a:ea typeface="Times New Roman"/>
                        </a:rPr>
                        <a:t>21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tabLst>
                          <a:tab algn="l" pos="0"/>
                          <a:tab algn="l" pos="5508720"/>
                          <a:tab algn="l" pos="5889600"/>
                          <a:tab algn="l" pos="6270480"/>
                          <a:tab algn="l" pos="6880320"/>
                          <a:tab algn="l" pos="8785080"/>
                          <a:tab algn="l" pos="9144000"/>
                          <a:tab algn="l" pos="10058400"/>
                        </a:tabLst>
                      </a:pPr>
                      <a:r>
                        <a:rPr b="0" lang="en-US" sz="1800" spc="-1" strike="noStrike">
                          <a:solidFill>
                            <a:srgbClr val="000000"/>
                          </a:solidFill>
                          <a:latin typeface="Arial"/>
                          <a:ea typeface="Times New Roman"/>
                        </a:rPr>
                        <a:t>12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tabLst>
                          <a:tab algn="l" pos="0"/>
                          <a:tab algn="l" pos="5508720"/>
                          <a:tab algn="l" pos="5889600"/>
                          <a:tab algn="l" pos="6270480"/>
                          <a:tab algn="l" pos="6880320"/>
                          <a:tab algn="l" pos="8785080"/>
                          <a:tab algn="l" pos="9144000"/>
                          <a:tab algn="l" pos="10058400"/>
                        </a:tabLst>
                      </a:pPr>
                      <a:r>
                        <a:rPr b="0" lang="en-US" sz="1800" spc="-1" strike="noStrike">
                          <a:solidFill>
                            <a:srgbClr val="000000"/>
                          </a:solidFill>
                          <a:latin typeface="Arial"/>
                          <a:ea typeface="Times New Roman"/>
                        </a:rPr>
                        <a:t>81</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68280">
                <a:tc>
                  <a:txBody>
                    <a:bodyPr lIns="90000" rIns="90000" tIns="46800" bIns="46800" anchor="t">
                      <a:noAutofit/>
                    </a:bodyPr>
                    <a:p>
                      <a:pPr marL="343080" indent="-343080" algn="ctr">
                        <a:tabLst>
                          <a:tab algn="l" pos="0"/>
                          <a:tab algn="l" pos="1973160"/>
                          <a:tab algn="l" pos="38782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r>
                        <a:rPr b="0" lang="en-US" sz="1400" spc="-1" strike="noStrike">
                          <a:solidFill>
                            <a:srgbClr val="000000"/>
                          </a:solidFill>
                          <a:latin typeface="Arial"/>
                          <a:ea typeface="Times New Roman"/>
                        </a:rPr>
                        <a:t>narrow”</a:t>
                      </a:r>
                      <a:endParaRPr b="0" lang="en-US" sz="1400" spc="-1" strike="noStrike">
                        <a:solidFill>
                          <a:srgbClr val="000000"/>
                        </a:solidFill>
                        <a:latin typeface="Arial"/>
                      </a:endParaRPr>
                    </a:p>
                  </a:txBody>
                  <a:tcPr anchor="t" marL="90000" marR="90000">
                    <a:lnL w="5760">
                      <a:solidFill>
                        <a:srgbClr val="000000"/>
                      </a:solidFill>
                    </a:lnL>
                    <a:lnR>
                      <a:noFill/>
                    </a:lnR>
                    <a:lnT>
                      <a:noFill/>
                    </a:lnT>
                    <a:lnB>
                      <a:noFill/>
                    </a:lnB>
                    <a:noFill/>
                  </a:tcPr>
                </a:tc>
                <a:tc gridSpan="4">
                  <a:txBody>
                    <a:bodyPr lIns="90000" rIns="90000" tIns="46800" bIns="46800" anchor="t">
                      <a:noAutofit/>
                    </a:bodyPr>
                    <a:p>
                      <a:pPr marL="343080" indent="-343080" algn="r">
                        <a:tabLst>
                          <a:tab algn="l" pos="0"/>
                          <a:tab algn="l" pos="2762280"/>
                          <a:tab algn="l" pos="3143160"/>
                          <a:tab algn="l" pos="3524400"/>
                          <a:tab algn="l" pos="4133880"/>
                          <a:tab algn="l" pos="6039000"/>
                          <a:tab algn="l" pos="6400800"/>
                          <a:tab algn="l" pos="7315200"/>
                          <a:tab algn="l" pos="8229600"/>
                          <a:tab algn="l" pos="9144000"/>
                          <a:tab algn="l" pos="10058400"/>
                        </a:tabLst>
                      </a:pPr>
                      <a:r>
                        <a:rPr b="0" lang="en-US" sz="1800" spc="-1" strike="noStrike">
                          <a:solidFill>
                            <a:srgbClr val="000000"/>
                          </a:solidFill>
                          <a:latin typeface="Arial"/>
                          <a:ea typeface="Times New Roman"/>
                        </a:rPr>
                        <a:t>107</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3392640"/>
                          <a:tab algn="l" pos="3773520"/>
                          <a:tab algn="l" pos="4154400"/>
                          <a:tab algn="l" pos="4764240"/>
                          <a:tab algn="l" pos="6669000"/>
                          <a:tab algn="l" pos="7315200"/>
                          <a:tab algn="l" pos="8229600"/>
                          <a:tab algn="l" pos="9144000"/>
                          <a:tab algn="l" pos="10058400"/>
                        </a:tabLst>
                      </a:pPr>
                      <a:r>
                        <a:rPr b="0" lang="en-US" sz="1800" spc="-1" strike="noStrike">
                          <a:solidFill>
                            <a:srgbClr val="000000"/>
                          </a:solidFill>
                          <a:latin typeface="Arial"/>
                          <a:ea typeface="Times New Roman"/>
                        </a:rPr>
                        <a:t>101</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4113360"/>
                          <a:tab algn="l" pos="4494240"/>
                          <a:tab algn="l" pos="4875120"/>
                          <a:tab algn="l" pos="5484960"/>
                          <a:tab algn="l" pos="7389720"/>
                          <a:tab algn="l" pos="8229600"/>
                          <a:tab algn="l" pos="9144000"/>
                          <a:tab algn="l" pos="10058400"/>
                        </a:tabLst>
                      </a:pPr>
                      <a:r>
                        <a:rPr b="0" lang="en-US" sz="1800" spc="-1" strike="noStrike">
                          <a:solidFill>
                            <a:srgbClr val="000000"/>
                          </a:solidFill>
                          <a:latin typeface="Arial"/>
                          <a:ea typeface="Times New Roman"/>
                        </a:rPr>
                        <a:t>86</a:t>
                      </a:r>
                      <a:endParaRPr b="0" lang="en-US" sz="1800" spc="-1" strike="noStrike">
                        <a:solidFill>
                          <a:srgbClr val="000000"/>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tabLst>
                          <a:tab algn="l" pos="0"/>
                          <a:tab algn="l" pos="4113360"/>
                          <a:tab algn="l" pos="4494240"/>
                          <a:tab algn="l" pos="4875120"/>
                          <a:tab algn="l" pos="5484960"/>
                          <a:tab algn="l" pos="7389720"/>
                          <a:tab algn="l" pos="8229600"/>
                          <a:tab algn="l" pos="9144000"/>
                          <a:tab algn="l" pos="10058400"/>
                        </a:tabLst>
                      </a:pPr>
                      <a:r>
                        <a:rPr b="0" lang="en-US" sz="1800" spc="-1" strike="noStrike">
                          <a:solidFill>
                            <a:srgbClr val="000000"/>
                          </a:solidFill>
                          <a:latin typeface="Arial"/>
                          <a:ea typeface="Times New Roman"/>
                        </a:rPr>
                        <a:t>12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tabLst>
                          <a:tab algn="l" pos="0"/>
                          <a:tab algn="l" pos="4743360"/>
                          <a:tab algn="l" pos="5124600"/>
                          <a:tab algn="l" pos="5505480"/>
                          <a:tab algn="l" pos="6114960"/>
                          <a:tab algn="l" pos="8020080"/>
                          <a:tab algn="l" pos="8229600"/>
                          <a:tab algn="l" pos="9144000"/>
                          <a:tab algn="l" pos="10058400"/>
                        </a:tabLst>
                      </a:pPr>
                      <a:r>
                        <a:rPr b="0" lang="en-US" sz="1800" spc="-1" strike="noStrike">
                          <a:solidFill>
                            <a:srgbClr val="000000"/>
                          </a:solidFill>
                          <a:latin typeface="Arial"/>
                          <a:ea typeface="Times New Roman"/>
                        </a:rPr>
                        <a:t>2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tabLst>
                          <a:tab algn="l" pos="0"/>
                          <a:tab algn="l" pos="5508720"/>
                          <a:tab algn="l" pos="5889600"/>
                          <a:tab algn="l" pos="6270480"/>
                          <a:tab algn="l" pos="6880320"/>
                          <a:tab algn="l" pos="8785080"/>
                          <a:tab algn="l" pos="9144000"/>
                          <a:tab algn="l" pos="10058400"/>
                        </a:tabLst>
                      </a:pPr>
                      <a:r>
                        <a:rPr b="0" lang="en-US" sz="1800" spc="-1" strike="noStrike">
                          <a:solidFill>
                            <a:srgbClr val="000000"/>
                          </a:solidFill>
                          <a:latin typeface="Arial"/>
                          <a:ea typeface="Times New Roman"/>
                        </a:rPr>
                        <a:t>13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a:tabLst>
                          <a:tab algn="l" pos="0"/>
                          <a:tab algn="l" pos="5508720"/>
                          <a:tab algn="l" pos="5889600"/>
                          <a:tab algn="l" pos="6270480"/>
                          <a:tab algn="l" pos="6880320"/>
                          <a:tab algn="l" pos="8785080"/>
                          <a:tab algn="l" pos="9144000"/>
                          <a:tab algn="l" pos="10058400"/>
                        </a:tabLst>
                      </a:pPr>
                      <a:r>
                        <a:rPr b="0" lang="en-US" sz="1800" spc="-1" strike="noStrike">
                          <a:solidFill>
                            <a:srgbClr val="000000"/>
                          </a:solidFill>
                          <a:latin typeface="Arial"/>
                          <a:ea typeface="Times New Roman"/>
                        </a:rPr>
                        <a:t>79</a:t>
                      </a: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368280">
                <a:tc>
                  <a:txBody>
                    <a:bodyPr lIns="90000" rIns="90000" tIns="46800" bIns="46800" anchor="t">
                      <a:noAutofit/>
                    </a:bodyPr>
                    <a:p>
                      <a:pPr marL="343080" indent="-343080" algn="ctr">
                        <a:tabLst>
                          <a:tab algn="l" pos="0"/>
                          <a:tab algn="l" pos="1973160"/>
                          <a:tab algn="l" pos="387828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r>
                        <a:rPr b="0" lang="en-US" sz="1400" spc="-1" strike="noStrike">
                          <a:solidFill>
                            <a:srgbClr val="000000"/>
                          </a:solidFill>
                          <a:latin typeface="Arial"/>
                          <a:ea typeface="Times New Roman"/>
                        </a:rPr>
                        <a:t>marginal”</a:t>
                      </a:r>
                      <a:endParaRPr b="0" lang="en-US" sz="1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gridSpan="4">
                  <a:txBody>
                    <a:bodyPr lIns="90000" rIns="90000" tIns="46800" bIns="46800" anchor="t">
                      <a:noAutofit/>
                    </a:bodyPr>
                    <a:p>
                      <a:pPr marL="343080" indent="-343080" algn="r">
                        <a:tabLst>
                          <a:tab algn="l" pos="0"/>
                          <a:tab algn="l" pos="2762280"/>
                          <a:tab algn="l" pos="3143160"/>
                          <a:tab algn="l" pos="3524400"/>
                          <a:tab algn="l" pos="4133880"/>
                          <a:tab algn="l" pos="6039000"/>
                          <a:tab algn="l" pos="6400800"/>
                          <a:tab algn="l" pos="7315200"/>
                          <a:tab algn="l" pos="8229600"/>
                          <a:tab algn="l" pos="9144000"/>
                          <a:tab algn="l" pos="10058400"/>
                        </a:tabLst>
                      </a:pPr>
                      <a:r>
                        <a:rPr b="0" lang="en-US" sz="1800" spc="-1" strike="noStrike">
                          <a:solidFill>
                            <a:srgbClr val="000000"/>
                          </a:solidFill>
                          <a:latin typeface="Arial"/>
                          <a:ea typeface="Times New Roman"/>
                        </a:rPr>
                        <a:t>98</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3392640"/>
                          <a:tab algn="l" pos="3773520"/>
                          <a:tab algn="l" pos="4154400"/>
                          <a:tab algn="l" pos="4764240"/>
                          <a:tab algn="l" pos="6669000"/>
                          <a:tab algn="l" pos="7315200"/>
                          <a:tab algn="l" pos="8229600"/>
                          <a:tab algn="l" pos="9144000"/>
                          <a:tab algn="l" pos="10058400"/>
                        </a:tabLst>
                      </a:pPr>
                      <a:r>
                        <a:rPr b="0" lang="en-US" sz="1800" spc="-1" strike="noStrike">
                          <a:solidFill>
                            <a:srgbClr val="000000"/>
                          </a:solidFill>
                          <a:latin typeface="Arial"/>
                          <a:ea typeface="Times New Roman"/>
                        </a:rPr>
                        <a:t>123</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marL="343080" indent="-343080" algn="r">
                        <a:tabLst>
                          <a:tab algn="l" pos="0"/>
                          <a:tab algn="l" pos="4113360"/>
                          <a:tab algn="l" pos="4494240"/>
                          <a:tab algn="l" pos="4875120"/>
                          <a:tab algn="l" pos="5484960"/>
                          <a:tab algn="l" pos="7389720"/>
                          <a:tab algn="l" pos="8229600"/>
                          <a:tab algn="l" pos="9144000"/>
                          <a:tab algn="l" pos="10058400"/>
                        </a:tabLst>
                      </a:pPr>
                      <a:r>
                        <a:rPr b="0" lang="en-US" sz="1800" spc="-1" strike="noStrike">
                          <a:solidFill>
                            <a:srgbClr val="000000"/>
                          </a:solidFill>
                          <a:latin typeface="Arial"/>
                          <a:ea typeface="Times New Roman"/>
                        </a:rPr>
                        <a:t>166</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lgn="r">
                        <a:tabLst>
                          <a:tab algn="l" pos="0"/>
                          <a:tab algn="l" pos="4113360"/>
                          <a:tab algn="l" pos="4494240"/>
                          <a:tab algn="l" pos="4875120"/>
                          <a:tab algn="l" pos="5484960"/>
                          <a:tab algn="l" pos="7389720"/>
                          <a:tab algn="l" pos="8229600"/>
                          <a:tab algn="l" pos="9144000"/>
                          <a:tab algn="l" pos="10058400"/>
                        </a:tabLst>
                      </a:pPr>
                      <a:r>
                        <a:rPr b="0" lang="en-US" sz="1800" spc="-1" strike="noStrike">
                          <a:solidFill>
                            <a:srgbClr val="000000"/>
                          </a:solidFill>
                          <a:latin typeface="Arial"/>
                          <a:ea typeface="Times New Roman"/>
                        </a:rPr>
                        <a:t>89</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a:tabLst>
                          <a:tab algn="l" pos="0"/>
                          <a:tab algn="l" pos="4743360"/>
                          <a:tab algn="l" pos="5124600"/>
                          <a:tab algn="l" pos="5505480"/>
                          <a:tab algn="l" pos="6114960"/>
                          <a:tab algn="l" pos="8020080"/>
                          <a:tab algn="l" pos="8229600"/>
                          <a:tab algn="l" pos="9144000"/>
                          <a:tab algn="l" pos="10058400"/>
                        </a:tabLst>
                      </a:pPr>
                      <a:r>
                        <a:rPr b="0" lang="en-US" sz="1800" spc="-1" strike="noStrike">
                          <a:solidFill>
                            <a:srgbClr val="000000"/>
                          </a:solidFill>
                          <a:latin typeface="Arial"/>
                          <a:ea typeface="Times New Roman"/>
                        </a:rPr>
                        <a:t>108</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a:tabLst>
                          <a:tab algn="l" pos="0"/>
                          <a:tab algn="l" pos="5508720"/>
                          <a:tab algn="l" pos="5889600"/>
                          <a:tab algn="l" pos="6270480"/>
                          <a:tab algn="l" pos="6880320"/>
                          <a:tab algn="l" pos="8785080"/>
                          <a:tab algn="l" pos="9144000"/>
                          <a:tab algn="l" pos="10058400"/>
                        </a:tabLst>
                      </a:pPr>
                      <a:r>
                        <a:rPr b="0" lang="en-US" sz="1800" spc="-1" strike="noStrike">
                          <a:solidFill>
                            <a:srgbClr val="000000"/>
                          </a:solidFill>
                          <a:latin typeface="Arial"/>
                          <a:ea typeface="Times New Roman"/>
                        </a:rPr>
                        <a:t>116</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a:tabLst>
                          <a:tab algn="l" pos="0"/>
                          <a:tab algn="l" pos="5508720"/>
                          <a:tab algn="l" pos="5889600"/>
                          <a:tab algn="l" pos="6270480"/>
                          <a:tab algn="l" pos="6880320"/>
                          <a:tab algn="l" pos="8785080"/>
                          <a:tab algn="l" pos="9144000"/>
                          <a:tab algn="l" pos="10058400"/>
                        </a:tabLst>
                      </a:pPr>
                      <a:r>
                        <a:rPr b="0" lang="en-US" sz="1800" spc="-1" strike="noStrike">
                          <a:solidFill>
                            <a:srgbClr val="000000"/>
                          </a:solidFill>
                          <a:latin typeface="Arial"/>
                          <a:ea typeface="Times New Roman"/>
                        </a:rPr>
                        <a:t>85</a:t>
                      </a: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794880">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gridSpan="2">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r>
            </a:tbl>
          </a:graphicData>
        </a:graphic>
      </p:graphicFrame>
      <p:sp>
        <p:nvSpPr>
          <p:cNvPr id="134" name=""/>
          <p:cNvSpPr/>
          <p:nvPr/>
        </p:nvSpPr>
        <p:spPr>
          <a:xfrm>
            <a:off x="0" y="5234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ricultural households 3</a:t>
            </a:r>
            <a:endParaRPr b="0" lang="en-US" sz="4200" spc="-1" strike="noStrike">
              <a:solidFill>
                <a:srgbClr val="006633"/>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onventionally, only household with income from self-employment in agriculture are included (“broad” or “narrow” approach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households of people working on large agricultural units in the new Member States are a statistical challen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UNECE and Eurostat’s IAHS methodologies recommend that they are treated as a special  optional “ad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tion of income - 1</a:t>
            </a:r>
            <a:endParaRPr b="0" lang="en-US" sz="4200" spc="-1" strike="noStrike">
              <a:solidFill>
                <a:srgbClr val="006633"/>
              </a:solidFill>
              <a:latin typeface="Garamond"/>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A definition contains items that are inappropriate for microeconomic us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berra Group provides a microeconomic definition that has some items for which data are very difficul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berra Group also recommends a more practical simplified list that omits some items important for use in agriculture</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ECE Handbook recommends a modified lis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tion of income 2</a:t>
            </a:r>
            <a:endParaRPr b="0" lang="en-US" sz="4200" spc="-1" strike="noStrike">
              <a:solidFill>
                <a:srgbClr val="006633"/>
              </a:solidFill>
              <a:latin typeface="Garamond"/>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ECE Handbook definition (see Fig 1)</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 income from self employmen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sh wages and salarie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perty income received</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cial transfers received</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her regular current inflow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SS current taxes on income and wealth and non-discretionary social contribution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Net disposable incom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ata sources</a:t>
            </a:r>
            <a:endParaRPr b="0" lang="en-US" sz="4200" spc="-1" strike="noStrike">
              <a:solidFill>
                <a:srgbClr val="006633"/>
              </a:solidFill>
              <a:latin typeface="Garamond"/>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croeconomic data of good quality is essential for reliable income estimate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in sources – farm accounts surveys, tax data, household budget survey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ch has advantages and drawbacks</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countries have no reliable sources, some have several</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datasets are very useful (e.g. income statistics registers in Denmark)</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ments and discussion</a:t>
            </a:r>
            <a:endParaRPr b="0" lang="en-US" sz="4200" spc="-1" strike="noStrike">
              <a:solidFill>
                <a:srgbClr val="006633"/>
              </a:solidFill>
              <a:latin typeface="Garamond"/>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 harmonised methodology is being developed (using IAHS + Canberra Group)</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evelopment of data sources is seen as the main limiting factor to providing informati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ata source development will depend on statisticians convincing users (especially policymakers) of the worth of this information to improving decisions, and for them to provide resourc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tructure of paper</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ounting framework</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usehold uni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ssification of households as agricultura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efinition of incom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sourc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ents and discu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roduction</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Need for information on household income of farm operators pointed out since 1960s (OECD and other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Few countries have micro data, and little development in sources since 1960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Rising awareness of this critical gap from mid-1980s (led to Eurostat’s IAHS projec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ost recently – Court of Auditors and OECD reports have highlighted need</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ccounting framework</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ystem of National Accounts (SNA) or micro-economic methodolog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NA – established household sector sequence of accounts (including disposable income), consistency BUT only at sector level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icroeonomic – more policy-relevant results, distributional issues explored BUT less established methodology, more dependent on data sourc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006633"/>
                </a:solidFill>
                <a:latin typeface="Garamond"/>
              </a:rPr>
              <a:t>Accounting framework ctd.</a:t>
            </a: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Recent even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anberra Group report (2001) – micro-economic methodology (not specifically for agricultur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IWG-Agri (coordinated by UNECE) development of Handbook of Methodology for agricultural household income statistics – drawing on IAHS methodology, Canberra Group etc. to be published in 2005</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Household Unit 1</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A definition</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mall group of persons who share the same living accommodation, who pool some, or all, of their income and wealth and who consume certain types of goods and services collectively, mainly housing and food.  [The criteria of the existence of family or emotional ties may be added].</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A definition of household sector is broader than private household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ousehold unit 2</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household surveys use the dwelling household concep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welling household may contain people who do not pool income and expenditur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ECE Handbook recommends the use of both the single budget household and the dwelling household concepts where possible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ricultural households - 1</a:t>
            </a: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criteria of what makes a household an agricultural on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ome dependency and labour input are the two most commonly consider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acticality may mean that a reference person system has to be used for classifying</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come instability in agriculture has to be recognised (classification using income averag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gricultural households - 2</a:t>
            </a: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grees of income dependency are found, from “broad” (with any income from agriculture) to various “narrow” grouping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oice depends on policy circumstances but will affect results (numbers and income leve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ricultural support suggests prime interest in households whose main income is from agricultur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ECE Handbook recommends flexibility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1T14:57:14Z</dcterms:created>
  <dc:creator>Berkeley Hill</dc:creator>
  <dc:description/>
  <dc:language>en-US</dc:language>
  <cp:lastModifiedBy>CoviRo</cp:lastModifiedBy>
  <dcterms:modified xsi:type="dcterms:W3CDTF">2005-03-02T16:13:38Z</dcterms:modified>
  <cp:revision>12</cp:revision>
  <dc:subject/>
  <dc:title>The reform of the CAP and the economic sustainability of farms</dc:title>
</cp:coreProperties>
</file>