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B5085-500A-4D0A-9D7E-A9217DB90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A627F-FAE9-4BA3-AD4E-0511CE159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B80FC-80AA-43B1-9D2F-9BA8DC5EA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85BD2-164E-4E0B-8E52-307D557E2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9410A-EF1A-4313-A7B9-8C00A5B8A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29F45-2003-4DB7-BD92-6C6D6522E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1F2E6-66F7-440C-ABD8-FC82E5D98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82310-A559-4BBF-B016-C8024D9F1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6555A-C8DE-4EC8-B250-5282CD5A2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CE388-9E93-48B9-821D-6FA96B1E5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D6F2D-2E86-4EB9-A5DC-CCD4CB7C1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43733-B935-46E1-8946-4C5297EAF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9D5DE-9C93-48B9-BC92-9F36CC796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B8069-A1F9-4D3E-B795-C472B97D0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6C1D9-9971-41DC-BC0F-7994B3806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62443A-A41A-4A2A-9D1A-FE39E660F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07DC2-F126-48CA-A537-C909963A3E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5EB7B-38B9-4EA8-876C-A257F1884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CD5F0-9A4C-4822-AFFE-9481DBE2B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A1326-7797-4023-A935-7156A7420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2FFCE-0C19-493E-8627-62DBE6E98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034C9-5F7D-48EB-BF2D-9A96406E6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E9CED-C0A1-4B91-BC0A-AD21F8EBE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05402-8FF5-4910-B041-631A70447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0F7D-6623-41BE-BCE8-AECB75C915E6}"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3F2A-BBF2-464D-9B86-06C4D2D27821}"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495680"/>
          </a:xfrm>
          <a:prstGeom prst="rect">
            <a:avLst/>
          </a:prstGeom>
          <a:noFill/>
          <a:ln w="0">
            <a:noFill/>
          </a:ln>
          <a:effectLst>
            <a:outerShdw dist="36147" dir="2700000" blurRad="0" rotWithShape="0">
              <a:srgbClr val="006e6b"/>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66"/>
                </a:solidFill>
                <a:latin typeface="Castellar"/>
              </a:rPr>
              <a:t>Buenas Dias</a:t>
            </a:r>
            <a:r>
              <a:rPr b="0" lang="en-US" sz="6000" spc="-1" strike="noStrike">
                <a:solidFill>
                  <a:srgbClr val="33cccc"/>
                </a:solidFill>
                <a:latin typeface="Castellar"/>
              </a:rPr>
              <a:t>!</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바탕"/>
              </a:rPr>
              <a:t>Future of CAs, cont’d</a:t>
            </a:r>
            <a:endParaRPr b="1" lang="en-US" sz="3600" spc="-1" strike="noStrike">
              <a:solidFill>
                <a:srgbClr val="b9efee"/>
              </a:solidFill>
              <a:latin typeface="Garamond"/>
            </a:endParaRPr>
          </a:p>
        </p:txBody>
      </p:sp>
      <p:sp>
        <p:nvSpPr>
          <p:cNvPr id="131" name="PlaceHolder 2"/>
          <p:cNvSpPr>
            <a:spLocks noGrp="1"/>
          </p:cNvSpPr>
          <p:nvPr>
            <p:ph/>
          </p:nvPr>
        </p:nvSpPr>
        <p:spPr>
          <a:xfrm>
            <a:off x="456840" y="1447920"/>
            <a:ext cx="84582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Sampling in previous CAs are confined to small farm households stratum.</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We are bound to see more extensive sampling: 3-stage in Indonesia, 2-stage in Philippines. </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Sampling frame problem is solved through multi-phase sampling (David 1998), or through CPH.</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Some countries have done away with censuses (India), or called a sample survey a census (Indonesia).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China, Vietnam are excep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75960"/>
            <a:ext cx="84582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바탕"/>
              </a:rPr>
              <a:t>Some Design, Measurement and Estimation Problems</a:t>
            </a:r>
            <a:endParaRPr b="1" lang="en-US" sz="3200" spc="-1" strike="noStrike">
              <a:solidFill>
                <a:srgbClr val="b9efee"/>
              </a:solidFill>
              <a:latin typeface="Garamond"/>
            </a:endParaRPr>
          </a:p>
        </p:txBody>
      </p:sp>
      <p:sp>
        <p:nvSpPr>
          <p:cNvPr id="133" name="PlaceHolder 2"/>
          <p:cNvSpPr>
            <a:spLocks noGrp="1"/>
          </p:cNvSpPr>
          <p:nvPr>
            <p:ph/>
          </p:nvPr>
        </p:nvSpPr>
        <p:spPr>
          <a:xfrm>
            <a:off x="228600" y="1219320"/>
            <a:ext cx="8686800" cy="4495680"/>
          </a:xfrm>
          <a:prstGeom prst="rect">
            <a:avLst/>
          </a:prstGeom>
          <a:noFill/>
          <a:ln w="0">
            <a:noFill/>
          </a:ln>
        </p:spPr>
        <p:txBody>
          <a:bodyPr lIns="90000" rIns="90000" tIns="46800" bIns="46800" anchor="t">
            <a:normAutofit fontScale="90000"/>
          </a:bodyPr>
          <a:p>
            <a:pPr marL="308520" indent="-308520">
              <a:lnSpc>
                <a:spcPct val="115000"/>
              </a:lnSpc>
              <a:spcBef>
                <a:spcPts val="64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바탕"/>
              </a:rPr>
              <a:t>Need to strengthen design and analysis capability towards estimating distributions.</a:t>
            </a:r>
            <a:endParaRPr b="0" lang="en-US" sz="2600" spc="-1" strike="noStrike">
              <a:solidFill>
                <a:srgbClr val="ffffff"/>
              </a:solidFill>
              <a:latin typeface="Garamond"/>
            </a:endParaRPr>
          </a:p>
          <a:p>
            <a:pPr marL="308520" indent="-308520">
              <a:lnSpc>
                <a:spcPct val="115000"/>
              </a:lnSpc>
              <a:spcBef>
                <a:spcPts val="64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바탕"/>
              </a:rPr>
              <a:t>Estimation of distributions better served by integrated surveys, e.g. agricultural labor force with nationwide LFS, agricultural/rural income with HIES.</a:t>
            </a:r>
            <a:endParaRPr b="0" lang="en-US" sz="2600" spc="-1" strike="noStrike">
              <a:solidFill>
                <a:srgbClr val="ffffff"/>
              </a:solidFill>
              <a:latin typeface="Garamond"/>
            </a:endParaRPr>
          </a:p>
          <a:p>
            <a:pPr marL="308520" indent="-308520">
              <a:lnSpc>
                <a:spcPct val="115000"/>
              </a:lnSpc>
              <a:spcBef>
                <a:spcPts val="64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바탕"/>
              </a:rPr>
              <a:t>Integration through master sample; e.g. Philippines</a:t>
            </a:r>
            <a:endParaRPr b="0" lang="en-US" sz="2600" spc="-1" strike="noStrike">
              <a:solidFill>
                <a:srgbClr val="ffffff"/>
              </a:solidFill>
              <a:latin typeface="Garamond"/>
            </a:endParaRPr>
          </a:p>
          <a:p>
            <a:pPr marL="308520" indent="-308520">
              <a:lnSpc>
                <a:spcPct val="115000"/>
              </a:lnSpc>
              <a:spcBef>
                <a:spcPts val="64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바탕"/>
              </a:rPr>
              <a:t>Include minimum agric info in CPH to enable injecting at design stage of master sample.</a:t>
            </a:r>
            <a:endParaRPr b="0" lang="en-US" sz="2600" spc="-1" strike="noStrike">
              <a:solidFill>
                <a:srgbClr val="ffffff"/>
              </a:solidFill>
              <a:latin typeface="Garamond"/>
            </a:endParaRPr>
          </a:p>
          <a:p>
            <a:pPr marL="308520" indent="-308520">
              <a:lnSpc>
                <a:spcPct val="115000"/>
              </a:lnSpc>
              <a:spcBef>
                <a:spcPts val="64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바탕"/>
              </a:rPr>
              <a:t>Integration is more difficult with decentralized statistical systems.</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533160"/>
            <a:ext cx="8229600" cy="55623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바탕"/>
              </a:rPr>
              <a:t>Why is a large subset of national agricultural database still produced from subjective methods</a:t>
            </a:r>
            <a:r>
              <a:rPr b="1" lang="en-US" sz="3200" spc="-1" strike="noStrike">
                <a:solidFill>
                  <a:srgbClr val="ffffff"/>
                </a:solidFill>
                <a:latin typeface="바탕"/>
              </a:rPr>
              <a:t>?</a:t>
            </a:r>
            <a:endParaRPr b="0" lang="en-US" sz="3200" spc="-1" strike="noStrike">
              <a:solidFill>
                <a:srgbClr val="ffffff"/>
              </a:solidFill>
              <a:latin typeface="Garamond"/>
            </a:endParaRPr>
          </a:p>
          <a:p>
            <a:pPr marL="343080" indent="-343080">
              <a:lnSpc>
                <a:spcPct val="10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Measurement problems too difficult and costly to solve?</a:t>
            </a:r>
            <a:endParaRPr b="0" lang="en-US" sz="2400" spc="-1" strike="noStrike">
              <a:solidFill>
                <a:srgbClr val="ffffff"/>
              </a:solidFill>
              <a:latin typeface="Garamond"/>
            </a:endParaRPr>
          </a:p>
          <a:p>
            <a:pPr marL="343080" indent="-343080">
              <a:lnSpc>
                <a:spcPct val="10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Agristats lower priority in agriministry or in national statistical system?</a:t>
            </a:r>
            <a:endParaRPr b="0" lang="en-US" sz="2400" spc="-1" strike="noStrike">
              <a:solidFill>
                <a:srgbClr val="ffffff"/>
              </a:solidFill>
              <a:latin typeface="Garamond"/>
            </a:endParaRPr>
          </a:p>
          <a:p>
            <a:pPr marL="343080" indent="-343080">
              <a:lnSpc>
                <a:spcPct val="10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Donor assistance skewed towards non-agristats?</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Non- agristats already based mainly on objective methods, which will make integration more difficult. </a:t>
            </a:r>
            <a:endParaRPr b="0" lang="en-US" sz="28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609480"/>
            <a:ext cx="8229600" cy="563904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바탕"/>
              </a:rPr>
              <a:t>Objective methods, e.g. crop-cutting, losing effectiveness. Experiments needed to try other alternatives.</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Examples:</a:t>
            </a:r>
            <a:endParaRPr b="0" lang="en-US" sz="2800" spc="-1" strike="noStrike">
              <a:solidFill>
                <a:srgbClr val="ffffff"/>
              </a:solidFill>
              <a:latin typeface="Garamond"/>
            </a:endParaRPr>
          </a:p>
          <a:p>
            <a:pPr marL="343080" indent="-343080">
              <a:lnSpc>
                <a:spcPct val="10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Regression with two-phase sampling.</a:t>
            </a:r>
            <a:endParaRPr b="0" lang="en-US" sz="2400" spc="-1" strike="noStrike">
              <a:solidFill>
                <a:srgbClr val="ffffff"/>
              </a:solidFill>
              <a:latin typeface="Garamond"/>
            </a:endParaRPr>
          </a:p>
          <a:p>
            <a:pPr marL="343080" indent="-343080">
              <a:lnSpc>
                <a:spcPct val="10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Consumption from HIES to adjust crops and livestock output estimates.</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바탕"/>
              </a:rPr>
              <a:t>Improving Statistics on Food Poor, Undernourished and Hungry</a:t>
            </a:r>
            <a:endParaRPr b="1" lang="en-US" sz="3200" spc="-1" strike="noStrike">
              <a:solidFill>
                <a:srgbClr val="b9efee"/>
              </a:solidFill>
              <a:latin typeface="Garamond"/>
            </a:endParaRPr>
          </a:p>
        </p:txBody>
      </p:sp>
      <p:sp>
        <p:nvSpPr>
          <p:cNvPr id="137" name="PlaceHolder 2"/>
          <p:cNvSpPr>
            <a:spLocks noGrp="1"/>
          </p:cNvSpPr>
          <p:nvPr>
            <p:ph/>
          </p:nvPr>
        </p:nvSpPr>
        <p:spPr>
          <a:xfrm>
            <a:off x="457200" y="1676520"/>
            <a:ext cx="8229600" cy="449568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MDG1 – eradicate </a:t>
            </a:r>
            <a:r>
              <a:rPr b="0" lang="en-US" sz="2400" spc="-1" strike="noStrike" u="sng">
                <a:solidFill>
                  <a:srgbClr val="ffffff"/>
                </a:solidFill>
                <a:uFillTx/>
                <a:latin typeface="바탕"/>
              </a:rPr>
              <a:t>extreme poverty</a:t>
            </a:r>
            <a:r>
              <a:rPr b="0" lang="en-US" sz="2400" spc="-1" strike="noStrike">
                <a:solidFill>
                  <a:srgbClr val="ffffff"/>
                </a:solidFill>
                <a:latin typeface="바탕"/>
              </a:rPr>
              <a:t> and </a:t>
            </a:r>
            <a:r>
              <a:rPr b="0" lang="en-US" sz="2400" spc="-1" strike="noStrike" u="sng">
                <a:solidFill>
                  <a:srgbClr val="ffffff"/>
                </a:solidFill>
                <a:uFillTx/>
                <a:latin typeface="바탕"/>
              </a:rPr>
              <a:t>hunger</a:t>
            </a:r>
            <a:endParaRPr b="0" lang="en-US" sz="2400" spc="-1" strike="noStrike">
              <a:solidFill>
                <a:srgbClr val="ffffff"/>
              </a:solidFill>
              <a:latin typeface="Garamond"/>
            </a:endParaRPr>
          </a:p>
          <a:p>
            <a:pPr marL="325800" indent="-325800">
              <a:lnSpc>
                <a:spcPct val="8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WB $1 a day poverty incidence for extreme poverty</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Uses national estimates based on household </a:t>
            </a: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survey</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2100kcal/capita/day energy threshold</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Includes food and non-food components</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Bottom of low income countries, hence severe</a:t>
            </a:r>
            <a:endParaRPr b="0" lang="en-US" sz="2400" spc="-1" strike="noStrike">
              <a:solidFill>
                <a:srgbClr val="ffffff"/>
              </a:solidFill>
              <a:latin typeface="Garamond"/>
            </a:endParaRPr>
          </a:p>
          <a:p>
            <a:pPr marL="325800" indent="-325800">
              <a:lnSpc>
                <a:spcPct val="8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FAO proportion of undernourished persons for hunger</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2100 threshold also </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Uses national food supplies and estimate of how </a:t>
            </a: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supply is distributed to population</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Includes food only.</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294920"/>
            <a:ext cx="8229600" cy="449604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Both statistics indicators of the same thing? </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Or is being extremely poor same as being hungry?</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FAO indicator (5) &lt; WB indicator (1) always?</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Both indicators showing consistent trend?</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Can FAO methodology be aligned with other indicators, e.g. household survey-based.</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9" name=""/>
          <p:cNvGraphicFramePr/>
          <p:nvPr/>
        </p:nvGraphicFramePr>
        <p:xfrm>
          <a:off x="457200" y="274680"/>
          <a:ext cx="8229600" cy="6125760"/>
        </p:xfrm>
        <a:graphic>
          <a:graphicData uri="http://schemas.openxmlformats.org/drawingml/2006/table">
            <a:tbl>
              <a:tblPr/>
              <a:tblGrid>
                <a:gridCol w="2157480"/>
                <a:gridCol w="739800"/>
                <a:gridCol w="763560"/>
                <a:gridCol w="739800"/>
                <a:gridCol w="349200"/>
                <a:gridCol w="739800"/>
                <a:gridCol w="739800"/>
                <a:gridCol w="739800"/>
                <a:gridCol w="1260360"/>
              </a:tblGrid>
              <a:tr h="755280">
                <a:tc gridSpan="9">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b3a"/>
                          </a:solidFill>
                          <a:latin typeface="바탕"/>
                          <a:ea typeface="Arial"/>
                        </a:rPr>
                        <a:t>Table 2.  $1 a day poverty and undernutrition estimates in eight most populous developing countries</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784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r>
              <a:tr h="35856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Country</a:t>
                      </a:r>
                      <a:endParaRPr b="0" lang="en-US" sz="14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 a Day</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Undernutrition</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Population in 2000</a:t>
                      </a:r>
                      <a:endParaRPr b="0" lang="en-US" sz="14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357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90</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95</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000</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90</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95</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000</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7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China</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275</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r>
              <a:tr h="357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Incidence (%)</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3</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7.4</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6.6</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7</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1</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358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Persons (Mns)</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81</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1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1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3</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45</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35</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357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India</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017</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r>
              <a:tr h="357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Incidence  </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42.1</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42.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4.7</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5</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1</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1</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357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Persons   </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56</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93</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53</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15</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5</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14</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358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Indonesia</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1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r>
              <a:tr h="357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Incidence  </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7.4</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3.9</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7.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9</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6</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6</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357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Persons   </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7</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5</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7</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1</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3</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358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Brazil</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7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r>
              <a:tr h="358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Incidence  </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4</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0.5</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8.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0</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9</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357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Persons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1</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5</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4</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7</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6</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40" name=""/>
          <p:cNvGraphicFramePr/>
          <p:nvPr/>
        </p:nvGraphicFramePr>
        <p:xfrm>
          <a:off x="457200" y="274680"/>
          <a:ext cx="8229600" cy="6067440"/>
        </p:xfrm>
        <a:graphic>
          <a:graphicData uri="http://schemas.openxmlformats.org/drawingml/2006/table">
            <a:tbl>
              <a:tblPr/>
              <a:tblGrid>
                <a:gridCol w="2157480"/>
                <a:gridCol w="739800"/>
                <a:gridCol w="763560"/>
                <a:gridCol w="739800"/>
                <a:gridCol w="349200"/>
                <a:gridCol w="739800"/>
                <a:gridCol w="739800"/>
                <a:gridCol w="739800"/>
                <a:gridCol w="1260360"/>
              </a:tblGrid>
              <a:tr h="642600">
                <a:tc gridSpan="9">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b3a"/>
                          </a:solidFill>
                          <a:latin typeface="바탕"/>
                          <a:ea typeface="Arial"/>
                        </a:rPr>
                        <a:t>Table 2.  $1 a day poverty and undernutrition estimates in eight most populous developing countries (con’t)</a:t>
                      </a: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b3a"/>
                          </a:solidFill>
                          <a:latin typeface="바탕"/>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r>
              <a:tr h="3070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Country</a:t>
                      </a:r>
                      <a:endParaRPr b="0" lang="en-US" sz="14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solidFill>
                      <a:srgbClr val="fcfefe"/>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 a Day</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cfef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Undernutrition</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cfef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Population in 2000</a:t>
                      </a:r>
                      <a:endParaRPr b="0" lang="en-US" sz="14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solidFill>
                      <a:srgbClr val="fcfefe"/>
                    </a:solid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90</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95</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000</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90</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95</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000</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cfefe"/>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Pakistan</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43</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Incidence  </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47.8</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3.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3.4</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6</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Persons   </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53</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42</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4</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7</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Bangladesh</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38</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Incidence  </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5.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8.6</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6</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5</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8</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2</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Persons   </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5</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4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48</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44</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Nigeria</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15</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Incidence  </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59.2</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70.2*</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a:t>
                      </a:r>
                      <a:r>
                        <a:rPr b="1" lang="en-US" sz="1400" spc="-1" strike="noStrike">
                          <a:solidFill>
                            <a:srgbClr val="003b3a"/>
                          </a:solidFill>
                          <a:latin typeface="바탕"/>
                          <a:ea typeface="Arial"/>
                        </a:rPr>
                        <a:t>*</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3</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8</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8</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Persons   </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51</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70*</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80*</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1</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8</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Mexico</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9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Incidence  </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5.8</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8.4</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9.8</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5</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5</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5</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Persons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3</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8</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0</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4</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5</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5</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Totals</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Incidence (weighted)</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4.7</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7.1</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3.7</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4</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5.4</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4.6</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Garamond"/>
                          <a:ea typeface="Arial"/>
                        </a:rPr>
                        <a:t>Persons (Mns)</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Garamond"/>
                          <a:ea typeface="Arial"/>
                        </a:rPr>
                        <a:t>945</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Garamond"/>
                          <a:ea typeface="Arial"/>
                        </a:rPr>
                        <a:t>802</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Garamond"/>
                          <a:ea typeface="Arial"/>
                        </a:rPr>
                        <a:t>752</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Garamond"/>
                          <a:ea typeface="Arial"/>
                        </a:rPr>
                        <a:t>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Garamond"/>
                          <a:ea typeface="Arial"/>
                        </a:rPr>
                        <a:t>524</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Garamond"/>
                          <a:ea typeface="Arial"/>
                        </a:rPr>
                        <a:t>453</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Garamond"/>
                          <a:ea typeface="Arial"/>
                        </a:rPr>
                        <a:t>463</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Garamond"/>
                          <a:ea typeface="Arial"/>
                        </a:rPr>
                        <a:t>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762120" y="814320"/>
            <a:ext cx="7924680" cy="497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533520" y="901800"/>
            <a:ext cx="8229600" cy="496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26600"/>
            <a:ext cx="8305920" cy="5364360"/>
          </a:xfrm>
          <a:prstGeom prst="rect">
            <a:avLst/>
          </a:prstGeom>
          <a:noFill/>
          <a:ln w="0">
            <a:noFill/>
          </a:ln>
          <a:effectLst>
            <a:outerShdw dist="36147" dir="2700000" blurRad="0" rotWithShape="0">
              <a:srgbClr val="006e6b"/>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d8fcfb"/>
                </a:solidFill>
                <a:latin typeface="바탕"/>
              </a:rPr>
              <a:t>Observations and Suggestions for Improving Agricultural and Rural Statistics in Developing Countries</a:t>
            </a:r>
            <a:br>
              <a:rPr sz="3400"/>
            </a:br>
            <a:br>
              <a:rPr sz="3400"/>
            </a:br>
            <a:r>
              <a:rPr b="1" lang="en-US" sz="3400" spc="-1" strike="noStrike">
                <a:solidFill>
                  <a:srgbClr val="d8fcfb"/>
                </a:solidFill>
                <a:latin typeface="바탕"/>
              </a:rPr>
              <a:t>Isidoro P. David</a:t>
            </a:r>
            <a:br>
              <a:rPr sz="3400"/>
            </a:br>
            <a:br>
              <a:rPr sz="3400"/>
            </a:br>
            <a:r>
              <a:rPr b="1" lang="en-US" sz="3400" spc="-1" strike="noStrike">
                <a:solidFill>
                  <a:srgbClr val="d8fcfb"/>
                </a:solidFill>
                <a:latin typeface="바탕"/>
              </a:rPr>
              <a:t>ICAS III, Cancun, Mexico</a:t>
            </a:r>
            <a:br>
              <a:rPr sz="3400"/>
            </a:br>
            <a:r>
              <a:rPr b="1" lang="en-US" sz="3400" spc="-1" strike="noStrike">
                <a:solidFill>
                  <a:srgbClr val="d8fcfb"/>
                </a:solidFill>
                <a:latin typeface="바탕"/>
              </a:rPr>
              <a:t>2-4 November 2004</a:t>
            </a:r>
            <a:br>
              <a:rPr sz="3400"/>
            </a:br>
            <a:endParaRPr b="1" lang="en-US" sz="3400" spc="-1" strike="noStrike">
              <a:solidFill>
                <a:srgbClr val="b9efee"/>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1915560" y="425160"/>
            <a:ext cx="598860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ea typeface="Times New Roman"/>
              </a:rPr>
              <a:t>Table 2.  Official Poverty Rates (%),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ea typeface="Times New Roman"/>
              </a:rPr>
              <a:t>NCR, Philippines</a:t>
            </a:r>
            <a:endParaRPr b="0" lang="en-US" sz="2800" spc="-1" strike="noStrike">
              <a:solidFill>
                <a:srgbClr val="ffffff"/>
              </a:solidFill>
              <a:latin typeface="Arial"/>
            </a:endParaRPr>
          </a:p>
        </p:txBody>
      </p:sp>
      <p:graphicFrame>
        <p:nvGraphicFramePr>
          <p:cNvPr id="144" name=""/>
          <p:cNvGraphicFramePr/>
          <p:nvPr/>
        </p:nvGraphicFramePr>
        <p:xfrm>
          <a:off x="2133720" y="1523880"/>
          <a:ext cx="5181120" cy="4267080"/>
        </p:xfrm>
        <a:graphic>
          <a:graphicData uri="http://schemas.openxmlformats.org/drawingml/2006/table">
            <a:tbl>
              <a:tblPr/>
              <a:tblGrid>
                <a:gridCol w="2307240"/>
                <a:gridCol w="1267200"/>
                <a:gridCol w="1606680"/>
              </a:tblGrid>
              <a:tr h="829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바탕"/>
                          <a:ea typeface="Times New Roman"/>
                        </a:rPr>
                        <a:t>Type / Year</a:t>
                      </a:r>
                      <a:endParaRPr b="0" lang="en-US" sz="24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바탕"/>
                          <a:ea typeface="Times New Roman"/>
                        </a:rPr>
                        <a:t>1997</a:t>
                      </a:r>
                      <a:endParaRPr b="0" lang="en-US" sz="24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바탕"/>
                          <a:ea typeface="Times New Roman"/>
                        </a:rPr>
                        <a:t>2000</a:t>
                      </a:r>
                      <a:endParaRPr b="0" lang="en-US" sz="24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r>
              <a:tr h="561240">
                <a:tc gridSpan="3">
                  <a:txBody>
                    <a:bodyPr lIns="90000" rIns="90000" tIns="46800" bIns="46800" anchor="ctr">
                      <a:noAutofit/>
                    </a:bodyPr>
                    <a:p>
                      <a:pPr>
                        <a:lnSpc>
                          <a:spcPct val="100000"/>
                        </a:lnSpc>
                        <a:tabLst>
                          <a:tab algn="l" pos="0"/>
                          <a:tab algn="dec"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바탕"/>
                          <a:ea typeface="Times New Roman"/>
                        </a:rPr>
                        <a:t>Total Poverty</a:t>
                      </a:r>
                      <a:endParaRPr b="0" lang="en-US" sz="2400" spc="-1" strike="noStrike">
                        <a:solidFill>
                          <a:srgbClr val="ffffff"/>
                        </a:solidFill>
                        <a:latin typeface="Arial"/>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    </a:t>
                      </a:r>
                      <a:r>
                        <a:rPr b="0" lang="en-US" sz="2400" spc="-1" strike="noStrike">
                          <a:solidFill>
                            <a:srgbClr val="ffffff"/>
                          </a:solidFill>
                          <a:latin typeface="바탕"/>
                          <a:ea typeface="Times New Roman"/>
                        </a:rPr>
                        <a:t>Families</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dec"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4.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dec"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5.7</a:t>
                      </a:r>
                      <a:endParaRPr b="0" lang="en-US" sz="2400" spc="-1" strike="noStrike">
                        <a:solidFill>
                          <a:srgbClr val="ffffff"/>
                        </a:solidFill>
                        <a:latin typeface="Arial"/>
                      </a:endParaRPr>
                    </a:p>
                  </a:txBody>
                  <a:tcPr anchor="t" marL="90000" marR="90000">
                    <a:lnL>
                      <a:noFill/>
                    </a:lnL>
                    <a:lnR>
                      <a:noFill/>
                    </a:lnR>
                    <a:lnT>
                      <a:noFill/>
                    </a:lnT>
                    <a:lnB>
                      <a:noFill/>
                    </a:lnB>
                    <a:noFill/>
                  </a:tcPr>
                </a:tc>
              </a:tr>
              <a:tr h="561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    </a:t>
                      </a:r>
                      <a:r>
                        <a:rPr b="0" lang="en-US" sz="2400" spc="-1" strike="noStrike">
                          <a:solidFill>
                            <a:srgbClr val="ffffff"/>
                          </a:solidFill>
                          <a:latin typeface="바탕"/>
                          <a:ea typeface="Times New Roman"/>
                        </a:rPr>
                        <a:t>Persons</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dec"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6.5    </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dec"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7.6</a:t>
                      </a:r>
                      <a:endParaRPr b="0" lang="en-US" sz="2400" spc="-1" strike="noStrike">
                        <a:solidFill>
                          <a:srgbClr val="ffffff"/>
                        </a:solidFill>
                        <a:latin typeface="Arial"/>
                      </a:endParaRPr>
                    </a:p>
                  </a:txBody>
                  <a:tcPr anchor="t" marL="90000" marR="90000">
                    <a:lnL>
                      <a:noFill/>
                    </a:lnL>
                    <a:lnR>
                      <a:noFill/>
                    </a:lnR>
                    <a:lnT>
                      <a:noFill/>
                    </a:lnT>
                    <a:lnB>
                      <a:noFill/>
                    </a:lnB>
                    <a:noFill/>
                  </a:tcPr>
                </a:tc>
              </a:tr>
              <a:tr h="564120">
                <a:tc gridSpan="3">
                  <a:txBody>
                    <a:bodyPr lIns="90000" rIns="90000" tIns="46800" bIns="46800" anchor="ctr">
                      <a:noAutofit/>
                    </a:bodyPr>
                    <a:p>
                      <a:pPr>
                        <a:lnSpc>
                          <a:spcPct val="100000"/>
                        </a:lnSpc>
                        <a:tabLst>
                          <a:tab algn="l" pos="0"/>
                          <a:tab algn="dec"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바탕"/>
                          <a:ea typeface="Times New Roman"/>
                        </a:rPr>
                        <a:t>Food Poverty</a:t>
                      </a:r>
                      <a:endParaRPr b="0" lang="en-US" sz="24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2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    </a:t>
                      </a:r>
                      <a:r>
                        <a:rPr b="0" lang="en-US" sz="2400" spc="-1" strike="noStrike">
                          <a:solidFill>
                            <a:srgbClr val="ffffff"/>
                          </a:solidFill>
                          <a:latin typeface="바탕"/>
                          <a:ea typeface="Times New Roman"/>
                        </a:rPr>
                        <a:t>Families</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dec"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0.6</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dec"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  </a:t>
                      </a:r>
                      <a:r>
                        <a:rPr b="0" lang="en-US" sz="2400" spc="-1" strike="noStrike">
                          <a:solidFill>
                            <a:srgbClr val="ffffff"/>
                          </a:solidFill>
                          <a:latin typeface="바탕"/>
                          <a:ea typeface="Times New Roman"/>
                        </a:rPr>
                        <a:t>0.7</a:t>
                      </a:r>
                      <a:endParaRPr b="0" lang="en-US" sz="2400" spc="-1" strike="noStrike">
                        <a:solidFill>
                          <a:srgbClr val="ffffff"/>
                        </a:solidFill>
                        <a:latin typeface="Arial"/>
                      </a:endParaRPr>
                    </a:p>
                  </a:txBody>
                  <a:tcPr anchor="t" marL="90000" marR="90000">
                    <a:lnL>
                      <a:noFill/>
                    </a:lnL>
                    <a:lnR>
                      <a:noFill/>
                    </a:lnR>
                    <a:lnT>
                      <a:noFill/>
                    </a:lnT>
                    <a:lnB>
                      <a:noFill/>
                    </a:lnB>
                    <a:noFill/>
                  </a:tcPr>
                </a:tc>
              </a:tr>
              <a:tr h="564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바탕"/>
                          <a:ea typeface="Times New Roman"/>
                        </a:rPr>
                        <a:t>    </a:t>
                      </a:r>
                      <a:r>
                        <a:rPr b="0" lang="fr-FR" sz="2400" spc="-1" strike="noStrike">
                          <a:solidFill>
                            <a:srgbClr val="ffffff"/>
                          </a:solidFill>
                          <a:latin typeface="바탕"/>
                          <a:ea typeface="Times New Roman"/>
                        </a:rPr>
                        <a:t>Persons</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a:lnSpc>
                          <a:spcPct val="100000"/>
                        </a:lnSpc>
                        <a:tabLst>
                          <a:tab algn="l" pos="0"/>
                          <a:tab algn="dec"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0.8</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a:lnSpc>
                          <a:spcPct val="100000"/>
                        </a:lnSpc>
                        <a:tabLst>
                          <a:tab algn="l" pos="0"/>
                          <a:tab algn="dec"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1.0</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45" name=""/>
          <p:cNvSpPr/>
          <p:nvPr/>
        </p:nvSpPr>
        <p:spPr>
          <a:xfrm>
            <a:off x="0" y="466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바탕"/>
              </a:rPr>
              <a:t>Multiple Sources of Household Food Consumption Data</a:t>
            </a:r>
            <a:endParaRPr b="1" lang="en-US" sz="3200" spc="-1" strike="noStrike">
              <a:solidFill>
                <a:srgbClr val="b9efee"/>
              </a:solidFill>
              <a:latin typeface="Garamond"/>
            </a:endParaRPr>
          </a:p>
        </p:txBody>
      </p:sp>
      <p:sp>
        <p:nvSpPr>
          <p:cNvPr id="147"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HIES, HFCS from NSO</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Varying quality &amp; availability of prices, </a:t>
            </a:r>
            <a:r>
              <a:rPr b="0" lang="en-US" sz="2400" spc="-1" strike="noStrike">
                <a:solidFill>
                  <a:srgbClr val="ffffff"/>
                </a:solidFill>
                <a:latin typeface="바탕"/>
              </a:rPr>
              <a:t>	</a:t>
            </a:r>
            <a:r>
              <a:rPr b="0" lang="en-US" sz="2400" spc="-1" strike="noStrike">
                <a:solidFill>
                  <a:srgbClr val="ffffff"/>
                </a:solidFill>
                <a:latin typeface="바탕"/>
              </a:rPr>
              <a:t>quantities, and value of food item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Less objective method of data captur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FCS from Nutrition and Health Institutes</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Examples: Vietnam, Philippine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More objective method of data captur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Use of subject matter specialists as data </a:t>
            </a:r>
            <a:r>
              <a:rPr b="0" lang="en-US" sz="2400" spc="-1" strike="noStrike">
                <a:solidFill>
                  <a:srgbClr val="ffffff"/>
                </a:solidFill>
                <a:latin typeface="바탕"/>
              </a:rPr>
              <a:t>	</a:t>
            </a:r>
            <a:r>
              <a:rPr b="0" lang="en-US" sz="2400" spc="-1" strike="noStrike">
                <a:solidFill>
                  <a:srgbClr val="ffffff"/>
                </a:solidFill>
                <a:latin typeface="바탕"/>
              </a:rPr>
              <a:t>collector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304920" y="152280"/>
            <a:ext cx="845820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바탕"/>
                <a:ea typeface="Times New Roman"/>
              </a:rPr>
              <a:t>Table 3</a:t>
            </a:r>
            <a:r>
              <a:rPr b="0" lang="en-US" sz="2800" spc="-1" strike="noStrike">
                <a:solidFill>
                  <a:srgbClr val="ffffff"/>
                </a:solidFill>
                <a:latin typeface="바탕"/>
                <a:ea typeface="Times New Roman"/>
              </a:rPr>
              <a:t>.</a:t>
            </a:r>
            <a:r>
              <a:rPr b="1" lang="en-US" sz="2800" spc="-1" strike="noStrike">
                <a:solidFill>
                  <a:srgbClr val="ffffff"/>
                </a:solidFill>
                <a:latin typeface="바탕"/>
                <a:ea typeface="Times New Roman"/>
              </a:rPr>
              <a:t> Energy Consumption Distributions (% of Population) Using Three Different Divisors for Total Consumption, NCR- Philippines, 2003</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49" name=""/>
          <p:cNvGraphicFramePr/>
          <p:nvPr/>
        </p:nvGraphicFramePr>
        <p:xfrm>
          <a:off x="380880" y="1905120"/>
          <a:ext cx="8153280" cy="4494600"/>
        </p:xfrm>
        <a:graphic>
          <a:graphicData uri="http://schemas.openxmlformats.org/drawingml/2006/table">
            <a:tbl>
              <a:tblPr/>
              <a:tblGrid>
                <a:gridCol w="3455640"/>
                <a:gridCol w="1174320"/>
                <a:gridCol w="1174680"/>
                <a:gridCol w="1173960"/>
                <a:gridCol w="1174680"/>
              </a:tblGrid>
              <a:tr h="1600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ivisor/Cut-Off (kcal)</a:t>
                      </a:r>
                      <a:endParaRPr b="0" lang="en-US" sz="20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t;1500</a:t>
                      </a:r>
                      <a:r>
                        <a:rPr b="1"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t;1800</a:t>
                      </a:r>
                      <a:endParaRPr b="0" lang="en-US" sz="20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t;2000</a:t>
                      </a:r>
                      <a:endParaRPr b="0" lang="en-US" sz="20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t;2100</a:t>
                      </a:r>
                      <a:endParaRPr b="0" lang="en-US" sz="20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r>
              <a:tr h="963720">
                <a:tc>
                  <a:txBody>
                    <a:bodyPr lIns="90000" rIns="90000" tIns="46800" bIns="46800" anchor="t">
                      <a:noAutofit/>
                    </a:bodyPr>
                    <a:p>
                      <a:pPr>
                        <a:lnSpc>
                          <a:spcPct val="100000"/>
                        </a:lnSpc>
                        <a:tabLst>
                          <a:tab algn="l" pos="0"/>
                          <a:tab algn="r" pos="457200"/>
                          <a:tab algn="ctr" pos="2743200"/>
                          <a:tab algn="r"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amily Size, N</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dec" pos="388800"/>
                          <a:tab algn="ctr" pos="2743200"/>
                          <a:tab algn="r"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8.0</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dec" pos="388800"/>
                          <a:tab algn="ctr" pos="2743200"/>
                          <a:tab algn="r"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4.0</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dec" pos="388800"/>
                          <a:tab algn="ctr" pos="2743200"/>
                          <a:tab algn="r"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83.0</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dec" pos="388800"/>
                          <a:tab algn="ctr" pos="2743200"/>
                          <a:tab algn="r"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88.0</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r>
              <a:tr h="96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onsumption Units, TCU</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9.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3.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9.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4.0</a:t>
                      </a:r>
                      <a:endParaRPr b="0" lang="en-US" sz="2000" spc="-1" strike="noStrike">
                        <a:solidFill>
                          <a:srgbClr val="ffffff"/>
                        </a:solidFill>
                        <a:latin typeface="Arial"/>
                      </a:endParaRPr>
                    </a:p>
                  </a:txBody>
                  <a:tcPr anchor="t" marL="90000" marR="90000">
                    <a:lnL>
                      <a:noFill/>
                    </a:lnL>
                    <a:lnR>
                      <a:noFill/>
                    </a:lnR>
                    <a:lnT>
                      <a:noFill/>
                    </a:lnT>
                    <a:lnB>
                      <a:noFill/>
                    </a:lnB>
                    <a:noFill/>
                  </a:tcPr>
                </a:tc>
              </a:tr>
              <a:tr h="96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djusted for Scale Economies, N*</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9</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6.0</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2.5</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6.3</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0" name=""/>
          <p:cNvGraphicFramePr/>
          <p:nvPr/>
        </p:nvGraphicFramePr>
        <p:xfrm>
          <a:off x="0" y="1325520"/>
          <a:ext cx="9144000" cy="5124600"/>
        </p:xfrm>
        <a:graphic>
          <a:graphicData uri="http://schemas.openxmlformats.org/presentationml/2006/ole">
            <p:oleObj progId="Excel.Sheet.12" r:id="rId2" spid="">
              <p:embed/>
              <p:pic>
                <p:nvPicPr>
                  <p:cNvPr id="151" name="" descr=""/>
                  <p:cNvPicPr/>
                  <p:nvPr/>
                </p:nvPicPr>
                <p:blipFill>
                  <a:blip r:embed="rId3"/>
                  <a:stretch/>
                </p:blipFill>
                <p:spPr>
                  <a:xfrm>
                    <a:off x="0" y="1325520"/>
                    <a:ext cx="9144000" cy="512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274320"/>
            <a:ext cx="838188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바탕"/>
              </a:rPr>
              <a:t>Advantages of Direct Approach over Food Poverty Line Approach</a:t>
            </a:r>
            <a:endParaRPr b="1" lang="en-US" sz="3200" spc="-1" strike="noStrike">
              <a:solidFill>
                <a:srgbClr val="b9efee"/>
              </a:solidFill>
              <a:latin typeface="Garamond"/>
            </a:endParaRPr>
          </a:p>
        </p:txBody>
      </p:sp>
      <p:sp>
        <p:nvSpPr>
          <p:cNvPr id="153"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a:bodyPr>
          <a:p>
            <a:pPr marL="343080" indent="-343080">
              <a:lnSpc>
                <a:spcPct val="100000"/>
              </a:lnSpc>
              <a:spcBef>
                <a:spcPts val="675"/>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바탕"/>
              </a:rPr>
              <a:t>Does not require prices, income, expenditure, reference population – only quantities of food items consumed by household.</a:t>
            </a:r>
            <a:endParaRPr b="0" lang="en-US" sz="2700" spc="-1" strike="noStrike">
              <a:solidFill>
                <a:srgbClr val="ffffff"/>
              </a:solidFill>
              <a:latin typeface="Garamond"/>
            </a:endParaRPr>
          </a:p>
          <a:p>
            <a:pPr marL="343080" indent="-343080">
              <a:lnSpc>
                <a:spcPct val="100000"/>
              </a:lnSpc>
              <a:spcBef>
                <a:spcPts val="675"/>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바탕"/>
              </a:rPr>
              <a:t>Comparable across time and space</a:t>
            </a:r>
            <a:endParaRPr b="0" lang="en-US" sz="2700" spc="-1" strike="noStrike">
              <a:solidFill>
                <a:srgbClr val="ffffff"/>
              </a:solidFill>
              <a:latin typeface="Garamond"/>
            </a:endParaRPr>
          </a:p>
          <a:p>
            <a:pPr marL="343080" indent="-343080">
              <a:lnSpc>
                <a:spcPct val="100000"/>
              </a:lnSpc>
              <a:spcBef>
                <a:spcPts val="675"/>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바탕"/>
              </a:rPr>
              <a:t>Can readily determine incidence for any choice of threshold</a:t>
            </a:r>
            <a:endParaRPr b="0" lang="en-US" sz="2700" spc="-1" strike="noStrike">
              <a:solidFill>
                <a:srgbClr val="ffffff"/>
              </a:solidFill>
              <a:latin typeface="Garamond"/>
            </a:endParaRPr>
          </a:p>
          <a:p>
            <a:pPr marL="343080" indent="-343080">
              <a:lnSpc>
                <a:spcPct val="100000"/>
              </a:lnSpc>
              <a:spcBef>
                <a:spcPts val="675"/>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바탕"/>
              </a:rPr>
              <a:t>Provides sensitivity analysis to different choices of thresholds</a:t>
            </a:r>
            <a:endParaRPr b="0" lang="en-US" sz="2700" spc="-1" strike="noStrike">
              <a:solidFill>
                <a:srgbClr val="ffffff"/>
              </a:solidFill>
              <a:latin typeface="Garamond"/>
            </a:endParaRPr>
          </a:p>
          <a:p>
            <a:pPr marL="343080" indent="-343080">
              <a:lnSpc>
                <a:spcPct val="100000"/>
              </a:lnSpc>
              <a:spcBef>
                <a:spcPts val="675"/>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바탕"/>
              </a:rPr>
              <a:t>Applicable to other nutrients and vitamins, generalizes to joint nutrient adequacy assessment, e.g. energy-protein.</a:t>
            </a:r>
            <a:endParaRPr b="0" lang="en-US" sz="2700" spc="-1" strike="noStrike">
              <a:solidFill>
                <a:srgbClr val="ffffff"/>
              </a:solidFill>
              <a:latin typeface="Garamond"/>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838080"/>
            <a:ext cx="8229600" cy="4495680"/>
          </a:xfrm>
          <a:prstGeom prst="rect">
            <a:avLst/>
          </a:prstGeom>
          <a:noFill/>
          <a:ln w="0">
            <a:noFill/>
          </a:ln>
          <a:effectLst>
            <a:outerShdw dist="36147" dir="2700000" blurRad="0" rotWithShape="0">
              <a:srgbClr val="006e6b"/>
            </a:outerShdw>
          </a:effectLst>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Garamond"/>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Garamond"/>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66"/>
                </a:solidFill>
                <a:latin typeface="바탕"/>
              </a:rPr>
              <a:t>Muchas Gracias!</a:t>
            </a:r>
            <a:endParaRPr b="0" lang="en-US" sz="5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바탕"/>
              </a:rPr>
              <a:t>Contents</a:t>
            </a:r>
            <a:endParaRPr b="1" lang="en-US" sz="4800" spc="-1" strike="noStrike">
              <a:solidFill>
                <a:srgbClr val="b9efee"/>
              </a:solidFill>
              <a:latin typeface="Garamond"/>
            </a:endParaRPr>
          </a:p>
        </p:txBody>
      </p:sp>
      <p:sp>
        <p:nvSpPr>
          <p:cNvPr id="117"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Introduction</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Some definitions: Implications on Data Analysis &amp; Availabilit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The Future of Agricultural Censuse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Outstanding Design, Measurement &amp; Estimation Problem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Improving Statistics on the Food Poor, Undernourished, &amp; Hungry</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바탕"/>
              </a:rPr>
              <a:t>On Definitions</a:t>
            </a:r>
            <a:endParaRPr b="1" lang="en-US" sz="4400" spc="-1" strike="noStrike">
              <a:solidFill>
                <a:srgbClr val="b9efee"/>
              </a:solidFill>
              <a:latin typeface="Garamond"/>
            </a:endParaRPr>
          </a:p>
        </p:txBody>
      </p:sp>
      <p:sp>
        <p:nvSpPr>
          <p:cNvPr id="119" name="PlaceHolder 2"/>
          <p:cNvSpPr>
            <a:spLocks noGrp="1"/>
          </p:cNvSpPr>
          <p:nvPr>
            <p:ph/>
          </p:nvPr>
        </p:nvSpPr>
        <p:spPr>
          <a:xfrm>
            <a:off x="533520" y="1066320"/>
            <a:ext cx="8610480" cy="4496040"/>
          </a:xfrm>
          <a:prstGeom prst="rect">
            <a:avLst/>
          </a:prstGeom>
          <a:noFill/>
          <a:ln w="0">
            <a:noFill/>
          </a:ln>
        </p:spPr>
        <p:txBody>
          <a:bodyPr lIns="90000" rIns="90000" tIns="46800" bIns="46800" anchor="t">
            <a:normAutofit fontScale="91000"/>
          </a:bodyPr>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바탕"/>
              </a:rPr>
              <a:t>Rural &amp; Agricultural</a:t>
            </a:r>
            <a:endParaRPr b="0" lang="en-US" sz="3200" spc="-1" strike="noStrike">
              <a:solidFill>
                <a:srgbClr val="ffffff"/>
              </a:solidFill>
              <a:latin typeface="Garamond"/>
            </a:endParaRPr>
          </a:p>
          <a:p>
            <a:pPr marL="312120" indent="-312120">
              <a:lnSpc>
                <a:spcPct val="100000"/>
              </a:lnSpc>
              <a:spcBef>
                <a:spcPts val="79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Used interchangeably?</a:t>
            </a:r>
            <a:endParaRPr b="0" lang="en-US" sz="3200" spc="-1" strike="noStrike">
              <a:solidFill>
                <a:srgbClr val="ffffff"/>
              </a:solidFill>
              <a:latin typeface="Garamond"/>
            </a:endParaRPr>
          </a:p>
          <a:p>
            <a:pPr marL="312120" indent="-312120">
              <a:lnSpc>
                <a:spcPct val="100000"/>
              </a:lnSpc>
              <a:spcBef>
                <a:spcPts val="79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Rural relates to condition, state or geographic area (with shifting boundaries)</a:t>
            </a:r>
            <a:endParaRPr b="0" lang="en-US" sz="3200" spc="-1" strike="noStrike">
              <a:solidFill>
                <a:srgbClr val="ffffff"/>
              </a:solidFill>
              <a:latin typeface="Garamond"/>
            </a:endParaRPr>
          </a:p>
          <a:p>
            <a:pPr marL="312120" indent="-312120">
              <a:lnSpc>
                <a:spcPct val="100000"/>
              </a:lnSpc>
              <a:spcBef>
                <a:spcPts val="79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Agricultural relates to activities, e.g. raising crops</a:t>
            </a:r>
            <a:endParaRPr b="0" lang="en-US" sz="3200" spc="-1" strike="noStrike">
              <a:solidFill>
                <a:srgbClr val="ffffff"/>
              </a:solidFill>
              <a:latin typeface="Garamond"/>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China’s 1996 agri  census was really rural censu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190800" y="151200"/>
            <a:ext cx="876096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바탕"/>
                <a:ea typeface="Times New Roman"/>
              </a:rPr>
              <a:t>Table 1a.  Population and Number of Villages in 1980 and 1990 CPH,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바탕"/>
                <a:ea typeface="Times New Roman"/>
              </a:rPr>
              <a:t>Philippines</a:t>
            </a:r>
            <a:r>
              <a:rPr b="0" lang="en-US" sz="2000" spc="-1" strike="noStrike">
                <a:solidFill>
                  <a:srgbClr val="ffffff"/>
                </a:solidFill>
                <a:latin typeface="바탕"/>
                <a:ea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21" name=""/>
          <p:cNvGraphicFramePr/>
          <p:nvPr/>
        </p:nvGraphicFramePr>
        <p:xfrm>
          <a:off x="762120" y="1054080"/>
          <a:ext cx="7010280" cy="2679840"/>
        </p:xfrm>
        <a:graphic>
          <a:graphicData uri="http://schemas.openxmlformats.org/drawingml/2006/table">
            <a:tbl>
              <a:tblPr/>
              <a:tblGrid>
                <a:gridCol w="3886200"/>
                <a:gridCol w="1558800"/>
                <a:gridCol w="1565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198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199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Population (mill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48.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60.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Of which: Urban (mill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18.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29.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Urban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37.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48.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Villages (thousand)</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40.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41.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Of which: Urban (thousand)</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7.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10.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Urban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19.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24.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2" name=""/>
          <p:cNvSpPr/>
          <p:nvPr/>
        </p:nvSpPr>
        <p:spPr>
          <a:xfrm>
            <a:off x="762120" y="3732840"/>
            <a:ext cx="6891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바탕"/>
                <a:ea typeface="Times New Roman"/>
              </a:rPr>
              <a:t>Table 1b.  Poverty Incidences, 1985 – 1997 Philippines</a:t>
            </a:r>
            <a:endParaRPr b="0" lang="en-US" sz="2000" spc="-1" strike="noStrike">
              <a:solidFill>
                <a:srgbClr val="ffffff"/>
              </a:solidFill>
              <a:latin typeface="Arial"/>
            </a:endParaRPr>
          </a:p>
        </p:txBody>
      </p:sp>
      <p:graphicFrame>
        <p:nvGraphicFramePr>
          <p:cNvPr id="123" name=""/>
          <p:cNvGraphicFramePr/>
          <p:nvPr/>
        </p:nvGraphicFramePr>
        <p:xfrm>
          <a:off x="609480" y="4343400"/>
          <a:ext cx="7848720" cy="1676520"/>
        </p:xfrm>
        <a:graphic>
          <a:graphicData uri="http://schemas.openxmlformats.org/drawingml/2006/table">
            <a:tbl>
              <a:tblPr/>
              <a:tblGrid>
                <a:gridCol w="2208240"/>
                <a:gridCol w="1127160"/>
                <a:gridCol w="1128600"/>
                <a:gridCol w="1128960"/>
                <a:gridCol w="1127160"/>
                <a:gridCol w="11286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198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198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199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199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199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바탕"/>
                          <a:ea typeface="Times New Roman"/>
                        </a:rPr>
                        <a:t>Poverty Incidence (%)</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49</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5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4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4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3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Urban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3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3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3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2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2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Rural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5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5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5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5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5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4" name=""/>
          <p:cNvSpPr/>
          <p:nvPr/>
        </p:nvSpPr>
        <p:spPr>
          <a:xfrm>
            <a:off x="681120" y="5989320"/>
            <a:ext cx="2367000" cy="596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Source: David and Maligalig (2001)</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바탕"/>
              </a:rPr>
              <a:t>In Philippines, Rural – Urban dropped as strata in the new master sample for household surveys that was implemented beginning 2003.</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Short-term (less than one year) poverty is averaged out in poverty statistics presented as annual and broken down into rural, urban, regions. Thus, dearth of statistics on transient poverty experienced by agricultural households in rainfed and upland areas, fishermen during typhoon season, also poverty brought about by reduced off-farm employment in physical infrastructure projects that slow down during the wet seaso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533520" y="1219320"/>
            <a:ext cx="8229600" cy="449568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바탕"/>
              </a:rPr>
              <a:t>Statistics on food deprivation and under-nutrition.</a:t>
            </a:r>
            <a:endParaRPr b="0" lang="en-US" sz="36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바탕"/>
              </a:rPr>
              <a:t>Is undernourished the same as hungry?</a:t>
            </a:r>
            <a:endParaRPr b="0" lang="en-US" sz="36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바탕"/>
              </a:rPr>
              <a:t>(To be discussed last)</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Garamond"/>
              </a:rPr>
              <a:t>Future of Census of Agriculture (CA)</a:t>
            </a:r>
            <a:endParaRPr b="1" lang="en-US" sz="3600" spc="-1" strike="noStrike">
              <a:solidFill>
                <a:srgbClr val="b9efee"/>
              </a:solidFill>
              <a:latin typeface="Garamond"/>
            </a:endParaRPr>
          </a:p>
        </p:txBody>
      </p:sp>
      <p:sp>
        <p:nvSpPr>
          <p:cNvPr id="129" name="PlaceHolder 2"/>
          <p:cNvSpPr>
            <a:spLocks noGrp="1"/>
          </p:cNvSpPr>
          <p:nvPr>
            <p:ph/>
          </p:nvPr>
        </p:nvSpPr>
        <p:spPr>
          <a:xfrm>
            <a:off x="304920" y="914400"/>
            <a:ext cx="8686800" cy="4495680"/>
          </a:xfrm>
          <a:prstGeom prst="rect">
            <a:avLst/>
          </a:prstGeom>
          <a:noFill/>
          <a:ln w="0">
            <a:noFill/>
          </a:ln>
        </p:spPr>
        <p:txBody>
          <a:bodyPr lIns="90000" rIns="90000" tIns="46800" bIns="46800" anchor="t">
            <a:normAutofit fontScale="97000"/>
          </a:bodyPr>
          <a:p>
            <a:pPr marL="33264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Declining support for CA because</a:t>
            </a:r>
            <a:endParaRPr b="0" lang="en-US" sz="2400" spc="-1" strike="noStrike">
              <a:solidFill>
                <a:srgbClr val="ffffff"/>
              </a:solidFill>
              <a:latin typeface="Garamond"/>
            </a:endParaRPr>
          </a:p>
          <a:p>
            <a:pPr marL="332640" indent="-332640">
              <a:lnSpc>
                <a:spcPct val="115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Users are not clear about the role of CA vis-à-vis surveys</a:t>
            </a:r>
            <a:endParaRPr b="0" lang="en-US" sz="2400" spc="-1" strike="noStrike">
              <a:solidFill>
                <a:srgbClr val="ffffff"/>
              </a:solidFill>
              <a:latin typeface="Garamond"/>
            </a:endParaRPr>
          </a:p>
          <a:p>
            <a:pPr marL="332640" indent="-332640">
              <a:lnSpc>
                <a:spcPct val="115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CA reports are released very late</a:t>
            </a:r>
            <a:endParaRPr b="0" lang="en-US" sz="2400" spc="-1" strike="noStrike">
              <a:solidFill>
                <a:srgbClr val="ffffff"/>
              </a:solidFill>
              <a:latin typeface="Garamond"/>
            </a:endParaRPr>
          </a:p>
          <a:p>
            <a:pPr marL="332640" indent="-332640">
              <a:lnSpc>
                <a:spcPct val="115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Large deviations between CA and sample surveys, thus limiting the use of CA mainly to rates, proportions and distributions (e.g. land use) instead of levels.</a:t>
            </a:r>
            <a:endParaRPr b="0" lang="en-US" sz="2400" spc="-1" strike="noStrike">
              <a:solidFill>
                <a:srgbClr val="ffffff"/>
              </a:solidFill>
              <a:latin typeface="Garamond"/>
            </a:endParaRPr>
          </a:p>
          <a:p>
            <a:pPr marL="33264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Civil strife, ethnic/religious conflicts, terrorism prevent CA in parts of a growing list of countries – Sri Lanka, Nepal, Philippines, Indonesia, Myanmar, Solomon Islands in Asia-Pacific. Other regions have their lists.</a:t>
            </a:r>
            <a:endParaRPr b="0" lang="en-US" sz="2400" spc="-1" strike="noStrike">
              <a:solidFill>
                <a:srgbClr val="ffffff"/>
              </a:solidFill>
              <a:latin typeface="Garamond"/>
            </a:endParaRPr>
          </a:p>
          <a:p>
            <a:pPr marL="33264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0T14:59:41Z</dcterms:created>
  <dc:creator>ccd</dc:creator>
  <dc:description/>
  <dc:language>en-US</dc:language>
  <cp:lastModifiedBy>siap</cp:lastModifiedBy>
  <dcterms:modified xsi:type="dcterms:W3CDTF">2004-11-02T19:25:43Z</dcterms:modified>
  <cp:revision>1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82892394</vt:r8>
  </property>
  <property fmtid="{D5CDD505-2E9C-101B-9397-08002B2CF9AE}" pid="3" name="_AuthorEmail">
    <vt:lpwstr>xfernandez@siap.sagarpa.gob.mx</vt:lpwstr>
  </property>
  <property fmtid="{D5CDD505-2E9C-101B-9397-08002B2CF9AE}" pid="4" name="_AuthorEmailDisplayName">
    <vt:lpwstr>Ximena Fernández Martínez</vt:lpwstr>
  </property>
  <property fmtid="{D5CDD505-2E9C-101B-9397-08002B2CF9AE}" pid="5" name="_EmailSubject">
    <vt:lpwstr>Key Notes</vt:lpwstr>
  </property>
  <property fmtid="{D5CDD505-2E9C-101B-9397-08002B2CF9AE}" pid="6" name="_PreviousAdHocReviewCycleID">
    <vt:r8>-616328039</vt:r8>
  </property>
</Properties>
</file>