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778-C9BB-41D6-847F-7734B77E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F43-C87D-4FDB-97C3-02A65FC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176-DC45-45DE-B70C-0B667C86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7D9-4838-4DB4-B7A1-F4CE6C88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D40A-23C8-4678-A4A8-484B2728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D431-517E-4B09-9CBD-091143EF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091C-83DE-4A1F-97F0-7D1C20ED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BF1D-2E07-4D94-A592-4F19CCC3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250-238B-4BB4-82D8-D768302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FEA1-24B1-4601-A9CF-697D0D07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BD6D-A1EF-4C0E-BF03-82833CD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7DE-4CC5-47A9-867A-51889FA1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CB10-58EA-4FBA-909F-2FB4F08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70F3-31F6-4C57-A678-003E1C2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CCFA-16BB-48E5-A351-37EDFAD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4AD0-8779-4C68-9592-E51AB356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1051-8ECD-4FEB-A589-54E858BA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EEF-6EE2-4AEA-A834-961C3EFA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78F-EB4B-4F43-94A9-092F78D3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68F-F5A6-4704-A600-21D7C8F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0B8-FD17-4E88-B53B-3B35AAA0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1D0-D5DD-4927-ADCD-BF515C3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DF2-8F8A-4D5C-A907-DEEE556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519-5CF3-4360-9BB6-98202C9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2BA-9CF4-41EE-9C4D-B00196E1500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B561-510A-487F-86E3-4E32146726C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Labour Statistics: Issues In Integrating Labour's Dual Roles of Input to Production and Social Resourc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rkeley Hill, Federico Perali, Cristina Salv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Internal equilibrium of the household -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ember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of a farm household of siz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an allocate its time endowment among the following activitie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devoted to farm labour activiti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evoted to off-farm labour (either in agriculture or in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sectors) and commuting tim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devoted to unpaid home production activities;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devoted to pure leisure (e.g. recreational activitie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time devoted to rest and personal care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14600" y="2895480"/>
          <a:ext cx="30542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95480"/>
                    <a:ext cx="3054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Global, extended and full inc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about off-farm paid employment permi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rivation of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arm household incom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Hill; Eurostat; OECD; Smeeding; Smeeding and Weinberg)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estimation of shadow wages for domestic activities permi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rivation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e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usehold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Lazear and Michael; Jenkins and O’Leary;INSTRAW)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m of extended income and the value of leisure time forms the Beckerian notion of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eck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6633"/>
                </a:solidFill>
                <a:latin typeface="Garamond"/>
              </a:rPr>
              <a:t>Italy - </a:t>
            </a:r>
            <a:r>
              <a:rPr b="0" lang="it-IT" sz="3000" spc="-1" strike="noStrike">
                <a:solidFill>
                  <a:srgbClr val="006633"/>
                </a:solidFill>
                <a:latin typeface="TimesTen-Bold"/>
              </a:rPr>
              <a:t>Composition of Full Income by Farm Household Typology—Euro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Garamond"/>
              </a:rPr>
              <a:t>Italy - </a:t>
            </a:r>
            <a:r>
              <a:rPr b="0" lang="it-IT" sz="2200" spc="-1" strike="noStrike">
                <a:solidFill>
                  <a:srgbClr val="006633"/>
                </a:solidFill>
                <a:latin typeface="TimesTen-Bold"/>
              </a:rPr>
              <a:t>Inequality of Farm Incomes by Household Types and Gender—Gini Coefficient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1371600"/>
            <a:ext cx="8229600" cy="4759200"/>
            <a:chOff x="457200" y="1371600"/>
            <a:chExt cx="8229600" cy="4759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229600" cy="47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57200" y="1371600"/>
              <a:ext cx="8229600" cy="475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isting data do not allow the broader allocation decisions to be monitored adequately (e.g. labour used for non-farm acti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el approach would be help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who leave farming are lost from the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ur statistics on other activities in the countryside are particularly w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ur statistics should recognise the household origins of this re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eys should be designed with this in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ification of self-employed labour is difficult and statistics should not make simplistic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cient information should be provided to economists/analysts to allow shadow earnings to be consi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ucture of pap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culiarities of farm households’ labour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equilibrium of the house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use and valuation of “unpaid” domestic lab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from Italy and 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ur statistics have 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ing the changing size and demographics of this industry – cross sections and exit and e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on of income indicators derived from economic accounts for agri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vity 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sions relating to the household and to input to agriculture are insepa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diversity in types of househol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culiarities of farm households’ labour supply -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ation by self-employed lab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y of measuring labour time as an in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ertain number of hours, especially with managerial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taneous multiple tas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isure and work often non-separ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ing quality of individuals (age, education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culiarities of farm households’ labour supply -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in statis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 assume only one farmer per f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family workers are hired/w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ual labour difficult to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structure often hide nature of lab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ers on large institutional units in EU10 – how are they to be trea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culiarities of farm households’ labour supply -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ortance of recognising that households supply labour (not a disembodied inpu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isions on using labour for agriculture only part of the household’s allocative dec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es for other economic activities need to be taken into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ther self-employment and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estic activities (food production for own consumption, household reproduction etc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nternal equilibrium of the household -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When production and consumption decision variables are non-separable, then market goods and leisure are not priced at the market val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Recent empirical work show that production decisions do depend on farmers’ preferences and endow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Hence, shadow wages, rather than market wages, determine labor/leisure choic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nternal equilibrium of the household -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 the calculation of farm income, the estimation of the implicit wage for household labor is a fundamental iss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raditionally, “unpaid” family labor does not appear as an explicit cost of produ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he shadow evaluation of family labor can be estimated using three different approach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bjective market wage under competitive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Shadow w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Internal equilibrium of the household -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mestic work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is also defined as unpaid wor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vailability of individual time-use data permits separating the time devoted to domestic work from the time allocated to pure leisu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57:14Z</dcterms:created>
  <dc:creator>Berkeley Hill</dc:creator>
  <dc:description/>
  <dc:language>en-US</dc:language>
  <cp:lastModifiedBy>CoviRo</cp:lastModifiedBy>
  <dcterms:modified xsi:type="dcterms:W3CDTF">2005-03-25T18:37:07Z</dcterms:modified>
  <cp:revision>25</cp:revision>
  <dc:subject/>
  <dc:title>The reform of the CAP and the economic sustainability of farms</dc:title>
</cp:coreProperties>
</file>