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9803-3AAC-4822-A9BB-2EBE48135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1DB8-1B6C-43C5-A499-A8CEDF2A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A579-9F09-4E69-AE80-2D7F7DDC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49CC-9361-4CA2-ADFD-4471F22D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B11D-ECB1-4F2E-A3A3-B75851AE8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3FD3-4B9C-42CF-B83C-9EA2139A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54A3-76EF-41E9-901B-3F9EFCAEA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A2EA-7AF6-496C-AB50-6CCD59F4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18B2-4203-4A2C-B93B-79C9B7E7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FF82-8158-457D-B6D3-EA220DB3D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467B-BBEE-411C-B3B1-45AD13B1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15DF-C233-442F-835D-99CAB420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C9D4-B155-42B4-852C-7A42411B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450D-8199-48BE-BD28-DA03FA60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24C3-DD3F-4B68-BF0D-5C6E6804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DF3D-F7A6-4A55-9DC0-76DC7CA65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DEBC-DAB4-41AC-91F6-2E88F9AC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6C23-8C69-42F8-9AEF-650562FA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D5A1-A454-442E-8D92-F50E9303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69CB-42EB-40B2-A66E-D1031049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AE91-8661-4755-8932-D0BCF1BC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FC97-9981-4B87-9623-ABAF6FD1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F16F-C866-47D0-A20B-2F2EBC76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EBB1-7B94-4A60-BF77-9B5C060F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8A11-1473-48E0-AD9B-215B1832A3A9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3C1E-C608-40E9-A431-3B0A5E4D9975}" type="slidenum">
              <a:rPr b="0" lang="en-GB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Labour Statistics: Issues In Integrating Labour's Dual Roles of Input to Production and Social Resource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erkeley Hill, Federico Perali, Cristina Salv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33"/>
                </a:solidFill>
                <a:latin typeface="Garamond"/>
              </a:rPr>
              <a:t>Internal equilibrium of the household - 4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ach member (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) of a farm household of size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can allocate its time endowment among the following activities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i="1" lang="en-GB" sz="2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time devoted to farm labour activities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en-GB" sz="2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ime devoted to off-farm labour (either in agriculture or in 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ther sectors) and commuting time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en-GB" sz="2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time devoted to unpaid home production activities;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i="1" lang="en-GB" sz="2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time devoted to pure leisure (e.g. recreational activities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i="1" lang="en-GB" sz="2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time devoted to rest and personal care.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514600" y="2895480"/>
          <a:ext cx="3054240" cy="6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895480"/>
                    <a:ext cx="305424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006633"/>
                </a:solidFill>
                <a:latin typeface="Garamond"/>
              </a:rPr>
              <a:t>Global, extended and full incom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about off-farm paid employment permits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he derivation of </a:t>
            </a:r>
            <a:r>
              <a:rPr b="1" i="1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global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farm household income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Hill; Eurostat; OECD; Smeeding; Smeeding and Weinberg).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he estimation of shadow wages for domestic activities permits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he derivation </a:t>
            </a:r>
            <a:r>
              <a:rPr b="1" i="1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xtended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household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incom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Lazear and Michael; Jenkins and O’Leary;INSTRAW)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he sum of extended income and the value of leisure time forms the Beckerian notion of </a:t>
            </a:r>
            <a:r>
              <a:rPr b="1" i="1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full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incom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Beck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6633"/>
                </a:solidFill>
                <a:latin typeface="Garamond"/>
              </a:rPr>
              <a:t>Italy - </a:t>
            </a:r>
            <a:r>
              <a:rPr b="0" lang="it-IT" sz="3000" spc="-1" strike="noStrike">
                <a:solidFill>
                  <a:srgbClr val="006633"/>
                </a:solidFill>
                <a:latin typeface="TimesTen-Bold"/>
              </a:rPr>
              <a:t>Composition of Full Income by Farm Household Typology—Euros</a:t>
            </a:r>
            <a:endParaRPr b="0" lang="en-US" sz="3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5341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6633"/>
                </a:solidFill>
                <a:latin typeface="Garamond"/>
              </a:rPr>
              <a:t>Italy - </a:t>
            </a:r>
            <a:r>
              <a:rPr b="0" lang="it-IT" sz="2200" spc="-1" strike="noStrike">
                <a:solidFill>
                  <a:srgbClr val="006633"/>
                </a:solidFill>
                <a:latin typeface="TimesTen-Bold"/>
              </a:rPr>
              <a:t>Inequality of Farm Incomes by Household Types and Gender—Gini Coefficients</a:t>
            </a:r>
            <a:endParaRPr b="0" lang="en-US" sz="2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57200" y="1371600"/>
            <a:ext cx="8229600" cy="4759200"/>
            <a:chOff x="457200" y="1371600"/>
            <a:chExt cx="8229600" cy="475920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457200" y="1371600"/>
              <a:ext cx="8229600" cy="47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457200" y="1371600"/>
              <a:ext cx="8229600" cy="475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isting data do not allow the broader allocation decisions to be monitored adequately (e.g. labour used for non-farm activit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nel approach would be helpfu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ople who leave farming are lost from the stat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bour statistics on other activities in the countryside are particularly wea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clus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bour statistics should recognise the household origins of this resour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rveys should be designed with this in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Quantification of self-employed labour is difficult and statistics should not make simplistic assump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fficient information should be provided to economists/analysts to allow shadow earnings to be consid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ructure of pap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culiarities of farm households’ labour supp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nal equilibrium of the househo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me use and valuation of “unpaid” domestic labo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ssons from Italy and W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rodu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bour statistics have roles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ing the changing size and demographics of this industry – cross sections and exit and e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culation of income indicators derived from economic accounts for agricul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tivity measur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isions relating to the household and to input to agriculture are insepar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eat diversity in types of househol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eculiarities of farm households’ labour supply - 1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mination by self-employed labo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fficulty of measuring labour time as an inp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certain number of hours, especially with managerial inp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ultaneous multiple tas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isure and work often non-separ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ering quality of individuals (age, education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eculiarities of farm households’ labour supply - 2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s in statistic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ten assume only one farmer per far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family workers are hired/wag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sual labour difficult to mea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siness structure often hide nature of labo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kers on large institutional units in EU10 – how are they to be treate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eculiarities of farm households’ labour supply - 3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mportance of recognising that households supply labour (not a disembodied inpu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ecisions on using labour for agriculture only part of the household’s allocative deci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Uses for other economic activities need to be taken into accou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ther self-employment and employ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omestic activities (food production for own consumption, household reproduction etc.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Internal equilibrium of the household -1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When production and consumption decision variables are non-separable, then market goods and leisure are not priced at the market valu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Recent empirical work show that production decisions do depend on farmers’ preferences and endowm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Hence, shadow wages, rather than market wages, determine labor/leisure choic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Internal equilibrium of the household - 2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In the calculation of farm income, the estimation of the implicit wage for household labor is a fundamental issu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Traditionally, “unpaid” family labor does not appear as an explicit cost of product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The shadow evaluation of family labor can be estimated using three different approach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Objective market wage under competitive cond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Shadow w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33"/>
                </a:solidFill>
                <a:latin typeface="Garamond"/>
              </a:rPr>
              <a:t>Internal equilibrium of the household - 3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Domestic work 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i="1" lang="en-US" sz="3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 is also defined as unpaid work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The availability of individual time-use data permits separating the time devoted to domestic work from the time allocated to pure leisur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4:57:14Z</dcterms:created>
  <dc:creator>Berkeley Hill</dc:creator>
  <dc:description/>
  <dc:language>en-US</dc:language>
  <cp:lastModifiedBy>CoviRo</cp:lastModifiedBy>
  <dcterms:modified xsi:type="dcterms:W3CDTF">2005-03-25T18:37:07Z</dcterms:modified>
  <cp:revision>25</cp:revision>
  <dc:subject/>
  <dc:title>The reform of the CAP and the economic sustainability of farms</dc:title>
</cp:coreProperties>
</file>