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18C-CD1A-4E25-A75E-1BA57F94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339-AD15-46EB-B39B-B7B03049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DB1-D43C-4C7E-9B98-A82A5FCB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6C5-46FE-426D-9B05-FBEFFF55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585-1A3E-4CA0-9B64-72EF6BF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0BE-EA7E-4F5D-864F-2EF5E72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AE7-01CD-4EA7-AAE2-327A6DE1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783-6D71-47E3-9000-D959D8E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DAD-12F2-41C6-94FF-1CE7B5A0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4BF-6E24-4403-8BA8-30F7071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6C8-530A-4D68-903A-A0B2435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099-732B-40DB-928D-EC96136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F3C-8ACE-4D21-9AB5-6D866DE1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276640"/>
            <a:ext cx="712944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Improving cost-effectiveness and relevance of agricultual censuses in Africa: </a:t>
            </a:r>
            <a:r>
              <a:rPr b="1" i="1" lang="fr-FR" sz="2600" spc="-1" strike="noStrike">
                <a:solidFill>
                  <a:srgbClr val="ff3300"/>
                </a:solidFill>
                <a:latin typeface="Arial"/>
              </a:rPr>
              <a:t>Linking population and agricultural c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Naman Ke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enior Statis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FAO Regional Office for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CAS III- MEXSAI: Measuring Sustainable Agriculture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ancun, Mexico, 2 -  4 November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92280"/>
            <a:ext cx="69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Black"/>
              </a:rPr>
              <a:t>Lessons learned from country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47168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2492280"/>
            <a:ext cx="756144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-CENSUS OF T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census of agriculture in 1995 in conjunction with field work for updating Enumeration Area maps (cartography) for population c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urpose: collect data on rural localities and agricultural households in order to build a proper sampling frame for the up-coming agricultural census (96/97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 types of questionnaires used: Village level questionnaire and Household level 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-CENSUS OF TOGO (cont’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llage questionna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and general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zation of the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roads accessing to the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used for water and electr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 and training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c infrastructures (market, agro-industries etc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 sp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n economic 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uit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usehold questionna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tion of House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o-economic characteris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head &amp; members of H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information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ivities of the household (detailed agricultural activities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RICULTURE MODULE: RW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agriculture module included in questionnaire of 2002 population cen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pur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complete enumeration of all agricultural households to serve as a basis for development of an efficient and up-to-date sampling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limited number of updated information on all agricultural households of the country, for effective sample desig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agricultural data which can be cross-tabulated with population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GRICULTURE MODULE: RWAN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Household: province, district, sector, “cellule” (village), enumeration area, household number and name of 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Agricultural Househol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f agricultural holding operated by the Household (agriculture, livestock, fishery and all combin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p grown by the agricultural household (8 main crops identified with all combin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raised and numbers (5 main livestock identif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ship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ordination of the two census programmes at U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 come from country initiatives not part of general guidelines or recommendations at international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PA and FAO being main organizations technically sponsoring the Population and Agricultural Censuses, appropriate will be highly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alities of lin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lities of linking the two censuses will vary from one country to another as many factors are to be consid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funds will always be required and are critical to cover for the extra costs added to population cens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 of questions and variables for an agricultur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questions and variables most appropriat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ple often qualitative ques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type of activity, type of crop grown, etc...) not requiring precise measur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to get precise numbers (like livestock numbers) have failed to provide accurat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ing of the population census fiel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appropriate period for collecting adequate data on agriculture is the cropping sea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processing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ly processing depends on advance planning and provision of adequate resources before the data is coll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has to be also planned in advance and resources provided for if a report is to be prepared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ulation of agriculture data with population data has not been done but in Rwanda this option is still being envis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f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ricultural census: “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rge scale periodic statistical operation for collection of quantitative information on the structure of Agricultur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 of traditional subsistence farming imply use of objective measurement is necessary to obtain data on area, yield &amp; prod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O methods of objectiv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p area (A) and yield (Y): physical measurement (using tapes and compasses)  of all plots and crop cutting (sub-plots) to determine y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(P) derived from: P= A*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O methods of objective measurement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ccurate measur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well a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highly time consuming and cost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imply that complete enumeration is almost impossible given the large number of small farmers and plots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suses has to be taken on a sample basis to keep cost under limi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e design used for cens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 sample desig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ified, two-stage 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As (or villages) as PSUs and AH as S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Us often selec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SUs selected (within selected PSUs) with equal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PSUs are randomly selected with equal probability when no information is available on siz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ing frame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frequent sampling frame used: list of EAs (or villages) with indication of size  from latest population censu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opulation census too far from agricultural census, data can be completely out of dat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 may have changed boundaries, composition and siz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llages may have been created or disappeared or changed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for recent population census, information on size may not be very relevant to agricultural census (number of HH or popula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qu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vailable frames are often imperfect leading to serious negative impact on data quality (significant contribution to increased non-sampling erro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wo major costly data collection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ensus and agricultural census are  two most important and costly operations for statistical systems in Af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coordination will allow economies of scale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of infrastructure of population census to collect relevant data for proper sampling frame for agricultural cens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ad-hoc exercise to build a sampling frame will considerably increase the total cost (usual cost 3-10 millions dollars) by 20% or 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ing resource constraints create new conditions for coordination and several countries have adopted some kind of linkage between the two censuses in recent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dalities of linkages and ad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types of link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pre-census of agriculture taken in conjunction with cartograph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agricultural module included in the questionnaire of the population cens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ts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 of up-dated, complete and relevant data for proper sampling frame and more efficient sample desig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relevance and value of census in case of comprehensive pre-census, as data on AH and rural communities can be presented for small geographical and administrative unit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pe for cross-tabulation of agriculture data and socio-demographic data from population cens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for close collaboration between CSO and MoA and availability of additional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aches taken by various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es taken depend on country’s specific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vail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men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of preparation of population cens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CEN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go, Senegal, Be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AL 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te d’Ivoire, Rwanda, Ug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1:07:34Z</dcterms:created>
  <dc:creator>Fonteneau, Francois『_x0002_</dc:creator>
  <dc:description/>
  <dc:language>en-US</dc:language>
  <cp:lastModifiedBy>RAF</cp:lastModifiedBy>
  <cp:lastPrinted>2003-02-27T09:47:17Z</cp:lastPrinted>
  <dcterms:modified xsi:type="dcterms:W3CDTF">2004-11-01T13:38:08Z</dcterms:modified>
  <cp:revision>23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7084897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  <property fmtid="{D5CDD505-2E9C-101B-9397-08002B2CF9AE}" pid="6" name="_PreviousAdHocReviewCycleID">
    <vt:r8>-1951860318</vt:r8>
  </property>
</Properties>
</file>