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536-5769-4E76-AD00-688CD510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5C59-D253-47CD-A172-A7E6CA55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A99B-E564-4EEF-84F3-CF284F45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132F-05D2-4468-A6AC-CADF1DFF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BADB-B9BE-4BC8-A423-435BA382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700-6DA1-44D5-A198-3B0128EA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B9B5-4D7B-4B4C-818A-FDF5C26E1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9FE3-5673-423C-B475-53F6CF34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8E8-B5C7-4AE7-87BB-ACC22AB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613-9084-4D86-B756-D0E3103D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255-0238-421E-A503-63C950AD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3C8A-6180-414F-BC7B-F526D32E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EC34-B7B6-433A-A2DC-968AC3A59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2276640"/>
            <a:ext cx="7129440" cy="37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3300"/>
                </a:solidFill>
                <a:latin typeface="Arial"/>
              </a:rPr>
              <a:t>Improving cost-effectiveness and relevance of agricultual censuses in Africa: </a:t>
            </a:r>
            <a:r>
              <a:rPr b="1" i="1" lang="fr-FR" sz="2600" spc="-1" strike="noStrike">
                <a:solidFill>
                  <a:srgbClr val="ff3300"/>
                </a:solidFill>
                <a:latin typeface="Arial"/>
              </a:rPr>
              <a:t>Linking population and agricultural cen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Naman Ke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Senior Statist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FAO Regional Office for Af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ICAS III- MEXSAI: Measuring Sustainable Agriculture 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 Black"/>
              </a:rPr>
              <a:t>Cancun, Mexico, 2 -  4 November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692280"/>
            <a:ext cx="69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 Black"/>
              </a:rPr>
              <a:t>Lessons learned from country exper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1471680" cy="1600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26920" y="2492280"/>
            <a:ext cx="7561440" cy="18003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E-CENSUS OF T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census of agriculture in 1995 in conjunction with field work for updating Enumeration Area maps (cartography) for population cen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urpose: collect data on rural localities and agricultural households in order to build a proper sampling frame for the up-coming agricultural census (96/97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wo types of questionnaires used: Village level questionnaire and Household level questionn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E-CENSUS OF TOGO (cont’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ent 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llage questionnai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 and general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ization of the vill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roads accessing to the vill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used for water and electri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s and training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conomic infrastructures (market, agro-industries etc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guages spok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in economic activ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uit p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ent o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usehold questionnai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fication of House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cio-economic characteristi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head &amp; members of H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-696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ailed information o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ivities of the household (detailed agricultural activities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6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GRICULTURE MODULE: RW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agriculture module included in questionnaire of 2002 population cen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pur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complete enumeration of all agricultural households to serve as a basis for development of an efficient and up-to-date sampling 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limited number of updated information on all agricultural households of the country, for effective sample desig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of agricultural data which can be cross-tabulated with population da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61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GRICULTURE MODULE: RWAN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ntent of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 of Household: province, district, sector, “cellule” (village), enumeration area, household number and name of h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 of Agricultural Househol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of agricultural holding operated by the Household (agriculture, livestock, fishery and all combin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p grown by the agricultural household (8 main crops identified with all combin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 raised and numbers (5 main livestock identif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-661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ship of 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1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. Lessons lear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oordination of the two census programmes at U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riences come from country initiatives not part of general guidelines or recommendations at international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FPA and FAO being main organizations technically sponsoring the Population and Agricultural Censuses, appropriate will be highly recomm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odalities of lin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lities of linking the two censuses will vary from one country to another as many factors are to be conside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funds will always be required and are critical to cover for the extra costs added to population cens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. Lessons lear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ype of questions and variables for an agriculture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of questions and variables most appropriat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mple often qualitative ques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(type of activity, type of crop grown, etc...) not requiring precise measure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s to get precise numbers (like livestock numbers) have failed to provide accurate resul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ing of the population census field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st appropriate period for collecting adequate data on agriculture is the cropping seas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. Lessons lear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processing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mely processing depends on advance planning and provision of adequate resources before the data is collec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alysis has to be also planned in advance and resources provided for if a report is to be prepared i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tabulation of agriculture data with population data has not been done but in Rwanda this option is still being envis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t of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9912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stence farming and features of censuses of agriculture i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y is the issue of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ing frame important for censuses of agriculture in the African contex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improvements can be obtained by coordinating Population and Agricultural census programm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stence farming and features of censuses of agriculture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ricultural census: “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rge scale periodic statistical operation for collection of quantitative information on the structure of Agriculture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xt of traditional subsistence farming imply use of objective measurement is necessary to obtain data on area, yield &amp; produ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O methods of objective 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p area (A) and yield (Y): physical measurement (using tapes and compasses)  of all plots and crop cutting (sub-plots) to determine yie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(P) derived from: P= A*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istence farming and features of censuses of agriculture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O methods of objective measurement (cont’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accurate measur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hen well appl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are highly time consuming and cost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imply that complete enumeration is almost impossible given the large number of small farmers and plots to mea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que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ensuses has to be taken on a sample basis to keep cost under limi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is the issue of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frame important for censuses of agriculture in the African con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ample design used for cens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frequent sample design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atified, two-stage samp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EAs (or villages) as PSUs and AH as SS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Us often select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SUs selected (within selected PSUs) with equal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, PSUs are randomly selected with equal probability when no information is available on size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y is the issue of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ing frame important for censuses of agriculture in the African cont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ing frame iss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frequent sampling frame used: list of EAs (or villages) with indication of size  from latest population censu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population census too far from agricultural census, data can be completely out of dat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 may have changed boundaries, composition and siz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llages may have been created or disappeared or changed na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 for recent population census, information on size may not be very relevant to agricultural census (number of HH or population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equen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vailable frames are often imperfect leading to serious negative impact on data quality (significant contribution to increased non-sampling error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mprovements can be obtained by coordinating Population and Agricultural census program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wo major costly data collection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ensus and agricultural census are  two most important and costly operations for statistical systems in Af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coordination will allow economies of scale: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se of infrastructure of population census to collect relevant data for proper sampling frame for agricultural cens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rnative ad-hoc exercise to build a sampling frame will considerably increase the total cost (usual cost 3-10 millions dollars) by 20% or mo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ing resource constraints create new conditions for coordination and several countries have adopted some kind of linkage between the two censuses in recent ye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mprovements can be obtained by coordinating Population and Agricultural census programm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Modalities of linkages and advan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types of linkag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pre-census of agriculture taken in conjunction with cartography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hort agricultural module included in the questionnaire of the population cens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nefits 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ility of up-dated, complete and relevant data for proper sampling frame and more efficient sample design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relevance and value of census in case of comprehensive pre-census, as data on AH and rural communities can be presented for small geographical and administrative units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pe for cross-tabulation of agriculture data and socio-demographic data from population censu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-600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for close collaboration between CSO and MoA and availability of additional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aches taken by various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es taken depend on country’s specific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availabl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requirement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of preparation of population cens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CENS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ogo, Senegal, Be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GRICULTURAL MOD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Cote d’Ivoire, Rwanda, Uga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5T11:07:34Z</dcterms:created>
  <dc:creator>Fonteneau, Francois『_x0002_</dc:creator>
  <dc:description/>
  <dc:language>en-US</dc:language>
  <cp:lastModifiedBy>RAF</cp:lastModifiedBy>
  <cp:lastPrinted>2003-02-27T09:47:17Z</cp:lastPrinted>
  <dcterms:modified xsi:type="dcterms:W3CDTF">2004-11-01T13:38:08Z</dcterms:modified>
  <cp:revision>23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27084897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1</vt:lpwstr>
  </property>
  <property fmtid="{D5CDD505-2E9C-101B-9397-08002B2CF9AE}" pid="6" name="_PreviousAdHocReviewCycleID">
    <vt:r8>-1951860318</vt:r8>
  </property>
</Properties>
</file>