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720" y="685800"/>
            <a:ext cx="4876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1440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1440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ADCD-5A48-4280-A828-5129D304CF2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990720" y="68580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115A-AB56-4D19-94C7-43AA3969B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6293-2DE3-4B93-8154-1C749BF8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4981-82CC-462A-B55F-98F67C00F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41FA-6876-4B13-8067-94C9A3844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6396-AFCF-423D-B672-FB0EC53B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52E5-3AF5-40A4-9D38-FEC885F3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7005-FAEB-49C3-BA7B-F8CBFDAF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9D03-DEF0-4ACA-85B5-32C4B781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B737-AE48-44F5-8845-F58D7640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BD8F-6BD5-49DB-A741-31459602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43E1-E2E4-403F-BDBC-E6A34DBA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998A-496E-41F4-9EB7-1A68354C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F1ED-07C3-4B6A-8F0B-A3A2287780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Times New Roman"/>
                <a:ea typeface="바탕"/>
              </a:rPr>
              <a:t>List frames area frames and administrative data, are they complementary or in competition?</a:t>
            </a:r>
            <a:r>
              <a:rPr b="0" lang="en-GB" sz="3600" spc="-1" strike="noStrike">
                <a:solidFill>
                  <a:srgbClr val="ff3300"/>
                </a:solidFill>
                <a:latin typeface="Times New Roman"/>
                <a:ea typeface="굴림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124080"/>
            <a:ext cx="83818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isabetta Carfag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versity of Bolog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partment of Stat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ia Belle Arti 41 - 40126 Bolog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rfagna@stat.unibo.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3300"/>
                </a:solidFill>
                <a:latin typeface="Times New Roman"/>
                <a:ea typeface="Arial"/>
              </a:rPr>
              <a:t> </a:t>
            </a:r>
            <a:r>
              <a:rPr b="1" lang="en-GB" sz="3000" spc="-1" strike="noStrike">
                <a:solidFill>
                  <a:srgbClr val="ff3300"/>
                </a:solidFill>
                <a:latin typeface="Times New Roman"/>
                <a:ea typeface="Arial"/>
              </a:rPr>
              <a:t>Area fram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7631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en completeness is not guaranteed by combined use of different registers, an area frame should be adopted for avoiding bias, since an area frame is always complete and useful for a long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The completeness of area frames suggests their use in many ca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ther complete frame is not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xisting list of sampling units changes very rapi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n existing frame is out of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xisting frame was obtained from a census with low c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 multiple purpose frame is needed for estimating many different variables (agricultural, environmental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Times New Roman"/>
                <a:ea typeface="Arial"/>
              </a:rPr>
              <a:t>Allow objective estimates of characteristics that can be observed on the ground, without intervi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aterials used for survey and information collected help to reduce non sampling errors in interviews and are a good basis for data imputation for non-respo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Times New Roman"/>
                <a:ea typeface="Arial"/>
              </a:rPr>
              <a:t>Area sample survey materials becoming cheaper and more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3300"/>
                </a:solidFill>
                <a:latin typeface="Times New Roman"/>
                <a:ea typeface="Arial"/>
              </a:rPr>
              <a:t> </a:t>
            </a:r>
            <a:r>
              <a:rPr b="1" lang="en-GB" sz="3000" spc="-1" strike="noStrike">
                <a:solidFill>
                  <a:srgbClr val="ff3300"/>
                </a:solidFill>
                <a:latin typeface="Times New Roman"/>
                <a:ea typeface="Arial"/>
              </a:rPr>
              <a:t>Combining a list and an area fra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87631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Disadvantages of area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cost of implementing the survey progra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necessity of many cartographic material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sensitivity to outliers and instability of estimat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if survey conducted through interviews and respondents live far from selected area unit, their identification may be difficult and expensive, and missing data tend to be releva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Times New Roman"/>
                <a:ea typeface="Arial"/>
              </a:rPr>
              <a:t>Multiple frame sample survey design for avoiding instability of estimates and improving their pr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A list of very large operators and operators that produce rare items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If </a:t>
            </a: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this list is short, it is generally</a:t>
            </a: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easy to construct and upda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Identification of the area sample units included in the list frame is needed for avoiding upwards bias of estimat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Sample units belonging to list and not to the area frame do not exist and the size of intersection domain has the size of the lis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Approach convenient if the list contains units with large values and survey cost in the list is much lower than in area fram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  <a:ea typeface="Arial"/>
              </a:rPr>
              <a:t>Conclusions 1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533520"/>
            <a:ext cx="89913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crease of ability to handle large sets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apacity of some administrative departments to collect data through the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udget constr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Suggest to use administrative data more extensively and even to produce statistics through direct tab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ducing response burd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oducing figures for very detailed domai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llowing estimation of transition over tim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Arial Unicode MS"/>
              </a:rPr>
              <a:t>However problems for producing stat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efinitions, coverage, information acquired, aims of data collection and quality control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Arial Unicode MS"/>
              </a:rPr>
              <a:t>Combined use of registers improves coverage and data quality and allows describing socio-economic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ood identification variables sophisticated record linkage system are needed and a heavy statistical methodological work has to be don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ffect of imperfect matchi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91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3300"/>
                </a:solidFill>
                <a:latin typeface="Times New Roman"/>
                <a:ea typeface="Arial Unicode MS"/>
              </a:rPr>
              <a:t>Conclusions 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7631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Sampling farms from a complete and updated list and performing record linkage with the register for capturin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Arial Unicode MS"/>
              </a:rPr>
              <a:t>Probabilistic sample survey whose efficiency is improved by the use of register data as auxiliary variable in calibration estim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mproved efficiency allows to reach the same precision reducing sample size, survey costs and response bur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gister data included in the estimation pro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duction of sample size,,survey costs and respondent bu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f frame complete and without duplications no under-over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ata are collected for pure statistical purpo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Arial Unicode MS"/>
              </a:rPr>
              <a:t>Multiple frame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does not require record matching of listing units of the different lis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when completeness not guaranteed by the different registers, area frame area frame allows avoiding bia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multiple frame sample survey design allows to avoid instability of estimates based on an area frame and to improve their preci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  <a:ea typeface="Arial Unicode MS"/>
              </a:rPr>
              <a:t>Many different data on agriculture are available in the various countries in the worl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dministrative data are common almost every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 some countries, a specific data collection, based on list or area frames or both, is performed for producing agricultural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Rationalization is felt as a strong n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arious non-comparabl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aintaining different data acquisition systems is ver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Arial Unicode MS"/>
              </a:rPr>
              <a:t>Analysis of risks, advantages, disadvantages and requirements of the use of administrative data for statistical purp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roposal of some methods to combin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ist frames, area frames and administrative data for producing accurate agricultural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3300"/>
                </a:solidFill>
                <a:latin typeface="Times New Roman"/>
                <a:ea typeface="Arial"/>
              </a:rPr>
              <a:t>Administrative data</a:t>
            </a:r>
            <a:r>
              <a:rPr b="1" lang="en-GB" sz="3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finitions, coverage and quality depend on administrative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Acquisition regulated by law, have to be collected whatever thei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ery difficult to calculate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6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Arial"/>
              </a:rPr>
              <a:t>Administrative data relevant for agricultural statistics: taxation, social insurance and subsi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raditionally used for updating a list for sample surv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crease of ability to handle large sets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apacity of some administrative departments to collect data through the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udget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Suggest to use administrative data more extensively and even to produce statistics through direct tab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dministrative data versus sample surveys</a:t>
            </a:r>
            <a:r>
              <a:rPr b="1" lang="en-GB" sz="30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Register: complete list of objects belonging to a defined objects set and with identification variables that allow to update the register it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uge amount of data col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ometimes purposive sample controlled to apply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Arial"/>
              </a:rPr>
              <a:t>A statistical systems based on a register allow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aving 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educing response bu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roducing figures for very detailed do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stimating transition ove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Arial Unicode MS"/>
              </a:rPr>
              <a:t>Sample survey: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opulation identified, decision about: parameters and levels of accuracy, taking into account budget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uch care devoted to data collection and qualit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fficient sample designs for reducing sampling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Disadvantages of direct use of administrative data</a:t>
            </a:r>
            <a:r>
              <a:rPr b="1" lang="it-IT" sz="30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ata already col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nformation acquired is not exactly the one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collected for purposes relevant for the respo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spcBef>
                <a:spcPts val="601"/>
              </a:spcBef>
              <a:buClr>
                <a:srgbClr val="00cc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Arial Unicode MS"/>
              </a:rPr>
              <a:t>coverage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2320" indent="-376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ften objects in the registers are partly statistical units of the population partly something 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2320" indent="-376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tudy in Sweden: only 79% of farms have a one to one matc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ith the IACS register (crea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uropean agricultural subsid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6,4% have a one to many or many to many match and14.6% of farms have no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spcBef>
                <a:spcPts val="601"/>
              </a:spcBef>
              <a:buClr>
                <a:srgbClr val="00cc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Arial Unicode MS"/>
              </a:rPr>
              <a:t>incompleteness of data inflates the risk of bias for some crop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(in Sweden about 2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n clear dynamics can be generated by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mparability over time is influenced by change coverag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8991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3300"/>
                </a:solidFill>
                <a:latin typeface="Times New Roman"/>
                <a:ea typeface="Arial Unicode MS"/>
              </a:rPr>
              <a:t>Errors in administrative da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7631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irect tabulation suggested if sum of values presented by all objects in register is an unbiased estimator of the total of a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stimator applied to data affected by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E.g. IACS declarations for a crop </a:t>
            </a:r>
            <a:r>
              <a:rPr b="0" i="1" lang="en-GB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c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are affec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6680" indent="-443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mmission errors (some parcels declared as covered by crop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re covered by another crop or their surface is inflat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86680" indent="-443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mission errors (some parcels covered by crop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re not included in IACS declarations or their surface is less than the true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Times New Roman"/>
                <a:ea typeface="Arial Unicode MS"/>
              </a:rPr>
              <a:t>If commission and omission errors compensate, sum of declarations for crop </a:t>
            </a:r>
            <a:r>
              <a:rPr b="0" i="1" lang="en-GB" sz="2400" spc="-1" strike="noStrike">
                <a:solidFill>
                  <a:srgbClr val="00cc99"/>
                </a:solidFill>
                <a:latin typeface="Times New Roman"/>
                <a:ea typeface="Arial Unicode MS"/>
              </a:rPr>
              <a:t>c</a:t>
            </a:r>
            <a:r>
              <a:rPr b="0" lang="en-GB" sz="2400" spc="-1" strike="noStrike">
                <a:solidFill>
                  <a:srgbClr val="00cc99"/>
                </a:solidFill>
                <a:latin typeface="Times New Roman"/>
                <a:ea typeface="Arial Unicode MS"/>
              </a:rPr>
              <a:t>  unbiased estimator of total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ACS Purposive sampling;for detecting irregularities, 2003, Italian level, durum wheat error 3.5% of controlled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mmission errors </a:t>
            </a:r>
            <a:r>
              <a:rPr b="0" lang="en-GB" sz="2400" spc="-1" strike="noStrike">
                <a:solidFill>
                  <a:srgbClr val="ff0066"/>
                </a:solidFill>
                <a:latin typeface="Times New Roman"/>
                <a:ea typeface="Arial"/>
              </a:rPr>
              <a:t>7.8% of the sum of declarations in Puglia and 8.4% in Sic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Omission error: 13.9% of ITA Consorzio estimate in Puglia and 23.3% in Sicily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8991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3300"/>
                </a:solidFill>
                <a:latin typeface="Times New Roman"/>
                <a:ea typeface="Arial Unicode MS"/>
              </a:rPr>
              <a:t>Alternatives to direct tabul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7631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One procedure for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ducing the risk of bias due to under-coverage of registers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voiding double data acquisi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Is the following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ampling farms from a complete and updated list and performing record linkage with the register for capturing data corresponding to farms selected from the lis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f the register is unreliable for some variables, related data have to be collected through interviews as well as data not found in the register due to record linkage difficulti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cc99"/>
                </a:solidFill>
                <a:latin typeface="Times New Roman"/>
                <a:ea typeface="Arial Unicode MS"/>
              </a:rPr>
              <a:t>Combined use of various register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mproves the coverage of the population and data qualit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llows to describe the socio-economic situation of rural household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t doesn’t solve all problems due to under-coverage and incorrect declaration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66"/>
                </a:solidFill>
                <a:latin typeface="Times New Roman"/>
                <a:ea typeface="Arial Unicode MS"/>
              </a:rPr>
              <a:t>Statistical methodological work to be done is very heav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3300"/>
                </a:solidFill>
                <a:latin typeface="Times New Roman"/>
                <a:ea typeface="Arial"/>
              </a:rPr>
              <a:t>Calibration estimato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obabilistic sample survey whose efficiency is improved by the use of register data as auxiliary variable in calibration estim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Improved efficiency allows to reach the same precision reducing sample size, survey costs and response bur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GRIT 2000, IACS data as auxiliary variable in regression estimator CV reduced from 4.8% to 1.3% in Puglia and from 5.9% to 3.0% in Sicily. (Landsat TM data reduced CVs to 2.7% and 5.6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Times New Roman"/>
                <a:ea typeface="Arial Unicode MS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gister data included in the estimation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duction of sample size, survey costs and respondent bu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f frame complete and without duplications no under-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ata are collected for pure statistical purp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Times New Roman"/>
                <a:ea typeface="Arial Unicode MS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sts and respondent burden higher than in direct tab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ifficulty to produce reliable estimates for small do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8991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ombined use of different fram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7631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arious incomplete registers, information included in their records is not sufficiently reliable to be directly used for statistics, thus a sample survey has to be designed to collect information through intervie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Multiple frames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reating these registers as multiple incomplete lists from which separate samples can be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wo-stage estimator combines estimates calculated on non-overlapping sample units belonging to the different frames with estimates calculated on overlapping sample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Arial Unicode MS"/>
              </a:rPr>
              <a:t>Does not require record matching of listing units of different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ome two-stage estimators need identification of identical units only in the overlap samples and some others have been developed for cases in which these units cannot be ident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Arial"/>
              </a:rPr>
              <a:t>Completeness assumption has to be made: every unit in the population of interest should belong to at least one of the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18:17:21Z</dcterms:created>
  <dc:creator>Elisabetta Carfagna</dc:creator>
  <dc:description/>
  <dc:language>en-US</dc:language>
  <cp:lastModifiedBy>CoviRo</cp:lastModifiedBy>
  <cp:lastPrinted>2001-08-14T05:54:01Z</cp:lastPrinted>
  <dcterms:modified xsi:type="dcterms:W3CDTF">2005-03-02T16:20:50Z</dcterms:modified>
  <cp:revision>438</cp:revision>
  <dc:subject/>
  <dc:title>Food Balance Sheet</dc:title>
</cp:coreProperties>
</file>