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1440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E650-0F35-4825-A21C-050F3E95FFE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90720" y="685800"/>
            <a:ext cx="4876560" cy="36576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640-4E4B-4834-BE6F-8A6880BC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E36D-EE49-4CC7-AEB1-0BBB581C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DE7A-65D4-49C3-A08F-EF496BAD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075-42D1-41D8-AEC1-C370CA17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7CEF-A7EA-42FA-822A-59280B566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3B1-B2E8-43C4-AFF8-2D6F9854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C54D-F741-4331-B175-3FBEF147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37F-ABF8-4414-85A7-BF2D1EE4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36B-F1C9-4F72-8251-C62DD8EC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6E1-D6C6-47E4-ADCF-77DF28F8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B9D-40D4-4CFE-8A01-4003E4A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FCAB-50CB-4204-B1ED-A540A413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ACD-D3D3-4C11-B896-A27595AFCF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Times New Roman"/>
                <a:ea typeface="바탕"/>
              </a:rPr>
              <a:t>List frames area frames and administrative data, are they complementary or in competition?</a:t>
            </a:r>
            <a:r>
              <a:rPr b="0" lang="en-GB" sz="3600" spc="-1" strike="noStrike">
                <a:solidFill>
                  <a:srgbClr val="ff3300"/>
                </a:solidFill>
                <a:latin typeface="Times New Roman"/>
                <a:ea typeface="굴림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3124080"/>
            <a:ext cx="8381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lisabetta Carfag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Bolog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epartment of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ia Belle Arti 41 - 40126 Bolog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fagna@stat.unibo.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Area fram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hen completeness is not guaranteed by combined use of different registers, an area frame should be adopted for avoiding bias, since an area frame is always complete and useful for a lo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The completeness of area frames suggests their use in many c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other complete frame is not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xisting list of sampling units changes very rapi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n existing frame is out of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xisting frame was obtained from a census with low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-506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multiple purpose frame is needed for estimating many different variables (agricultural, environmental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"/>
              </a:rPr>
              <a:t>Allow objective estimates of characteristics that can be observed on the ground, without inter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terials used for survey and information collected help to reduce non sampling errors in interviews and are a good basis for data imputation for non-respond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Area sample survey materials becoming cheaper and more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Combining a list and an area fra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5335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Disadvantages of area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cost of implementing the survey progra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necessity of many cartographic materia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sensitivity to outliers and instability of estima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if survey conducted through interviews and respondents live far from selected area unit, their identification may be difficult and expensive, and missing data tend to be releva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"/>
              </a:rPr>
              <a:t>Multiple frame sample survey design for avoiding instability of estimates and improving their pr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 list of very large operators and operators that produce rare item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If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this list is short, it is generally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 easy to construct and upda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Identification of the area sample units included in the list frame is needed for avoiding upwards bias of estimat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Sample units belonging to list and not to the area frame do not exist and the size of intersection domain has the size of the li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Arial"/>
              </a:rPr>
              <a:t>Approach convenient if the list contains units with large values and survey cost in the list is much lower than in area fra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Conclusions 1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533520"/>
            <a:ext cx="89913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crease of ability to handle large set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pacity of some administrative departments to collect data through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udget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Suggest to use administrative data more extensively and even to produce statistics through direct tab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ducing response burde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ducing figures for very detailed domai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owing estimation of transition over ti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However problems for producing stat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efinitions, coverage, information acquired, aims of data collection and quality control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Combined use of registers improves coverage and data quality and allows describing socio-economic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good identification variables sophisticated record linkage system are needed and a heavy statistical methodological work has to be don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ffect of imperfect match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Conclusions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Sampling farms from a complete and updated list and performing record linkage with the register for captur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Probabilistic sample survey whose efficiency is improved by the use of register data as auxiliary variable in calibration estim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mproved efficiency allows to reach the same precision reducing sample size, survey costs and response bur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ister data included in the estimation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duction of sample size,,survey costs and respondent burd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rame complete and without duplications no under-ove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are collected for pure statistical purpo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Multiple frame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oes not require record matching of listing units of the different lis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when completeness not guaranteed by the different registers, area frame area frame allows avoiding bia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multiple frame sample survey design allows to avoid instability of estimates based on an area frame and to improve their prec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Many different data on agriculture are available in the various countries in the worl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dministrative data are common almost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 some countries, a specific data collection, based on list or area frames or both, is performed for producing agricultur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Rationalization is felt as a strong n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arious non-comparabl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aintaining different data acquisition systems is ver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  <a:ea typeface="Arial Unicode MS"/>
              </a:rPr>
              <a:t>Analysis of risks, advantages, disadvantages and requirements of the use of administrative data for statistical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osal of some methods to combin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list frames, area frames and administrative data for producing accurate agricultur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Administrative data</a:t>
            </a:r>
            <a:r>
              <a:rPr b="1" lang="en-GB" sz="3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Definitions, coverage and quality depend on administrative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Acquisition regulated by law, have to be collected whatever thei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ery difficult to calculat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"/>
              </a:rPr>
              <a:t>Administrative data relevant for agricultural statistics: taxation, social insurance and subsi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raditionally used for updating a list for sample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ncrease of ability to handle large sets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apacity of some administrative departments to collect data through the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udge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Suggest to use administrative data more extensively and even to produce statistics through direct tab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dministrative data versus sample surveys</a:t>
            </a:r>
            <a:r>
              <a:rPr b="1" lang="en-GB" sz="3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Register: complete list of objects belonging to a defined objects set and with identification variables that allow to update the register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uge amount of data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ometimes purposive sample controlled to apply sa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"/>
              </a:rPr>
              <a:t>A statistical systems based on a register allow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aving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educing response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ducing figures for very detailed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stimating transition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Sample survey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opulation identified, decision about: parameters and levels of accuracy, taking into account budge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uch care devoted to data collection and qualit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fficient sample designs for reducing sampling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sadvantages of direct use of administrative data</a:t>
            </a:r>
            <a:r>
              <a:rPr b="1" lang="it-IT" sz="3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already col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information acquired is not exactly the one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collected for purposes relevant for the respo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coverag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ften objects in the registers are partly statistical units of the population partly something 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82320" indent="-376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tudy in Sweden: only 79% of farms have a one to one matc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with the IACS register (cre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uropean agricultural subsid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6,4% have a one to many or many to many match and14.6% of farms have no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601"/>
              </a:spcBef>
              <a:buClr>
                <a:srgbClr val="00cc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incompleteness of data inflates the risk of bias for some cro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(in Sweden about 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n clear dynamics can be generated by contr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parability over time is influenced by change coverag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Errors in administrative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rect tabulation suggested if sum of values presented by all objects in register is an unbiased estimator of the total of a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stimator applied to data affected by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E.g. IACS declarations for a crop </a:t>
            </a:r>
            <a:r>
              <a:rPr b="0" i="1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c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are affec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mmission errors (some parcels declared as covered by crop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e covered by another crop or their surface is infla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omission errors (some parcels covered by crop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are not included in IACS declarations or their surface is less than the tru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If commission and omission errors compensate, sum of declarations for crop </a:t>
            </a:r>
            <a:r>
              <a:rPr b="0" i="1" lang="en-GB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c</a:t>
            </a: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  unbiased estimator of tot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ACS Purposive sampling;for detecting irregularities, 2003, Italian level, durum wheat error 3.5% of controlle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mmission errors 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7.8% of the sum of declarations in Puglia and 8.4% in Sic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"/>
              </a:rPr>
              <a:t>Omission error: 13.9% of ITA Consorzio estimate in Puglia and 23.3% in Sicily</a:t>
            </a: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Alternatives to direct tab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One procedure for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ducing the risk of bias due to under-coverage of registers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voiding double data acquisi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Is the following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ampling farms from a complete and updated list and performing record linkage with the register for capturing data corresponding to farms selected from the li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the register is unreliable for some variables, related data have to be collected through interviews as well as data not found in the register due to record linkage difficult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Combined use of various registe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mproves the coverage of the population and data qua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llows to describe the socio-economic situation of rural househol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t doesn’t solve all problems due to under-coverage and incorrect declaration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Statistical methodological work to be done is very heav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Arial"/>
              </a:rPr>
              <a:t>Calibration estimato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763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Probabilistic sample survey whose efficiency is improved by the use of register data as auxiliary variable in calibration estim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Improved efficiency allows to reach the same precision reducing sample size, survey costs and response bu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AGRIT 2000, IACS data as auxiliary variable in regression estimator CV reduced from 4.8% to 1.3% in Puglia and from 5.9% to 3.0% in Sicily. (Landsat TM data reduced CVs to 2.7% and 5.6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gister data included in the estimation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reduction of sample size, survey costs and respondent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f frame complete and without duplications no under-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ata are collected for pure statistical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osts and respondent burden higher than in direct tab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ifficulty to produce reliable estimates for small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-7668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mbined use of different fram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7631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arious incomplete registers, information included in their records is not sufficiently reliable to be directly used for statistics, thus a sample survey has to be designed to collect information through intervie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Arial Unicode MS"/>
              </a:rPr>
              <a:t>Multiple frames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reating these registers as multiple incomplete lists from which separate samples can be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wo-stage estimator combines estimates calculated on non-overlapping sample units belonging to the different frames with estimates calculated on overlapping sample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Does not require record matching of listing units of different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ome two-stage estimators need identification of identical units only in the overlap samples and some others have been developed for cases in which these units cannot be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Arial"/>
              </a:rPr>
              <a:t>Completeness assumption has to be made: every unit in the population of interest should belong to at least one of th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8:17:21Z</dcterms:created>
  <dc:creator>Elisabetta Carfagna</dc:creator>
  <dc:description/>
  <dc:language>en-US</dc:language>
  <cp:lastModifiedBy>CoviRo</cp:lastModifiedBy>
  <cp:lastPrinted>2001-08-14T05:54:01Z</cp:lastPrinted>
  <dcterms:modified xsi:type="dcterms:W3CDTF">2005-03-02T16:20:50Z</dcterms:modified>
  <cp:revision>438</cp:revision>
  <dc:subject/>
  <dc:title>Food Balance Sheet</dc:title>
</cp:coreProperties>
</file>