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1239500" cy="8570913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30080"/>
            <a:ext cx="4781520" cy="36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4A0-047B-4803-969A-124A67BBA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038240" y="730080"/>
            <a:ext cx="4781520" cy="36468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762B-5311-4DA3-B51E-1B26F5D4D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2350-705F-4F39-9E79-8DDCA5D30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A1AE-7398-479A-992E-C3D0266C1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232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0232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0123-0441-4FC2-9BC4-3E0B9E555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B821-DCB6-45E1-B910-3577DB75A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5E11-D0AD-4E94-9003-7FF442E95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2A09-9EEA-4A25-B63A-577451575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FABB-5A46-42FE-AEC2-86D4D5765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600" y="533520"/>
            <a:ext cx="9559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9507-229C-4325-8125-365A098B0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5905-FBB4-47F7-BD6E-52B876A45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22ED-B0E2-4231-BBAB-B0632C18D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95C4-ED48-43D6-A0A3-23FC439B0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360" y="8001000"/>
            <a:ext cx="687240" cy="571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A8FD599F-79D2-40E1-9373-9CE5572BF0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8001000"/>
            <a:ext cx="9066240" cy="57168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%20CSP" descr=""/>
          <p:cNvPicPr/>
          <p:nvPr/>
        </p:nvPicPr>
        <p:blipFill>
          <a:blip r:embed="rId2"/>
          <a:stretch/>
        </p:blipFill>
        <p:spPr>
          <a:xfrm>
            <a:off x="10666440" y="8001000"/>
            <a:ext cx="541440" cy="5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2635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Karlis.Zeila@csb.gov.lv" TargetMode="External"/><Relationship Id="rId2" Type="http://schemas.openxmlformats.org/officeDocument/2006/relationships/hyperlink" Target="mailto:Karlis.Zeila@csb.gov.lv" TargetMode="External"/><Relationship Id="rId3" Type="http://schemas.openxmlformats.org/officeDocument/2006/relationships/hyperlink" Target="mailto:Karlis.Zeila@csb.gov.lv" TargetMode="External"/><Relationship Id="rId4" Type="http://schemas.openxmlformats.org/officeDocument/2006/relationships/hyperlink" Target="mailto:Karlis.Zeila@csb.gov.lv" TargetMode="External"/><Relationship Id="rId5" Type="http://schemas.openxmlformats.org/officeDocument/2006/relationships/hyperlink" Target="mailto:Karlis.Zeila@csb.gov.lv" TargetMode="External"/><Relationship Id="rId6" Type="http://schemas.openxmlformats.org/officeDocument/2006/relationships/hyperlink" Target="mailto:Karlis.Zeila@csb.gov.lv" TargetMode="External"/><Relationship Id="rId7" Type="http://schemas.openxmlformats.org/officeDocument/2006/relationships/hyperlink" Target="mailto:Karlis.Zeila@csb.gov.lv" TargetMode="External"/><Relationship Id="rId8" Type="http://schemas.openxmlformats.org/officeDocument/2006/relationships/hyperlink" Target="mailto:Karlis.Zeila@csb.gov.lv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%20CSP" descr=""/>
          <p:cNvPicPr/>
          <p:nvPr/>
        </p:nvPicPr>
        <p:blipFill>
          <a:blip r:embed="rId1"/>
          <a:stretch/>
        </p:blipFill>
        <p:spPr>
          <a:xfrm>
            <a:off x="10665000" y="7962840"/>
            <a:ext cx="57456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962840"/>
            <a:ext cx="10666440" cy="6098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3920" y="1523520"/>
            <a:ext cx="7846920" cy="632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etadata Driven 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ntegrated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tatistical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CSB of Latv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y Karlis Zeila Vice President CSB of La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EXSAI, Cancun, November 2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134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666633"/>
                </a:solidFill>
                <a:latin typeface="Times New Roman"/>
              </a:rPr>
              <a:t>Structure of macrodata (statistics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514600"/>
            <a:ext cx="967572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stical characteristic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4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 = O(t).V(t).f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is an object characteristics;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is a time parameter,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is a aggregation function 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,count,average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tc) summarizing the true value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the objects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(t)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876920"/>
            <a:ext cx="9142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structure for macrodata is referred in metadata base to as box structure or “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fa-beta-gamma-tau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” structure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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data interchange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alf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refers to the selection property of object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O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summarized values of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gamm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crossclassifying variables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au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time parameter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5238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crodata are the result of estimation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ggregation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a set of microdata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Structure of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Surveys 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questionnaires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1043928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rv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escribed in the Metadata ba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survey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ll b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naire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valid for at least one ye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 and/or layout do not change, then current version and it description in Metadata base is usable for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276720"/>
            <a:ext cx="1028844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rvey contains one or mor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entry tab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hapters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oul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an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ble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mbe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ws and columns or table wit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 number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mber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um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181480"/>
            <a:ext cx="104407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each chapt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tadata ba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ir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des and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information is necessary for automatic data entry application gener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ta validation e.t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400800"/>
            <a:ext cx="1051416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tep in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and layout description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Cells are smallest data unit in survey data processing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reated 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 and colum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survey version side 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indicators and attributes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BaltAvantGardeBook"/>
                <a:ea typeface="Times New Roman"/>
              </a:rPr>
              <a:t>Example of agricultural questionnaire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7560"/>
            <a:ext cx="1123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altAvantGardeBook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971800"/>
            <a:ext cx="9675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2960" y="2971800"/>
            <a:ext cx="990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14440" y="1192320"/>
          <a:ext cx="661032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192320"/>
                    <a:ext cx="661032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107427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Structure of agricultural statistics questionnaire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example - fixed tab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701028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Questionnaire, index, code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espondents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ode, name and  addres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iod (year, quarter, month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chap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2362320"/>
          <a:ext cx="10439280" cy="5491080"/>
        </p:xfrm>
        <a:graphic>
          <a:graphicData uri="http://schemas.openxmlformats.org/drawingml/2006/table">
            <a:tbl>
              <a:tblPr/>
              <a:tblGrid>
                <a:gridCol w="3295800"/>
                <a:gridCol w="936360"/>
                <a:gridCol w="1495440"/>
                <a:gridCol w="1498680"/>
                <a:gridCol w="1612800"/>
                <a:gridCol w="1600200"/>
              </a:tblGrid>
              <a:tr h="13716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al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w code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ize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nnes)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ized to Proces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nnes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m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SD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D/t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 products, tota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010, 2020, 2030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04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</a:tr>
              <a:tr h="7999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al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6019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548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 crop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3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952880" y="4876920"/>
            <a:ext cx="1013040" cy="768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efe3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[201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129528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3920" y="1585800"/>
            <a:ext cx="2016360" cy="630360"/>
          </a:xfrm>
          <a:prstGeom prst="borderCallout1">
            <a:avLst>
              <a:gd name="adj1" fmla="val 18750"/>
              <a:gd name="adj2" fmla="val -8333"/>
              <a:gd name="adj3" fmla="val 552138"/>
              <a:gd name="adj4" fmla="val -31731"/>
            </a:avLst>
          </a:prstGeom>
          <a:solidFill>
            <a:srgbClr val="ff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NDICATOR 1  +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0960" y="685800"/>
            <a:ext cx="331452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59" y="12173"/>
                </a:moveTo>
                <a:lnTo>
                  <a:pt x="-497" y="1620"/>
                </a:lnTo>
              </a:path>
              <a:path w="21600" h="21600">
                <a:moveTo>
                  <a:pt x="-497" y="0"/>
                </a:moveTo>
                <a:lnTo>
                  <a:pt x="-497" y="21600"/>
                </a:lnTo>
              </a:path>
            </a:pathLst>
          </a:cu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data repositor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common table of statistical indicators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able of attributes (classifications)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table of creat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2160" y="3505320"/>
            <a:ext cx="4039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83080" y="48765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69360" y="6208920"/>
            <a:ext cx="25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A t t r i b u t e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0760" y="3429000"/>
            <a:ext cx="25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ff6600"/>
                </a:solidFill>
                <a:latin typeface="Times New Roman"/>
              </a:rPr>
              <a:t>I n d i c a t  o r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1. Data matrix -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ixed number of Rows (3) and variable number o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lumn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760" y="1676520"/>
            <a:ext cx="10783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conomical indicators of the economic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9440" y="2209680"/>
            <a:ext cx="10365840" cy="4419360"/>
            <a:chOff x="379440" y="2209680"/>
            <a:chExt cx="10365840" cy="4419360"/>
          </a:xfrm>
        </p:grpSpPr>
        <p:grpSp>
          <p:nvGrpSpPr>
            <p:cNvPr id="184" name=""/>
            <p:cNvGrpSpPr/>
            <p:nvPr/>
          </p:nvGrpSpPr>
          <p:grpSpPr>
            <a:xfrm>
              <a:off x="387360" y="2214360"/>
              <a:ext cx="10348200" cy="4409280"/>
              <a:chOff x="387360" y="2214360"/>
              <a:chExt cx="10348200" cy="44092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87360" y="2214360"/>
                <a:ext cx="2957400" cy="938160"/>
                <a:chOff x="387360" y="2214360"/>
                <a:chExt cx="2957400" cy="9381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17960" y="2214360"/>
                  <a:ext cx="28954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 head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87360" y="2214360"/>
                  <a:ext cx="295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345120" y="2214360"/>
                <a:ext cx="809280" cy="938160"/>
                <a:chOff x="3345120" y="2214360"/>
                <a:chExt cx="809280" cy="938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375000" y="2214360"/>
                  <a:ext cx="7488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’s 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345120" y="2214360"/>
                  <a:ext cx="8092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154760" y="2214360"/>
                <a:ext cx="1517760" cy="938160"/>
                <a:chOff x="4154760" y="2214360"/>
                <a:chExt cx="1517760" cy="93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185360" y="2214360"/>
                  <a:ext cx="1456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54760" y="2214360"/>
                  <a:ext cx="15177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672880" y="2214360"/>
                <a:ext cx="1161720" cy="938160"/>
                <a:chOff x="5672880" y="2214360"/>
                <a:chExt cx="1161720" cy="938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702760" y="2214360"/>
                  <a:ext cx="11012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7288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35320" y="2214360"/>
                <a:ext cx="1162080" cy="938160"/>
                <a:chOff x="6835320" y="2214360"/>
                <a:chExt cx="1162080" cy="9381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65920" y="221436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35320" y="221436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997760" y="2214360"/>
                <a:ext cx="570600" cy="938160"/>
                <a:chOff x="7997760" y="2214360"/>
                <a:chExt cx="570600" cy="938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027640" y="221436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97760" y="221436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8569080" y="2214360"/>
                <a:ext cx="1162080" cy="938160"/>
                <a:chOff x="8569080" y="2214360"/>
                <a:chExt cx="1162080" cy="938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599680" y="221436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69080" y="221436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9731880" y="2214360"/>
                <a:ext cx="1003680" cy="938160"/>
                <a:chOff x="9731880" y="2214360"/>
                <a:chExt cx="1003680" cy="938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9761760" y="2214360"/>
                  <a:ext cx="943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731880" y="2214360"/>
                  <a:ext cx="10036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7360" y="3152880"/>
                <a:ext cx="2957400" cy="938160"/>
                <a:chOff x="387360" y="3152880"/>
                <a:chExt cx="2957400" cy="938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7960" y="3152880"/>
                  <a:ext cx="28954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87360" y="3152880"/>
                  <a:ext cx="295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345120" y="3152880"/>
                <a:ext cx="809280" cy="938160"/>
                <a:chOff x="3345120" y="3152880"/>
                <a:chExt cx="809280" cy="938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375000" y="3152880"/>
                  <a:ext cx="7488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345120" y="3152880"/>
                  <a:ext cx="8092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154760" y="3152880"/>
                <a:ext cx="1517760" cy="938160"/>
                <a:chOff x="4154760" y="3152880"/>
                <a:chExt cx="1517760" cy="938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85360" y="3152880"/>
                  <a:ext cx="1456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9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54760" y="3152880"/>
                  <a:ext cx="15177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672880" y="3152880"/>
                <a:ext cx="1161720" cy="938160"/>
                <a:chOff x="5672880" y="3152880"/>
                <a:chExt cx="1161720" cy="938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702760" y="3152880"/>
                  <a:ext cx="11012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7288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35320" y="3152880"/>
                <a:ext cx="1162080" cy="938160"/>
                <a:chOff x="6835320" y="3152880"/>
                <a:chExt cx="1162080" cy="938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865920" y="315288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2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35320" y="315288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997760" y="3152880"/>
                <a:ext cx="570600" cy="938160"/>
                <a:chOff x="7997760" y="3152880"/>
                <a:chExt cx="570600" cy="938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27640" y="315288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997760" y="315288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569080" y="3152880"/>
                <a:ext cx="1162080" cy="938160"/>
                <a:chOff x="8569080" y="3152880"/>
                <a:chExt cx="1162080" cy="938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599680" y="315288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-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569080" y="315288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9731880" y="3152880"/>
                <a:ext cx="1003680" cy="938160"/>
                <a:chOff x="9731880" y="3152880"/>
                <a:chExt cx="1003680" cy="938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9761760" y="3152880"/>
                  <a:ext cx="943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n 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731880" y="3152880"/>
                  <a:ext cx="10036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87360" y="4091400"/>
                <a:ext cx="2957400" cy="843840"/>
                <a:chOff x="387360" y="4091400"/>
                <a:chExt cx="2957400" cy="843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17960" y="4091400"/>
                  <a:ext cx="289548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employ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7360" y="4091400"/>
                  <a:ext cx="2957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345120" y="4091400"/>
                <a:ext cx="809280" cy="843840"/>
                <a:chOff x="3345120" y="4091400"/>
                <a:chExt cx="809280" cy="84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75000" y="4091400"/>
                  <a:ext cx="74880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45120" y="4091400"/>
                  <a:ext cx="80928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54760" y="4091400"/>
                <a:ext cx="1517760" cy="843840"/>
                <a:chOff x="4154760" y="4091400"/>
                <a:chExt cx="1517760" cy="843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154760" y="4091400"/>
                  <a:ext cx="151776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4154760" y="4091400"/>
                  <a:ext cx="1517400" cy="843480"/>
                  <a:chOff x="4154760" y="4091400"/>
                  <a:chExt cx="1517400" cy="8434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4185360" y="4091400"/>
                    <a:ext cx="145584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154760" y="4091400"/>
                    <a:ext cx="151740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672880" y="4091400"/>
                <a:ext cx="1161720" cy="843840"/>
                <a:chOff x="5672880" y="4091400"/>
                <a:chExt cx="1161720" cy="8438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67288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672880" y="4091400"/>
                  <a:ext cx="1161360" cy="843480"/>
                  <a:chOff x="5672880" y="4091400"/>
                  <a:chExt cx="1161360" cy="8434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702760" y="4091400"/>
                    <a:ext cx="11008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7288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6835320" y="4091400"/>
                <a:ext cx="1162080" cy="843840"/>
                <a:chOff x="6835320" y="4091400"/>
                <a:chExt cx="1162080" cy="8438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835320" y="4091400"/>
                  <a:ext cx="11620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6835320" y="4091400"/>
                  <a:ext cx="1161720" cy="843480"/>
                  <a:chOff x="6835320" y="4091400"/>
                  <a:chExt cx="1161720" cy="8434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6865920" y="4091400"/>
                    <a:ext cx="11001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835320" y="4091400"/>
                    <a:ext cx="11617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997760" y="4091400"/>
                <a:ext cx="570600" cy="843840"/>
                <a:chOff x="7997760" y="4091400"/>
                <a:chExt cx="570600" cy="843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97760" y="4091400"/>
                  <a:ext cx="5706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7997760" y="4091400"/>
                  <a:ext cx="570240" cy="843480"/>
                  <a:chOff x="7997760" y="4091400"/>
                  <a:chExt cx="570240" cy="8434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8027640" y="4091400"/>
                    <a:ext cx="5097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997760" y="4091400"/>
                    <a:ext cx="5702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8569080" y="4091400"/>
                <a:ext cx="1162080" cy="843840"/>
                <a:chOff x="8569080" y="4091400"/>
                <a:chExt cx="1162080" cy="843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8569080" y="4091400"/>
                  <a:ext cx="11620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8569080" y="4091400"/>
                  <a:ext cx="1161720" cy="843480"/>
                  <a:chOff x="8569080" y="4091400"/>
                  <a:chExt cx="1161720" cy="843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8599680" y="4091400"/>
                    <a:ext cx="11001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569080" y="4091400"/>
                    <a:ext cx="11617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9731880" y="4091400"/>
                <a:ext cx="1003680" cy="843840"/>
                <a:chOff x="9731880" y="4091400"/>
                <a:chExt cx="1003680" cy="843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9731880" y="4091400"/>
                  <a:ext cx="10036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9731880" y="4091400"/>
                  <a:ext cx="1003320" cy="843480"/>
                  <a:chOff x="9731880" y="4091400"/>
                  <a:chExt cx="1003320" cy="8434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9761760" y="4091400"/>
                    <a:ext cx="94284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9731880" y="4091400"/>
                    <a:ext cx="10033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387360" y="4935960"/>
                <a:ext cx="2957400" cy="843480"/>
                <a:chOff x="387360" y="4935960"/>
                <a:chExt cx="2957400" cy="843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17960" y="4935960"/>
                  <a:ext cx="289548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t turnov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87360" y="4935960"/>
                  <a:ext cx="295740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345120" y="4935960"/>
                <a:ext cx="809280" cy="843480"/>
                <a:chOff x="3345120" y="4935960"/>
                <a:chExt cx="809280" cy="843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375000" y="4935960"/>
                  <a:ext cx="7488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345120" y="4935960"/>
                  <a:ext cx="80928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54760" y="4935960"/>
                <a:ext cx="1517760" cy="843480"/>
                <a:chOff x="4154760" y="4935960"/>
                <a:chExt cx="1517760" cy="843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54760" y="4935960"/>
                  <a:ext cx="15177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4154760" y="4935960"/>
                  <a:ext cx="1517400" cy="843120"/>
                  <a:chOff x="4154760" y="4935960"/>
                  <a:chExt cx="1517400" cy="8431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185360" y="4935960"/>
                    <a:ext cx="1455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154760" y="4935960"/>
                    <a:ext cx="15174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5672880" y="4935960"/>
                <a:ext cx="1161720" cy="843480"/>
                <a:chOff x="5672880" y="4935960"/>
                <a:chExt cx="1161720" cy="843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67288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5672880" y="4935960"/>
                  <a:ext cx="1161360" cy="843120"/>
                  <a:chOff x="5672880" y="4935960"/>
                  <a:chExt cx="1161360" cy="8431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5702760" y="4935960"/>
                    <a:ext cx="11008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67288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6835320" y="4935960"/>
                <a:ext cx="1162080" cy="843480"/>
                <a:chOff x="6835320" y="4935960"/>
                <a:chExt cx="1162080" cy="843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835320" y="49359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6835320" y="4935960"/>
                  <a:ext cx="1161720" cy="843120"/>
                  <a:chOff x="6835320" y="4935960"/>
                  <a:chExt cx="1161720" cy="843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865920" y="49359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835320" y="49359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7997760" y="4935960"/>
                <a:ext cx="570600" cy="843480"/>
                <a:chOff x="7997760" y="4935960"/>
                <a:chExt cx="570600" cy="8434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997760" y="49359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7997760" y="4935960"/>
                  <a:ext cx="570240" cy="843120"/>
                  <a:chOff x="7997760" y="4935960"/>
                  <a:chExt cx="570240" cy="843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27640" y="49359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997760" y="49359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8569080" y="4935960"/>
                <a:ext cx="1162080" cy="843480"/>
                <a:chOff x="8569080" y="4935960"/>
                <a:chExt cx="1162080" cy="84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569080" y="49359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569080" y="4935960"/>
                  <a:ext cx="1161720" cy="843120"/>
                  <a:chOff x="8569080" y="4935960"/>
                  <a:chExt cx="1161720" cy="8431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8599680" y="49359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569080" y="49359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9731880" y="4935960"/>
                <a:ext cx="1003680" cy="843480"/>
                <a:chOff x="9731880" y="4935960"/>
                <a:chExt cx="1003680" cy="843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731880" y="4935960"/>
                  <a:ext cx="10036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9731880" y="4935960"/>
                  <a:ext cx="1003320" cy="843120"/>
                  <a:chOff x="9731880" y="4935960"/>
                  <a:chExt cx="1003320" cy="8431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9761760" y="4935960"/>
                    <a:ext cx="942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731880" y="4935960"/>
                    <a:ext cx="10033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87360" y="5780160"/>
                <a:ext cx="2957400" cy="843480"/>
                <a:chOff x="387360" y="5780160"/>
                <a:chExt cx="2957400" cy="843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17960" y="5780160"/>
                  <a:ext cx="289548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 inco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7360" y="5780160"/>
                  <a:ext cx="295740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345120" y="5780160"/>
                <a:ext cx="809280" cy="843480"/>
                <a:chOff x="3345120" y="5780160"/>
                <a:chExt cx="809280" cy="843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375000" y="5780160"/>
                  <a:ext cx="7488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345120" y="5780160"/>
                  <a:ext cx="80928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54760" y="5780160"/>
                <a:ext cx="1517760" cy="843480"/>
                <a:chOff x="4154760" y="5780160"/>
                <a:chExt cx="1517760" cy="843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54760" y="5780160"/>
                  <a:ext cx="15177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4154760" y="5780160"/>
                  <a:ext cx="1517400" cy="843120"/>
                  <a:chOff x="4154760" y="5780160"/>
                  <a:chExt cx="1517400" cy="8431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4185360" y="5780160"/>
                    <a:ext cx="1455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154760" y="5780160"/>
                    <a:ext cx="15174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" name=""/>
              <p:cNvGrpSpPr/>
              <p:nvPr/>
            </p:nvGrpSpPr>
            <p:grpSpPr>
              <a:xfrm>
                <a:off x="5672880" y="5780160"/>
                <a:ext cx="1161720" cy="843480"/>
                <a:chOff x="5672880" y="5780160"/>
                <a:chExt cx="1161720" cy="843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67288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5672880" y="5780160"/>
                  <a:ext cx="1161360" cy="843120"/>
                  <a:chOff x="5672880" y="5780160"/>
                  <a:chExt cx="1161360" cy="8431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702760" y="5780160"/>
                    <a:ext cx="11008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7288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6835320" y="5780160"/>
                <a:ext cx="1162080" cy="843480"/>
                <a:chOff x="6835320" y="5780160"/>
                <a:chExt cx="1162080" cy="843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835320" y="57801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6835320" y="5780160"/>
                  <a:ext cx="1161720" cy="843120"/>
                  <a:chOff x="6835320" y="5780160"/>
                  <a:chExt cx="1161720" cy="8431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865920" y="57801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835320" y="57801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7997760" y="5780160"/>
                <a:ext cx="570600" cy="843480"/>
                <a:chOff x="7997760" y="5780160"/>
                <a:chExt cx="570600" cy="843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997760" y="57801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7997760" y="5780160"/>
                  <a:ext cx="570240" cy="843120"/>
                  <a:chOff x="7997760" y="5780160"/>
                  <a:chExt cx="570240" cy="8431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27640" y="57801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997760" y="57801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" name=""/>
              <p:cNvGrpSpPr/>
              <p:nvPr/>
            </p:nvGrpSpPr>
            <p:grpSpPr>
              <a:xfrm>
                <a:off x="8569080" y="5780160"/>
                <a:ext cx="1162080" cy="843480"/>
                <a:chOff x="8569080" y="5780160"/>
                <a:chExt cx="1162080" cy="843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569080" y="57801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8569080" y="5780160"/>
                  <a:ext cx="1161720" cy="843120"/>
                  <a:chOff x="8569080" y="5780160"/>
                  <a:chExt cx="1161720" cy="8431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8599680" y="57801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8569080" y="57801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9731880" y="5780160"/>
                <a:ext cx="1003680" cy="843480"/>
                <a:chOff x="9731880" y="5780160"/>
                <a:chExt cx="1003680" cy="8434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9731880" y="5780160"/>
                  <a:ext cx="10036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9731880" y="5780160"/>
                  <a:ext cx="1003320" cy="843120"/>
                  <a:chOff x="9731880" y="5780160"/>
                  <a:chExt cx="1003320" cy="8431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761760" y="5780160"/>
                    <a:ext cx="942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731880" y="5780160"/>
                    <a:ext cx="10033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1" name=""/>
            <p:cNvSpPr/>
            <p:nvPr/>
          </p:nvSpPr>
          <p:spPr>
            <a:xfrm>
              <a:off x="379440" y="2209680"/>
              <a:ext cx="10365840" cy="441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Data matrix -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number of Columns (3) and variable number of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w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170000"/>
            <a:ext cx="1070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1600200"/>
            <a:ext cx="10058040" cy="5943240"/>
            <a:chOff x="457200" y="1600200"/>
            <a:chExt cx="10058040" cy="5943240"/>
          </a:xfrm>
        </p:grpSpPr>
        <p:grpSp>
          <p:nvGrpSpPr>
            <p:cNvPr id="345" name=""/>
            <p:cNvGrpSpPr/>
            <p:nvPr/>
          </p:nvGrpSpPr>
          <p:grpSpPr>
            <a:xfrm>
              <a:off x="464760" y="1605600"/>
              <a:ext cx="10041120" cy="5930640"/>
              <a:chOff x="464760" y="1605600"/>
              <a:chExt cx="10041120" cy="59306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64760" y="1605600"/>
                <a:ext cx="2041560" cy="1230480"/>
                <a:chOff x="464760" y="1605600"/>
                <a:chExt cx="2041560" cy="123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792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 of produc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647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506680" y="1605600"/>
                <a:ext cx="2040840" cy="1230480"/>
                <a:chOff x="2506680" y="1605600"/>
                <a:chExt cx="2040840" cy="123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20440" y="1605600"/>
                  <a:ext cx="181296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HS</a:t>
                  </a: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r 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SITC</a:t>
                  </a: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506680" y="1605600"/>
                  <a:ext cx="204084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547880" y="1605600"/>
                <a:ext cx="2041560" cy="1230480"/>
                <a:chOff x="4547880" y="1605600"/>
                <a:chExt cx="2041560" cy="123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66236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4788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90160" y="1605600"/>
                <a:ext cx="2041560" cy="1230480"/>
                <a:chOff x="6590160" y="1605600"/>
                <a:chExt cx="2041560" cy="1230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7046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il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901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8632080" y="1605600"/>
                <a:ext cx="1873800" cy="1230480"/>
                <a:chOff x="8632080" y="1605600"/>
                <a:chExt cx="1873800" cy="1230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745840" y="1605600"/>
                  <a:ext cx="16452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come in 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US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632080" y="1605600"/>
                  <a:ext cx="187380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64760" y="2836440"/>
                <a:ext cx="2041560" cy="783000"/>
                <a:chOff x="464760" y="2836440"/>
                <a:chExt cx="2041560" cy="78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792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647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506680" y="2836440"/>
                <a:ext cx="2040840" cy="783000"/>
                <a:chOff x="2506680" y="2836440"/>
                <a:chExt cx="2040840" cy="783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620440" y="28364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506680" y="28364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547880" y="2836440"/>
                <a:ext cx="2041560" cy="783000"/>
                <a:chOff x="4547880" y="2836440"/>
                <a:chExt cx="2041560" cy="783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66236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4788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590160" y="2836440"/>
                <a:ext cx="2041560" cy="783000"/>
                <a:chOff x="6590160" y="2836440"/>
                <a:chExt cx="2041560" cy="783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7046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5901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8632080" y="2836440"/>
                <a:ext cx="1873800" cy="783000"/>
                <a:chOff x="8632080" y="2836440"/>
                <a:chExt cx="1873800" cy="7830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8745840" y="2836440"/>
                  <a:ext cx="16452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632080" y="2836440"/>
                  <a:ext cx="1873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64760" y="3619800"/>
                <a:ext cx="2041560" cy="783000"/>
                <a:chOff x="464760" y="3619800"/>
                <a:chExt cx="2041560" cy="783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79240" y="361980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4760" y="361980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506680" y="3619800"/>
                <a:ext cx="2040840" cy="783000"/>
                <a:chOff x="2506680" y="3619800"/>
                <a:chExt cx="2040840" cy="783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620440" y="361980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23456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506680" y="361980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547880" y="3619800"/>
                <a:ext cx="2041560" cy="783000"/>
                <a:chOff x="4547880" y="3619800"/>
                <a:chExt cx="2041560" cy="783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54788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4547880" y="3619800"/>
                  <a:ext cx="2041200" cy="782640"/>
                  <a:chOff x="4547880" y="3619800"/>
                  <a:chExt cx="2041200" cy="7826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466236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54788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6590160" y="3619800"/>
                <a:ext cx="2041560" cy="783000"/>
                <a:chOff x="6590160" y="3619800"/>
                <a:chExt cx="2041560" cy="783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59016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590160" y="3619800"/>
                  <a:ext cx="2041200" cy="782640"/>
                  <a:chOff x="6590160" y="3619800"/>
                  <a:chExt cx="2041200" cy="782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70464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59016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8632080" y="3619800"/>
                <a:ext cx="1873800" cy="783000"/>
                <a:chOff x="8632080" y="3619800"/>
                <a:chExt cx="1873800" cy="783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2080" y="361980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8632080" y="3619800"/>
                  <a:ext cx="1873440" cy="782640"/>
                  <a:chOff x="8632080" y="3619800"/>
                  <a:chExt cx="1873440" cy="7826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8745840" y="361980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632080" y="361980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464760" y="4403160"/>
                <a:ext cx="2041560" cy="783000"/>
                <a:chOff x="464760" y="4403160"/>
                <a:chExt cx="2041560" cy="7830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79240" y="440316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64760" y="440316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506680" y="4403160"/>
                <a:ext cx="2040840" cy="783000"/>
                <a:chOff x="2506680" y="4403160"/>
                <a:chExt cx="2040840" cy="783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620440" y="440316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3456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06680" y="440316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547880" y="4403160"/>
                <a:ext cx="2041560" cy="783000"/>
                <a:chOff x="4547880" y="4403160"/>
                <a:chExt cx="2041560" cy="783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54788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4547880" y="4403160"/>
                  <a:ext cx="2041200" cy="782640"/>
                  <a:chOff x="4547880" y="4403160"/>
                  <a:chExt cx="2041200" cy="7826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66236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54788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6590160" y="4403160"/>
                <a:ext cx="2041560" cy="783000"/>
                <a:chOff x="6590160" y="4403160"/>
                <a:chExt cx="2041560" cy="783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59016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6590160" y="4403160"/>
                  <a:ext cx="2041200" cy="782640"/>
                  <a:chOff x="6590160" y="4403160"/>
                  <a:chExt cx="2041200" cy="7826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670464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59016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8632080" y="4403160"/>
                <a:ext cx="1873800" cy="783000"/>
                <a:chOff x="8632080" y="4403160"/>
                <a:chExt cx="1873800" cy="78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8632080" y="440316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8632080" y="4403160"/>
                  <a:ext cx="1873440" cy="782640"/>
                  <a:chOff x="8632080" y="4403160"/>
                  <a:chExt cx="1873440" cy="782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8745840" y="440316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8632080" y="440316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464760" y="5186520"/>
                <a:ext cx="2041560" cy="783000"/>
                <a:chOff x="464760" y="5186520"/>
                <a:chExt cx="2041560" cy="783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79240" y="518652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4760" y="518652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506680" y="5186520"/>
                <a:ext cx="2040840" cy="783000"/>
                <a:chOff x="2506680" y="5186520"/>
                <a:chExt cx="2040840" cy="78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20440" y="518652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506680" y="518652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547880" y="5186520"/>
                <a:ext cx="2041560" cy="783000"/>
                <a:chOff x="4547880" y="5186520"/>
                <a:chExt cx="2041560" cy="78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54788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4547880" y="5186520"/>
                  <a:ext cx="2041200" cy="782640"/>
                  <a:chOff x="4547880" y="5186520"/>
                  <a:chExt cx="2041200" cy="7826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466236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54788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6590160" y="5186520"/>
                <a:ext cx="2041560" cy="783000"/>
                <a:chOff x="6590160" y="5186520"/>
                <a:chExt cx="2041560" cy="7830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59016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6590160" y="5186520"/>
                  <a:ext cx="2041200" cy="782640"/>
                  <a:chOff x="6590160" y="5186520"/>
                  <a:chExt cx="2041200" cy="7826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70464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016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8632080" y="5186520"/>
                <a:ext cx="1873800" cy="783000"/>
                <a:chOff x="8632080" y="5186520"/>
                <a:chExt cx="1873800" cy="7830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632080" y="5186520"/>
                  <a:ext cx="187380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8632080" y="5186520"/>
                  <a:ext cx="1873440" cy="782640"/>
                  <a:chOff x="8632080" y="5186520"/>
                  <a:chExt cx="1873440" cy="7826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745840" y="5186520"/>
                    <a:ext cx="16448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32080" y="518652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64760" y="5969880"/>
                <a:ext cx="2041560" cy="783000"/>
                <a:chOff x="464760" y="5969880"/>
                <a:chExt cx="2041560" cy="783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79240" y="596988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4760" y="596988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2506680" y="5969880"/>
                <a:ext cx="2040840" cy="783000"/>
                <a:chOff x="2506680" y="5969880"/>
                <a:chExt cx="2040840" cy="78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620440" y="596988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5678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506680" y="596988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547880" y="5969880"/>
                <a:ext cx="2041560" cy="783000"/>
                <a:chOff x="4547880" y="5969880"/>
                <a:chExt cx="2041560" cy="783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54788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4547880" y="5969880"/>
                  <a:ext cx="2041200" cy="782640"/>
                  <a:chOff x="4547880" y="5969880"/>
                  <a:chExt cx="2041200" cy="7826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466236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54788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6590160" y="5969880"/>
                <a:ext cx="2041560" cy="783000"/>
                <a:chOff x="6590160" y="5969880"/>
                <a:chExt cx="2041560" cy="783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9016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6590160" y="5969880"/>
                  <a:ext cx="2041200" cy="782640"/>
                  <a:chOff x="6590160" y="5969880"/>
                  <a:chExt cx="2041200" cy="7826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670464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59016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8632080" y="5969880"/>
                <a:ext cx="1873800" cy="783000"/>
                <a:chOff x="8632080" y="5969880"/>
                <a:chExt cx="1873800" cy="7830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8632080" y="596988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8632080" y="5969880"/>
                  <a:ext cx="1873440" cy="782640"/>
                  <a:chOff x="8632080" y="5969880"/>
                  <a:chExt cx="1873440" cy="7826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8745840" y="596988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632080" y="596988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4760" y="6753240"/>
                <a:ext cx="2041560" cy="783000"/>
                <a:chOff x="464760" y="6753240"/>
                <a:chExt cx="2041560" cy="783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79240" y="67532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64760" y="67532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506680" y="6753240"/>
                <a:ext cx="2040840" cy="783000"/>
                <a:chOff x="2506680" y="6753240"/>
                <a:chExt cx="2040840" cy="7830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620440" y="67532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6789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506680" y="67532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547880" y="6753240"/>
                <a:ext cx="2041560" cy="783000"/>
                <a:chOff x="4547880" y="6753240"/>
                <a:chExt cx="2041560" cy="7830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54788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4547880" y="6753240"/>
                  <a:ext cx="2041200" cy="782640"/>
                  <a:chOff x="4547880" y="6753240"/>
                  <a:chExt cx="2041200" cy="7826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466236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54788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6590160" y="6753240"/>
                <a:ext cx="2041560" cy="783000"/>
                <a:chOff x="6590160" y="6753240"/>
                <a:chExt cx="2041560" cy="7830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59016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590160" y="6753240"/>
                  <a:ext cx="2041200" cy="782640"/>
                  <a:chOff x="6590160" y="6753240"/>
                  <a:chExt cx="2041200" cy="782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70464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9016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8632080" y="6753240"/>
                <a:ext cx="1873800" cy="783000"/>
                <a:chOff x="8632080" y="6753240"/>
                <a:chExt cx="1873800" cy="7830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632080" y="675324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8632080" y="6753240"/>
                  <a:ext cx="1873440" cy="782640"/>
                  <a:chOff x="8632080" y="6753240"/>
                  <a:chExt cx="1873440" cy="7826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8745840" y="675324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32080" y="675324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1" name=""/>
            <p:cNvSpPr/>
            <p:nvPr/>
          </p:nvSpPr>
          <p:spPr>
            <a:xfrm>
              <a:off x="457200" y="1600200"/>
              <a:ext cx="10058040" cy="5943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240" y="6794640"/>
            <a:ext cx="1123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reating of variabl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296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i="1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440" y="3657600"/>
            <a:ext cx="1525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5257800"/>
            <a:ext cx="4800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Region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43880" y="3657600"/>
            <a:ext cx="4076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3480" y="4191120"/>
            <a:ext cx="3808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       breakdown by kind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480" y="5257800"/>
            <a:ext cx="41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breakdown by region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7400" y="3657600"/>
            <a:ext cx="38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no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19112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Local kind of activity (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IS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9760" y="2514600"/>
            <a:ext cx="28954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18" y="-10260"/>
                </a:moveTo>
                <a:lnTo>
                  <a:pt x="-568" y="324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mension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ctor</a:t>
            </a: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s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f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560" y="152388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808000"/>
                </a:solidFill>
                <a:latin typeface="Times New Roman"/>
              </a:rPr>
              <a:t>ATTRIBUTES</a:t>
            </a:r>
            <a:r>
              <a:rPr b="1" i="1" lang="lv-LV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lv-LV" sz="1800" spc="-1" strike="noStrike">
                <a:solidFill>
                  <a:srgbClr val="808000"/>
                </a:solidFill>
                <a:latin typeface="Times New Roman"/>
              </a:rPr>
              <a:t>(CLASSIF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1600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0100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9559800" cy="685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3200" spc="-1" strike="noStrike">
                <a:solidFill>
                  <a:srgbClr val="666633"/>
                </a:solidFill>
                <a:latin typeface="Times New Roman"/>
              </a:rPr>
              <a:t>Dimensions of objects and indicators</a:t>
            </a: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lv-LV" sz="2400" spc="-1" strike="noStrike">
                <a:solidFill>
                  <a:srgbClr val="666633"/>
                </a:solidFill>
                <a:latin typeface="Times New Roman"/>
              </a:rPr>
              <a:t>(examp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724280" y="4038480"/>
          <a:ext cx="6172200" cy="12193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485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 </a:t>
                      </a:r>
                      <a:r>
                        <a:rPr b="1" lang="en-US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n breakdown </a:t>
                      </a:r>
                      <a:r>
                        <a:rPr b="1" lang="en-US" sz="2000" spc="-1" strike="noStrike" u="sng">
                          <a:solidFill>
                            <a:srgbClr val="808000"/>
                          </a:solidFill>
                          <a:uFillTx/>
                          <a:latin typeface="Times New Roman"/>
                        </a:rPr>
                        <a:t>by kind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1446120" y="5410080"/>
          <a:ext cx="3203280" cy="2438640"/>
        </p:xfrm>
        <a:graphic>
          <a:graphicData uri="http://schemas.openxmlformats.org/drawingml/2006/table">
            <a:tbl>
              <a:tblPr/>
              <a:tblGrid>
                <a:gridCol w="1144080"/>
                <a:gridCol w="2059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590920" y="4038480"/>
          <a:ext cx="2057400" cy="12193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1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, </a:t>
                      </a:r>
                      <a:r>
                        <a:rPr b="1" lang="en-AU" sz="21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rot="16200000">
            <a:off x="-171720" y="6343920"/>
            <a:ext cx="2438640" cy="5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umber of employees </a:t>
            </a: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in breakdown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Times New Roman"/>
              </a:rPr>
              <a:t>by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23623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MAIN KIND OF ACTIVITY (IS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95280" y="2590920"/>
            <a:ext cx="22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4720" y="2819520"/>
            <a:ext cx="51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WNERSHIP AND ENTERPRENERSHIP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8240" y="3048120"/>
            <a:ext cx="32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EMPLOYEES GROUP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27672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TURNOVER GROUP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33160" y="2590920"/>
            <a:ext cx="1904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67652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in dimensions (vectors) of respondents</a:t>
            </a:r>
            <a:r>
              <a:rPr b="1" lang="lv-LV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(objects </a:t>
            </a:r>
            <a:r>
              <a:rPr b="1" i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O(t)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5410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120" y="5638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640080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00"/>
                </a:solidFill>
                <a:latin typeface="Times New Roman"/>
              </a:rPr>
              <a:t>Dimensions (vectors) of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48320" y="5334120"/>
            <a:ext cx="1066680" cy="685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27680" y="5867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ff3300"/>
                </a:solidFill>
                <a:uFillTx/>
                <a:latin typeface="Times New Roman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7240" y="609480"/>
            <a:ext cx="990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808000"/>
                </a:solidFill>
                <a:latin typeface="Times New Roman"/>
              </a:rPr>
              <a:t>Integrated Metadata Driven Quasy Process Orien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838080" y="1752480"/>
          <a:ext cx="1013472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101347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 flipV="1">
            <a:off x="7086600" y="2438280"/>
            <a:ext cx="2133720" cy="3733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29200" y="1980720"/>
            <a:ext cx="365760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516040" y="1905120"/>
            <a:ext cx="6096240" cy="3124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590920" y="1828440"/>
            <a:ext cx="594360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590920" y="1828800"/>
            <a:ext cx="6021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0920" y="1828800"/>
            <a:ext cx="6021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1447920"/>
            <a:ext cx="2971800" cy="304560"/>
          </a:xfrm>
          <a:prstGeom prst="leftArrow">
            <a:avLst>
              <a:gd name="adj1" fmla="val 38537"/>
              <a:gd name="adj2" fmla="val 19474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9440" y="533160"/>
            <a:ext cx="10591920" cy="533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Metadata base link with Microdata and Macrodata bases</a:t>
            </a:r>
            <a:r>
              <a:rPr b="1" lang="en-GB" sz="2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371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2514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3657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chapters (data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4800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 rows and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94200" y="1371600"/>
            <a:ext cx="1414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1371600"/>
            <a:ext cx="1446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 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00600" y="2819520"/>
            <a:ext cx="1982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48006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ing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1320" y="4800600"/>
            <a:ext cx="22096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form for data ent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837640" y="6248520"/>
            <a:ext cx="1600200" cy="11430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296945" descr=""/>
          <p:cNvPicPr/>
          <p:nvPr/>
        </p:nvPicPr>
        <p:blipFill>
          <a:blip r:embed="rId1"/>
          <a:stretch/>
        </p:blipFill>
        <p:spPr>
          <a:xfrm>
            <a:off x="8763120" y="441972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8915400" y="6553080"/>
            <a:ext cx="15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2160" y="6400800"/>
            <a:ext cx="2058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of  data aggreg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6400800"/>
            <a:ext cx="22114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ggregation func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6172200"/>
            <a:ext cx="1677960" cy="1219320"/>
          </a:xfrm>
          <a:prstGeom prst="flowChartMagneticDisk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7240" y="6553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A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604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5320" y="2286000"/>
            <a:ext cx="3826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5120" y="2286000"/>
            <a:ext cx="3826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3061800">
            <a:off x="4862880" y="3440880"/>
            <a:ext cx="380880" cy="1423800"/>
          </a:xfrm>
          <a:prstGeom prst="downArrow">
            <a:avLst>
              <a:gd name="adj1" fmla="val 50000"/>
              <a:gd name="adj2" fmla="val 9345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3280" y="51055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448920" y="59436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8153280" y="6629040"/>
            <a:ext cx="533520" cy="304920"/>
          </a:xfrm>
          <a:prstGeom prst="rightArrow">
            <a:avLst>
              <a:gd name="adj1" fmla="val 38537"/>
              <a:gd name="adj2" fmla="val 8238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5333760" y="67057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2362320" y="6629400"/>
            <a:ext cx="458640" cy="380880"/>
          </a:xfrm>
          <a:prstGeom prst="rightArrow">
            <a:avLst>
              <a:gd name="adj1" fmla="val 38537"/>
              <a:gd name="adj2" fmla="val 5669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763120" y="1143000"/>
            <a:ext cx="1674720" cy="1143000"/>
          </a:xfrm>
          <a:prstGeom prst="flowChartMagneticDisk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12280" y="129528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 DATA B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POSI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01000" y="1752480"/>
            <a:ext cx="533520" cy="381240"/>
          </a:xfrm>
          <a:prstGeom prst="leftArrow">
            <a:avLst>
              <a:gd name="adj1" fmla="val 38333"/>
              <a:gd name="adj2" fmla="val 58893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145440" y="7467480"/>
            <a:ext cx="114156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IMPORT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9067680" y="7391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363320" y="7391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9525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system has been developed within 2,5 years (January 2000 to July 2002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evelopment has been done by outsourced company Microlink Latvia in close cooperation with the experts from CSB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00 000 Euros has been spend for the system developmen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e of the system in CSB of Latvia started transition from Stove Pipe to Process Oriented approach to statistical data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5791320" y="3276720"/>
            <a:ext cx="379440" cy="3504960"/>
          </a:xfrm>
          <a:prstGeom prst="downArrow">
            <a:avLst>
              <a:gd name="adj1" fmla="val 43750"/>
              <a:gd name="adj2" fmla="val 14257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962520"/>
            <a:ext cx="41166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16040" y="3352680"/>
            <a:ext cx="379440" cy="3276720"/>
          </a:xfrm>
          <a:prstGeom prst="downArrow">
            <a:avLst>
              <a:gd name="adj1" fmla="val 40000"/>
              <a:gd name="adj2" fmla="val 145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71800" y="3352680"/>
            <a:ext cx="382680" cy="1752840"/>
          </a:xfrm>
          <a:prstGeom prst="downArrow">
            <a:avLst>
              <a:gd name="adj1" fmla="val 40000"/>
              <a:gd name="adj2" fmla="val 11177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76640" y="6094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Data entry and valid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34520" y="5105520"/>
            <a:ext cx="15984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transfer to Micro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7440" y="2286000"/>
            <a:ext cx="1617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data ent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2209680"/>
            <a:ext cx="152568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valid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7440" y="3733920"/>
            <a:ext cx="16002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andard data entry an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22860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ing list of Respon- 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612280" y="3352680"/>
            <a:ext cx="1520640" cy="13716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63120" y="3429000"/>
            <a:ext cx="12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6705720"/>
            <a:ext cx="1371600" cy="121896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763120" y="67057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W Web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3352680"/>
            <a:ext cx="379440" cy="381240"/>
          </a:xfrm>
          <a:prstGeom prst="downArrow">
            <a:avLst>
              <a:gd name="adj1" fmla="val 38333"/>
              <a:gd name="adj2" fmla="val 619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560" y="1676520"/>
            <a:ext cx="225360" cy="380880"/>
          </a:xfrm>
          <a:prstGeom prst="downArrow">
            <a:avLst>
              <a:gd name="adj1" fmla="val 50000"/>
              <a:gd name="adj2" fmla="val 7182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762120"/>
            <a:ext cx="1296720" cy="838080"/>
          </a:xfrm>
          <a:prstGeom prst="flowChartMagneticDisk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0960" y="685800"/>
            <a:ext cx="9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2960" y="762120"/>
            <a:ext cx="1295280" cy="83808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12960" y="990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5334120"/>
            <a:ext cx="15253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2320" y="6858000"/>
            <a:ext cx="16002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eb data entry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75320" y="4952880"/>
            <a:ext cx="1374840" cy="121932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5029200"/>
            <a:ext cx="122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AW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1960" y="7162920"/>
            <a:ext cx="41925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341960" y="7467480"/>
            <a:ext cx="9921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1960" y="5562720"/>
            <a:ext cx="205884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3809880"/>
            <a:ext cx="15256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267080" y="4191120"/>
            <a:ext cx="10670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7440" y="4191120"/>
            <a:ext cx="11462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3276720"/>
            <a:ext cx="381240" cy="380880"/>
          </a:xfrm>
          <a:prstGeom prst="downArrow">
            <a:avLst>
              <a:gd name="adj1" fmla="val 38333"/>
              <a:gd name="adj2" fmla="val 61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08640" y="6858000"/>
            <a:ext cx="152568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eb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7391520"/>
            <a:ext cx="14493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448920" y="5866920"/>
            <a:ext cx="0" cy="76212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71160" y="441972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4520" y="6248520"/>
            <a:ext cx="1677960" cy="26532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i r e   w a l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209680"/>
            <a:ext cx="1617840" cy="51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mport from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drom1" descr=""/>
          <p:cNvPicPr/>
          <p:nvPr/>
        </p:nvPicPr>
        <p:blipFill>
          <a:blip r:embed="rId1"/>
          <a:stretch/>
        </p:blipFill>
        <p:spPr>
          <a:xfrm>
            <a:off x="9448920" y="1676520"/>
            <a:ext cx="533160" cy="493560"/>
          </a:xfrm>
          <a:prstGeom prst="rect">
            <a:avLst/>
          </a:prstGeom>
          <a:ln w="0">
            <a:noFill/>
          </a:ln>
        </p:spPr>
      </p:pic>
      <p:pic>
        <p:nvPicPr>
          <p:cNvPr id="597" name="Floppy2" descr=""/>
          <p:cNvPicPr/>
          <p:nvPr/>
        </p:nvPicPr>
        <p:blipFill>
          <a:blip r:embed="rId2"/>
          <a:stretch/>
        </p:blipFill>
        <p:spPr>
          <a:xfrm>
            <a:off x="8686800" y="1676520"/>
            <a:ext cx="609480" cy="4888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9296280" y="274320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ull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795600">
            <a:off x="8457840" y="320004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2387000">
            <a:off x="8303760" y="3504960"/>
            <a:ext cx="459000" cy="380880"/>
          </a:xfrm>
          <a:custGeom>
            <a:avLst/>
            <a:gdLst>
              <a:gd name="textAreaLeft" fmla="*/ 0 w 459000"/>
              <a:gd name="textAreaRight" fmla="*/ 459360 w 4590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j0296945" descr=""/>
          <p:cNvPicPr/>
          <p:nvPr/>
        </p:nvPicPr>
        <p:blipFill>
          <a:blip r:embed="rId3"/>
          <a:stretch/>
        </p:blipFill>
        <p:spPr>
          <a:xfrm>
            <a:off x="912960" y="4724280"/>
            <a:ext cx="1569960" cy="1600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600200" y="3200400"/>
            <a:ext cx="608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6120" y="3200400"/>
            <a:ext cx="9162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200400"/>
            <a:ext cx="99216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183800">
            <a:off x="3965400" y="1508040"/>
            <a:ext cx="1917720" cy="154080"/>
          </a:xfrm>
          <a:prstGeom prst="rightArrow">
            <a:avLst>
              <a:gd name="adj1" fmla="val 50000"/>
              <a:gd name="adj2" fmla="val 31115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777600">
            <a:off x="3981240" y="1536840"/>
            <a:ext cx="4351320" cy="139680"/>
          </a:xfrm>
          <a:prstGeom prst="rightArrow">
            <a:avLst>
              <a:gd name="adj1" fmla="val 50000"/>
              <a:gd name="adj2" fmla="val 77880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2664000">
            <a:off x="7086240" y="2895480"/>
            <a:ext cx="468360" cy="154080"/>
          </a:xfrm>
          <a:prstGeom prst="rightArrow">
            <a:avLst>
              <a:gd name="adj1" fmla="val 50000"/>
              <a:gd name="adj2" fmla="val 759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808000"/>
                </a:solidFill>
                <a:latin typeface="Times New Roman"/>
              </a:rPr>
              <a:t>RESULTS ACHIEVED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95252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ate within the Metadata Driven Integrated Statistical Data Processing and Dissemination System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veys are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ponse rate of WEB data collection for some surveys achieved 3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has been presented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he Conference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On ISIS 2002, April 2002, Geneva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NET Project Meeting, Samos, Greece, May 200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MRADS Final Conference, Roma, Italy, November 200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SIS 2004, May 2004, Geneva Switzerla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tatistics - investment in the future”, Prague, September 20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“ Development of the State Statistical System” Yalta, Ukraine, September 200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687240" y="609480"/>
            <a:ext cx="9323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981080"/>
            <a:ext cx="10971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the new information system should be based on the results of deep analysis of the statistical processes and dat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objectives of achievements have to be set up,  discussed and approved by all partie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process of the design and implementation of metadata driven integrated statistical information system both pa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ians and IT specialists should be involved from the very beg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arties have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 understanding of all statistical process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ill be covered by the system, as well as metadata meaning and role within the system from production and user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ove from classical stove-pipe production approach to process orien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ve to come from statistici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de not from IT personal  o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atisticians to move from existing to the new data processing environ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rovement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bout metadata is one of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important tas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through o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 of the all process of the design and implementation phases of the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vision of the tasks and responsibilit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statisticians and IT personal is the key point to achieve successfu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chieve the best performance of the entire system it is  important to organize the execution of the statistica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cesses in the right sequ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the new surveys and questionnaires particularly as well as changes in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isting ones should be done i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ordance with the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9525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sult of feasibility study we clear understood, that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istical data processing for different survey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y standardiz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ach survey may require complementary functionality (non standard procedures), which is necessary just for this exact survey data proces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ving problems with the non-standard procedures interfaces fo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/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/from system has been developed to ensure use of the standard statistical data processing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ackages and other generalized software available in marke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95252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ecessary to establish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group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i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Metadata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hich will be responsible for accurateness of metada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administration and maintenance of the system it is necessary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rained IT staf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familiar with the MS SQL Server 2000 administration, MS Analysis Service, other MS tools, PC AXIS family products and system Data Model, system applic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895480"/>
            <a:ext cx="9525240" cy="1371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6600" spc="-1" strike="noStrike">
                <a:solidFill>
                  <a:srgbClr val="808000"/>
                </a:solidFill>
                <a:latin typeface="Times New Roman"/>
              </a:rPr>
              <a:t>Thank you for attention !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676160" y="487692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Karlis Zeila =  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Karlis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Zeila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csb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gov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.l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http://www.csb.l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META DATA DRIVEN ...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91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799920" indent="-307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action within the system is ruled by metada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0760" y="2819520"/>
            <a:ext cx="955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a data is the key element of the system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20760" y="3657600"/>
            <a:ext cx="955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oftware modules of entire system is connected with the Core Metadata module (Meta data base)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20760" y="4800600"/>
            <a:ext cx="955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hanges within the system starts with the changes of met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943600"/>
            <a:ext cx="9555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ycle of the data processing is possible as late as the proper description process in meta  data base are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0760" y="6095880"/>
            <a:ext cx="955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INTEGRATED ... ?</a:t>
            </a:r>
            <a:br>
              <a:rPr sz="32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990720"/>
            <a:ext cx="910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system software modules are connected with the Registers mod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4480" y="1905120"/>
            <a:ext cx="86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module is an integral part of the syst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urveys are supported by adequate classifications  stored in the Meta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65760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surveys respondent data fields are connected with register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6483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ata is stored in corporative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41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ata processing has split in unified steps for different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240" y="6477120"/>
            <a:ext cx="9102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 procedures ensure work with the system data files using different standard softwar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600" y="3049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and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Restric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6633"/>
                </a:solidFill>
                <a:uFillTx/>
                <a:latin typeface="Times New Roman"/>
                <a:ea typeface="Times New Roman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743200"/>
            <a:ext cx="1036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entraliz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ssing and storage of the statistical data, including metadata, by using data warehouse technologies and OLAP t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809880"/>
            <a:ext cx="104407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 All the data processing procedures are being hosted fr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mon metadata syste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These procedures are being described in metadata base, by using special pseudo language and defined notation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fore for standardized procedure execution for each survey individu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is not requi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15000"/>
            <a:ext cx="1036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The system is informatively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Business Regi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provides with the direct respondent data retrieval and upda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629400"/>
            <a:ext cx="10287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Speci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mport and ex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dure is created for data exchange with oth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7467480"/>
            <a:ext cx="10058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 A link 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C Ax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reated for electronic data dissemin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9906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0591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ain business statistics data entry, processing and storage procedures, that provide the transfer from stove pipe data processing to process oriented data process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Restric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066680"/>
            <a:ext cx="10363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1.The system is oriented towards the data processing of different periodicity surveys, where data collected using respondents filled questionnaires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ome adaptation would be necessary for use CAPI, CATI technologies 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895480"/>
            <a:ext cx="1043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Metadata base does not foreseen description of confidentiality rules for data dissemination, they are hard coded in the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257800"/>
            <a:ext cx="10439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rdware and Standard software requir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C’s &gt;/= Pentium II, RAM &gt;/=128Mb equipped with W – 95 to W-2000 and MS Office 2000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781680"/>
            <a:ext cx="10363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algorithm for automatic creation of respondents lists for Sample surveys from the Business register fr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962520"/>
            <a:ext cx="10517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Diagnostic tools for the metadata descriptions are not powerful enough, therefore experts preparing meta data descriptions should be of high experie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36720" y="190440"/>
            <a:ext cx="95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ISDM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9752040" cy="72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609480"/>
            <a:ext cx="640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6720" y="1047600"/>
            <a:ext cx="58672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99072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2080" y="1066680"/>
            <a:ext cx="30456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5240" y="1047600"/>
            <a:ext cx="28180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3840" y="1047600"/>
            <a:ext cx="236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2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752480"/>
            <a:ext cx="137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6686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12408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048120"/>
            <a:ext cx="137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4920" y="3048120"/>
            <a:ext cx="13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2952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219320"/>
            <a:ext cx="1600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8600" y="1333440"/>
            <a:ext cx="1603440" cy="95256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1371600"/>
            <a:ext cx="1677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3352680"/>
            <a:ext cx="3200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191120"/>
            <a:ext cx="84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400" y="4495680"/>
            <a:ext cx="16858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495680"/>
            <a:ext cx="19954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47040" y="4495680"/>
            <a:ext cx="196704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5720" y="45529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35360" y="4552920"/>
            <a:ext cx="1217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495680"/>
            <a:ext cx="183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400" y="4495680"/>
            <a:ext cx="1967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28200" y="4495680"/>
            <a:ext cx="13716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310800" y="245304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00" y="5162400"/>
            <a:ext cx="1685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9880" y="5162400"/>
            <a:ext cx="1779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162400"/>
            <a:ext cx="18730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6400" y="516240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40640" y="5162400"/>
            <a:ext cx="187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61640" y="5924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48600" y="2419200"/>
            <a:ext cx="1603440" cy="9334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666880"/>
            <a:ext cx="167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276720"/>
            <a:ext cx="382680" cy="171360"/>
          </a:xfrm>
          <a:prstGeom prst="rightArrow">
            <a:avLst>
              <a:gd name="adj1" fmla="val 50000"/>
              <a:gd name="adj2" fmla="val 5583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2743200"/>
            <a:ext cx="374760" cy="190440"/>
          </a:xfrm>
          <a:prstGeom prst="leftArrow">
            <a:avLst>
              <a:gd name="adj1" fmla="val 50000"/>
              <a:gd name="adj2" fmla="val 4919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048120"/>
            <a:ext cx="374760" cy="152280"/>
          </a:xfrm>
          <a:prstGeom prst="leftArrow">
            <a:avLst>
              <a:gd name="adj1" fmla="val 50000"/>
              <a:gd name="adj2" fmla="val 615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0400" y="6172200"/>
            <a:ext cx="168588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72200"/>
            <a:ext cx="199548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6210360"/>
            <a:ext cx="1592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1760" y="62485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32448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5320" y="6324480"/>
            <a:ext cx="174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687708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934320"/>
            <a:ext cx="167796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1760" y="6781680"/>
            <a:ext cx="1600200" cy="10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693432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58200" y="6172200"/>
            <a:ext cx="196704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6248520"/>
            <a:ext cx="184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6934320"/>
            <a:ext cx="19666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97180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859040" y="1774800"/>
          <a:ext cx="752148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1774800"/>
                    <a:ext cx="752148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1600" y="782640"/>
          <a:ext cx="10298160" cy="700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782640"/>
                    <a:ext cx="10298160" cy="70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9598320" cy="914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666633"/>
                </a:solidFill>
                <a:latin typeface="Times New Roman"/>
              </a:rPr>
              <a:t>Structure of microdata (observation data) </a:t>
            </a:r>
            <a:br>
              <a:rPr sz="3200"/>
            </a:br>
            <a:r>
              <a:rPr b="0" lang="en-GB" sz="2400" spc="-1" strike="noStrike">
                <a:solidFill>
                  <a:srgbClr val="666633"/>
                </a:solidFill>
                <a:latin typeface="Times New Roman"/>
              </a:rPr>
              <a:t>[Bo Sundgren model]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143000"/>
            <a:ext cx="98298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characteristic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= O(t).V(t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s an object type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s a variable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 a time paramet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 result of observation is a value of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ata element)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1020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values of each variable are attached to object (respondent) requisites, which could be called - vectors or dimensions. Analysing population of the respondents, these dimensions we are using for formation of different groupings and for data ag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105520"/>
            <a:ext cx="102092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mensions listed below could be attached to each value of variable in agricultural statistic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in kind of Activities  (ISIC classification);                                      - Kind of Ownership and Entrepreneurship  (code)                               - Regional location  (code)                                                                     - Employees group classification (code)                                                              - Turnover group classification (co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3:31:32Z</dcterms:created>
  <dc:creator>csb</dc:creator>
  <dc:description/>
  <dc:language>en-US</dc:language>
  <cp:lastModifiedBy> </cp:lastModifiedBy>
  <dcterms:modified xsi:type="dcterms:W3CDTF">2004-11-03T04:26:27Z</dcterms:modified>
  <cp:revision>106</cp:revision>
  <dc:subject/>
  <dc:title>Integrētā statistisko datu apstrādes un vadības sistēma “ISDAV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4159959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