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gif" ContentType="image/gi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1239500" cy="8570913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38240" y="730080"/>
            <a:ext cx="4781520" cy="364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0B6C-FC27-4506-B8F9-9AB6453AAE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038240" y="730080"/>
            <a:ext cx="4781520" cy="36468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619160"/>
            <a:ext cx="50292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itulla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A219-CA50-4628-B0EB-CAEFDF7E0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1960" y="460224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B25D-8AFB-4A9F-8818-CE478CB32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524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CE575-8200-40C3-847B-0D1F44039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8196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02320" y="200556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196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8196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02320" y="4602240"/>
            <a:ext cx="3256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44B8F-A5BF-4C11-88B0-7AC41CD2D8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E85A-370A-4E98-AF67-96220D597F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F7B2-5813-40CC-BD3E-28AA24889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077FA-2657-45E2-A2F6-0D564D8793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9B41-F5D5-4B74-9440-6F431F68C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2600" y="533520"/>
            <a:ext cx="9559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8461-54F8-4D3F-AF09-9B97901DD5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41EE-7E36-4A16-8D08-720D03BF5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5240" y="460224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C417-18CE-4B48-95D8-0155CB2B6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2600" y="496080"/>
            <a:ext cx="9559800" cy="5320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196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5240" y="2005560"/>
            <a:ext cx="493596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1960" y="4602240"/>
            <a:ext cx="10114920" cy="237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E035A-369B-4370-BE33-D67F2F25B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-360" y="8001000"/>
            <a:ext cx="687240" cy="5716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t">
            <a:noAutofit/>
          </a:bodyPr>
          <a:lstStyle>
            <a:lvl1pPr indent="0" algn="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fld id="{234201E8-3302-4ABE-84D0-0B20B6F9F84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8001000"/>
            <a:ext cx="9066240" cy="57168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%20CSP" descr=""/>
          <p:cNvPicPr/>
          <p:nvPr/>
        </p:nvPicPr>
        <p:blipFill>
          <a:blip r:embed="rId2"/>
          <a:stretch/>
        </p:blipFill>
        <p:spPr>
          <a:xfrm>
            <a:off x="10666440" y="8001000"/>
            <a:ext cx="541440" cy="5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561960" y="2005560"/>
            <a:ext cx="10114920" cy="49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27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11120" indent="-2635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9080" indent="-26352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Karlis.Zeila@csb.gov.lv" TargetMode="External"/><Relationship Id="rId2" Type="http://schemas.openxmlformats.org/officeDocument/2006/relationships/hyperlink" Target="mailto:Karlis.Zeila@csb.gov.lv" TargetMode="External"/><Relationship Id="rId3" Type="http://schemas.openxmlformats.org/officeDocument/2006/relationships/hyperlink" Target="mailto:Karlis.Zeila@csb.gov.lv" TargetMode="External"/><Relationship Id="rId4" Type="http://schemas.openxmlformats.org/officeDocument/2006/relationships/hyperlink" Target="mailto:Karlis.Zeila@csb.gov.lv" TargetMode="External"/><Relationship Id="rId5" Type="http://schemas.openxmlformats.org/officeDocument/2006/relationships/hyperlink" Target="mailto:Karlis.Zeila@csb.gov.lv" TargetMode="External"/><Relationship Id="rId6" Type="http://schemas.openxmlformats.org/officeDocument/2006/relationships/hyperlink" Target="mailto:Karlis.Zeila@csb.gov.lv" TargetMode="External"/><Relationship Id="rId7" Type="http://schemas.openxmlformats.org/officeDocument/2006/relationships/hyperlink" Target="mailto:Karlis.Zeila@csb.gov.lv" TargetMode="External"/><Relationship Id="rId8" Type="http://schemas.openxmlformats.org/officeDocument/2006/relationships/hyperlink" Target="mailto:Karlis.Zeila@csb.gov.lv" TargetMode="External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Logo%20CSP" descr=""/>
          <p:cNvPicPr/>
          <p:nvPr/>
        </p:nvPicPr>
        <p:blipFill>
          <a:blip r:embed="rId1"/>
          <a:stretch/>
        </p:blipFill>
        <p:spPr>
          <a:xfrm>
            <a:off x="10665000" y="7962840"/>
            <a:ext cx="574560" cy="609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7962840"/>
            <a:ext cx="10666440" cy="609840"/>
          </a:xfrm>
          <a:prstGeom prst="rect">
            <a:avLst/>
          </a:prstGeom>
          <a:gradFill rotWithShape="0">
            <a:gsLst>
              <a:gs pos="0">
                <a:srgbClr val="617085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53920" y="1523520"/>
            <a:ext cx="7846920" cy="632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Metadata Driven 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Integrated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tatistical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at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anagement </a:t>
            </a: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AU" sz="4800" spc="-1" strike="noStrike">
                <a:solidFill>
                  <a:srgbClr val="000000"/>
                </a:solidFill>
                <a:latin typeface="Times New Roman"/>
              </a:rPr>
              <a:t>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Times New Roman"/>
              </a:rPr>
              <a:t>CSB of Latv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By Karlis Zeila Vice President CSB of Lat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MEXSAI, Cancun, November 2 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13464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666633"/>
                </a:solidFill>
                <a:latin typeface="Times New Roman"/>
              </a:rPr>
              <a:t>Structure of macrodata (statistics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2514600"/>
            <a:ext cx="9675720" cy="24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stical characteristics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GB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GB" sz="4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GB" sz="4800" spc="-1" strike="noStrike">
                <a:solidFill>
                  <a:srgbClr val="000000"/>
                </a:solidFill>
                <a:latin typeface="Times New Roman"/>
              </a:rPr>
              <a:t> = O(t).V(t).f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: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- is an object characteristics;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- is a time parameter,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– is a aggregation function (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um,count,average,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etc) summarizing the true values of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V(t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for the objects in </a:t>
            </a: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O(t)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4876920"/>
            <a:ext cx="91422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he structure for macrodata is referred in metadata base to as box structure or “</a:t>
            </a:r>
            <a:r>
              <a:rPr b="1" i="1" lang="en-AU" sz="2800" spc="-1" strike="noStrike" u="sng">
                <a:solidFill>
                  <a:srgbClr val="000000"/>
                </a:solidFill>
                <a:uFillTx/>
                <a:latin typeface="Times New Roman"/>
              </a:rPr>
              <a:t>alfa-beta-gamma-tau</a:t>
            </a:r>
            <a:r>
              <a:rPr b="1" i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” structure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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 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For data interchange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alfa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refers to the selection property of objects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(O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beta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– summarized values of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gamma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– crossclassifying variables,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tau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 – time parameters </a:t>
            </a:r>
            <a:r>
              <a:rPr b="1" i="1" lang="en-AU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523880"/>
            <a:ext cx="87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crodata are the result of estimation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aggregation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 a set of microdata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2600" y="45720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Structure of 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</a:rPr>
              <a:t>Surveys </a:t>
            </a: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</a:rPr>
              <a:t>questionnaires</a:t>
            </a: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1143000"/>
            <a:ext cx="1043928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rve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hould be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described in the Metadata bas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ach survey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all b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reate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estionnaire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ers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valid for at least one year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tent and/or layout do not change, then current version and it description in Metadata base is usable for next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276720"/>
            <a:ext cx="1028844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urvey contains one or mor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entry table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chapters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oul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stant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ble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ixe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umber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o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ws and columns or table with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ble number 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w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variable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mber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lum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5181480"/>
            <a:ext cx="1044072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Row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each chapter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etadata ba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ir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codes and </a:t>
            </a:r>
            <a:r>
              <a:rPr b="1" lang="lv-LV" sz="2800" spc="-1" strike="noStrike" u="sng">
                <a:solidFill>
                  <a:srgbClr val="000000"/>
                </a:solidFill>
                <a:uFillTx/>
                <a:latin typeface="Times New Roman"/>
              </a:rPr>
              <a:t>titl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information is necessary for automatic data entry application generatio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data validation e.t.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6400800"/>
            <a:ext cx="10514160" cy="17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t step in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uestionnaire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 and layout description i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mation. Cells are smallest data unit in survey data processing.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ell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reated as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ation of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w and column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survey version side and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rom indicators and attributes 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BaltAvantGardeBook"/>
                <a:ea typeface="Times New Roman"/>
              </a:rPr>
              <a:t>Example of agricultural questionnaire</a:t>
            </a:r>
            <a:r>
              <a:rPr b="0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497560"/>
            <a:ext cx="1123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altAvantGardeBook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2971800"/>
            <a:ext cx="9675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2960" y="2971800"/>
            <a:ext cx="99075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314440" y="1192320"/>
          <a:ext cx="661032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4440" y="1192320"/>
                    <a:ext cx="661032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190080"/>
            <a:ext cx="107427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18000" bIns="1800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Structure of agricultural statistics questionnaire</a:t>
            </a:r>
            <a:r>
              <a:rPr b="1" lang="en-US" sz="28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(example - fixed table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685440"/>
            <a:ext cx="7010280" cy="1523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46800" bIns="46800" anchor="t">
            <a:normAutofit/>
          </a:bodyPr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ame of Questionnaire, index, code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Respondents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(object)</a:t>
            </a:r>
            <a:r>
              <a:rPr b="1" lang="lv-LV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code, name and  addres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Period (year, quarter, month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Times New Roman"/>
              </a:rPr>
              <a:t>Name of chap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57200" y="2362320"/>
          <a:ext cx="10439280" cy="5491080"/>
        </p:xfrm>
        <a:graphic>
          <a:graphicData uri="http://schemas.openxmlformats.org/drawingml/2006/table">
            <a:tbl>
              <a:tblPr/>
              <a:tblGrid>
                <a:gridCol w="3295800"/>
                <a:gridCol w="936360"/>
                <a:gridCol w="1495440"/>
                <a:gridCol w="1498680"/>
                <a:gridCol w="1612800"/>
                <a:gridCol w="1600200"/>
              </a:tblGrid>
              <a:tr h="137160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al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w code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ize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nnes)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ized to Proces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nnes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ome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USD)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verage pr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USD/tonn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 products, total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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2010, 2020, 2030</a:t>
                      </a:r>
                      <a:r>
                        <a:rPr b="0" lang="lv-LV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204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e96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e96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e96"/>
                    </a:solidFill>
                  </a:tcPr>
                </a:tc>
                <a:tc>
                  <a:txBody>
                    <a:bodyPr lIns="104760" rIns="104760" tIns="52560" bIns="5256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8ee96"/>
                    </a:solidFill>
                  </a:tcPr>
                </a:tc>
              </a:tr>
              <a:tr h="7999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real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6019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ulses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2548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 crop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87320">
                <a:tc>
                  <a:txBody>
                    <a:bodyPr lIns="104760" rIns="104760" tIns="52560" bIns="52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4760" marR="104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106560" rIns="106560" tIns="53280" bIns="53280"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06560" marR="1065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4952880" y="4876920"/>
            <a:ext cx="1013040" cy="76896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efe3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[2010,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5029200"/>
            <a:ext cx="1295280" cy="307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Times New Roman"/>
              </a:rPr>
              <a:t>VARIABL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33920" y="1585800"/>
            <a:ext cx="2016360" cy="630360"/>
          </a:xfrm>
          <a:prstGeom prst="borderCallout1">
            <a:avLst>
              <a:gd name="adj1" fmla="val 18750"/>
              <a:gd name="adj2" fmla="val -8333"/>
              <a:gd name="adj3" fmla="val 552138"/>
              <a:gd name="adj4" fmla="val -31731"/>
            </a:avLst>
          </a:prstGeom>
          <a:solidFill>
            <a:srgbClr val="ffcc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INDICATOR 1  +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70960" y="685800"/>
            <a:ext cx="3314520" cy="15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159" y="12173"/>
                </a:moveTo>
                <a:lnTo>
                  <a:pt x="-497" y="1620"/>
                </a:lnTo>
              </a:path>
              <a:path w="21600" h="21600">
                <a:moveTo>
                  <a:pt x="-497" y="0"/>
                </a:moveTo>
                <a:lnTo>
                  <a:pt x="-497" y="21600"/>
                </a:lnTo>
              </a:path>
            </a:pathLst>
          </a:custGeom>
          <a:solidFill>
            <a:srgbClr val="ffff99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Metadata repository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: common table of statistical indicators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table of attributes (classifications)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nd table of created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942160" y="3505320"/>
            <a:ext cx="4039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83080" y="4876560"/>
            <a:ext cx="0" cy="297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2169360" y="6208920"/>
            <a:ext cx="25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ff6600"/>
                </a:solidFill>
                <a:latin typeface="Times New Roman"/>
              </a:rPr>
              <a:t>A t t r i b u t e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0760" y="3429000"/>
            <a:ext cx="25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ff6600"/>
                </a:solidFill>
                <a:latin typeface="Times New Roman"/>
              </a:rPr>
              <a:t>I n d i c a t  o r 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533520"/>
            <a:ext cx="7238880" cy="7617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666633"/>
                </a:solidFill>
                <a:latin typeface="Times New Roman"/>
              </a:rPr>
              <a:t>1. Data matrix - </a:t>
            </a:r>
            <a:r>
              <a:rPr b="1" lang="en-GB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Fixed number of Rows (3) and variable number o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olumns (n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5760" y="1676520"/>
            <a:ext cx="10783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)</a:t>
            </a:r>
            <a:r>
              <a:rPr b="1" i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economical indicators of the economics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79440" y="2209680"/>
            <a:ext cx="10365840" cy="4419360"/>
            <a:chOff x="379440" y="2209680"/>
            <a:chExt cx="10365840" cy="4419360"/>
          </a:xfrm>
        </p:grpSpPr>
        <p:grpSp>
          <p:nvGrpSpPr>
            <p:cNvPr id="184" name=""/>
            <p:cNvGrpSpPr/>
            <p:nvPr/>
          </p:nvGrpSpPr>
          <p:grpSpPr>
            <a:xfrm>
              <a:off x="387360" y="2214360"/>
              <a:ext cx="10348200" cy="4409280"/>
              <a:chOff x="387360" y="2214360"/>
              <a:chExt cx="10348200" cy="440928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387360" y="2214360"/>
                <a:ext cx="2957400" cy="938160"/>
                <a:chOff x="387360" y="2214360"/>
                <a:chExt cx="2957400" cy="93816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17960" y="2214360"/>
                  <a:ext cx="289548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w headin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87360" y="2214360"/>
                  <a:ext cx="29574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3345120" y="2214360"/>
                <a:ext cx="809280" cy="938160"/>
                <a:chOff x="3345120" y="2214360"/>
                <a:chExt cx="809280" cy="9381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375000" y="2214360"/>
                  <a:ext cx="7488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w’s cod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345120" y="2214360"/>
                  <a:ext cx="8092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4154760" y="2214360"/>
                <a:ext cx="1517760" cy="938160"/>
                <a:chOff x="4154760" y="2214360"/>
                <a:chExt cx="1517760" cy="93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185360" y="2214360"/>
                  <a:ext cx="14562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154760" y="2214360"/>
                  <a:ext cx="151776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5672880" y="2214360"/>
                <a:ext cx="1161720" cy="938160"/>
                <a:chOff x="5672880" y="2214360"/>
                <a:chExt cx="1161720" cy="9381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702760" y="2214360"/>
                  <a:ext cx="11012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672880" y="221436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6835320" y="2214360"/>
                <a:ext cx="1162080" cy="938160"/>
                <a:chOff x="6835320" y="2214360"/>
                <a:chExt cx="1162080" cy="9381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865920" y="2214360"/>
                  <a:ext cx="11005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35320" y="2214360"/>
                  <a:ext cx="11620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7997760" y="2214360"/>
                <a:ext cx="570600" cy="938160"/>
                <a:chOff x="7997760" y="2214360"/>
                <a:chExt cx="570600" cy="938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8027640" y="2214360"/>
                  <a:ext cx="5101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997760" y="2214360"/>
                  <a:ext cx="5706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8569080" y="2214360"/>
                <a:ext cx="1162080" cy="938160"/>
                <a:chOff x="8569080" y="2214360"/>
                <a:chExt cx="1162080" cy="938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8599680" y="2214360"/>
                  <a:ext cx="11005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 n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569080" y="2214360"/>
                  <a:ext cx="11620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9731880" y="2214360"/>
                <a:ext cx="1003680" cy="938160"/>
                <a:chOff x="9731880" y="2214360"/>
                <a:chExt cx="1003680" cy="93816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9761760" y="2214360"/>
                  <a:ext cx="9432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ame</a:t>
                  </a:r>
                  <a:r>
                    <a:rPr b="1" i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 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9731880" y="2214360"/>
                  <a:ext cx="10036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87360" y="3152880"/>
                <a:ext cx="2957400" cy="938160"/>
                <a:chOff x="387360" y="3152880"/>
                <a:chExt cx="2957400" cy="93816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17960" y="3152880"/>
                  <a:ext cx="289548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87360" y="3152880"/>
                  <a:ext cx="29574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345120" y="3152880"/>
                <a:ext cx="809280" cy="938160"/>
                <a:chOff x="3345120" y="3152880"/>
                <a:chExt cx="809280" cy="93816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375000" y="3152880"/>
                  <a:ext cx="7488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345120" y="3152880"/>
                  <a:ext cx="8092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154760" y="3152880"/>
                <a:ext cx="1517760" cy="938160"/>
                <a:chOff x="4154760" y="3152880"/>
                <a:chExt cx="1517760" cy="9381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185360" y="3152880"/>
                  <a:ext cx="14562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9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54760" y="3152880"/>
                  <a:ext cx="151776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672880" y="3152880"/>
                <a:ext cx="1161720" cy="938160"/>
                <a:chOff x="5672880" y="3152880"/>
                <a:chExt cx="1161720" cy="9381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702760" y="3152880"/>
                  <a:ext cx="110124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ISIC</a:t>
                  </a: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 1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672880" y="3152880"/>
                  <a:ext cx="116172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835320" y="3152880"/>
                <a:ext cx="1162080" cy="938160"/>
                <a:chOff x="6835320" y="3152880"/>
                <a:chExt cx="1162080" cy="93816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865920" y="3152880"/>
                  <a:ext cx="11005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ISIC</a:t>
                  </a: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 2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835320" y="3152880"/>
                  <a:ext cx="11620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997760" y="3152880"/>
                <a:ext cx="570600" cy="938160"/>
                <a:chOff x="7997760" y="3152880"/>
                <a:chExt cx="570600" cy="9381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027640" y="3152880"/>
                  <a:ext cx="5101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r>
                    <a:rPr b="1" lang="en-GB" sz="1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.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997760" y="3152880"/>
                  <a:ext cx="57060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8569080" y="3152880"/>
                <a:ext cx="1162080" cy="938160"/>
                <a:chOff x="8569080" y="3152880"/>
                <a:chExt cx="1162080" cy="93816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8599680" y="3152880"/>
                  <a:ext cx="110052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ISI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n-1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569080" y="3152880"/>
                  <a:ext cx="11620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9731880" y="3152880"/>
                <a:ext cx="1003680" cy="938160"/>
                <a:chOff x="9731880" y="3152880"/>
                <a:chExt cx="1003680" cy="9381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9761760" y="3152880"/>
                  <a:ext cx="943200" cy="93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lv-LV" sz="2000" spc="-1" strike="noStrike">
                      <a:solidFill>
                        <a:srgbClr val="ff3300"/>
                      </a:solidFill>
                      <a:latin typeface="Times New Roman"/>
                    </a:rPr>
                    <a:t>ISIC</a:t>
                  </a: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 n 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9731880" y="3152880"/>
                  <a:ext cx="1003680" cy="93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87360" y="4091400"/>
                <a:ext cx="2957400" cy="843840"/>
                <a:chOff x="387360" y="4091400"/>
                <a:chExt cx="2957400" cy="8438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17960" y="4091400"/>
                  <a:ext cx="289548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employe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87360" y="4091400"/>
                  <a:ext cx="2957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345120" y="4091400"/>
                <a:ext cx="809280" cy="843840"/>
                <a:chOff x="3345120" y="4091400"/>
                <a:chExt cx="809280" cy="84384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375000" y="4091400"/>
                  <a:ext cx="74880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345120" y="4091400"/>
                  <a:ext cx="80928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154760" y="4091400"/>
                <a:ext cx="1517760" cy="843840"/>
                <a:chOff x="4154760" y="4091400"/>
                <a:chExt cx="1517760" cy="84384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154760" y="4091400"/>
                  <a:ext cx="151776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1" name=""/>
                <p:cNvGrpSpPr/>
                <p:nvPr/>
              </p:nvGrpSpPr>
              <p:grpSpPr>
                <a:xfrm>
                  <a:off x="4154760" y="4091400"/>
                  <a:ext cx="1517400" cy="843480"/>
                  <a:chOff x="4154760" y="4091400"/>
                  <a:chExt cx="1517400" cy="843480"/>
                </a:xfrm>
              </p:grpSpPr>
              <p:sp>
                <p:nvSpPr>
                  <p:cNvPr id="242" name=""/>
                  <p:cNvSpPr/>
                  <p:nvPr/>
                </p:nvSpPr>
                <p:spPr>
                  <a:xfrm>
                    <a:off x="4185360" y="4091400"/>
                    <a:ext cx="145584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154760" y="4091400"/>
                    <a:ext cx="151740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4" name=""/>
              <p:cNvGrpSpPr/>
              <p:nvPr/>
            </p:nvGrpSpPr>
            <p:grpSpPr>
              <a:xfrm>
                <a:off x="5672880" y="4091400"/>
                <a:ext cx="1161720" cy="843840"/>
                <a:chOff x="5672880" y="4091400"/>
                <a:chExt cx="1161720" cy="8438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5672880" y="4091400"/>
                  <a:ext cx="116172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6" name=""/>
                <p:cNvGrpSpPr/>
                <p:nvPr/>
              </p:nvGrpSpPr>
              <p:grpSpPr>
                <a:xfrm>
                  <a:off x="5672880" y="4091400"/>
                  <a:ext cx="1161360" cy="843480"/>
                  <a:chOff x="5672880" y="4091400"/>
                  <a:chExt cx="1161360" cy="84348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5702760" y="4091400"/>
                    <a:ext cx="110088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672880" y="4091400"/>
                    <a:ext cx="116136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9" name=""/>
              <p:cNvGrpSpPr/>
              <p:nvPr/>
            </p:nvGrpSpPr>
            <p:grpSpPr>
              <a:xfrm>
                <a:off x="6835320" y="4091400"/>
                <a:ext cx="1162080" cy="843840"/>
                <a:chOff x="6835320" y="4091400"/>
                <a:chExt cx="1162080" cy="8438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6835320" y="4091400"/>
                  <a:ext cx="116208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1" name=""/>
                <p:cNvGrpSpPr/>
                <p:nvPr/>
              </p:nvGrpSpPr>
              <p:grpSpPr>
                <a:xfrm>
                  <a:off x="6835320" y="4091400"/>
                  <a:ext cx="1161720" cy="843480"/>
                  <a:chOff x="6835320" y="4091400"/>
                  <a:chExt cx="1161720" cy="84348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6865920" y="4091400"/>
                    <a:ext cx="110016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835320" y="4091400"/>
                    <a:ext cx="116172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4" name=""/>
              <p:cNvGrpSpPr/>
              <p:nvPr/>
            </p:nvGrpSpPr>
            <p:grpSpPr>
              <a:xfrm>
                <a:off x="7997760" y="4091400"/>
                <a:ext cx="570600" cy="843840"/>
                <a:chOff x="7997760" y="4091400"/>
                <a:chExt cx="570600" cy="843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997760" y="4091400"/>
                  <a:ext cx="57060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7997760" y="4091400"/>
                  <a:ext cx="570240" cy="843480"/>
                  <a:chOff x="7997760" y="4091400"/>
                  <a:chExt cx="570240" cy="84348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8027640" y="4091400"/>
                    <a:ext cx="50976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…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997760" y="4091400"/>
                    <a:ext cx="57024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9" name=""/>
              <p:cNvGrpSpPr/>
              <p:nvPr/>
            </p:nvGrpSpPr>
            <p:grpSpPr>
              <a:xfrm>
                <a:off x="8569080" y="4091400"/>
                <a:ext cx="1162080" cy="843840"/>
                <a:chOff x="8569080" y="4091400"/>
                <a:chExt cx="1162080" cy="8438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8569080" y="4091400"/>
                  <a:ext cx="116208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" name=""/>
                <p:cNvGrpSpPr/>
                <p:nvPr/>
              </p:nvGrpSpPr>
              <p:grpSpPr>
                <a:xfrm>
                  <a:off x="8569080" y="4091400"/>
                  <a:ext cx="1161720" cy="843480"/>
                  <a:chOff x="8569080" y="4091400"/>
                  <a:chExt cx="1161720" cy="843480"/>
                </a:xfrm>
              </p:grpSpPr>
              <p:sp>
                <p:nvSpPr>
                  <p:cNvPr id="262" name=""/>
                  <p:cNvSpPr/>
                  <p:nvPr/>
                </p:nvSpPr>
                <p:spPr>
                  <a:xfrm>
                    <a:off x="8599680" y="4091400"/>
                    <a:ext cx="110016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8569080" y="4091400"/>
                    <a:ext cx="116172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4" name=""/>
              <p:cNvGrpSpPr/>
              <p:nvPr/>
            </p:nvGrpSpPr>
            <p:grpSpPr>
              <a:xfrm>
                <a:off x="9731880" y="4091400"/>
                <a:ext cx="1003680" cy="843840"/>
                <a:chOff x="9731880" y="4091400"/>
                <a:chExt cx="1003680" cy="8438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9731880" y="4091400"/>
                  <a:ext cx="1003680" cy="84384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9731880" y="4091400"/>
                  <a:ext cx="1003320" cy="843480"/>
                  <a:chOff x="9731880" y="4091400"/>
                  <a:chExt cx="1003320" cy="84348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>
                    <a:off x="9761760" y="4091400"/>
                    <a:ext cx="942840" cy="84348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9731880" y="4091400"/>
                    <a:ext cx="1003320" cy="843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9" name=""/>
              <p:cNvGrpSpPr/>
              <p:nvPr/>
            </p:nvGrpSpPr>
            <p:grpSpPr>
              <a:xfrm>
                <a:off x="387360" y="4935960"/>
                <a:ext cx="2957400" cy="843480"/>
                <a:chOff x="387360" y="4935960"/>
                <a:chExt cx="2957400" cy="8434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17960" y="4935960"/>
                  <a:ext cx="289548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et turnov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87360" y="4935960"/>
                  <a:ext cx="295740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3345120" y="4935960"/>
                <a:ext cx="809280" cy="843480"/>
                <a:chOff x="3345120" y="4935960"/>
                <a:chExt cx="809280" cy="8434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3375000" y="4935960"/>
                  <a:ext cx="74880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345120" y="4935960"/>
                  <a:ext cx="80928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154760" y="4935960"/>
                <a:ext cx="1517760" cy="843480"/>
                <a:chOff x="4154760" y="4935960"/>
                <a:chExt cx="1517760" cy="8434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154760" y="4935960"/>
                  <a:ext cx="151776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" name=""/>
                <p:cNvGrpSpPr/>
                <p:nvPr/>
              </p:nvGrpSpPr>
              <p:grpSpPr>
                <a:xfrm>
                  <a:off x="4154760" y="4935960"/>
                  <a:ext cx="1517400" cy="843120"/>
                  <a:chOff x="4154760" y="4935960"/>
                  <a:chExt cx="1517400" cy="843120"/>
                </a:xfrm>
              </p:grpSpPr>
              <p:sp>
                <p:nvSpPr>
                  <p:cNvPr id="278" name=""/>
                  <p:cNvSpPr/>
                  <p:nvPr/>
                </p:nvSpPr>
                <p:spPr>
                  <a:xfrm>
                    <a:off x="4185360" y="4935960"/>
                    <a:ext cx="145584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154760" y="4935960"/>
                    <a:ext cx="151740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0" name=""/>
              <p:cNvGrpSpPr/>
              <p:nvPr/>
            </p:nvGrpSpPr>
            <p:grpSpPr>
              <a:xfrm>
                <a:off x="5672880" y="4935960"/>
                <a:ext cx="1161720" cy="843480"/>
                <a:chOff x="5672880" y="4935960"/>
                <a:chExt cx="1161720" cy="8434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5672880" y="49359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2" name=""/>
                <p:cNvGrpSpPr/>
                <p:nvPr/>
              </p:nvGrpSpPr>
              <p:grpSpPr>
                <a:xfrm>
                  <a:off x="5672880" y="4935960"/>
                  <a:ext cx="1161360" cy="843120"/>
                  <a:chOff x="5672880" y="4935960"/>
                  <a:chExt cx="1161360" cy="84312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5702760" y="4935960"/>
                    <a:ext cx="11008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672880" y="49359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5" name=""/>
              <p:cNvGrpSpPr/>
              <p:nvPr/>
            </p:nvGrpSpPr>
            <p:grpSpPr>
              <a:xfrm>
                <a:off x="6835320" y="4935960"/>
                <a:ext cx="1162080" cy="843480"/>
                <a:chOff x="6835320" y="4935960"/>
                <a:chExt cx="1162080" cy="8434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6835320" y="4935960"/>
                  <a:ext cx="11620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6835320" y="4935960"/>
                  <a:ext cx="1161720" cy="843120"/>
                  <a:chOff x="6835320" y="4935960"/>
                  <a:chExt cx="1161720" cy="8431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6865920" y="4935960"/>
                    <a:ext cx="11001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835320" y="4935960"/>
                    <a:ext cx="11617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" name=""/>
              <p:cNvGrpSpPr/>
              <p:nvPr/>
            </p:nvGrpSpPr>
            <p:grpSpPr>
              <a:xfrm>
                <a:off x="7997760" y="4935960"/>
                <a:ext cx="570600" cy="843480"/>
                <a:chOff x="7997760" y="4935960"/>
                <a:chExt cx="570600" cy="8434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7997760" y="4935960"/>
                  <a:ext cx="5706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7997760" y="4935960"/>
                  <a:ext cx="570240" cy="843120"/>
                  <a:chOff x="7997760" y="4935960"/>
                  <a:chExt cx="570240" cy="843120"/>
                </a:xfrm>
              </p:grpSpPr>
              <p:sp>
                <p:nvSpPr>
                  <p:cNvPr id="293" name=""/>
                  <p:cNvSpPr/>
                  <p:nvPr/>
                </p:nvSpPr>
                <p:spPr>
                  <a:xfrm>
                    <a:off x="8027640" y="4935960"/>
                    <a:ext cx="5097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…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7997760" y="4935960"/>
                    <a:ext cx="5702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8569080" y="4935960"/>
                <a:ext cx="1162080" cy="843480"/>
                <a:chOff x="8569080" y="4935960"/>
                <a:chExt cx="1162080" cy="843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8569080" y="4935960"/>
                  <a:ext cx="11620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7" name=""/>
                <p:cNvGrpSpPr/>
                <p:nvPr/>
              </p:nvGrpSpPr>
              <p:grpSpPr>
                <a:xfrm>
                  <a:off x="8569080" y="4935960"/>
                  <a:ext cx="1161720" cy="843120"/>
                  <a:chOff x="8569080" y="4935960"/>
                  <a:chExt cx="1161720" cy="84312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8599680" y="4935960"/>
                    <a:ext cx="11001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569080" y="4935960"/>
                    <a:ext cx="11617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0" name=""/>
              <p:cNvGrpSpPr/>
              <p:nvPr/>
            </p:nvGrpSpPr>
            <p:grpSpPr>
              <a:xfrm>
                <a:off x="9731880" y="4935960"/>
                <a:ext cx="1003680" cy="843480"/>
                <a:chOff x="9731880" y="4935960"/>
                <a:chExt cx="1003680" cy="843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9731880" y="4935960"/>
                  <a:ext cx="10036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9731880" y="4935960"/>
                  <a:ext cx="1003320" cy="843120"/>
                  <a:chOff x="9731880" y="4935960"/>
                  <a:chExt cx="1003320" cy="8431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9761760" y="4935960"/>
                    <a:ext cx="94284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9731880" y="4935960"/>
                    <a:ext cx="10033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05" name=""/>
              <p:cNvGrpSpPr/>
              <p:nvPr/>
            </p:nvGrpSpPr>
            <p:grpSpPr>
              <a:xfrm>
                <a:off x="387360" y="5780160"/>
                <a:ext cx="2957400" cy="843480"/>
                <a:chOff x="387360" y="5780160"/>
                <a:chExt cx="2957400" cy="8434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417960" y="5780160"/>
                  <a:ext cx="289548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ther incom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87360" y="5780160"/>
                  <a:ext cx="295740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345120" y="5780160"/>
                <a:ext cx="809280" cy="843480"/>
                <a:chOff x="3345120" y="5780160"/>
                <a:chExt cx="809280" cy="8434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375000" y="5780160"/>
                  <a:ext cx="748800" cy="8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345120" y="5780160"/>
                  <a:ext cx="809280" cy="8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54760" y="5780160"/>
                <a:ext cx="1517760" cy="843480"/>
                <a:chOff x="4154760" y="5780160"/>
                <a:chExt cx="1517760" cy="8434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154760" y="5780160"/>
                  <a:ext cx="151776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3" name=""/>
                <p:cNvGrpSpPr/>
                <p:nvPr/>
              </p:nvGrpSpPr>
              <p:grpSpPr>
                <a:xfrm>
                  <a:off x="4154760" y="5780160"/>
                  <a:ext cx="1517400" cy="843120"/>
                  <a:chOff x="4154760" y="5780160"/>
                  <a:chExt cx="1517400" cy="84312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>
                    <a:off x="4185360" y="5780160"/>
                    <a:ext cx="145584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4154760" y="5780160"/>
                    <a:ext cx="151740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6" name=""/>
              <p:cNvGrpSpPr/>
              <p:nvPr/>
            </p:nvGrpSpPr>
            <p:grpSpPr>
              <a:xfrm>
                <a:off x="5672880" y="5780160"/>
                <a:ext cx="1161720" cy="843480"/>
                <a:chOff x="5672880" y="5780160"/>
                <a:chExt cx="1161720" cy="84348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5672880" y="5780160"/>
                  <a:ext cx="116172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8" name=""/>
                <p:cNvGrpSpPr/>
                <p:nvPr/>
              </p:nvGrpSpPr>
              <p:grpSpPr>
                <a:xfrm>
                  <a:off x="5672880" y="5780160"/>
                  <a:ext cx="1161360" cy="843120"/>
                  <a:chOff x="5672880" y="5780160"/>
                  <a:chExt cx="1161360" cy="8431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702760" y="5780160"/>
                    <a:ext cx="110088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72880" y="5780160"/>
                    <a:ext cx="116136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6835320" y="5780160"/>
                <a:ext cx="1162080" cy="843480"/>
                <a:chOff x="6835320" y="5780160"/>
                <a:chExt cx="1162080" cy="8434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6835320" y="5780160"/>
                  <a:ext cx="11620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3" name=""/>
                <p:cNvGrpSpPr/>
                <p:nvPr/>
              </p:nvGrpSpPr>
              <p:grpSpPr>
                <a:xfrm>
                  <a:off x="6835320" y="5780160"/>
                  <a:ext cx="1161720" cy="843120"/>
                  <a:chOff x="6835320" y="5780160"/>
                  <a:chExt cx="1161720" cy="84312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>
                    <a:off x="6865920" y="5780160"/>
                    <a:ext cx="11001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835320" y="5780160"/>
                    <a:ext cx="11617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7997760" y="5780160"/>
                <a:ext cx="570600" cy="843480"/>
                <a:chOff x="7997760" y="5780160"/>
                <a:chExt cx="570600" cy="8434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997760" y="5780160"/>
                  <a:ext cx="57060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8" name=""/>
                <p:cNvGrpSpPr/>
                <p:nvPr/>
              </p:nvGrpSpPr>
              <p:grpSpPr>
                <a:xfrm>
                  <a:off x="7997760" y="5780160"/>
                  <a:ext cx="570240" cy="843120"/>
                  <a:chOff x="7997760" y="5780160"/>
                  <a:chExt cx="570240" cy="843120"/>
                </a:xfrm>
              </p:grpSpPr>
              <p:sp>
                <p:nvSpPr>
                  <p:cNvPr id="329" name=""/>
                  <p:cNvSpPr/>
                  <p:nvPr/>
                </p:nvSpPr>
                <p:spPr>
                  <a:xfrm>
                    <a:off x="8027640" y="5780160"/>
                    <a:ext cx="5097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997760" y="5780160"/>
                    <a:ext cx="57024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1" name=""/>
              <p:cNvGrpSpPr/>
              <p:nvPr/>
            </p:nvGrpSpPr>
            <p:grpSpPr>
              <a:xfrm>
                <a:off x="8569080" y="5780160"/>
                <a:ext cx="1162080" cy="843480"/>
                <a:chOff x="8569080" y="5780160"/>
                <a:chExt cx="1162080" cy="84348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8569080" y="5780160"/>
                  <a:ext cx="11620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"/>
                <p:cNvGrpSpPr/>
                <p:nvPr/>
              </p:nvGrpSpPr>
              <p:grpSpPr>
                <a:xfrm>
                  <a:off x="8569080" y="5780160"/>
                  <a:ext cx="1161720" cy="843120"/>
                  <a:chOff x="8569080" y="5780160"/>
                  <a:chExt cx="1161720" cy="84312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>
                    <a:off x="8599680" y="5780160"/>
                    <a:ext cx="110016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8569080" y="5780160"/>
                    <a:ext cx="11617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6" name=""/>
              <p:cNvGrpSpPr/>
              <p:nvPr/>
            </p:nvGrpSpPr>
            <p:grpSpPr>
              <a:xfrm>
                <a:off x="9731880" y="5780160"/>
                <a:ext cx="1003680" cy="843480"/>
                <a:chOff x="9731880" y="5780160"/>
                <a:chExt cx="1003680" cy="84348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9731880" y="5780160"/>
                  <a:ext cx="1003680" cy="8434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8" name=""/>
                <p:cNvGrpSpPr/>
                <p:nvPr/>
              </p:nvGrpSpPr>
              <p:grpSpPr>
                <a:xfrm>
                  <a:off x="9731880" y="5780160"/>
                  <a:ext cx="1003320" cy="843120"/>
                  <a:chOff x="9731880" y="5780160"/>
                  <a:chExt cx="1003320" cy="84312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9761760" y="5780160"/>
                    <a:ext cx="942840" cy="843120"/>
                  </a:xfrm>
                  <a:prstGeom prst="rect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9731880" y="5780160"/>
                    <a:ext cx="1003320" cy="84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1" name=""/>
            <p:cNvSpPr/>
            <p:nvPr/>
          </p:nvSpPr>
          <p:spPr>
            <a:xfrm>
              <a:off x="379440" y="2209680"/>
              <a:ext cx="10365840" cy="441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Data matrix - </a:t>
            </a:r>
            <a:r>
              <a:rPr b="1" lang="en-A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 number of Columns (3) and variable number of </a:t>
            </a:r>
            <a:r>
              <a:rPr b="1" lang="en-A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ows (n)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170000"/>
            <a:ext cx="10709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ample)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ion of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457200" y="1600200"/>
            <a:ext cx="10058040" cy="5943240"/>
            <a:chOff x="457200" y="1600200"/>
            <a:chExt cx="10058040" cy="5943240"/>
          </a:xfrm>
        </p:grpSpPr>
        <p:grpSp>
          <p:nvGrpSpPr>
            <p:cNvPr id="345" name=""/>
            <p:cNvGrpSpPr/>
            <p:nvPr/>
          </p:nvGrpSpPr>
          <p:grpSpPr>
            <a:xfrm>
              <a:off x="464760" y="1605600"/>
              <a:ext cx="10041120" cy="5930640"/>
              <a:chOff x="464760" y="1605600"/>
              <a:chExt cx="10041120" cy="59306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464760" y="1605600"/>
                <a:ext cx="2041560" cy="1230480"/>
                <a:chOff x="464760" y="1605600"/>
                <a:chExt cx="2041560" cy="12304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7924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ame of producti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6476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2506680" y="1605600"/>
                <a:ext cx="2040840" cy="1230480"/>
                <a:chOff x="2506680" y="1605600"/>
                <a:chExt cx="2040840" cy="123048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2620440" y="1605600"/>
                  <a:ext cx="181296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 cod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r>
                    <a:rPr b="1" lang="lv-LV" sz="2000" spc="-1" strike="noStrike">
                      <a:solidFill>
                        <a:srgbClr val="000000"/>
                      </a:solidFill>
                      <a:latin typeface="Times New Roman"/>
                    </a:rPr>
                    <a:t>HS</a:t>
                  </a: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or </a:t>
                  </a:r>
                  <a:r>
                    <a:rPr b="1" lang="lv-LV" sz="2000" spc="-1" strike="noStrike">
                      <a:solidFill>
                        <a:srgbClr val="000000"/>
                      </a:solidFill>
                      <a:latin typeface="Times New Roman"/>
                    </a:rPr>
                    <a:t>SITC</a:t>
                  </a: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2506680" y="1605600"/>
                  <a:ext cx="204084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4547880" y="1605600"/>
                <a:ext cx="2041560" cy="1230480"/>
                <a:chOff x="4547880" y="1605600"/>
                <a:chExt cx="2041560" cy="1230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466236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ed in natural measur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54788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6590160" y="1605600"/>
                <a:ext cx="2041560" cy="1230480"/>
                <a:chOff x="6590160" y="1605600"/>
                <a:chExt cx="2041560" cy="1230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6704640" y="1605600"/>
                  <a:ext cx="18126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iled in natural measuremen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6590160" y="1605600"/>
                  <a:ext cx="204156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8632080" y="1605600"/>
                <a:ext cx="1873800" cy="1230480"/>
                <a:chOff x="8632080" y="1605600"/>
                <a:chExt cx="1873800" cy="1230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8745840" y="1605600"/>
                  <a:ext cx="1645200" cy="123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come in </a:t>
                  </a:r>
                  <a:r>
                    <a:rPr b="1" lang="lv-LV" sz="2000" spc="-1" strike="noStrike">
                      <a:solidFill>
                        <a:srgbClr val="000000"/>
                      </a:solidFill>
                      <a:latin typeface="Times New Roman"/>
                    </a:rPr>
                    <a:t>US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8632080" y="1605600"/>
                  <a:ext cx="1873800" cy="1230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464760" y="2836440"/>
                <a:ext cx="2041560" cy="783000"/>
                <a:chOff x="464760" y="2836440"/>
                <a:chExt cx="2041560" cy="78300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57924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6476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506680" y="2836440"/>
                <a:ext cx="2040840" cy="783000"/>
                <a:chOff x="2506680" y="2836440"/>
                <a:chExt cx="2040840" cy="783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2620440" y="283644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2506680" y="283644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547880" y="2836440"/>
                <a:ext cx="2041560" cy="783000"/>
                <a:chOff x="4547880" y="2836440"/>
                <a:chExt cx="2041560" cy="7830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66236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54788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590160" y="2836440"/>
                <a:ext cx="2041560" cy="783000"/>
                <a:chOff x="6590160" y="2836440"/>
                <a:chExt cx="2041560" cy="7830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704640" y="28364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590160" y="28364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8632080" y="2836440"/>
                <a:ext cx="1873800" cy="783000"/>
                <a:chOff x="8632080" y="2836440"/>
                <a:chExt cx="1873800" cy="7830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8745840" y="2836440"/>
                  <a:ext cx="16452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632080" y="2836440"/>
                  <a:ext cx="187380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64760" y="3619800"/>
                <a:ext cx="2041560" cy="783000"/>
                <a:chOff x="464760" y="3619800"/>
                <a:chExt cx="2041560" cy="7830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79240" y="361980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64760" y="361980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2506680" y="3619800"/>
                <a:ext cx="2040840" cy="783000"/>
                <a:chOff x="2506680" y="3619800"/>
                <a:chExt cx="2040840" cy="78300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2620440" y="361980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123456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506680" y="361980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4547880" y="3619800"/>
                <a:ext cx="2041560" cy="783000"/>
                <a:chOff x="4547880" y="3619800"/>
                <a:chExt cx="2041560" cy="7830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4547880" y="361980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4" name=""/>
                <p:cNvGrpSpPr/>
                <p:nvPr/>
              </p:nvGrpSpPr>
              <p:grpSpPr>
                <a:xfrm>
                  <a:off x="4547880" y="3619800"/>
                  <a:ext cx="2041200" cy="782640"/>
                  <a:chOff x="4547880" y="3619800"/>
                  <a:chExt cx="2041200" cy="78264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>
                    <a:off x="4662360" y="361980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4547880" y="361980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6590160" y="3619800"/>
                <a:ext cx="2041560" cy="783000"/>
                <a:chOff x="6590160" y="3619800"/>
                <a:chExt cx="2041560" cy="78300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590160" y="361980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6590160" y="3619800"/>
                  <a:ext cx="2041200" cy="782640"/>
                  <a:chOff x="6590160" y="3619800"/>
                  <a:chExt cx="2041200" cy="7826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6704640" y="361980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6590160" y="361980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2" name=""/>
              <p:cNvGrpSpPr/>
              <p:nvPr/>
            </p:nvGrpSpPr>
            <p:grpSpPr>
              <a:xfrm>
                <a:off x="8632080" y="3619800"/>
                <a:ext cx="1873800" cy="783000"/>
                <a:chOff x="8632080" y="3619800"/>
                <a:chExt cx="1873800" cy="7830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8632080" y="361980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4" name=""/>
                <p:cNvGrpSpPr/>
                <p:nvPr/>
              </p:nvGrpSpPr>
              <p:grpSpPr>
                <a:xfrm>
                  <a:off x="8632080" y="3619800"/>
                  <a:ext cx="1873440" cy="782640"/>
                  <a:chOff x="8632080" y="3619800"/>
                  <a:chExt cx="1873440" cy="78264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>
                    <a:off x="8745840" y="361980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632080" y="361980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7" name=""/>
              <p:cNvGrpSpPr/>
              <p:nvPr/>
            </p:nvGrpSpPr>
            <p:grpSpPr>
              <a:xfrm>
                <a:off x="464760" y="4403160"/>
                <a:ext cx="2041560" cy="783000"/>
                <a:chOff x="464760" y="4403160"/>
                <a:chExt cx="2041560" cy="7830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79240" y="440316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64760" y="440316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2506680" y="4403160"/>
                <a:ext cx="2040840" cy="783000"/>
                <a:chOff x="2506680" y="4403160"/>
                <a:chExt cx="2040840" cy="7830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2620440" y="440316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234567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06680" y="440316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4547880" y="4403160"/>
                <a:ext cx="2041560" cy="783000"/>
                <a:chOff x="4547880" y="4403160"/>
                <a:chExt cx="2041560" cy="783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4547880" y="440316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5" name=""/>
                <p:cNvGrpSpPr/>
                <p:nvPr/>
              </p:nvGrpSpPr>
              <p:grpSpPr>
                <a:xfrm>
                  <a:off x="4547880" y="4403160"/>
                  <a:ext cx="2041200" cy="782640"/>
                  <a:chOff x="4547880" y="4403160"/>
                  <a:chExt cx="2041200" cy="78264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>
                    <a:off x="4662360" y="440316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547880" y="440316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6590160" y="4403160"/>
                <a:ext cx="2041560" cy="783000"/>
                <a:chOff x="6590160" y="4403160"/>
                <a:chExt cx="2041560" cy="78300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6590160" y="440316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6590160" y="4403160"/>
                  <a:ext cx="2041200" cy="782640"/>
                  <a:chOff x="6590160" y="4403160"/>
                  <a:chExt cx="2041200" cy="78264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>
                    <a:off x="6704640" y="440316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6590160" y="440316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3" name=""/>
              <p:cNvGrpSpPr/>
              <p:nvPr/>
            </p:nvGrpSpPr>
            <p:grpSpPr>
              <a:xfrm>
                <a:off x="8632080" y="4403160"/>
                <a:ext cx="1873800" cy="783000"/>
                <a:chOff x="8632080" y="4403160"/>
                <a:chExt cx="1873800" cy="7830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8632080" y="440316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8632080" y="4403160"/>
                  <a:ext cx="1873440" cy="782640"/>
                  <a:chOff x="8632080" y="4403160"/>
                  <a:chExt cx="1873440" cy="7826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8745840" y="440316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8632080" y="440316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464760" y="5186520"/>
                <a:ext cx="2041560" cy="783000"/>
                <a:chOff x="464760" y="5186520"/>
                <a:chExt cx="2041560" cy="7830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579240" y="518652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4760" y="518652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2506680" y="5186520"/>
                <a:ext cx="2040840" cy="783000"/>
                <a:chOff x="2506680" y="5186520"/>
                <a:chExt cx="2040840" cy="7830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2620440" y="518652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506680" y="518652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547880" y="5186520"/>
                <a:ext cx="2041560" cy="783000"/>
                <a:chOff x="4547880" y="5186520"/>
                <a:chExt cx="2041560" cy="7830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547880" y="5186520"/>
                  <a:ext cx="204156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"/>
                <p:cNvGrpSpPr/>
                <p:nvPr/>
              </p:nvGrpSpPr>
              <p:grpSpPr>
                <a:xfrm>
                  <a:off x="4547880" y="5186520"/>
                  <a:ext cx="2041200" cy="782640"/>
                  <a:chOff x="4547880" y="5186520"/>
                  <a:chExt cx="2041200" cy="782640"/>
                </a:xfrm>
              </p:grpSpPr>
              <p:sp>
                <p:nvSpPr>
                  <p:cNvPr id="427" name=""/>
                  <p:cNvSpPr/>
                  <p:nvPr/>
                </p:nvSpPr>
                <p:spPr>
                  <a:xfrm>
                    <a:off x="4662360" y="5186520"/>
                    <a:ext cx="18122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4547880" y="518652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" name=""/>
              <p:cNvGrpSpPr/>
              <p:nvPr/>
            </p:nvGrpSpPr>
            <p:grpSpPr>
              <a:xfrm>
                <a:off x="6590160" y="5186520"/>
                <a:ext cx="2041560" cy="783000"/>
                <a:chOff x="6590160" y="5186520"/>
                <a:chExt cx="2041560" cy="7830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590160" y="5186520"/>
                  <a:ext cx="204156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6590160" y="5186520"/>
                  <a:ext cx="2041200" cy="782640"/>
                  <a:chOff x="6590160" y="5186520"/>
                  <a:chExt cx="2041200" cy="78264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6704640" y="5186520"/>
                    <a:ext cx="18122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590160" y="518652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" name=""/>
              <p:cNvGrpSpPr/>
              <p:nvPr/>
            </p:nvGrpSpPr>
            <p:grpSpPr>
              <a:xfrm>
                <a:off x="8632080" y="5186520"/>
                <a:ext cx="1873800" cy="783000"/>
                <a:chOff x="8632080" y="5186520"/>
                <a:chExt cx="1873800" cy="7830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8632080" y="5186520"/>
                  <a:ext cx="1873800" cy="78300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"/>
                <p:cNvGrpSpPr/>
                <p:nvPr/>
              </p:nvGrpSpPr>
              <p:grpSpPr>
                <a:xfrm>
                  <a:off x="8632080" y="5186520"/>
                  <a:ext cx="1873440" cy="782640"/>
                  <a:chOff x="8632080" y="5186520"/>
                  <a:chExt cx="1873440" cy="78264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8745840" y="5186520"/>
                    <a:ext cx="1644840" cy="782640"/>
                  </a:xfrm>
                  <a:prstGeom prst="rect">
                    <a:avLst/>
                  </a:prstGeom>
                  <a:solidFill>
                    <a:srgbClr val="f3f3f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. . .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8632080" y="518652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" name=""/>
              <p:cNvGrpSpPr/>
              <p:nvPr/>
            </p:nvGrpSpPr>
            <p:grpSpPr>
              <a:xfrm>
                <a:off x="464760" y="5969880"/>
                <a:ext cx="2041560" cy="783000"/>
                <a:chOff x="464760" y="5969880"/>
                <a:chExt cx="2041560" cy="7830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579240" y="596988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n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64760" y="596988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2506680" y="5969880"/>
                <a:ext cx="2040840" cy="783000"/>
                <a:chOff x="2506680" y="5969880"/>
                <a:chExt cx="2040840" cy="78300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2620440" y="596988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456789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506680" y="596988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4547880" y="5969880"/>
                <a:ext cx="2041560" cy="783000"/>
                <a:chOff x="4547880" y="5969880"/>
                <a:chExt cx="2041560" cy="7830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547880" y="596988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4547880" y="5969880"/>
                  <a:ext cx="2041200" cy="782640"/>
                  <a:chOff x="4547880" y="5969880"/>
                  <a:chExt cx="2041200" cy="7826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4662360" y="596988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4547880" y="596988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6590160" y="5969880"/>
                <a:ext cx="2041560" cy="783000"/>
                <a:chOff x="6590160" y="5969880"/>
                <a:chExt cx="2041560" cy="7830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590160" y="596988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6590160" y="5969880"/>
                  <a:ext cx="2041200" cy="782640"/>
                  <a:chOff x="6590160" y="5969880"/>
                  <a:chExt cx="2041200" cy="78264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>
                    <a:off x="6704640" y="596988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6590160" y="596988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" name=""/>
              <p:cNvGrpSpPr/>
              <p:nvPr/>
            </p:nvGrpSpPr>
            <p:grpSpPr>
              <a:xfrm>
                <a:off x="8632080" y="5969880"/>
                <a:ext cx="1873800" cy="783000"/>
                <a:chOff x="8632080" y="5969880"/>
                <a:chExt cx="1873800" cy="78300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8632080" y="596988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8632080" y="5969880"/>
                  <a:ext cx="1873440" cy="782640"/>
                  <a:chOff x="8632080" y="5969880"/>
                  <a:chExt cx="1873440" cy="78264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8745840" y="596988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8632080" y="596988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64760" y="6753240"/>
                <a:ext cx="2041560" cy="783000"/>
                <a:chOff x="464760" y="6753240"/>
                <a:chExt cx="2041560" cy="78300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79240" y="6753240"/>
                  <a:ext cx="181260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Product 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64760" y="6753240"/>
                  <a:ext cx="204156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2506680" y="6753240"/>
                <a:ext cx="2040840" cy="783000"/>
                <a:chOff x="2506680" y="6753240"/>
                <a:chExt cx="2040840" cy="7830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2620440" y="6753240"/>
                  <a:ext cx="1812960" cy="78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ff3300"/>
                      </a:solidFill>
                      <a:latin typeface="Times New Roman"/>
                      <a:ea typeface="Times New Roman"/>
                    </a:rPr>
                    <a:t>56789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506680" y="6753240"/>
                  <a:ext cx="2040840" cy="783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4547880" y="6753240"/>
                <a:ext cx="2041560" cy="783000"/>
                <a:chOff x="4547880" y="6753240"/>
                <a:chExt cx="2041560" cy="7830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4547880" y="675324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8" name=""/>
                <p:cNvGrpSpPr/>
                <p:nvPr/>
              </p:nvGrpSpPr>
              <p:grpSpPr>
                <a:xfrm>
                  <a:off x="4547880" y="6753240"/>
                  <a:ext cx="2041200" cy="782640"/>
                  <a:chOff x="4547880" y="6753240"/>
                  <a:chExt cx="2041200" cy="78264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4662360" y="675324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4547880" y="675324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1" name=""/>
              <p:cNvGrpSpPr/>
              <p:nvPr/>
            </p:nvGrpSpPr>
            <p:grpSpPr>
              <a:xfrm>
                <a:off x="6590160" y="6753240"/>
                <a:ext cx="2041560" cy="783000"/>
                <a:chOff x="6590160" y="6753240"/>
                <a:chExt cx="2041560" cy="78300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6590160" y="6753240"/>
                  <a:ext cx="204156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3" name=""/>
                <p:cNvGrpSpPr/>
                <p:nvPr/>
              </p:nvGrpSpPr>
              <p:grpSpPr>
                <a:xfrm>
                  <a:off x="6590160" y="6753240"/>
                  <a:ext cx="2041200" cy="782640"/>
                  <a:chOff x="6590160" y="6753240"/>
                  <a:chExt cx="2041200" cy="78264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>
                    <a:off x="6704640" y="6753240"/>
                    <a:ext cx="18122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6590160" y="6753240"/>
                    <a:ext cx="204120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6" name=""/>
              <p:cNvGrpSpPr/>
              <p:nvPr/>
            </p:nvGrpSpPr>
            <p:grpSpPr>
              <a:xfrm>
                <a:off x="8632080" y="6753240"/>
                <a:ext cx="1873800" cy="783000"/>
                <a:chOff x="8632080" y="6753240"/>
                <a:chExt cx="1873800" cy="7830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632080" y="6753240"/>
                  <a:ext cx="1873800" cy="78300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8" name=""/>
                <p:cNvGrpSpPr/>
                <p:nvPr/>
              </p:nvGrpSpPr>
              <p:grpSpPr>
                <a:xfrm>
                  <a:off x="8632080" y="6753240"/>
                  <a:ext cx="1873440" cy="782640"/>
                  <a:chOff x="8632080" y="6753240"/>
                  <a:chExt cx="1873440" cy="7826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>
                    <a:off x="8745840" y="6753240"/>
                    <a:ext cx="1644840" cy="782640"/>
                  </a:xfrm>
                  <a:prstGeom prst="rect">
                    <a:avLst/>
                  </a:prstGeom>
                  <a:solidFill>
                    <a:srgbClr val="d9d9d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AU" sz="1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8632080" y="6753240"/>
                    <a:ext cx="1873440" cy="78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81" name=""/>
            <p:cNvSpPr/>
            <p:nvPr/>
          </p:nvSpPr>
          <p:spPr>
            <a:xfrm>
              <a:off x="457200" y="1600200"/>
              <a:ext cx="10058040" cy="5943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3240" y="6794640"/>
            <a:ext cx="1123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05320" y="5331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Creating of variable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3300"/>
                </a:solidFill>
                <a:latin typeface="Times New Roman"/>
              </a:rPr>
              <a:t>INDIC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296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i="1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440" y="3657600"/>
            <a:ext cx="152568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umber of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057400" y="5257800"/>
            <a:ext cx="4800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Regional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43880" y="3657600"/>
            <a:ext cx="4076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83480" y="4191120"/>
            <a:ext cx="38084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 in        breakdown by kind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83480" y="5257800"/>
            <a:ext cx="411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umber of employees in breakdown by regions</a:t>
            </a: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057400" y="3657600"/>
            <a:ext cx="38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no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4191120"/>
            <a:ext cx="46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+ </a:t>
            </a:r>
            <a:r>
              <a:rPr b="1" lang="en-GB" sz="2400" spc="-1" strike="noStrike">
                <a:solidFill>
                  <a:srgbClr val="808000"/>
                </a:solidFill>
                <a:latin typeface="Times New Roman"/>
              </a:rPr>
              <a:t>Local kind of activity (</a:t>
            </a:r>
            <a:r>
              <a:rPr b="1" lang="lv-LV" sz="2400" spc="-1" strike="noStrike">
                <a:solidFill>
                  <a:srgbClr val="808000"/>
                </a:solidFill>
                <a:latin typeface="Times New Roman"/>
              </a:rPr>
              <a:t>IS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649760" y="2514600"/>
            <a:ext cx="28954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618" y="-10260"/>
                </a:moveTo>
                <a:lnTo>
                  <a:pt x="-568" y="324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Dimension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Vector</a:t>
            </a:r>
            <a:r>
              <a:rPr b="0" lang="lv-LV" sz="2000" spc="-1" strike="noStrike" u="sng">
                <a:solidFill>
                  <a:srgbClr val="000000"/>
                </a:solidFill>
                <a:uFillTx/>
                <a:latin typeface="Times New Roman"/>
              </a:rPr>
              <a:t>s)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f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49560" y="152388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808000"/>
                </a:solidFill>
                <a:latin typeface="Times New Roman"/>
              </a:rPr>
              <a:t>ATTRIBUTES</a:t>
            </a:r>
            <a:r>
              <a:rPr b="1" i="1" lang="lv-LV" sz="36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i="1" lang="lv-LV" sz="1800" spc="-1" strike="noStrike">
                <a:solidFill>
                  <a:srgbClr val="808000"/>
                </a:solidFill>
                <a:latin typeface="Times New Roman"/>
              </a:rPr>
              <a:t>(CLASSIFIC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90920" y="1600200"/>
            <a:ext cx="4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001000" y="1523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v-LV" sz="3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9520" y="456840"/>
            <a:ext cx="9559800" cy="6858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AU" sz="3200" spc="-1" strike="noStrike">
                <a:solidFill>
                  <a:srgbClr val="666633"/>
                </a:solidFill>
                <a:latin typeface="Times New Roman"/>
              </a:rPr>
              <a:t>Dimensions of objects and indicators</a:t>
            </a:r>
            <a:r>
              <a:rPr b="1" lang="lv-LV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lv-LV" sz="2400" spc="-1" strike="noStrike">
                <a:solidFill>
                  <a:srgbClr val="666633"/>
                </a:solidFill>
                <a:latin typeface="Times New Roman"/>
              </a:rPr>
              <a:t>(example)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4724280" y="4038480"/>
          <a:ext cx="6172200" cy="121932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485720"/>
              </a:tblGrid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umber of employees </a:t>
                      </a:r>
                      <a:r>
                        <a:rPr b="1" lang="en-US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n breakdown </a:t>
                      </a:r>
                      <a:r>
                        <a:rPr b="1" lang="en-US" sz="2000" spc="-1" strike="noStrike" u="sng">
                          <a:solidFill>
                            <a:srgbClr val="808000"/>
                          </a:solidFill>
                          <a:uFillTx/>
                          <a:latin typeface="Times New Roman"/>
                        </a:rPr>
                        <a:t>by kind of activ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SIC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SIC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SIC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lv-LV" sz="14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ISIC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9" name=""/>
          <p:cNvGraphicFramePr/>
          <p:nvPr/>
        </p:nvGraphicFramePr>
        <p:xfrm>
          <a:off x="1446120" y="5410080"/>
          <a:ext cx="3203280" cy="2438640"/>
        </p:xfrm>
        <a:graphic>
          <a:graphicData uri="http://schemas.openxmlformats.org/drawingml/2006/table">
            <a:tbl>
              <a:tblPr/>
              <a:tblGrid>
                <a:gridCol w="1144080"/>
                <a:gridCol w="20592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000" spc="-1" strike="noStrike">
                          <a:solidFill>
                            <a:srgbClr val="808000"/>
                          </a:solidFill>
                          <a:latin typeface="Times New Roman"/>
                        </a:rPr>
                        <a:t>Region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0" name=""/>
          <p:cNvGraphicFramePr/>
          <p:nvPr/>
        </p:nvGraphicFramePr>
        <p:xfrm>
          <a:off x="2590920" y="4038480"/>
          <a:ext cx="2057400" cy="121932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lang="en-AU" sz="21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umber of employees, </a:t>
                      </a:r>
                      <a:r>
                        <a:rPr b="1" lang="en-AU" sz="2100" spc="-1" strike="noStrike" u="sng">
                          <a:solidFill>
                            <a:srgbClr val="ff3300"/>
                          </a:solidFill>
                          <a:uFillTx/>
                          <a:latin typeface="Times New Roman"/>
                        </a:rPr>
                        <a:t>tot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047600"/>
                          <a:tab algn="l" pos="2095560"/>
                          <a:tab algn="l" pos="3143160"/>
                          <a:tab algn="l" pos="4191120"/>
                          <a:tab algn="l" pos="5238720"/>
                          <a:tab algn="l" pos="6286680"/>
                          <a:tab algn="l" pos="7334280"/>
                          <a:tab algn="l" pos="8381880"/>
                          <a:tab algn="l" pos="9429840"/>
                          <a:tab algn="l" pos="10477440"/>
                        </a:tabLst>
                      </a:pPr>
                      <a:r>
                        <a:rPr b="1" i="1" lang="lv-LV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501" name=""/>
          <p:cNvSpPr/>
          <p:nvPr/>
        </p:nvSpPr>
        <p:spPr>
          <a:xfrm rot="16200000">
            <a:off x="-171720" y="6343920"/>
            <a:ext cx="2438640" cy="57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Number of employees </a:t>
            </a:r>
            <a:r>
              <a:rPr b="1" lang="en-US" sz="1800" spc="-1" strike="noStrike">
                <a:solidFill>
                  <a:srgbClr val="808000"/>
                </a:solidFill>
                <a:latin typeface="Times New Roman"/>
              </a:rPr>
              <a:t>in breakdown </a:t>
            </a:r>
            <a:r>
              <a:rPr b="1" lang="en-US" sz="1800" spc="-1" strike="noStrike" u="sng">
                <a:solidFill>
                  <a:srgbClr val="808000"/>
                </a:solidFill>
                <a:uFillTx/>
                <a:latin typeface="Times New Roman"/>
              </a:rPr>
              <a:t>by reg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236232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MAIN KIND OF ACTIVITY (IS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95280" y="2590920"/>
            <a:ext cx="22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GIONS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(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74720" y="2819520"/>
            <a:ext cx="51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WNERSHIP AND ENTERPRENERSHIP</a:t>
            </a: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 (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208240" y="3048120"/>
            <a:ext cx="32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EMPLOYEES GROUP (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27672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Times New Roman"/>
              </a:rPr>
              <a:t>TURNOVER GROUP (Co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33160" y="2590920"/>
            <a:ext cx="19047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" y="1676520"/>
            <a:ext cx="81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9900"/>
                </a:solidFill>
                <a:uFillTx/>
                <a:latin typeface="Times New Roman"/>
              </a:rPr>
              <a:t>Main dimensions (vectors) of respondents</a:t>
            </a:r>
            <a:r>
              <a:rPr b="1" lang="lv-LV" sz="2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(objects </a:t>
            </a:r>
            <a:r>
              <a:rPr b="1" i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O(t)</a:t>
            </a:r>
            <a:r>
              <a:rPr b="1" lang="en-AU" sz="2400" spc="-1" strike="noStrike" u="sng">
                <a:solidFill>
                  <a:srgbClr val="ff9900"/>
                </a:solidFill>
                <a:uFillTx/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029200" y="54100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5120" y="5638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6400800"/>
            <a:ext cx="541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9900"/>
                </a:solidFill>
                <a:latin typeface="Times New Roman"/>
              </a:rPr>
              <a:t>Dimensions (vectors) of 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48320" y="5334120"/>
            <a:ext cx="1066680" cy="685800"/>
          </a:xfrm>
          <a:prstGeom prst="line">
            <a:avLst/>
          </a:prstGeom>
          <a:ln w="255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27680" y="58672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ff3300"/>
                </a:solidFill>
                <a:uFillTx/>
                <a:latin typeface="Times New Roman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87240" y="609480"/>
            <a:ext cx="9904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808000"/>
                </a:solidFill>
                <a:latin typeface="Times New Roman"/>
              </a:rPr>
              <a:t>Integrated Metadata Driven Quasy Process Oriented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838080" y="1752480"/>
          <a:ext cx="10134720" cy="628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10134720" cy="628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 flipV="1">
            <a:off x="7086600" y="2438280"/>
            <a:ext cx="2133720" cy="3733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029200" y="1980720"/>
            <a:ext cx="3657600" cy="2590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2516040" y="1905120"/>
            <a:ext cx="6096240" cy="3124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2590920" y="1828440"/>
            <a:ext cx="5943600" cy="2057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590920" y="1828800"/>
            <a:ext cx="602136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90920" y="1828800"/>
            <a:ext cx="6021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562720" y="1447920"/>
            <a:ext cx="2971800" cy="304560"/>
          </a:xfrm>
          <a:prstGeom prst="leftArrow">
            <a:avLst>
              <a:gd name="adj1" fmla="val 38537"/>
              <a:gd name="adj2" fmla="val 19474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79440" y="533160"/>
            <a:ext cx="10591920" cy="53316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Metadata base link with Microdata and Macrodata bases</a:t>
            </a:r>
            <a:r>
              <a:rPr b="1" lang="en-GB" sz="28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371600"/>
            <a:ext cx="16210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rv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2514600"/>
            <a:ext cx="16210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survey 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3657600"/>
            <a:ext cx="16210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chapters (data matri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9480" y="4800600"/>
            <a:ext cx="1621080" cy="90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 rows and 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94200" y="1371600"/>
            <a:ext cx="14144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ng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324480" y="1371600"/>
            <a:ext cx="14464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ing  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800600" y="2819520"/>
            <a:ext cx="19828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ng of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00400" y="48006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ing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791320" y="4800600"/>
            <a:ext cx="220968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ion form for data entr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utomatic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8837640" y="6248520"/>
            <a:ext cx="1600200" cy="114300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j0296945" descr=""/>
          <p:cNvPicPr/>
          <p:nvPr/>
        </p:nvPicPr>
        <p:blipFill>
          <a:blip r:embed="rId1"/>
          <a:stretch/>
        </p:blipFill>
        <p:spPr>
          <a:xfrm>
            <a:off x="8763120" y="4419720"/>
            <a:ext cx="1600200" cy="145404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8915400" y="6553080"/>
            <a:ext cx="15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CR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42160" y="6400800"/>
            <a:ext cx="2058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ng of  data aggregation r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971800" y="6400800"/>
            <a:ext cx="221148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ggregation function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6172200"/>
            <a:ext cx="1677960" cy="1219320"/>
          </a:xfrm>
          <a:prstGeom prst="flowChartMagneticDisk">
            <a:avLst/>
          </a:prstGeom>
          <a:solidFill>
            <a:srgbClr val="99cc00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87240" y="6553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ACRO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1604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75320" y="2286000"/>
            <a:ext cx="3826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5120" y="2286000"/>
            <a:ext cx="3826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rot="3061800">
            <a:off x="4862880" y="3440880"/>
            <a:ext cx="380880" cy="1423800"/>
          </a:xfrm>
          <a:prstGeom prst="downArrow">
            <a:avLst>
              <a:gd name="adj1" fmla="val 50000"/>
              <a:gd name="adj2" fmla="val 9345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229600" y="5105520"/>
            <a:ext cx="533520" cy="304560"/>
          </a:xfrm>
          <a:prstGeom prst="rightArrow">
            <a:avLst>
              <a:gd name="adj1" fmla="val 38537"/>
              <a:gd name="adj2" fmla="val 8247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183280" y="5105520"/>
            <a:ext cx="533160" cy="304560"/>
          </a:xfrm>
          <a:prstGeom prst="rightArrow">
            <a:avLst>
              <a:gd name="adj1" fmla="val 38537"/>
              <a:gd name="adj2" fmla="val 82424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448920" y="5943600"/>
            <a:ext cx="380880" cy="380880"/>
          </a:xfrm>
          <a:prstGeom prst="downArrow">
            <a:avLst>
              <a:gd name="adj1" fmla="val 50000"/>
              <a:gd name="adj2" fmla="val 4250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0800000">
            <a:off x="8153280" y="6629040"/>
            <a:ext cx="533520" cy="304920"/>
          </a:xfrm>
          <a:prstGeom prst="rightArrow">
            <a:avLst>
              <a:gd name="adj1" fmla="val 38537"/>
              <a:gd name="adj2" fmla="val 82382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rot="10800000">
            <a:off x="5333760" y="6705720"/>
            <a:ext cx="533160" cy="304560"/>
          </a:xfrm>
          <a:prstGeom prst="rightArrow">
            <a:avLst>
              <a:gd name="adj1" fmla="val 38537"/>
              <a:gd name="adj2" fmla="val 82424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0800000">
            <a:off x="2362320" y="6629400"/>
            <a:ext cx="458640" cy="380880"/>
          </a:xfrm>
          <a:prstGeom prst="rightArrow">
            <a:avLst>
              <a:gd name="adj1" fmla="val 38537"/>
              <a:gd name="adj2" fmla="val 5669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8763120" y="1143000"/>
            <a:ext cx="1674720" cy="1143000"/>
          </a:xfrm>
          <a:prstGeom prst="flowChartMagneticDisk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612280" y="129528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 DATA BAS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POSITO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001000" y="1752480"/>
            <a:ext cx="533520" cy="381240"/>
          </a:xfrm>
          <a:prstGeom prst="leftArrow">
            <a:avLst>
              <a:gd name="adj1" fmla="val 38333"/>
              <a:gd name="adj2" fmla="val 58893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145440" y="7467480"/>
            <a:ext cx="114156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Arial"/>
              </a:rPr>
              <a:t>IMPORT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9067680" y="7391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363320" y="73915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3200" spc="-1" strike="noStrike">
                <a:solidFill>
                  <a:srgbClr val="808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952524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e system has been developed within 2,5 years (January 2000 to July 2002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Development has been done by outsourced company Microlink Latvia in close cooperation with the experts from CSB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600 000 Euros has been spend for the system development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se of the system in CSB of Latvia started transition from Stove Pipe to Process Oriented approach to statistical data 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5791320" y="3276720"/>
            <a:ext cx="379440" cy="3504960"/>
          </a:xfrm>
          <a:prstGeom prst="downArrow">
            <a:avLst>
              <a:gd name="adj1" fmla="val 43750"/>
              <a:gd name="adj2" fmla="val 14257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962520"/>
            <a:ext cx="411660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16040" y="3352680"/>
            <a:ext cx="379440" cy="3276720"/>
          </a:xfrm>
          <a:prstGeom prst="downArrow">
            <a:avLst>
              <a:gd name="adj1" fmla="val 40000"/>
              <a:gd name="adj2" fmla="val 145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971800" y="3352680"/>
            <a:ext cx="382680" cy="1752840"/>
          </a:xfrm>
          <a:prstGeom prst="downArrow">
            <a:avLst>
              <a:gd name="adj1" fmla="val 40000"/>
              <a:gd name="adj2" fmla="val 11177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076640" y="609480"/>
            <a:ext cx="6438960" cy="53352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3200" spc="-1" strike="noStrike">
                <a:solidFill>
                  <a:srgbClr val="666633"/>
                </a:solidFill>
                <a:latin typeface="Times New Roman"/>
              </a:rPr>
              <a:t>Data entry and validat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34520" y="5105520"/>
            <a:ext cx="1598400" cy="900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transfer to Micro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7440" y="2286000"/>
            <a:ext cx="16178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data entry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86400" y="2209680"/>
            <a:ext cx="1525680" cy="9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validation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287440" y="3733920"/>
            <a:ext cx="1600200" cy="8380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3300"/>
                </a:solidFill>
                <a:latin typeface="Arial"/>
              </a:rPr>
              <a:t>Standard data entry an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62120" y="2286000"/>
            <a:ext cx="13716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eating list of Respon- 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612280" y="3352680"/>
            <a:ext cx="1520640" cy="1371600"/>
          </a:xfrm>
          <a:prstGeom prst="flowChartMagneticDisk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763120" y="3429000"/>
            <a:ext cx="123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MICRO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686800" y="6705720"/>
            <a:ext cx="1371600" cy="1218960"/>
          </a:xfrm>
          <a:prstGeom prst="flowChartMagneticDisk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763120" y="6705720"/>
            <a:ext cx="121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RAW Web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29000" y="3352680"/>
            <a:ext cx="379440" cy="381240"/>
          </a:xfrm>
          <a:prstGeom prst="downArrow">
            <a:avLst>
              <a:gd name="adj1" fmla="val 38333"/>
              <a:gd name="adj2" fmla="val 619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9560" y="1676520"/>
            <a:ext cx="225360" cy="380880"/>
          </a:xfrm>
          <a:prstGeom prst="downArrow">
            <a:avLst>
              <a:gd name="adj1" fmla="val 50000"/>
              <a:gd name="adj2" fmla="val 71829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590920" y="762120"/>
            <a:ext cx="1296720" cy="838080"/>
          </a:xfrm>
          <a:prstGeom prst="flowChartMagneticDisk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20960" y="685800"/>
            <a:ext cx="91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 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12960" y="762120"/>
            <a:ext cx="1295280" cy="838080"/>
          </a:xfrm>
          <a:prstGeom prst="flowChartMagneticDisk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6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12960" y="99072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362320" y="5334120"/>
            <a:ext cx="152532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ss data 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62320" y="6858000"/>
            <a:ext cx="1600200" cy="9144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Web data entry and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75320" y="4952880"/>
            <a:ext cx="1374840" cy="1219320"/>
          </a:xfrm>
          <a:prstGeom prst="flowChartMagneticDisk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9400" y="5029200"/>
            <a:ext cx="122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1" lang="lv-LV" sz="2000" spc="-1" strike="noStrike">
                <a:solidFill>
                  <a:srgbClr val="ff3300"/>
                </a:solidFill>
                <a:latin typeface="Arial"/>
              </a:rPr>
              <a:t>AW</a:t>
            </a: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341960" y="7162920"/>
            <a:ext cx="419256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341960" y="7467480"/>
            <a:ext cx="99216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41960" y="5562720"/>
            <a:ext cx="205884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486400" y="3809880"/>
            <a:ext cx="15256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4267080" y="4191120"/>
            <a:ext cx="106704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7440" y="4191120"/>
            <a:ext cx="1146240" cy="0"/>
          </a:xfrm>
          <a:prstGeom prst="line">
            <a:avLst/>
          </a:prstGeom>
          <a:ln w="10152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53080" y="3276720"/>
            <a:ext cx="381240" cy="380880"/>
          </a:xfrm>
          <a:prstGeom prst="downArrow">
            <a:avLst>
              <a:gd name="adj1" fmla="val 38333"/>
              <a:gd name="adj2" fmla="val 61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408640" y="6858000"/>
            <a:ext cx="152568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Web 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162920" y="7391520"/>
            <a:ext cx="144936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371600" y="1676520"/>
            <a:ext cx="228600" cy="380880"/>
          </a:xfrm>
          <a:prstGeom prst="downArrow">
            <a:avLst>
              <a:gd name="adj1" fmla="val 50000"/>
              <a:gd name="adj2" fmla="val 70811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001000" y="5486400"/>
            <a:ext cx="457200" cy="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9448920" y="5866920"/>
            <a:ext cx="0" cy="76212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9371160" y="4419720"/>
            <a:ext cx="0" cy="45720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534520" y="6248520"/>
            <a:ext cx="1677960" cy="265320"/>
          </a:xfrm>
          <a:prstGeom prst="rect">
            <a:avLst/>
          </a:prstGeom>
          <a:solidFill>
            <a:srgbClr val="ff66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 i r e   w a l 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458200" y="2209680"/>
            <a:ext cx="1617840" cy="519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import from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Cdrom1" descr=""/>
          <p:cNvPicPr/>
          <p:nvPr/>
        </p:nvPicPr>
        <p:blipFill>
          <a:blip r:embed="rId1"/>
          <a:stretch/>
        </p:blipFill>
        <p:spPr>
          <a:xfrm>
            <a:off x="9448920" y="1676520"/>
            <a:ext cx="533160" cy="493560"/>
          </a:xfrm>
          <a:prstGeom prst="rect">
            <a:avLst/>
          </a:prstGeom>
          <a:ln w="0">
            <a:noFill/>
          </a:ln>
        </p:spPr>
      </p:pic>
      <p:pic>
        <p:nvPicPr>
          <p:cNvPr id="597" name="Floppy2" descr=""/>
          <p:cNvPicPr/>
          <p:nvPr/>
        </p:nvPicPr>
        <p:blipFill>
          <a:blip r:embed="rId2"/>
          <a:stretch/>
        </p:blipFill>
        <p:spPr>
          <a:xfrm>
            <a:off x="8686800" y="1676520"/>
            <a:ext cx="609480" cy="4888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9296280" y="2743200"/>
            <a:ext cx="0" cy="457200"/>
          </a:xfrm>
          <a:prstGeom prst="line">
            <a:avLst/>
          </a:prstGeom>
          <a:ln w="101520">
            <a:solidFill>
              <a:srgbClr val="66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391520" y="2971800"/>
            <a:ext cx="1295280" cy="60948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Full data valid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795600">
            <a:off x="8457840" y="3200040"/>
            <a:ext cx="457200" cy="380880"/>
          </a:xfrm>
          <a:custGeom>
            <a:avLst/>
            <a:gdLst>
              <a:gd name="textAreaLeft" fmla="*/ 0 w 457200"/>
              <a:gd name="textAreaRight" fmla="*/ 457560 w 4572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2387000">
            <a:off x="8303760" y="3504960"/>
            <a:ext cx="459000" cy="380880"/>
          </a:xfrm>
          <a:custGeom>
            <a:avLst/>
            <a:gdLst>
              <a:gd name="textAreaLeft" fmla="*/ 0 w 459000"/>
              <a:gd name="textAreaRight" fmla="*/ 459360 w 4590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j0296945" descr=""/>
          <p:cNvPicPr/>
          <p:nvPr/>
        </p:nvPicPr>
        <p:blipFill>
          <a:blip r:embed="rId3"/>
          <a:stretch/>
        </p:blipFill>
        <p:spPr>
          <a:xfrm>
            <a:off x="912960" y="4724280"/>
            <a:ext cx="1569960" cy="160020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600200" y="3200400"/>
            <a:ext cx="608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46120" y="3200400"/>
            <a:ext cx="91620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200400"/>
            <a:ext cx="99216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183800">
            <a:off x="3965400" y="1508040"/>
            <a:ext cx="1917720" cy="154080"/>
          </a:xfrm>
          <a:prstGeom prst="rightArrow">
            <a:avLst>
              <a:gd name="adj1" fmla="val 50000"/>
              <a:gd name="adj2" fmla="val 31115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rot="777600">
            <a:off x="3981240" y="1536840"/>
            <a:ext cx="4351320" cy="139680"/>
          </a:xfrm>
          <a:prstGeom prst="rightArrow">
            <a:avLst>
              <a:gd name="adj1" fmla="val 50000"/>
              <a:gd name="adj2" fmla="val 778802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rot="2664000">
            <a:off x="7086240" y="2895480"/>
            <a:ext cx="468360" cy="154080"/>
          </a:xfrm>
          <a:prstGeom prst="rightArrow">
            <a:avLst>
              <a:gd name="adj1" fmla="val 50000"/>
              <a:gd name="adj2" fmla="val 7599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600" spc="-1" strike="noStrike">
                <a:solidFill>
                  <a:srgbClr val="808000"/>
                </a:solidFill>
                <a:latin typeface="Times New Roman"/>
              </a:rPr>
              <a:t>RESULTS ACHIEVED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95252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ate within the Metadata Driven Integrated Statistical Data Processing and Dissemination System 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rveys are imple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ponse rate of WEB data collection for some surveys achieved 30 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has been presented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 the Conference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On ISIS 2002, April 2002, Geneva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NET Project Meeting, Samos, Greece, May 2003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AMRADS Final Conference, Roma, Italy, November 2003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MSIS 2004, May 2004, Geneva Switzerlan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Statistics - investment in the future”, Prague, September 2004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“ Development of the State Statistical System” Yalta, Ukraine, September 2004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687240" y="609480"/>
            <a:ext cx="9323640" cy="11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1981080"/>
            <a:ext cx="1097136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851040" indent="-32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of the new information system should be based on the results of deep analysis of the statistical processes and data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272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r objectives of achievements have to be set up,  discussed and approved by all parties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35280" indent="-26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687240" y="609480"/>
            <a:ext cx="10361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7240" y="1981080"/>
            <a:ext cx="1036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in the process of the design and implementation of metadata driven integrated statistical information system both partie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isticians and IT specialists should be involved from the very beg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h parties have to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ear understanding of all statistical processes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will be covered by the system, as well as metadata meaning and role within the system from production and user s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687240" y="609480"/>
            <a:ext cx="10361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87240" y="1981080"/>
            <a:ext cx="1036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itiativ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move from classical stove-pipe production approach to process oriented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ave to come from statisticia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ide not from IT personal  or admin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statisticians to move from existing to the new data processing environment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ssentia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mprovement of knowledg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bout metadata is one of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important task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through o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 of the all process of the design and implementation phases of the proj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87240" y="609480"/>
            <a:ext cx="103618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7240" y="1981080"/>
            <a:ext cx="1036188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lear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ivision of the tasks and responsibiliti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etween statisticians and IT personal is the key point to achieve successful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achieve the best performance of the entire system it is  important to organize the execution of the statistical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ocesses in the right seque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sign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the new surveys and questionnaires particularly as well as changes in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isting ones should be done in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ccordance with the system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952524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result of feasibility study we clear understood, that </a:t>
            </a:r>
            <a:r>
              <a:rPr b="1" lang="lv-LV" sz="32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p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statistical data processing for different survey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y standardizatio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ach survey may require complementary functionality (non standard procedures), which is necessary just for this exact survey data processing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olving problems with the non-standard procedures interfaces for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xport/impor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/from system has been developed to ensure use of the standard statistical data processing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packages and other generalized software available in market;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2800" spc="-1" strike="noStrike">
                <a:solidFill>
                  <a:srgbClr val="808000"/>
                </a:solidFill>
                <a:latin typeface="Times New Roman"/>
              </a:rPr>
              <a:t>LESSONS LEARNED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95252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ecessary to establish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cial group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i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wi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Metadata b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which will be responsible for accurateness of metadata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administration and maintenance of the system it is necessary to hav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trained IT staf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s familiar with the MS SQL Server 2000 administration, MS Analysis Service, other MS tools, PC AXIS family products and system Data Model, system applica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0">
              <a:spcBef>
                <a:spcPts val="799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895480"/>
            <a:ext cx="9525240" cy="13716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6600" spc="-1" strike="noStrike">
                <a:solidFill>
                  <a:srgbClr val="808000"/>
                </a:solidFill>
                <a:latin typeface="Times New Roman"/>
              </a:rPr>
              <a:t>Thank you for attention !</a:t>
            </a:r>
            <a:endParaRPr b="0" lang="en-US" sz="6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676160" y="4876920"/>
            <a:ext cx="78483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Karlis Zeila =  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Karlis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Zeila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@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5"/>
              </a:rPr>
              <a:t>csb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7"/>
              </a:rPr>
              <a:t>gov</a:t>
            </a:r>
            <a:r>
              <a:rPr b="0" lang="lv-LV" sz="3600" spc="-1" strike="noStrike" u="sng">
                <a:solidFill>
                  <a:srgbClr val="0033cc"/>
                </a:solidFill>
                <a:uFillTx/>
                <a:latin typeface="Times New Roman"/>
                <a:hlinkClick r:id="rId8"/>
              </a:rPr>
              <a:t>.l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</a:rPr>
              <a:t>http://www.csb.l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400" spc="-1" strike="noStrike">
                <a:solidFill>
                  <a:srgbClr val="808000"/>
                </a:solidFill>
                <a:latin typeface="Times New Roman"/>
              </a:rPr>
              <a:t>META DATA DRIVEN ... 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916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799920" indent="-307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y action within the system is ruled by metada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9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0760" y="2819520"/>
            <a:ext cx="955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a data is the key element of the system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20760" y="3657600"/>
            <a:ext cx="955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oftware modules of entire system is connected with the Core Metadata module (Meta data base)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20760" y="4800600"/>
            <a:ext cx="9555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hanges within the system starts with the changes of meta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5943600"/>
            <a:ext cx="9555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lv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cycle of the data processing is possible as late as the proper description process in meta  data base are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20760" y="6095880"/>
            <a:ext cx="9555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2600" y="5335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lv-LV" sz="4400" spc="-1" strike="noStrike">
                <a:solidFill>
                  <a:srgbClr val="808000"/>
                </a:solidFill>
                <a:latin typeface="Times New Roman"/>
              </a:rPr>
              <a:t>INTEGRATED ... ?</a:t>
            </a:r>
            <a:br>
              <a:rPr sz="32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01360" y="990720"/>
            <a:ext cx="9102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91280" indent="-304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system software modules are connected with the Registers modul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84480" y="1905120"/>
            <a:ext cx="86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s module is an integral part of the system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5909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surveys are supported by adequate classifications  stored in the Meta data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365760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ll surveys respondent data fields are connected with register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46483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data is stored in corporative data ware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334120"/>
            <a:ext cx="9104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istical data processing has split in unified steps for different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7240" y="6477120"/>
            <a:ext cx="9102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51040" indent="-32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ort 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 procedures ensure work with the system data files using different standard software 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2600" y="304920"/>
            <a:ext cx="9559800" cy="4572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Advantages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 and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  <a:ea typeface="Times New Roman"/>
              </a:rPr>
              <a:t> Restriction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838080"/>
            <a:ext cx="19810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666633"/>
                </a:solidFill>
                <a:uFillTx/>
                <a:latin typeface="Times New Roman"/>
                <a:ea typeface="Times New Roman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2743200"/>
            <a:ext cx="1036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entraliz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cessing and storage of the statistical data, including metadata, by using data warehouse technologies and OLAP to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3809880"/>
            <a:ext cx="104407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.  All the data processing procedures are being hosted from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mmon metadata syste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These procedures are being described in metadata base, by using special pseudo language and defined notation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refore for standardized procedure execution for each survey individu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rogramming is not requi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715000"/>
            <a:ext cx="10363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.  The system is informatively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connected with Business Regis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hich provides with the direct respondent data retrieval and updat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629400"/>
            <a:ext cx="10287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5. Special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import and expor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cedure is created for data exchange with oth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7467480"/>
            <a:ext cx="100584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6. A link with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C Ax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s created for electronic data dissemin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1066680"/>
            <a:ext cx="990612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05915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At most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Times New Roman"/>
              </a:rPr>
              <a:t>standardized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main business statistics data entry, processing and storage procedures, that provide the transfer from stove pipe data processing to process oriented data process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9524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228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 u="sng">
                <a:solidFill>
                  <a:srgbClr val="993300"/>
                </a:solidFill>
                <a:uFillTx/>
                <a:latin typeface="Times New Roman"/>
                <a:ea typeface="Times New Roman"/>
              </a:rPr>
              <a:t>Restrictio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28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066680"/>
            <a:ext cx="103633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1.The system is oriented towards the data processing of different periodicity surveys, where data collected using respondents filled questionnaires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Some adaptation would be necessary for use CAPI, CATI technologies 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895480"/>
            <a:ext cx="1043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Metadata base does not foreseen description of confidentiality rules for data dissemination, they are hard coded in the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257800"/>
            <a:ext cx="10439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Hardware and Standard software requirement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PC’s &gt;/= Pentium II, RAM &gt;/=128Mb equipped with W – 95 to W-2000 and MS Office 2000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781680"/>
            <a:ext cx="10363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Metadata base does not foreseen description of algorithm for automatic creation of respondents lists for Sample surveys from the Business register frame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962520"/>
            <a:ext cx="10517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3840" indent="-393840">
              <a:spcBef>
                <a:spcPts val="751"/>
              </a:spcBef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. Diagnostic tools for the metadata descriptions are not powerful enough, therefore experts preparing meta data descriptions should be of high experien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36720" y="190440"/>
            <a:ext cx="9556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760" rIns="10476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US" sz="1800" spc="-1" strike="noStrike">
                <a:solidFill>
                  <a:srgbClr val="666633"/>
                </a:solidFill>
                <a:latin typeface="Arial"/>
              </a:rPr>
              <a:t>ISDMS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9752040" cy="729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2960" y="609480"/>
            <a:ext cx="6403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ted statistical data managem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6720" y="1047600"/>
            <a:ext cx="586728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4280" y="990720"/>
            <a:ext cx="3962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porative data Wareho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2080" y="1066680"/>
            <a:ext cx="304560" cy="304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45240" y="1047600"/>
            <a:ext cx="2818080" cy="306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73840" y="1047600"/>
            <a:ext cx="2365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SB Web S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52880" y="12970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1752480"/>
            <a:ext cx="1522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cro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2970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1752480"/>
            <a:ext cx="137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2668680"/>
            <a:ext cx="1600200" cy="12175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3124080"/>
            <a:ext cx="1523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cro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6668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048120"/>
            <a:ext cx="137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sters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26668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4920" y="3048120"/>
            <a:ext cx="1374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AP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1295280"/>
            <a:ext cx="1600200" cy="121932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1219320"/>
            <a:ext cx="1600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r adminis- tration dat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148600" y="1333440"/>
            <a:ext cx="1603440" cy="95256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153280" y="1371600"/>
            <a:ext cx="1677960" cy="8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Dissemi-nation data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91520" y="3352680"/>
            <a:ext cx="3200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ndows 2000 Server Advanced        MS Internet Information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QL server 2000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C-Ax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191120"/>
            <a:ext cx="845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DMS Business application Software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60400" y="4495680"/>
            <a:ext cx="168588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4495680"/>
            <a:ext cx="182880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95680" y="4495680"/>
            <a:ext cx="182880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495680"/>
            <a:ext cx="199548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447040" y="4495680"/>
            <a:ext cx="1967040" cy="16192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5720" y="455292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e metadata base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35360" y="4552920"/>
            <a:ext cx="12175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gisters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4495680"/>
            <a:ext cx="1839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entry and valid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86400" y="4495680"/>
            <a:ext cx="19670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ggreg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28200" y="4495680"/>
            <a:ext cx="13716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analysis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629400" y="190512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190512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6310800" y="2453040"/>
            <a:ext cx="167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0400" y="5162400"/>
            <a:ext cx="168588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39880" y="5162400"/>
            <a:ext cx="17798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5162400"/>
            <a:ext cx="18730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ADATA MICRODATA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86400" y="516240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40640" y="5162400"/>
            <a:ext cx="1873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ACRO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61640" y="592452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48600" y="2419200"/>
            <a:ext cx="1603440" cy="933480"/>
          </a:xfrm>
          <a:prstGeom prst="flowChartMagneticDisk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53280" y="2666880"/>
            <a:ext cx="1677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Arial"/>
              </a:rPr>
              <a:t>Raw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data ba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276720"/>
            <a:ext cx="382680" cy="171360"/>
          </a:xfrm>
          <a:prstGeom prst="rightArrow">
            <a:avLst>
              <a:gd name="adj1" fmla="val 50000"/>
              <a:gd name="adj2" fmla="val 55830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67480" y="2743200"/>
            <a:ext cx="374760" cy="190440"/>
          </a:xfrm>
          <a:prstGeom prst="leftArrow">
            <a:avLst>
              <a:gd name="adj1" fmla="val 50000"/>
              <a:gd name="adj2" fmla="val 49197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3048120"/>
            <a:ext cx="374760" cy="152280"/>
          </a:xfrm>
          <a:prstGeom prst="leftArrow">
            <a:avLst>
              <a:gd name="adj1" fmla="val 50000"/>
              <a:gd name="adj2" fmla="val 615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0400" y="6172200"/>
            <a:ext cx="168588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6172200"/>
            <a:ext cx="182880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6172200"/>
            <a:ext cx="182880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6172200"/>
            <a:ext cx="1995480" cy="1676520"/>
          </a:xfrm>
          <a:prstGeom prst="rect">
            <a:avLst/>
          </a:prstGeom>
          <a:solidFill>
            <a:srgbClr val="ccff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0400" y="6210360"/>
            <a:ext cx="15922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dissemination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41760" y="624852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WEB entry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324480"/>
            <a:ext cx="15922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mass entry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5320" y="6324480"/>
            <a:ext cx="1746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ssed data imput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6800" y="687708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TADATA M</a:t>
            </a:r>
            <a:r>
              <a:rPr b="1" lang="lv-LV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6934320"/>
            <a:ext cx="167796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1760" y="6781680"/>
            <a:ext cx="1600200" cy="10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10800" bIns="10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W 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6934320"/>
            <a:ext cx="196704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IMPUTATION SOFTW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58200" y="6172200"/>
            <a:ext cx="1967040" cy="16765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6248520"/>
            <a:ext cx="184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administration modu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 u="sng">
                <a:solidFill>
                  <a:srgbClr val="ff3300"/>
                </a:solidFill>
                <a:uFillTx/>
                <a:latin typeface="Arial"/>
              </a:rPr>
              <a:t>related with D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34520" y="6934320"/>
            <a:ext cx="1966680" cy="9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DATA MICRODATA MACRO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ER ADMINIST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2971800"/>
            <a:ext cx="382680" cy="152280"/>
          </a:xfrm>
          <a:prstGeom prst="rightArrow">
            <a:avLst>
              <a:gd name="adj1" fmla="val 50000"/>
              <a:gd name="adj2" fmla="val 62825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1859040" y="1774800"/>
          <a:ext cx="7521480" cy="50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9040" y="1774800"/>
                    <a:ext cx="7521480" cy="50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71600" y="782640"/>
          <a:ext cx="10298160" cy="700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00" y="782640"/>
                    <a:ext cx="10298160" cy="700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9598320" cy="914400"/>
          </a:xfrm>
          <a:prstGeom prst="rect">
            <a:avLst/>
          </a:prstGeom>
          <a:noFill/>
          <a:ln w="0">
            <a:noFill/>
          </a:ln>
        </p:spPr>
        <p:txBody>
          <a:bodyPr lIns="104760" rIns="104760" tIns="52560" bIns="52560" anchor="ctr">
            <a:noAutofit/>
          </a:bodyPr>
          <a:p>
            <a:pPr indent="0" algn="ctr">
              <a:buNone/>
              <a:tabLst>
                <a:tab algn="l" pos="0"/>
                <a:tab algn="l" pos="1047600"/>
                <a:tab algn="l" pos="2095560"/>
                <a:tab algn="l" pos="3143160"/>
                <a:tab algn="l" pos="4191120"/>
                <a:tab algn="l" pos="5238720"/>
                <a:tab algn="l" pos="6286680"/>
                <a:tab algn="l" pos="7334280"/>
                <a:tab algn="l" pos="8381880"/>
                <a:tab algn="l" pos="9429840"/>
                <a:tab algn="l" pos="10477440"/>
              </a:tabLst>
            </a:pPr>
            <a:r>
              <a:rPr b="1" lang="en-GB" sz="3200" spc="-1" strike="noStrike">
                <a:solidFill>
                  <a:srgbClr val="666633"/>
                </a:solidFill>
                <a:latin typeface="Times New Roman"/>
              </a:rPr>
              <a:t>Structure of microdata (observation data) </a:t>
            </a:r>
            <a:br>
              <a:rPr sz="3200"/>
            </a:br>
            <a:r>
              <a:rPr b="0" lang="en-GB" sz="2400" spc="-1" strike="noStrike">
                <a:solidFill>
                  <a:srgbClr val="666633"/>
                </a:solidFill>
                <a:latin typeface="Times New Roman"/>
              </a:rPr>
              <a:t>[Bo Sundgren model]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1143000"/>
            <a:ext cx="9829800" cy="24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characteristic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4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 = O(t).V(t)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s an object type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is a variable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s a time parameter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ach result of observation is a value of vari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data element) -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3352680"/>
            <a:ext cx="1020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values of each variable are attached to object (respondent) requisites, which could be called - vectors or dimensions. Analysing population of the respondents, these dimensions we are using for formation of different groupings and for data aggreg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5105520"/>
            <a:ext cx="102092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imensions listed below could be attached to each value of variable in agricultural statistic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ain kind of Activities  (ISIC classification);                                      - Kind of Ownership and Entrepreneurship  (code)                               - Regional location  (code)                                                                     - Employees group classification (code)                                                              - Turnover group classification (cod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3:31:32Z</dcterms:created>
  <dc:creator>csb</dc:creator>
  <dc:description/>
  <dc:language>en-US</dc:language>
  <cp:lastModifiedBy> </cp:lastModifiedBy>
  <dcterms:modified xsi:type="dcterms:W3CDTF">2004-11-03T04:26:27Z</dcterms:modified>
  <cp:revision>106</cp:revision>
  <dc:subject/>
  <dc:title>Integrētā statistisko datu apstrādes un vadības sistēma “ISDAVS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4159959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3</vt:lpwstr>
  </property>
</Properties>
</file>