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3DD7-8E0F-40F6-9B2C-E500920DA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CA3B-140B-439F-BEE5-05D5E5CA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42B9-4AA9-4753-B1CF-BC2442A58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2B74-23F2-41C2-9067-ABA90BF9E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CD72-00A1-4434-AEF1-D253FC70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717E-F772-4C6B-B6CC-31EE84A6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36F8-1882-43BC-B81C-53D83413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F24F-E9B5-4671-831A-E757E0BC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8581-6DDD-45A8-BB23-9584392C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6289-5934-4500-980A-4E75CA73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4840-781E-457D-9781-AC8ACC4E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C220-9323-43ED-B81E-A33973D0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7415-C5E2-47FE-AE25-B517BB65D57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package" Target="../embeddings/oleObject1.docx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package" Target="../embeddings/oleObject1.docx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package" Target="../embeddings/oleObject1.docx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71640" y="2917800"/>
            <a:ext cx="7200720" cy="1146240"/>
          </a:xfrm>
          <a:prstGeom prst="roundRect">
            <a:avLst>
              <a:gd name="adj" fmla="val 16667"/>
            </a:avLst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FARMS MULTIFUNCTIONALITY AND HOUSEHOLDS INCOMES IN SUSTAINABLE RURAL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7626240" y="210960"/>
          <a:ext cx="1266840" cy="625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6240" y="210960"/>
                    <a:ext cx="126684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2050920" y="189000"/>
            <a:ext cx="658800" cy="646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250920" y="298440"/>
            <a:ext cx="1703160" cy="336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90200" y="1903320"/>
            <a:ext cx="58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ff"/>
                </a:solidFill>
                <a:latin typeface="Times New Roman"/>
              </a:rPr>
              <a:t>Session 4: Income and Employment of the Rural Househ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43200" y="414180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By  Marco Ballin    Andrea Mancini     Edoardo Pizzo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37800" y="58770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STAT, It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484360" y="1484280"/>
            <a:ext cx="4321080" cy="792360"/>
          </a:xfrm>
          <a:prstGeom prst="rect">
            <a:avLst/>
          </a:prstGeom>
          <a:solidFill>
            <a:srgbClr val="3366ff">
              <a:alpha val="60000"/>
            </a:srgbClr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Times New Roman"/>
              </a:rPr>
              <a:t>Main economic results of Italian fa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8800" y="2924280"/>
            <a:ext cx="70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66"/>
                </a:solidFill>
                <a:latin typeface="Times New Roman"/>
              </a:rPr>
              <a:t>Table2 – Distribution of structural variables (outputs) by classes of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560" y="5373720"/>
            <a:ext cx="62964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ffffff"/>
                </a:solidFill>
                <a:latin typeface="Times New Roman"/>
              </a:rPr>
              <a:t>Sources: Istat –Business Survey on Farms, Agricultural Census 2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ffffff"/>
                </a:solidFill>
                <a:latin typeface="Times New Roman"/>
              </a:rPr>
              <a:t>(*)About 20% of the farms in the first row are specialised in animal breading</a:t>
            </a:r>
            <a:r>
              <a:rPr b="1" lang="it-IT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84360" y="3284640"/>
            <a:ext cx="8388360" cy="2342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5" name=""/>
          <p:cNvGraphicFramePr/>
          <p:nvPr/>
        </p:nvGraphicFramePr>
        <p:xfrm>
          <a:off x="7626240" y="210960"/>
          <a:ext cx="1266840" cy="625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6240" y="210960"/>
                    <a:ext cx="126684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2050920" y="189000"/>
            <a:ext cx="658800" cy="6462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6"/>
          <a:stretch/>
        </p:blipFill>
        <p:spPr>
          <a:xfrm>
            <a:off x="250920" y="298440"/>
            <a:ext cx="1703160" cy="3366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042920" y="3933720"/>
            <a:ext cx="649440" cy="50328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16360" y="3933720"/>
            <a:ext cx="649080" cy="50328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20253600">
            <a:off x="87120" y="551628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Wingdings"/>
                <a:ea typeface="Wingdings"/>
              </a:rPr>
              <a:t>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92360" y="4292640"/>
            <a:ext cx="719280" cy="57456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5.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19280" y="4292640"/>
            <a:ext cx="719280" cy="57456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&lt;5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500"/>
                            </p:stCondLst>
                            <p:childTnLst>
                              <p:par>
                                <p:cTn id="70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385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2" dur="385" fill="hold"/>
                                        <p:tgtEl>
                                          <p:spTgt spid="2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4" dur="385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6" dur="385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remove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483 -0.08334 C 0.02535 -0.08519 0.02553 -0.08704 0.02622 -0.08889 C 0.02691 -0.09098 0.02848 -0.09237 0.029 -0.09445 C 0.03212 -0.10556 0.03351 -0.11806 0.03594 -0.12963 C 0.03924 -0.14607 0.0448 -0.16065 0.04983 -0.17593 C 0.05747 -0.19885 0.04653 -0.175 0.05816 -0.19815 C 0.06372 -0.2095 0.06893 -0.2213 0.07344 -0.23334 C 0.07483 -0.23704 0.07639 -0.24075 0.07761 -0.24445 C 0.07882 -0.24792 0.08108 -0.25926 0.08039 -0.25556 C 0.07796 -0.24213 0.075 -0.23056 0.07344 -0.21667 C 0.07431 -0.20926 0.07362 -0.20116 0.07622 -0.19445 C 0.07639 -0.19399 0.09063 -0.18982 0.09428 -0.18889 C 0.10452 -0.18959 0.11459 -0.18959 0.12483 -0.19075 C 0.13542 -0.1919 0.14792 -0.19908 0.15816 -0.20371 C 0.17414 -0.21088 0.19028 -0.21667 0.20678 -0.22223 C 0.21754 -0.22593 0.229 -0.22338 0.24011 -0.22408 C 0.25591 -0.22825 0.24948 -0.22616 0.25955 -0.22963 C 0.26858 -0.23774 0.27969 -0.24005 0.28872 -0.24815 C 0.29306 -0.23079 0.28091 -0.20463 0.29566 -0.19815 C 0.29983 -0.2 0.30191 -0.20116 0.30678 -0.20186 C 0.31841 -0.20348 0.3415 -0.20556 0.3415 -0.20556 C 0.34289 -0.20625 0.34566 -0.20741 0.34566 -0.20741 E">
                                      <p:cBhvr>
                                        <p:cTn id="739" dur="5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484360" y="1484280"/>
            <a:ext cx="4321080" cy="792360"/>
          </a:xfrm>
          <a:prstGeom prst="rect">
            <a:avLst/>
          </a:prstGeom>
          <a:solidFill>
            <a:srgbClr val="3366ff">
              <a:alpha val="60000"/>
            </a:srgbClr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Times New Roman"/>
              </a:rPr>
              <a:t>Italian multifunctional farms and househol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9520" y="2924280"/>
            <a:ext cx="63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66"/>
                </a:solidFill>
                <a:latin typeface="Times New Roman"/>
              </a:rPr>
              <a:t>Table 3 - Households and multifunctional farms distributions (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6960" y="5373720"/>
            <a:ext cx="5642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ffffff"/>
                </a:solidFill>
                <a:latin typeface="Times New Roman"/>
              </a:rPr>
              <a:t>Sources: Istat –Business Survey on Farms, Agricultural Census 2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68360" y="3286080"/>
            <a:ext cx="7810560" cy="230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8" name=""/>
          <p:cNvGraphicFramePr/>
          <p:nvPr/>
        </p:nvGraphicFramePr>
        <p:xfrm>
          <a:off x="7626240" y="210960"/>
          <a:ext cx="1266840" cy="625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6240" y="210960"/>
                    <a:ext cx="126684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2050920" y="189000"/>
            <a:ext cx="658800" cy="646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6"/>
          <a:stretch/>
        </p:blipFill>
        <p:spPr>
          <a:xfrm>
            <a:off x="250920" y="298440"/>
            <a:ext cx="1703160" cy="3366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690560" y="3789360"/>
            <a:ext cx="649440" cy="1224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580000" y="3789360"/>
            <a:ext cx="649440" cy="1224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20253600">
            <a:off x="87120" y="551628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Wingdings"/>
                <a:ea typeface="Wingdings"/>
              </a:rPr>
              <a:t>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59280" y="4149720"/>
            <a:ext cx="719280" cy="57456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&gt;9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00000" y="4149720"/>
            <a:ext cx="719280" cy="57456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50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2360" y="5072040"/>
            <a:ext cx="64908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580000" y="5072040"/>
            <a:ext cx="64944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4064040"/>
            <a:ext cx="649440" cy="1224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308720" y="3789360"/>
            <a:ext cx="64944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95640" y="3789360"/>
            <a:ext cx="64944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4360" y="3789360"/>
            <a:ext cx="64908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1000"/>
                            </p:stCondLst>
                            <p:childTnLst>
                              <p:par>
                                <p:cTn id="75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500"/>
                            </p:stCondLst>
                            <p:childTnLst>
                              <p:par>
                                <p:cTn id="76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385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6" dur="385" fill="hold"/>
                                        <p:tgtEl>
                                          <p:spTgt spid="2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8" dur="385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0" dur="385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385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5" dur="385" fill="hold"/>
                                        <p:tgtEl>
                                          <p:spTgt spid="2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7" dur="385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9" dur="385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01" nodeType="withEffect" fill="remove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28 -0.05556 C 0.04775 -0.06922 0.05191 -0.07894 0.06094 -0.08704 C 0.06181 -0.08889 0.0625 -0.09098 0.06372 -0.0926 C 0.06494 -0.09422 0.06685 -0.09445 0.06789 -0.0963 C 0.06875 -0.09792 0.06823 -0.10047 0.06928 -0.10186 C 0.07171 -0.1051 0.07761 -0.10926 0.07761 -0.10926 C 0.08212 -0.11829 0.0875 -0.12547 0.09428 -0.13149 C 0.09914 -0.14121 0.10504 -0.15093 0.11233 -0.15741 C 0.1198 -0.17223 0.11007 -0.1544 0.11928 -0.16667 C 0.12362 -0.17246 0.12744 -0.1794 0.13178 -0.18519 C 0.13941 -0.19537 0.14514 -0.2088 0.15122 -0.22037 C 0.15469 -0.22686 0.15764 -0.22917 0.15955 -0.23704 C 0.16094 -0.24237 0.15591 -0.22709 0.154 -0.22223 C 0.1533 -0.22014 0.15191 -0.21875 0.15122 -0.21667 C 0.15 -0.2132 0.14844 -0.20556 0.14844 -0.20556 C 0.14948 -0.1845 0.1507 -0.16343 0.15261 -0.1426 C 0.1533 -0.13565 0.15678 -0.12223 0.15678 -0.12223 C 0.18612 -0.12362 0.21337 -0.12639 0.24289 -0.12778 C 0.25643 -0.1338 0.27101 -0.13334 0.28455 -0.13889 C 0.30382 -0.14653 0.32327 -0.15533 0.34289 -0.16112 C 0.35174 -0.16366 0.3606 -0.16528 0.36928 -0.16852 C 0.37639 -0.17107 0.38299 -0.17547 0.39011 -0.17778 C 0.41754 -0.18681 0.44549 -0.19746 0.47205 -0.20926 C 0.48334 -0.21436 0.49549 -0.21528 0.50678 -0.22037 C 0.51546 -0.22431 0.52431 -0.22848 0.53316 -0.23149 C 0.54671 -0.23612 0.56303 -0.23936 0.57483 -0.25 C 0.57587 -0.24144 0.57744 -0.23426 0.579 -0.22593 C 0.58143 -0.19144 0.58021 -0.15672 0.58316 -0.12223 C 0.60035 -0.12987 0.61945 -0.12408 0.63733 -0.12408 E">
                                      <p:cBhvr>
                                        <p:cTn id="802" dur="5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remove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636 -0.01991 C 0.06823 -0.02477 0.08664 -0.04352 0.10886 -0.04769 C 0.11945 -0.05232 0.13021 -0.05834 0.1408 -0.0625 C 0.14532 -0.06436 0.15018 -0.06436 0.15469 -0.06621 C 0.16441 -0.07014 0.17396 -0.075 0.18386 -0.07732 C 0.1981 -0.08079 0.21268 -0.0838 0.22691 -0.08843 C 0.2283 -0.08889 0.22969 -0.08936 0.23108 -0.09028 C 0.23264 -0.09121 0.23369 -0.09329 0.23525 -0.09399 C 0.23976 -0.09607 0.24462 -0.09607 0.24914 -0.09769 C 0.26598 -0.11274 0.24167 -0.09167 0.25747 -0.10325 C 0.26962 -0.11227 0.28108 -0.12269 0.2948 -0.12732 C 0.31337 -0.14352 0.32917 -0.16598 0.35053 -0.17547 C 0.3599 -0.18797 0.35521 -0.18496 0.36285 -0.18843 C 0.36997 -0.19769 0.37257 -0.20139 0.38108 -0.20695 C 0.38733 -0.21945 0.38004 -0.20718 0.38803 -0.21436 C 0.38959 -0.21575 0.39063 -0.21829 0.39219 -0.21991 C 0.39827 -0.22616 0.40556 -0.23334 0.41303 -0.23658 C 0.4132 -0.23681 0.41841 -0.25047 0.41719 -0.23658 C 0.41667 -0.23056 0.41181 -0.21135 0.41025 -0.2051 C 0.41129 -0.17107 0.41337 -0.13704 0.41719 -0.10325 C 0.41771 -0.09908 0.42049 -0.07292 0.42414 -0.07176 C 0.4316 -0.06945 0.45313 -0.06991 0.46164 -0.06991 E">
                                      <p:cBhvr>
                                        <p:cTn id="841" dur="5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42" dur="1" fill="hold">
                                    <p:stCondLst>
                                      <p:cond evt="end">
                                        <p:tn val="840"/>
                                      </p:cond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484360" y="1484280"/>
            <a:ext cx="4321080" cy="792360"/>
          </a:xfrm>
          <a:prstGeom prst="rect">
            <a:avLst/>
          </a:prstGeom>
          <a:solidFill>
            <a:srgbClr val="3366ff">
              <a:alpha val="60000"/>
            </a:srgbClr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Times New Roman"/>
              </a:rPr>
              <a:t>Italian multifunctional farms and househol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9640" y="2444760"/>
            <a:ext cx="8425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66"/>
                </a:solidFill>
                <a:latin typeface="Times New Roman"/>
              </a:rPr>
              <a:t>Table 4 - Ratios between median values of multifunctional farms over monofunctional ones, belonging to households</a:t>
            </a:r>
            <a:r>
              <a:rPr b="1" lang="en-GB" sz="1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5320" y="5877000"/>
            <a:ext cx="5642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ffffff"/>
                </a:solidFill>
                <a:latin typeface="Times New Roman"/>
              </a:rPr>
              <a:t>Sources: Istat –Business Survey on Farms, Agricultural Census 2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7626240" y="210960"/>
          <a:ext cx="1266840" cy="625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6240" y="210960"/>
                    <a:ext cx="126684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2050920" y="189000"/>
            <a:ext cx="658800" cy="6462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5"/>
          <a:stretch/>
        </p:blipFill>
        <p:spPr>
          <a:xfrm>
            <a:off x="250920" y="298440"/>
            <a:ext cx="1703160" cy="3366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6"/>
          <a:stretch/>
        </p:blipFill>
        <p:spPr>
          <a:xfrm>
            <a:off x="324000" y="3068640"/>
            <a:ext cx="8748720" cy="30243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042920" y="4809960"/>
            <a:ext cx="64944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622600" y="4822920"/>
            <a:ext cx="649080" cy="21564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42920" y="4581360"/>
            <a:ext cx="649440" cy="1224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91280" y="4568760"/>
            <a:ext cx="649080" cy="1224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43640" y="4572000"/>
            <a:ext cx="649440" cy="1224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20253600">
            <a:off x="87120" y="551628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Wingdings"/>
                <a:ea typeface="Wingdings"/>
              </a:rPr>
              <a:t>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040600" y="4581360"/>
            <a:ext cx="649440" cy="1224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60840" y="4822920"/>
            <a:ext cx="649080" cy="21564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13440" y="4869000"/>
            <a:ext cx="287280" cy="28728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0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1000"/>
                            </p:stCondLst>
                            <p:childTnLst>
                              <p:par>
                                <p:cTn id="8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500"/>
                            </p:stCondLst>
                            <p:childTnLst>
                              <p:par>
                                <p:cTn id="8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385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6" dur="385" fill="hold"/>
                                        <p:tgtEl>
                                          <p:spTgt spid="2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8" dur="385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0" dur="385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remove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98 -0.03936 C 0.04393 -0.04561 0.04028 -0.04121 0.04671 -0.05417 C 0.05105 -0.06297 0.0507 -0.05625 0.05365 -0.06528 C 0.05539 -0.07061 0.05643 -0.07639 0.05782 -0.08195 C 0.05834 -0.08403 0.0599 -0.08542 0.0606 -0.0875 C 0.06337 -0.09468 0.06077 -0.09213 0.06337 -0.10047 C 0.06407 -0.10255 0.06546 -0.10394 0.06615 -0.10602 C 0.07032 -0.11852 0.07257 -0.1294 0.08004 -0.13936 C 0.08143 -0.14514 0.08351 -0.1507 0.0856 -0.15602 C 0.08629 -0.15811 0.08664 -0.16158 0.08837 -0.16158 C 0.08976 -0.16158 0.08768 -0.15787 0.08698 -0.15602 C 0.08629 -0.15394 0.08507 -0.15232 0.08421 -0.15047 C 0.08108 -0.13403 0.08403 -0.11667 0.08004 -0.10047 C 0.08056 -0.08936 0.08056 -0.07825 0.08143 -0.06713 C 0.08212 -0.05787 0.08507 -0.04908 0.0856 -0.03936 C 0.08629 -0.0294 0.08507 -0.01922 0.08698 -0.00973 C 0.08837 -0.00301 0.10087 -0.00047 0.10087 -0.00024 C 0.1165 -0.00579 0.09931 -0.00047 0.13421 -0.00417 C 0.14375 -0.0051 0.13941 -0.00695 0.14948 -0.00973 C 0.15921 -0.01227 0.16893 -0.01644 0.17865 -0.01899 C 0.19514 -0.02338 0.2125 -0.02246 0.22865 -0.02825 C 0.25313 -0.03727 0.27778 -0.0463 0.30226 -0.05602 C 0.31615 -0.06158 0.33021 -0.06667 0.34393 -0.07269 C 0.34948 -0.07524 0.35504 -0.08102 0.3606 -0.0838 C 0.36424 -0.08565 0.36806 -0.08612 0.37171 -0.0875 C 0.37535 -0.08889 0.37935 -0.08889 0.38282 -0.09121 C 0.38473 -0.09237 0.38646 -0.09399 0.38837 -0.09491 C 0.39202 -0.09653 0.39584 -0.09746 0.39948 -0.09862 C 0.40139 -0.09931 0.40504 -0.10047 0.40504 -0.10024 C 0.41372 -0.10834 0.40435 -0.1007 0.42032 -0.10787 C 0.43507 -0.11436 0.45 -0.11991 0.46476 -0.12639 C 0.47136 -0.1294 0.47726 -0.13149 0.48421 -0.1338 C 0.48612 -0.1345 0.48976 -0.13565 0.48976 -0.13542 C 0.49115 -0.13681 0.49237 -0.13843 0.49393 -0.13936 C 0.49532 -0.14028 0.49688 -0.14028 0.4981 -0.14121 C 0.5033 -0.14514 0.50712 -0.15162 0.51198 -0.15602 C 0.5165 -0.15996 0.52362 -0.16297 0.52865 -0.16528 C 0.53021 -0.16598 0.53125 -0.16806 0.53282 -0.16899 C 0.53733 -0.17153 0.54219 -0.17246 0.54671 -0.17454 C 0.5481 -0.17524 0.55087 -0.17639 0.55087 -0.17616 C 0.55 -0.12292 0.55035 -0.0713 0.54254 -0.01899 C 0.54306 -0.01274 0.54202 -0.00602 0.54393 -0.00047 C 0.54445 0.00138 0.54671 -0.00209 0.5481 -0.00232 C 0.56198 -0.00348 0.57587 -0.00348 0.58976 -0.00417 C 0.59896 -0.00463 0.60834 -0.00533 0.61754 -0.00602 C 0.6191 -0.01204 0.62292 -0.01667 0.62448 -0.02269 C 0.62744 -0.03426 0.63056 -0.04723 0.63837 -0.05417 C 0.64167 -0.06737 0.64671 -0.07871 0.65087 -0.09121 C 0.65608 -0.10695 0.65625 -0.12593 0.66198 -0.14121 C 0.66511 -0.14954 0.66962 -0.15695 0.67448 -0.16343 C 0.67605 -0.16945 0.68143 -0.1801 0.68143 -0.17987 C 0.68629 -0.16065 0.68855 -0.14098 0.69115 -0.12084 C 0.69028 -0.08357 0.6908 -0.06181 0.68282 -0.0301 C 0.68334 -0.022 0.68247 -0.01366 0.68421 -0.00602 C 0.68455 -0.00417 0.68698 -0.0044 0.68837 -0.00417 C 0.70816 -0.00209 0.71494 -0.00232 0.73143 -0.00232 E">
                                      <p:cBhvr>
                                        <p:cTn id="923" dur="5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remove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386 0.02245 C 0.04497 0.0125 0.0507 0.01666 0.06719 0.01504 C 0.07969 0.01388 0.09219 0.01111 0.10469 0.00949 C 0.11511 0.00601 0.12605 0.00625 0.13664 0.00393 C 0.15139 0.00069 0.16598 -0.00186 0.18108 -0.00348 C 0.23907 -0.01899 0.29879 -0.01852 0.35747 -0.0257 C 0.37674 -0.03079 0.36667 -0.02894 0.38803 -0.03125 C 0.4099 -0.03704 0.43403 -0.0375 0.45608 -0.03866 C 0.48125 -0.04167 0.50365 -0.04329 0.52969 -0.04422 C 0.54132 -0.04931 0.55521 -0.05047 0.56719 -0.05162 C 0.58525 -0.05556 0.60296 -0.05903 0.62136 -0.06088 C 0.63212 -0.06366 0.64219 -0.06528 0.6533 -0.06644 C 0.66285 -0.07061 0.65122 -0.06598 0.66841 -0.07014 C 0.67639 -0.072 0.68421 -0.0757 0.69219 -0.07755 C 0.70382 -0.08519 0.71702 -0.08704 0.72969 -0.08866 C 0.73525 -0.09005 0.7408 -0.09075 0.74636 -0.09237 C 0.75591 -0.09537 0.76476 -0.10209 0.77414 -0.10533 C 0.78421 -0.10857 0.79289 -0.11227 0.80191 -0.11829 C 0.80747 -0.122 0.81476 -0.12107 0.81997 -0.1257 C 0.8323 -0.13658 0.84341 -0.14908 0.85747 -0.15533 C 0.86997 -0.14977 0.86181 -0.12292 0.86025 -0.10903 C 0.86355 -0.06598 0.86355 -0.04399 0.86441 0.00949 C 0.87587 0.00439 0.88716 0.00416 0.89914 0.00208 C 0.90105 0.00277 0.90469 0.00393 0.90469 0.00416 E">
                                      <p:cBhvr>
                                        <p:cTn id="935" dur="5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484360" y="1484280"/>
            <a:ext cx="4321080" cy="792360"/>
          </a:xfrm>
          <a:prstGeom prst="rect">
            <a:avLst/>
          </a:prstGeom>
          <a:solidFill>
            <a:srgbClr val="3366ff">
              <a:alpha val="60000"/>
            </a:srgbClr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Times New Roman"/>
              </a:rPr>
              <a:t>Italian multifunctional farms and househol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9640" y="2444760"/>
            <a:ext cx="7704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66"/>
                </a:solidFill>
                <a:latin typeface="Times New Roman"/>
              </a:rPr>
              <a:t>Table 5 - Off-farm incomes of the holder and his enlarged family components by classes of AAU</a:t>
            </a:r>
            <a:r>
              <a:rPr b="0" lang="it-IT" sz="1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5320" y="5661000"/>
            <a:ext cx="5642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ffffff"/>
                </a:solidFill>
                <a:latin typeface="Times New Roman"/>
              </a:rPr>
              <a:t>Sources: Istat –Business Survey on Farms, Agricultural Census 2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7626240" y="210960"/>
          <a:ext cx="1266840" cy="625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6240" y="210960"/>
                    <a:ext cx="126684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2050920" y="189000"/>
            <a:ext cx="658800" cy="6462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250920" y="298440"/>
            <a:ext cx="1703160" cy="3366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6"/>
          <a:stretch/>
        </p:blipFill>
        <p:spPr>
          <a:xfrm>
            <a:off x="324000" y="3068640"/>
            <a:ext cx="7920000" cy="28083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44400" y="4149720"/>
            <a:ext cx="64944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967040" y="4149720"/>
            <a:ext cx="64908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44400" y="4365720"/>
            <a:ext cx="649440" cy="21564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71720" y="4365720"/>
            <a:ext cx="649080" cy="21564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9440" y="5373720"/>
            <a:ext cx="64908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71720" y="5373720"/>
            <a:ext cx="64908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372360" y="4137120"/>
            <a:ext cx="649080" cy="21564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36480" y="4149720"/>
            <a:ext cx="64944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44400" y="4365720"/>
            <a:ext cx="649440" cy="21564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48600" y="4378320"/>
            <a:ext cx="64908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6480" y="4606920"/>
            <a:ext cx="64944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248600" y="4619520"/>
            <a:ext cx="64908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0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500"/>
                            </p:stCondLst>
                            <p:childTnLst>
                              <p:par>
                                <p:cTn id="9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1000"/>
                            </p:stCondLst>
                            <p:childTnLst>
                              <p:par>
                                <p:cTn id="95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1500"/>
                            </p:stCondLst>
                            <p:childTnLst>
                              <p:par>
                                <p:cTn id="96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3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484360" y="981000"/>
            <a:ext cx="4321080" cy="792360"/>
          </a:xfrm>
          <a:prstGeom prst="rect">
            <a:avLst/>
          </a:prstGeom>
          <a:solidFill>
            <a:srgbClr val="3366ff">
              <a:alpha val="60000"/>
            </a:srgbClr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Times New Roman"/>
              </a:rPr>
              <a:t>Italian multifunctional farms and househol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9640" y="1844640"/>
            <a:ext cx="7704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66"/>
                </a:solidFill>
                <a:latin typeface="Times New Roman"/>
              </a:rPr>
              <a:t>Table 6 - Percentage composition of households incomes holding a mono- or a multi-functional farm by classes of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89320" y="6453360"/>
            <a:ext cx="5642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ffffff"/>
                </a:solidFill>
                <a:latin typeface="Times New Roman"/>
              </a:rPr>
              <a:t>Sources: Istat –Business Survey on Farms, Agricultural Census 2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7626240" y="210960"/>
          <a:ext cx="1266840" cy="625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6240" y="210960"/>
                    <a:ext cx="126684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2050920" y="189000"/>
            <a:ext cx="658800" cy="6462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5"/>
          <a:stretch/>
        </p:blipFill>
        <p:spPr>
          <a:xfrm>
            <a:off x="250920" y="298440"/>
            <a:ext cx="1703160" cy="3366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6"/>
          <a:stretch/>
        </p:blipFill>
        <p:spPr>
          <a:xfrm>
            <a:off x="395280" y="2471760"/>
            <a:ext cx="7993080" cy="41259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687240" y="3357720"/>
            <a:ext cx="649440" cy="21564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84400" y="3357720"/>
            <a:ext cx="649440" cy="21564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9320" y="4987800"/>
            <a:ext cx="64944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76480" y="4987800"/>
            <a:ext cx="64908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059360" y="3357720"/>
            <a:ext cx="2305080" cy="136656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067280" y="4989600"/>
            <a:ext cx="2305080" cy="136692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74640" y="5216400"/>
            <a:ext cx="64944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071800" y="5216400"/>
            <a:ext cx="64908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346560" y="5208480"/>
            <a:ext cx="64908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40360" y="5216400"/>
            <a:ext cx="64908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71880" y="5216400"/>
            <a:ext cx="64944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24360" y="5216400"/>
            <a:ext cx="64944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659640" y="5216400"/>
            <a:ext cx="64908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451640" y="5084640"/>
            <a:ext cx="719280" cy="57492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78.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40360" y="3581280"/>
            <a:ext cx="64908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40200" y="3581280"/>
            <a:ext cx="64944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692680" y="3581280"/>
            <a:ext cx="64944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627960" y="3581280"/>
            <a:ext cx="64908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419960" y="3449520"/>
            <a:ext cx="719280" cy="57492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74.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20253600">
            <a:off x="87120" y="551628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Wingdings"/>
                <a:ea typeface="Wingdings"/>
              </a:rPr>
              <a:t>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84360" y="5432400"/>
            <a:ext cx="64908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46560" y="5445000"/>
            <a:ext cx="64908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40360" y="5432400"/>
            <a:ext cx="64908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71880" y="5432400"/>
            <a:ext cx="64944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24360" y="5432400"/>
            <a:ext cx="64944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659640" y="5432400"/>
            <a:ext cx="64908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51640" y="5300640"/>
            <a:ext cx="719280" cy="57456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40360" y="3809880"/>
            <a:ext cx="64908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840200" y="3809880"/>
            <a:ext cx="64944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92680" y="3809880"/>
            <a:ext cx="64944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627960" y="3809880"/>
            <a:ext cx="64908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419960" y="3678120"/>
            <a:ext cx="719280" cy="57492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67.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96960" y="5902200"/>
            <a:ext cx="649080" cy="432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93760" y="5902200"/>
            <a:ext cx="649440" cy="432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368520" y="5894280"/>
            <a:ext cx="649440" cy="432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81440" y="5950080"/>
            <a:ext cx="287280" cy="28728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067280" y="5877000"/>
            <a:ext cx="3241440" cy="47952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067280" y="4292640"/>
            <a:ext cx="3241440" cy="40788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0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500"/>
                            </p:stCondLst>
                            <p:childTnLst>
                              <p:par>
                                <p:cTn id="10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7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385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4" dur="385" fill="hold"/>
                                        <p:tgtEl>
                                          <p:spTgt spid="2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6" dur="385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8" dur="385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2" dur="385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3" dur="385" fill="hold"/>
                                        <p:tgtEl>
                                          <p:spTgt spid="2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5" dur="385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87" dur="385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89" nodeType="withEffect" fill="remove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0.01297 C 0.00556 -0.01436 0.01146 -0.01551 0.01667 -0.01852 C 0.02014 -0.02037 0.02292 -0.02408 0.02639 -0.02593 C 0.03125 -0.02871 0.0356 -0.0301 0.04028 -0.03334 C 0.04636 -0.03727 0.05365 -0.03681 0.05973 -0.04075 C 0.0665 -0.04537 0.07396 -0.04885 0.08056 -0.05371 C 0.08351 -0.05579 0.08577 -0.05973 0.08889 -0.06112 C 0.10226 -0.06713 0.11546 -0.07246 0.12917 -0.07778 C 0.13837 -0.08149 0.14619 -0.08774 0.15556 -0.09075 C 0.16598 -0.1 0.15278 -0.08912 0.16528 -0.0963 C 0.16997 -0.09908 0.17414 -0.10325 0.17917 -0.10556 C 0.18282 -0.10718 0.18664 -0.10764 0.19028 -0.10926 C 0.20556 -0.11598 0.18247 -0.10533 0.19862 -0.11482 C 0.20087 -0.11644 0.20695 -0.11852 0.20695 -0.11829 C 0.21146 -0.12755 0.22188 -0.13241 0.22882 -0.13704 C 0.2382 -0.14306 0.24046 -0.14908 0.25139 -0.15186 C 0.25678 -0.15556 0.26077 -0.15903 0.26667 -0.16112 C 0.27205 -0.16575 0.27744 -0.1669 0.28334 -0.17037 C 0.29375 -0.17662 0.30087 -0.18079 0.31112 -0.18889 C 0.31823 -0.19468 0.32622 -0.19561 0.33334 -0.20186 C 0.33733 -0.20973 0.34011 -0.20764 0.34584 -0.21297 C 0.3507 -0.2176 0.35452 -0.22176 0.35973 -0.22593 C 0.3625 -0.22825 0.36528 -0.23079 0.36806 -0.23334 C 0.36945 -0.2345 0.37223 -0.23704 0.37223 -0.23681 C 0.37848 -0.24954 0.37119 -0.23727 0.379 -0.24445 C 0.38507 -0.24954 0.38316 -0.25417 0.39028 -0.25741 C 0.39219 -0.26528 0.39601 -0.26598 0.4 -0.27223 C 0.40452 -0.2794 0.40869 -0.28403 0.41528 -0.28704 C 0.48108 -0.28473 0.53473 -0.28403 0.60417 -0.28519 C 0.629 -0.28936 0.64341 -0.2882 0.67205 -0.28704 C 0.6941 -0.27732 0.71789 -0.2926 0.74028 -0.28519 C 0.73525 -0.28079 0.7356 -0.27662 0.73056 -0.27223 C 0.72414 -0.2595 0.72813 -0.2625 0.72084 -0.25926 C 0.71875 -0.25093 0.71632 -0.25209 0.71112 -0.24815 C 0.70643 -0.24468 0.70191 -0.24051 0.69723 -0.23704 C 0.69028 -0.23195 0.68334 -0.225 0.67639 -0.22037 C 0.67171 -0.21737 0.66685 -0.21598 0.66233 -0.21297 C 0.65921 -0.21065 0.65625 -0.20741 0.65278 -0.20556 C 0.64775 -0.20278 0.64132 -0.20186 0.63612 -0.2 C 0.62744 -0.197 0.63646 -0.19954 0.62778 -0.19445 C 0.61615 -0.18774 0.60278 -0.18704 0.59167 -0.17963 C 0.59011 -0.17871 0.58907 -0.17686 0.5875 -0.17593 C 0.57448 -0.16852 0.55799 -0.16389 0.54445 -0.15926 C 0.53924 -0.15741 0.53785 -0.15811 0.53334 -0.15556 C 0.52153 -0.14885 0.50921 -0.14422 0.49723 -0.13889 C 0.49358 -0.13727 0.48785 -0.13612 0.48473 -0.13334 C 0.47605 -0.1257 0.45921 -0.1213 0.44844 -0.11667 C 0.42917 -0.10811 0.40973 -0.09931 0.39028 -0.09075 C 0.38733 -0.08936 0.3849 -0.08658 0.38195 -0.08519 C 0.37553 -0.07246 0.37744 -0.07825 0.375 -0.06852 C 0.37518 -0.0676 0.37639 -0.05139 0.37778 -0.05 C 0.38195 -0.04607 0.39098 -0.04468 0.39584 -0.0426 C 0.41476 -0.04584 0.42119 -0.04676 0.44445 -0.04815 C 0.48247 -0.05301 0.46389 -0.05255 0.49983 -0.05 C 0.54983 -0.03889 0.58837 -0.04723 0.64723 -0.04815 C 0.67987 -0.05047 0.71181 -0.05556 0.74445 -0.05556 E">
                                      <p:cBhvr>
                                        <p:cTn id="1190" dur="5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0" dur="385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1" dur="385" fill="hold"/>
                                        <p:tgtEl>
                                          <p:spTgt spid="3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3" dur="385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5" dur="385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1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6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9" dur="385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0" dur="385" fill="hold"/>
                                        <p:tgtEl>
                                          <p:spTgt spid="3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2" dur="385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4" dur="385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7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76" nodeType="withEffect" fill="remove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0.01203 C 0.00903 0.0081 0.01719 0.00208 0.02639 -0.00093 C 0.02778 -0.00209 0.029 -0.00371 0.03056 -0.00463 C 0.03195 -0.00556 0.03351 -0.00556 0.03473 -0.00649 C 0.03646 -0.00787 0.04202 -0.01436 0.04445 -0.01575 C 0.06198 -0.02616 0.08178 -0.03056 0.1 -0.03797 C 0.1231 -0.04723 0.14619 -0.05602 0.16945 -0.06389 C 0.17813 -0.0669 0.18594 -0.07315 0.19445 -0.07686 C 0.19601 -0.07755 0.19688 -0.07963 0.19844 -0.08056 C 0.20122 -0.08218 0.20452 -0.08218 0.20678 -0.08426 C 0.2106 -0.08774 0.21511 -0.09098 0.21945 -0.09352 C 0.22691 -0.09792 0.23403 -0.10162 0.24167 -0.10649 C 0.24688 -0.10996 0.24532 -0.11065 0.25 -0.11575 C 0.25452 -0.12084 0.26146 -0.12431 0.26667 -0.12871 C 0.26962 -0.13149 0.27205 -0.13519 0.275 -0.13797 C 0.27882 -0.14144 0.28473 -0.14375 0.28872 -0.14723 C 0.29254 -0.15024 0.29914 -0.15857 0.30278 -0.16019 C 0.30886 -0.16297 0.31459 -0.16551 0.32084 -0.1676 C 0.3316 -0.17709 0.34445 -0.17963 0.35556 -0.18797 C 0.3606 -0.19167 0.36858 -0.19792 0.37362 -0.20278 C 0.37518 -0.2044 0.37622 -0.20672 0.37778 -0.20834 C 0.37952 -0.20996 0.3816 -0.21042 0.38334 -0.21204 C 0.38473 -0.21366 0.38594 -0.21621 0.3875 -0.2176 C 0.39011 -0.21991 0.39323 -0.22084 0.39584 -0.22315 C 0.4 -0.23172 0.40452 -0.24468 0.41216 -0.24908 C 0.41563 -0.25093 0.4191 -0.25139 0.42223 -0.25278 C 0.43299 -0.25047 0.44219 -0.25394 0.45278 -0.25463 C 0.47969 -0.25649 0.50625 -0.25695 0.53334 -0.25834 C 0.55539 -0.26112 0.57605 -0.26181 0.59862 -0.26019 C 0.63803 -0.24977 0.68386 -0.25649 0.725 -0.25278 C 0.7356 -0.25348 0.74636 -0.25556 0.75695 -0.25463 C 0.75695 -0.2544 0.74653 -0.25 0.74445 -0.24908 C 0.73473 -0.24468 0.72709 -0.23473 0.71806 -0.22871 C 0.71424 -0.2213 0.70869 -0.21922 0.70278 -0.21389 C 0.69671 -0.20834 0.69185 -0.20325 0.68473 -0.20093 C 0.66841 -0.18658 0.64966 -0.17616 0.63195 -0.16575 C 0.62761 -0.1632 0.61945 -0.16204 0.61528 -0.15834 C 0.60643 -0.15047 0.59254 -0.14514 0.58195 -0.14167 C 0.56997 -0.13774 0.55869 -0.1338 0.54723 -0.12871 C 0.54514 -0.12778 0.52553 -0.125 0.525 -0.125 C 0.51389 -0.12292 0.50261 -0.1176 0.49167 -0.11389 C 0.47587 -0.1088 0.46146 -0.09954 0.44549 -0.09537 C 0.43733 -0.09306 0.43125 -0.09283 0.42362 -0.08982 C 0.41667 -0.08704 0.40973 -0.08357 0.40278 -0.08056 C 0.39966 -0.07917 0.39445 -0.07315 0.39445 -0.07292 C 0.3908 -0.06644 0.38785 -0.05857 0.38612 -0.05093 C 0.38629 -0.04167 0.38681 -0.03241 0.3875 -0.02315 C 0.38768 -0.0213 0.38768 -0.01875 0.38889 -0.0176 C 0.38889 -0.01737 0.39931 -0.01297 0.40139 -0.01204 C 0.40278 -0.01135 0.40556 -0.01019 0.40556 -0.00996 C 0.42101 -0.01713 0.45417 -0.0176 0.45417 -0.01737 C 0.55938 -0.01598 0.65816 -0.01389 0.76528 -0.01389 E">
                                      <p:cBhvr>
                                        <p:cTn id="1277" dur="5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6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1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385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0" dur="385" fill="hold"/>
                                        <p:tgtEl>
                                          <p:spTgt spid="3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2" dur="385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4" dur="385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0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3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3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3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3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3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2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remove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0.01574 C 0.02101 0.0118 0.04063 0.00208 0.06112 -0.00463 C 0.06667 -0.0095 0.07205 -0.0125 0.07778 -0.0176 C 0.08698 -0.0257 0.10348 -0.02454 0.11389 -0.02871 C 0.12865 -0.03473 0.1415 -0.04051 0.15695 -0.04352 C 0.18125 -0.0544 0.20695 -0.06112 0.2316 -0.06945 C 0.26042 -0.07894 0.28855 -0.09144 0.31632 -0.10278 C 0.32674 -0.10695 0.33646 -0.11135 0.34584 -0.1176 C 0.34914 -0.11991 0.35191 -0.11945 0.35556 -0.1213 C 0.36563 -0.12639 0.37587 -0.13149 0.38594 -0.13612 C 0.39046 -0.13797 0.40869 -0.14885 0.41112 -0.14908 C 0.41893 -0.14977 0.42778 -0.15024 0.43612 -0.15093 C 0.47848 -0.15 0.71459 -0.16274 0.69306 -0.14352 C 0.68872 -0.13473 0.69185 -0.13866 0.68195 -0.13426 C 0.67726 -0.13218 0.67414 -0.12524 0.66945 -0.12315 C 0.66285 -0.12037 0.65747 -0.11551 0.65122 -0.11204 C 0.64653 -0.1095 0.64185 -0.10857 0.63716 -0.10649 C 0.63612 -0.10579 0.63455 -0.10579 0.63282 -0.10463 C 0.63195 -0.10348 0.63021 -0.10162 0.62917 -0.10093 C 0.61355 -0.09329 0.59532 -0.09121 0.58056 -0.08241 C 0.57709 -0.08056 0.57379 -0.07686 0.57084 -0.075 C 0.56632 -0.07246 0.56146 -0.07153 0.55695 -0.06945 C 0.55382 -0.06806 0.55174 -0.06343 0.5481 -0.06204 C 0.53855 -0.05787 0.53612 -0.05649 0.52778 -0.04908 C 0.50261 -0.02662 0.47744 -0.00487 0.45278 0.01759 C 0.44601 0.02361 0.43941 0.02986 0.43195 0.03425 C 0.42796 0.03657 0.42362 0.03796 0.41893 0.03981 C 0.41806 0.0405 0.41528 0.04166 0.41528 0.04189 C 0.40816 0.05601 0.41077 0.04861 0.40695 0.06388 C 0.40643 0.06574 0.40556 0.06944 0.40556 0.06967 C 0.4066 0.0868 0.40591 0.09699 0.4165 0.10648 C 0.42691 0.10463 0.43386 0.09814 0.44445 0.09722 C 0.45643 0.09629 0.46806 0.09629 0.48004 0.09537 C 0.48664 0.0949 0.49254 0.09421 0.49862 0.09351 C 0.53837 0.09652 0.55903 0.09652 0.60556 0.09537 C 0.6349 0.08865 0.66459 0.09722 0.69445 0.10092 C 0.70504 0.1037 0.69896 0.10277 0.7125 0.10277 E">
                                      <p:cBhvr>
                                        <p:cTn id="1329" dur="5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547640" y="1484280"/>
            <a:ext cx="6048720" cy="504720"/>
          </a:xfrm>
          <a:prstGeom prst="roundRect">
            <a:avLst>
              <a:gd name="adj" fmla="val 16667"/>
            </a:avLst>
          </a:prstGeom>
          <a:solidFill>
            <a:srgbClr val="0000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From an economic point of vie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203640" y="836640"/>
            <a:ext cx="2879640" cy="504720"/>
          </a:xfrm>
          <a:prstGeom prst="roundRect">
            <a:avLst>
              <a:gd name="adj" fmla="val 16667"/>
            </a:avLst>
          </a:pr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00"/>
                </a:solidFill>
                <a:latin typeface="Times New Roman"/>
              </a:rPr>
              <a:t>Conclusions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47640" y="2276640"/>
            <a:ext cx="7345440" cy="504720"/>
          </a:xfrm>
          <a:prstGeom prst="roundRect">
            <a:avLst>
              <a:gd name="adj" fmla="val 16667"/>
            </a:avLst>
          </a:prstGeom>
          <a:solidFill>
            <a:srgbClr val="a50021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66"/>
                </a:solidFill>
                <a:latin typeface="Times New Roman"/>
              </a:rPr>
              <a:t>multifunctional activities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: low diffusion but increasing with AAU clas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547640" y="2924280"/>
            <a:ext cx="7345440" cy="1008000"/>
          </a:xfrm>
          <a:prstGeom prst="roundRect">
            <a:avLst>
              <a:gd name="adj" fmla="val 16667"/>
            </a:avLst>
          </a:prstGeom>
          <a:solidFill>
            <a:srgbClr val="a50021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multifunctional farms managed by households have a </a:t>
            </a:r>
            <a:r>
              <a:rPr b="1" lang="it-IT" sz="1800" spc="-1" strike="noStrike">
                <a:solidFill>
                  <a:srgbClr val="ffff66"/>
                </a:solidFill>
                <a:latin typeface="Times New Roman"/>
              </a:rPr>
              <a:t>better performance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because the relative increase of revenues  related to the secondary activities is higher than the increase of intermediate and labour cos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7626240" y="210960"/>
          <a:ext cx="1266840" cy="625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6240" y="210960"/>
                    <a:ext cx="126684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2" name="" descr=""/>
          <p:cNvPicPr/>
          <p:nvPr/>
        </p:nvPicPr>
        <p:blipFill>
          <a:blip r:embed="rId4"/>
          <a:stretch/>
        </p:blipFill>
        <p:spPr>
          <a:xfrm>
            <a:off x="2050920" y="189000"/>
            <a:ext cx="658800" cy="6462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5"/>
          <a:stretch/>
        </p:blipFill>
        <p:spPr>
          <a:xfrm>
            <a:off x="250920" y="298440"/>
            <a:ext cx="1703160" cy="3366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1547640" y="4076640"/>
            <a:ext cx="7345440" cy="647640"/>
          </a:xfrm>
          <a:prstGeom prst="roundRect">
            <a:avLst>
              <a:gd name="adj" fmla="val 16667"/>
            </a:avLst>
          </a:prstGeom>
          <a:solidFill>
            <a:srgbClr val="a50021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in households managing farms up to 15 hectares AAU, the </a:t>
            </a:r>
            <a:r>
              <a:rPr b="1" lang="it-IT" sz="1800" spc="-1" strike="noStrike">
                <a:solidFill>
                  <a:srgbClr val="ffff66"/>
                </a:solidFill>
                <a:latin typeface="Times New Roman"/>
              </a:rPr>
              <a:t>off-farm incomes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are relevant and sprea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547640" y="4869000"/>
            <a:ext cx="7345440" cy="647640"/>
          </a:xfrm>
          <a:prstGeom prst="roundRect">
            <a:avLst>
              <a:gd name="adj" fmla="val 16667"/>
            </a:avLst>
          </a:prstGeom>
          <a:solidFill>
            <a:srgbClr val="a50021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multifunctional activities allows integration of agriculture income and substitution of off-farm sourc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547640" y="5661000"/>
            <a:ext cx="7345440" cy="1123920"/>
          </a:xfrm>
          <a:prstGeom prst="roundRect">
            <a:avLst>
              <a:gd name="adj" fmla="val 16667"/>
            </a:avLst>
          </a:prstGeom>
          <a:solidFill>
            <a:srgbClr val="a50021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the relative effect of the two phenomena is different in classes of AA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Integration effect higher for households with smallest farm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substitution effect higher for households with farms in the intermediate classes of AA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2560" y="2276640"/>
            <a:ext cx="576360" cy="50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2560" y="3211560"/>
            <a:ext cx="576360" cy="50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4360" y="4148280"/>
            <a:ext cx="576000" cy="50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4360" y="5011560"/>
            <a:ext cx="576000" cy="5050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2560" y="5877000"/>
            <a:ext cx="576360" cy="50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4" dur="indefinite" restart="never" nodeType="tmRoot">
          <p:childTnLst>
            <p:seq>
              <p:cTn id="1335" dur="indefinite" nodeType="mainSeq">
                <p:childTnLst>
                  <p:par>
                    <p:cTn id="1336" fill="hold">
                      <p:stCondLst>
                        <p:cond delay="0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4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5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6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0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547640" y="1484280"/>
            <a:ext cx="6048720" cy="504720"/>
          </a:xfrm>
          <a:prstGeom prst="roundRect">
            <a:avLst>
              <a:gd name="adj" fmla="val 16667"/>
            </a:avLst>
          </a:prstGeom>
          <a:solidFill>
            <a:srgbClr val="8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From a statistical point of vie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03640" y="836640"/>
            <a:ext cx="2879640" cy="504720"/>
          </a:xfrm>
          <a:prstGeom prst="roundRect">
            <a:avLst>
              <a:gd name="adj" fmla="val 16667"/>
            </a:avLst>
          </a:pr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00"/>
                </a:solidFill>
                <a:latin typeface="Times New Roman"/>
              </a:rPr>
              <a:t>Conclusions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47640" y="2276640"/>
            <a:ext cx="7345440" cy="647640"/>
          </a:xfrm>
          <a:prstGeom prst="roundRect">
            <a:avLst>
              <a:gd name="adj" fmla="val 16667"/>
            </a:avLst>
          </a:prstGeom>
          <a:solidFill>
            <a:srgbClr val="a50021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Definitions and measurement methods of </a:t>
            </a:r>
            <a:r>
              <a:rPr b="1" lang="it-IT" sz="1800" spc="-1" strike="noStrike">
                <a:solidFill>
                  <a:srgbClr val="ffff66"/>
                </a:solidFill>
                <a:latin typeface="Times New Roman"/>
              </a:rPr>
              <a:t>social costs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it-IT" sz="1800" spc="-1" strike="noStrike">
                <a:solidFill>
                  <a:srgbClr val="ffff66"/>
                </a:solidFill>
                <a:latin typeface="Times New Roman"/>
              </a:rPr>
              <a:t>benefits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 connected to agriculture activities are needed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47640" y="3068640"/>
            <a:ext cx="7345440" cy="720720"/>
          </a:xfrm>
          <a:prstGeom prst="roundRect">
            <a:avLst>
              <a:gd name="adj" fmla="val 16667"/>
            </a:avLst>
          </a:prstGeom>
          <a:solidFill>
            <a:srgbClr val="a50021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surveys should include </a:t>
            </a:r>
            <a:r>
              <a:rPr b="1" lang="it-IT" sz="1800" spc="-1" strike="noStrike">
                <a:solidFill>
                  <a:srgbClr val="ffff66"/>
                </a:solidFill>
                <a:latin typeface="Times New Roman"/>
              </a:rPr>
              <a:t>small farms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important for rural developme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7626240" y="210960"/>
          <a:ext cx="1266840" cy="625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6240" y="210960"/>
                    <a:ext cx="126684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8" name="" descr=""/>
          <p:cNvPicPr/>
          <p:nvPr/>
        </p:nvPicPr>
        <p:blipFill>
          <a:blip r:embed="rId4"/>
          <a:stretch/>
        </p:blipFill>
        <p:spPr>
          <a:xfrm>
            <a:off x="2050920" y="189000"/>
            <a:ext cx="658800" cy="64620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5"/>
          <a:stretch/>
        </p:blipFill>
        <p:spPr>
          <a:xfrm>
            <a:off x="250920" y="298440"/>
            <a:ext cx="1703160" cy="3366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47640" y="4005360"/>
            <a:ext cx="7345440" cy="647640"/>
          </a:xfrm>
          <a:prstGeom prst="roundRect">
            <a:avLst>
              <a:gd name="adj" fmla="val 16667"/>
            </a:avLst>
          </a:prstGeom>
          <a:solidFill>
            <a:srgbClr val="a50021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66"/>
                </a:solidFill>
                <a:latin typeface="Times New Roman"/>
              </a:rPr>
              <a:t>integration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between a </a:t>
            </a:r>
            <a:r>
              <a:rPr b="1" lang="it-IT" sz="1800" spc="-1" strike="noStrike">
                <a:solidFill>
                  <a:srgbClr val="ffff66"/>
                </a:solidFill>
                <a:latin typeface="Times New Roman"/>
              </a:rPr>
              <a:t>Business Survey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and a </a:t>
            </a:r>
            <a:r>
              <a:rPr b="1" lang="it-IT" sz="1800" spc="-1" strike="noStrike">
                <a:solidFill>
                  <a:srgbClr val="ffff66"/>
                </a:solidFill>
                <a:latin typeface="Times New Roman"/>
              </a:rPr>
              <a:t>Structural Survey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is a suitable t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68360" y="5229360"/>
            <a:ext cx="6624720" cy="647640"/>
          </a:xfrm>
          <a:prstGeom prst="roundRect">
            <a:avLst>
              <a:gd name="adj" fmla="val 16667"/>
            </a:avLst>
          </a:prstGeom>
          <a:solidFill>
            <a:srgbClr val="8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surveys  are </a:t>
            </a:r>
            <a:r>
              <a:rPr b="1" lang="it-IT" sz="1800" spc="-1" strike="noStrike">
                <a:solidFill>
                  <a:srgbClr val="ffff66"/>
                </a:solidFill>
                <a:latin typeface="Times New Roman"/>
              </a:rPr>
              <a:t>coherent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with respect to definitions of statistical units and common structural variabl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68360" y="5950080"/>
            <a:ext cx="6624720" cy="836640"/>
          </a:xfrm>
          <a:prstGeom prst="roundRect">
            <a:avLst>
              <a:gd name="adj" fmla="val 16667"/>
            </a:avLst>
          </a:prstGeom>
          <a:solidFill>
            <a:srgbClr val="8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in the case of  non over lapping samples, </a:t>
            </a:r>
            <a:r>
              <a:rPr b="1" lang="it-IT" sz="1800" spc="-1" strike="noStrike">
                <a:solidFill>
                  <a:srgbClr val="ffff66"/>
                </a:solidFill>
                <a:latin typeface="Times New Roman"/>
              </a:rPr>
              <a:t>business survey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should collect a minimum set of structural variables useful to </a:t>
            </a:r>
            <a:r>
              <a:rPr b="1" lang="it-IT" sz="1800" spc="-1" strike="noStrike">
                <a:solidFill>
                  <a:srgbClr val="ffff66"/>
                </a:solidFill>
                <a:latin typeface="Times New Roman"/>
              </a:rPr>
              <a:t>calibration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and microdata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2560" y="2347920"/>
            <a:ext cx="576360" cy="50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2560" y="3211560"/>
            <a:ext cx="576360" cy="50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4360" y="4076640"/>
            <a:ext cx="576000" cy="50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003640" y="4726080"/>
            <a:ext cx="432000" cy="358560"/>
          </a:xfrm>
          <a:prstGeom prst="ellipse">
            <a:avLst/>
          </a:prstGeom>
          <a:solidFill>
            <a:srgbClr val="80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I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547640" y="5372280"/>
            <a:ext cx="505080" cy="433080"/>
          </a:xfrm>
          <a:prstGeom prst="ellipse">
            <a:avLst/>
          </a:prstGeom>
          <a:solidFill>
            <a:srgbClr val="ff66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47640" y="6091200"/>
            <a:ext cx="505080" cy="433440"/>
          </a:xfrm>
          <a:prstGeom prst="ellipse">
            <a:avLst/>
          </a:prstGeom>
          <a:solidFill>
            <a:srgbClr val="ff66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2" dur="indefinite" restart="never" nodeType="tmRoot">
          <p:childTnLst>
            <p:seq>
              <p:cTn id="1403" dur="indefinite" nodeType="mainSeq">
                <p:childTnLst>
                  <p:par>
                    <p:cTn id="1404" fill="hold">
                      <p:stCondLst>
                        <p:cond delay="0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500"/>
                            </p:stCondLst>
                            <p:childTnLst>
                              <p:par>
                                <p:cTn id="14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1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500"/>
                            </p:stCondLst>
                            <p:childTnLst>
                              <p:par>
                                <p:cTn id="142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2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fill="hold">
                            <p:stCondLst>
                              <p:cond delay="500"/>
                            </p:stCondLst>
                            <p:childTnLst>
                              <p:par>
                                <p:cTn id="143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4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500"/>
                            </p:stCondLst>
                            <p:childTnLst>
                              <p:par>
                                <p:cTn id="14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6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fill="hold">
                            <p:stCondLst>
                              <p:cond delay="500"/>
                            </p:stCondLst>
                            <p:childTnLst>
                              <p:par>
                                <p:cTn id="147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42920" y="2708280"/>
            <a:ext cx="7013520" cy="2376360"/>
          </a:xfrm>
          <a:prstGeom prst="roundRect">
            <a:avLst>
              <a:gd name="adj" fmla="val 18273"/>
            </a:avLst>
          </a:prstGeom>
          <a:solidFill>
            <a:srgbClr val="0000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Evaluating the capacity of statistical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in respect to the </a:t>
            </a:r>
            <a:r>
              <a:rPr b="0" lang="it-IT" sz="2400" spc="-1" strike="noStrike">
                <a:solidFill>
                  <a:srgbClr val="ffff66"/>
                </a:solidFill>
                <a:latin typeface="Times New Roman"/>
              </a:rPr>
              <a:t>agriculture sector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disclosed by the </a:t>
            </a:r>
            <a:r>
              <a:rPr b="0" lang="it-IT" sz="2400" spc="-1" strike="noStrike">
                <a:solidFill>
                  <a:srgbClr val="ffff66"/>
                </a:solidFill>
                <a:latin typeface="Times New Roman"/>
              </a:rPr>
              <a:t>integration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of data collected with different surveys on farms belonging to the same population.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32000" y="1268280"/>
            <a:ext cx="2880000" cy="576360"/>
          </a:xfrm>
          <a:prstGeom prst="roundRect">
            <a:avLst>
              <a:gd name="adj" fmla="val 16667"/>
            </a:avLst>
          </a:pr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Times New Roman"/>
              </a:rPr>
              <a:t>General purp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626240" y="210960"/>
          <a:ext cx="1266840" cy="625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6240" y="210960"/>
                    <a:ext cx="126684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050920" y="189000"/>
            <a:ext cx="658800" cy="646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250920" y="298440"/>
            <a:ext cx="1703160" cy="3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71640" y="3535200"/>
            <a:ext cx="2160360" cy="576360"/>
          </a:xfrm>
          <a:prstGeom prst="roundRect">
            <a:avLst>
              <a:gd name="adj" fmla="val 16667"/>
            </a:avLst>
          </a:prstGeom>
          <a:solidFill>
            <a:srgbClr val="a50021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Times New Roman"/>
              </a:rPr>
              <a:t>Economic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29080" y="2851200"/>
            <a:ext cx="3743280" cy="576360"/>
          </a:xfrm>
          <a:prstGeom prst="roundRect">
            <a:avLst>
              <a:gd name="adj" fmla="val 16667"/>
            </a:avLst>
          </a:prstGeom>
          <a:solidFill>
            <a:srgbClr val="a50021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Farms </a:t>
            </a:r>
            <a:r>
              <a:rPr b="1" lang="it-IT" sz="1600" spc="-1" strike="noStrike">
                <a:solidFill>
                  <a:srgbClr val="ffff66"/>
                </a:solidFill>
                <a:latin typeface="Times New Roman"/>
              </a:rPr>
              <a:t>multifunction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2060640"/>
            <a:ext cx="7200720" cy="514440"/>
          </a:xfrm>
          <a:prstGeom prst="roundRect">
            <a:avLst>
              <a:gd name="adj" fmla="val 18273"/>
            </a:avLst>
          </a:pr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In our paper we discu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32000" y="1268280"/>
            <a:ext cx="2880000" cy="576360"/>
          </a:xfrm>
          <a:prstGeom prst="roundRect">
            <a:avLst>
              <a:gd name="adj" fmla="val 16667"/>
            </a:avLst>
          </a:pr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Times New Roman"/>
              </a:rPr>
              <a:t>Main 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29080" y="3498840"/>
            <a:ext cx="3743280" cy="576360"/>
          </a:xfrm>
          <a:prstGeom prst="roundRect">
            <a:avLst>
              <a:gd name="adj" fmla="val 16667"/>
            </a:avLst>
          </a:prstGeom>
          <a:solidFill>
            <a:srgbClr val="a50021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Times New Roman"/>
              </a:rPr>
              <a:t>Income structure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 of agriculture househol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29080" y="4148280"/>
            <a:ext cx="3743280" cy="576000"/>
          </a:xfrm>
          <a:prstGeom prst="roundRect">
            <a:avLst>
              <a:gd name="adj" fmla="val 16667"/>
            </a:avLst>
          </a:prstGeom>
          <a:solidFill>
            <a:srgbClr val="a50021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Statistical informations for </a:t>
            </a:r>
            <a:r>
              <a:rPr b="1" lang="it-IT" sz="1600" spc="-1" strike="noStrike">
                <a:solidFill>
                  <a:srgbClr val="ffff66"/>
                </a:solidFill>
                <a:latin typeface="Times New Roman"/>
              </a:rPr>
              <a:t>economic analysis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it-IT" sz="1600" spc="-1" strike="noStrike">
                <a:solidFill>
                  <a:srgbClr val="ffff66"/>
                </a:solidFill>
                <a:latin typeface="Times New Roman"/>
              </a:rPr>
              <a:t>policy ma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71640" y="5661000"/>
            <a:ext cx="2160360" cy="57636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Times New Roman"/>
              </a:rPr>
              <a:t>Statistical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27640" y="5180040"/>
            <a:ext cx="3744720" cy="69696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An overall </a:t>
            </a:r>
            <a:r>
              <a:rPr b="1" lang="it-IT" sz="1600" spc="-1" strike="noStrike">
                <a:solidFill>
                  <a:srgbClr val="ffff66"/>
                </a:solidFill>
                <a:latin typeface="Times New Roman"/>
              </a:rPr>
              <a:t>design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 of statistical surveys on fa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5958000"/>
            <a:ext cx="3744720" cy="78408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Times New Roman"/>
              </a:rPr>
              <a:t>Data integration techniques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 in relation to data collection methods (sample, census or administrative sourc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626240" y="210960"/>
          <a:ext cx="1266840" cy="625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6240" y="210960"/>
                    <a:ext cx="126684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050920" y="189000"/>
            <a:ext cx="658800" cy="646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50920" y="298440"/>
            <a:ext cx="1703160" cy="336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564000" y="3733920"/>
            <a:ext cx="576360" cy="217440"/>
          </a:xfrm>
          <a:prstGeom prst="rightArrow">
            <a:avLst>
              <a:gd name="adj1" fmla="val 50000"/>
              <a:gd name="adj2" fmla="val 662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933200">
            <a:off x="3492000" y="4148280"/>
            <a:ext cx="576360" cy="217440"/>
          </a:xfrm>
          <a:prstGeom prst="rightArrow">
            <a:avLst>
              <a:gd name="adj1" fmla="val 50000"/>
              <a:gd name="adj2" fmla="val 662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20121600">
            <a:off x="3492360" y="3357360"/>
            <a:ext cx="576360" cy="217440"/>
          </a:xfrm>
          <a:prstGeom prst="rightArrow">
            <a:avLst>
              <a:gd name="adj1" fmla="val 50000"/>
              <a:gd name="adj2" fmla="val 662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933200">
            <a:off x="3492000" y="6093000"/>
            <a:ext cx="576360" cy="217440"/>
          </a:xfrm>
          <a:prstGeom prst="rightArrow">
            <a:avLst>
              <a:gd name="adj1" fmla="val 50000"/>
              <a:gd name="adj2" fmla="val 662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20121600">
            <a:off x="3492360" y="5659200"/>
            <a:ext cx="576360" cy="217440"/>
          </a:xfrm>
          <a:prstGeom prst="rightArrow">
            <a:avLst>
              <a:gd name="adj1" fmla="val 50000"/>
              <a:gd name="adj2" fmla="val 662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95280" y="1736640"/>
            <a:ext cx="3672000" cy="576360"/>
          </a:xfrm>
          <a:prstGeom prst="roundRect">
            <a:avLst>
              <a:gd name="adj" fmla="val 16667"/>
            </a:avLst>
          </a:prstGeom>
          <a:solidFill>
            <a:srgbClr val="0000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66"/>
                </a:solidFill>
                <a:latin typeface="Times New Roman"/>
              </a:rPr>
              <a:t>Primary economic functions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of farm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88000" y="1809720"/>
            <a:ext cx="3671640" cy="432000"/>
          </a:xfrm>
          <a:prstGeom prst="roundRect">
            <a:avLst>
              <a:gd name="adj" fmla="val 16667"/>
            </a:avLst>
          </a:prstGeom>
          <a:solidFill>
            <a:srgbClr val="0000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to produce foods and raw mater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11640" y="1881360"/>
            <a:ext cx="431640" cy="28728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ff0000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11280" y="981000"/>
            <a:ext cx="4321440" cy="505080"/>
          </a:xfrm>
          <a:prstGeom prst="roundRect">
            <a:avLst>
              <a:gd name="adj" fmla="val 16667"/>
            </a:avLst>
          </a:prstGeom>
          <a:solidFill>
            <a:srgbClr val="3333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Times New Roman"/>
              </a:rPr>
              <a:t>The multifunctionality of f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48360" y="2384280"/>
            <a:ext cx="2954160" cy="324000"/>
          </a:xfrm>
          <a:prstGeom prst="roundRect">
            <a:avLst>
              <a:gd name="adj" fmla="val 16667"/>
            </a:avLst>
          </a:prstGeom>
          <a:solidFill>
            <a:srgbClr val="993366">
              <a:alpha val="7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MARKET 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35280" y="5013360"/>
            <a:ext cx="3672000" cy="576360"/>
          </a:xfrm>
          <a:prstGeom prst="roundRect">
            <a:avLst>
              <a:gd name="adj" fmla="val 16667"/>
            </a:avLst>
          </a:prstGeom>
          <a:solidFill>
            <a:srgbClr val="0000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66"/>
                </a:solidFill>
                <a:latin typeface="Times New Roman"/>
              </a:rPr>
              <a:t>Social functions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of farm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840" y="5878440"/>
            <a:ext cx="2952720" cy="503280"/>
          </a:xfrm>
          <a:prstGeom prst="roundRect">
            <a:avLst>
              <a:gd name="adj" fmla="val 16667"/>
            </a:avLst>
          </a:prstGeom>
          <a:solidFill>
            <a:srgbClr val="0000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Times New Roman"/>
              </a:rPr>
              <a:t>Environmental benefits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 (e.g. soil conservation, biodiversit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97080" y="5878440"/>
            <a:ext cx="2952720" cy="503280"/>
          </a:xfrm>
          <a:prstGeom prst="roundRect">
            <a:avLst>
              <a:gd name="adj" fmla="val 16667"/>
            </a:avLst>
          </a:prstGeom>
          <a:solidFill>
            <a:srgbClr val="0000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Times New Roman"/>
              </a:rPr>
              <a:t>Food safe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19640" y="5878440"/>
            <a:ext cx="2953080" cy="503280"/>
          </a:xfrm>
          <a:prstGeom prst="roundRect">
            <a:avLst>
              <a:gd name="adj" fmla="val 16667"/>
            </a:avLst>
          </a:prstGeom>
          <a:solidFill>
            <a:srgbClr val="0000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Times New Roman"/>
              </a:rPr>
              <a:t>Socio economic viability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 in rural ar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95640" y="6489720"/>
            <a:ext cx="2954160" cy="324000"/>
          </a:xfrm>
          <a:prstGeom prst="roundRect">
            <a:avLst>
              <a:gd name="adj" fmla="val 16667"/>
            </a:avLst>
          </a:prstGeom>
          <a:solidFill>
            <a:srgbClr val="993366">
              <a:alpha val="7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NON MARKET 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987640"/>
            <a:ext cx="3672000" cy="576360"/>
          </a:xfrm>
          <a:prstGeom prst="roundRect">
            <a:avLst>
              <a:gd name="adj" fmla="val 16667"/>
            </a:avLst>
          </a:prstGeom>
          <a:solidFill>
            <a:srgbClr val="0000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66"/>
                </a:solidFill>
                <a:latin typeface="Times New Roman"/>
              </a:rPr>
              <a:t>Secondary economic functions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of fa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84360" y="3851280"/>
            <a:ext cx="1944720" cy="504720"/>
          </a:xfrm>
          <a:prstGeom prst="roundRect">
            <a:avLst>
              <a:gd name="adj" fmla="val 16667"/>
            </a:avLst>
          </a:prstGeom>
          <a:solidFill>
            <a:srgbClr val="0000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Processing of agriculture produ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3851280"/>
            <a:ext cx="1944720" cy="504720"/>
          </a:xfrm>
          <a:prstGeom prst="roundRect">
            <a:avLst>
              <a:gd name="adj" fmla="val 16667"/>
            </a:avLst>
          </a:prstGeom>
          <a:solidFill>
            <a:srgbClr val="0000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Tourist 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88000" y="3851280"/>
            <a:ext cx="1944720" cy="504720"/>
          </a:xfrm>
          <a:prstGeom prst="roundRect">
            <a:avLst>
              <a:gd name="adj" fmla="val 16667"/>
            </a:avLst>
          </a:prstGeom>
          <a:solidFill>
            <a:srgbClr val="0000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aquacul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94200" y="4473720"/>
            <a:ext cx="2954160" cy="323640"/>
          </a:xfrm>
          <a:prstGeom prst="roundRect">
            <a:avLst>
              <a:gd name="adj" fmla="val 16667"/>
            </a:avLst>
          </a:prstGeom>
          <a:solidFill>
            <a:srgbClr val="993366">
              <a:alpha val="7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MARKET 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91280" y="3851280"/>
            <a:ext cx="1944720" cy="504720"/>
          </a:xfrm>
          <a:prstGeom prst="roundRect">
            <a:avLst>
              <a:gd name="adj" fmla="val 16667"/>
            </a:avLst>
          </a:prstGeom>
          <a:solidFill>
            <a:srgbClr val="0000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Landscape mainte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626240" y="210960"/>
          <a:ext cx="1266840" cy="625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6240" y="210960"/>
                    <a:ext cx="126684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050920" y="189000"/>
            <a:ext cx="658800" cy="646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250920" y="298440"/>
            <a:ext cx="1703160" cy="336600"/>
          </a:xfrm>
          <a:prstGeom prst="rect">
            <a:avLst/>
          </a:prstGeom>
          <a:ln w="0">
            <a:noFill/>
          </a:ln>
        </p:spPr>
      </p:pic>
      <p:cxnSp>
        <p:nvCxnSpPr>
          <p:cNvPr id="94" name=""/>
          <p:cNvCxnSpPr>
            <a:stCxn id="79" idx="2"/>
            <a:endCxn id="80" idx="0"/>
          </p:cNvCxnSpPr>
          <p:nvPr/>
        </p:nvCxnSpPr>
        <p:spPr>
          <a:xfrm rot="5400000">
            <a:off x="2913840" y="4221000"/>
            <a:ext cx="289440" cy="3026520"/>
          </a:xfrm>
          <a:prstGeom prst="bentConnector3">
            <a:avLst>
              <a:gd name="adj1" fmla="val 49937"/>
            </a:avLst>
          </a:prstGeom>
          <a:ln w="12600">
            <a:solidFill>
              <a:srgbClr val="ff0000"/>
            </a:solidFill>
            <a:miter/>
            <a:tailEnd len="med" type="diamond" w="med"/>
          </a:ln>
        </p:spPr>
      </p:cxnSp>
      <p:cxnSp>
        <p:nvCxnSpPr>
          <p:cNvPr id="95" name=""/>
          <p:cNvCxnSpPr>
            <a:stCxn id="79" idx="2"/>
            <a:endCxn id="81" idx="0"/>
          </p:cNvCxnSpPr>
          <p:nvPr/>
        </p:nvCxnSpPr>
        <p:spPr>
          <a:xfrm flipH="1" rot="16200000">
            <a:off x="4428360" y="5733000"/>
            <a:ext cx="289440" cy="2160"/>
          </a:xfrm>
          <a:prstGeom prst="bentConnector3">
            <a:avLst>
              <a:gd name="adj1" fmla="val 49937"/>
            </a:avLst>
          </a:prstGeom>
          <a:ln w="12600">
            <a:solidFill>
              <a:srgbClr val="ff0000"/>
            </a:solidFill>
            <a:miter/>
            <a:tailEnd len="med" type="diamond" w="med"/>
          </a:ln>
        </p:spPr>
      </p:cxnSp>
      <p:cxnSp>
        <p:nvCxnSpPr>
          <p:cNvPr id="96" name=""/>
          <p:cNvCxnSpPr>
            <a:stCxn id="79" idx="2"/>
            <a:endCxn id="82" idx="0"/>
          </p:cNvCxnSpPr>
          <p:nvPr/>
        </p:nvCxnSpPr>
        <p:spPr>
          <a:xfrm flipH="1" rot="16200000">
            <a:off x="5938920" y="4221720"/>
            <a:ext cx="289440" cy="3025080"/>
          </a:xfrm>
          <a:prstGeom prst="bentConnector3">
            <a:avLst>
              <a:gd name="adj1" fmla="val 49937"/>
            </a:avLst>
          </a:prstGeom>
          <a:ln w="12600">
            <a:solidFill>
              <a:srgbClr val="ff0000"/>
            </a:solidFill>
            <a:miter/>
            <a:tailEnd len="med" type="diamond" w="med"/>
          </a:ln>
        </p:spPr>
      </p:cxnSp>
      <p:cxnSp>
        <p:nvCxnSpPr>
          <p:cNvPr id="97" name=""/>
          <p:cNvCxnSpPr>
            <a:stCxn id="84" idx="2"/>
            <a:endCxn id="86" idx="0"/>
          </p:cNvCxnSpPr>
          <p:nvPr/>
        </p:nvCxnSpPr>
        <p:spPr>
          <a:xfrm rot="5400000">
            <a:off x="2736000" y="1979640"/>
            <a:ext cx="288000" cy="3456720"/>
          </a:xfrm>
          <a:prstGeom prst="bentConnector3">
            <a:avLst>
              <a:gd name="adj1" fmla="val 49687"/>
            </a:avLst>
          </a:prstGeom>
          <a:ln w="12600">
            <a:solidFill>
              <a:srgbClr val="ff0000"/>
            </a:solidFill>
            <a:miter/>
            <a:tailEnd len="med" type="diamond" w="med"/>
          </a:ln>
        </p:spPr>
      </p:cxnSp>
      <p:cxnSp>
        <p:nvCxnSpPr>
          <p:cNvPr id="98" name=""/>
          <p:cNvCxnSpPr>
            <a:stCxn id="84" idx="2"/>
            <a:endCxn id="85" idx="0"/>
          </p:cNvCxnSpPr>
          <p:nvPr/>
        </p:nvCxnSpPr>
        <p:spPr>
          <a:xfrm rot="5400000">
            <a:off x="3888360" y="3132000"/>
            <a:ext cx="288000" cy="1151640"/>
          </a:xfrm>
          <a:prstGeom prst="bentConnector3">
            <a:avLst>
              <a:gd name="adj1" fmla="val 49687"/>
            </a:avLst>
          </a:prstGeom>
          <a:ln w="12600">
            <a:solidFill>
              <a:srgbClr val="ff0000"/>
            </a:solidFill>
            <a:miter/>
            <a:tailEnd len="med" type="diamond" w="med"/>
          </a:ln>
        </p:spPr>
      </p:cxnSp>
      <p:cxnSp>
        <p:nvCxnSpPr>
          <p:cNvPr id="99" name=""/>
          <p:cNvCxnSpPr>
            <a:stCxn id="84" idx="2"/>
            <a:endCxn id="87" idx="0"/>
          </p:cNvCxnSpPr>
          <p:nvPr/>
        </p:nvCxnSpPr>
        <p:spPr>
          <a:xfrm flipH="1" rot="16200000">
            <a:off x="5041080" y="3130920"/>
            <a:ext cx="288000" cy="1153440"/>
          </a:xfrm>
          <a:prstGeom prst="bentConnector3">
            <a:avLst>
              <a:gd name="adj1" fmla="val 49687"/>
            </a:avLst>
          </a:prstGeom>
          <a:ln w="12600">
            <a:solidFill>
              <a:srgbClr val="ff0000"/>
            </a:solidFill>
            <a:miter/>
            <a:tailEnd len="med" type="diamond" w="med"/>
          </a:ln>
        </p:spPr>
      </p:cxnSp>
      <p:cxnSp>
        <p:nvCxnSpPr>
          <p:cNvPr id="100" name=""/>
          <p:cNvCxnSpPr>
            <a:stCxn id="84" idx="2"/>
            <a:endCxn id="89" idx="0"/>
          </p:cNvCxnSpPr>
          <p:nvPr/>
        </p:nvCxnSpPr>
        <p:spPr>
          <a:xfrm flipH="1" rot="16200000">
            <a:off x="6192720" y="1979280"/>
            <a:ext cx="288000" cy="3456720"/>
          </a:xfrm>
          <a:prstGeom prst="bentConnector3">
            <a:avLst>
              <a:gd name="adj1" fmla="val 49687"/>
            </a:avLst>
          </a:prstGeom>
          <a:ln w="12600">
            <a:solidFill>
              <a:srgbClr val="ff0000"/>
            </a:solidFill>
            <a:miter/>
            <a:tailEnd len="med" type="diamond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5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500"/>
                            </p:stCondLst>
                            <p:childTnLst>
                              <p:par>
                                <p:cTn id="2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00360" y="4149720"/>
            <a:ext cx="3673440" cy="576360"/>
          </a:xfrm>
          <a:prstGeom prst="roundRect">
            <a:avLst>
              <a:gd name="adj" fmla="val 16667"/>
            </a:avLst>
          </a:prstGeom>
          <a:solidFill>
            <a:srgbClr val="0000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Times New Roman"/>
              </a:rPr>
              <a:t>Household income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4869000"/>
            <a:ext cx="2303640" cy="649080"/>
          </a:xfrm>
          <a:prstGeom prst="roundRect">
            <a:avLst>
              <a:gd name="adj" fmla="val 16667"/>
            </a:avLst>
          </a:prstGeom>
          <a:solidFill>
            <a:srgbClr val="993366">
              <a:alpha val="7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From </a:t>
            </a:r>
            <a:r>
              <a:rPr b="0" lang="it-IT" sz="1600" spc="-1" strike="noStrike">
                <a:solidFill>
                  <a:srgbClr val="ffff66"/>
                </a:solidFill>
                <a:latin typeface="Times New Roman"/>
              </a:rPr>
              <a:t>agricultural 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979560"/>
            <a:ext cx="4321440" cy="504720"/>
          </a:xfrm>
          <a:prstGeom prst="roundRect">
            <a:avLst>
              <a:gd name="adj" fmla="val 16667"/>
            </a:avLst>
          </a:prstGeom>
          <a:solidFill>
            <a:srgbClr val="3333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Times New Roman"/>
              </a:rPr>
              <a:t>Farms, households and in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2133720"/>
            <a:ext cx="1368360" cy="1152360"/>
          </a:xfrm>
          <a:prstGeom prst="ellipse">
            <a:avLst/>
          </a:prstGeom>
          <a:solidFill>
            <a:srgbClr val="3333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F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7720" y="1677960"/>
            <a:ext cx="17596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Times New Roman"/>
              </a:rPr>
              <a:t>Statistical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55720" y="1677960"/>
            <a:ext cx="12567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Times New Roman"/>
              </a:rPr>
              <a:t>Typolo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11640" y="2133720"/>
            <a:ext cx="3456000" cy="431640"/>
          </a:xfrm>
          <a:prstGeom prst="roundRect">
            <a:avLst>
              <a:gd name="adj" fmla="val 16667"/>
            </a:avLst>
          </a:prstGeom>
          <a:solidFill>
            <a:srgbClr val="0000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Times New Roman"/>
              </a:rPr>
              <a:t>Direct management far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24360" y="2637000"/>
            <a:ext cx="4176720" cy="1296720"/>
          </a:xfrm>
          <a:prstGeom prst="roundRect">
            <a:avLst>
              <a:gd name="adj" fmla="val 16667"/>
            </a:avLst>
          </a:prstGeom>
          <a:solidFill>
            <a:srgbClr val="8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Times New Roman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A farm conducted by an holder with some degree of his work and of his family compon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5732640"/>
            <a:ext cx="2305080" cy="649080"/>
          </a:xfrm>
          <a:prstGeom prst="roundRect">
            <a:avLst>
              <a:gd name="adj" fmla="val 16667"/>
            </a:avLst>
          </a:prstGeom>
          <a:solidFill>
            <a:srgbClr val="993366">
              <a:alpha val="7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From </a:t>
            </a:r>
            <a:r>
              <a:rPr b="0" lang="it-IT" sz="1600" spc="-1" strike="noStrike">
                <a:solidFill>
                  <a:srgbClr val="ffff66"/>
                </a:solidFill>
                <a:latin typeface="Times New Roman"/>
              </a:rPr>
              <a:t>connected multifunctional 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96000" y="4869000"/>
            <a:ext cx="2305080" cy="649080"/>
          </a:xfrm>
          <a:prstGeom prst="roundRect">
            <a:avLst>
              <a:gd name="adj" fmla="val 16667"/>
            </a:avLst>
          </a:prstGeom>
          <a:solidFill>
            <a:srgbClr val="993366">
              <a:alpha val="7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Off - farms </a:t>
            </a:r>
            <a:r>
              <a:rPr b="0" lang="it-IT" sz="1600" spc="-1" strike="noStrike">
                <a:solidFill>
                  <a:srgbClr val="ffff66"/>
                </a:solidFill>
                <a:latin typeface="Times New Roman"/>
              </a:rPr>
              <a:t>in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(holder and his family componen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3280" y="5589720"/>
            <a:ext cx="1150920" cy="720720"/>
          </a:xfrm>
          <a:prstGeom prst="ellipse">
            <a:avLst/>
          </a:prstGeom>
          <a:solidFill>
            <a:srgbClr val="00cc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66"/>
                </a:solidFill>
                <a:latin typeface="Times New Roman"/>
              </a:rPr>
              <a:t>Mix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66"/>
                </a:solidFill>
                <a:latin typeface="Times New Roman"/>
              </a:rPr>
              <a:t>inco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24360" y="6066000"/>
            <a:ext cx="1151280" cy="720720"/>
          </a:xfrm>
          <a:prstGeom prst="ellipse">
            <a:avLst/>
          </a:prstGeom>
          <a:solidFill>
            <a:srgbClr val="00cc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66"/>
                </a:solidFill>
                <a:latin typeface="Times New Roman"/>
              </a:rPr>
              <a:t>W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48360" y="6066000"/>
            <a:ext cx="1150920" cy="720720"/>
          </a:xfrm>
          <a:prstGeom prst="ellipse">
            <a:avLst/>
          </a:prstGeom>
          <a:solidFill>
            <a:srgbClr val="00cc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66"/>
                </a:solidFill>
                <a:latin typeface="Times New Roman"/>
              </a:rPr>
              <a:t>Pen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93080" y="5589720"/>
            <a:ext cx="1150920" cy="720720"/>
          </a:xfrm>
          <a:prstGeom prst="ellipse">
            <a:avLst/>
          </a:prstGeom>
          <a:solidFill>
            <a:srgbClr val="00cc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66"/>
                </a:solidFill>
                <a:latin typeface="Times New Roman"/>
              </a:rPr>
              <a:t>Interest and prof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626240" y="210960"/>
          <a:ext cx="1266840" cy="625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6240" y="210960"/>
                    <a:ext cx="126684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2050920" y="189000"/>
            <a:ext cx="658800" cy="646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250920" y="298440"/>
            <a:ext cx="1703160" cy="336600"/>
          </a:xfrm>
          <a:prstGeom prst="rect">
            <a:avLst/>
          </a:prstGeom>
          <a:ln w="0">
            <a:noFill/>
          </a:ln>
        </p:spPr>
      </p:pic>
      <p:cxnSp>
        <p:nvCxnSpPr>
          <p:cNvPr id="119" name=""/>
          <p:cNvCxnSpPr>
            <a:stCxn id="101" idx="2"/>
            <a:endCxn id="102" idx="3"/>
          </p:cNvCxnSpPr>
          <p:nvPr/>
        </p:nvCxnSpPr>
        <p:spPr>
          <a:xfrm rot="5400000">
            <a:off x="3563280" y="4221000"/>
            <a:ext cx="469080" cy="147852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01" idx="2"/>
            <a:endCxn id="109" idx="3"/>
          </p:cNvCxnSpPr>
          <p:nvPr/>
        </p:nvCxnSpPr>
        <p:spPr>
          <a:xfrm rot="5400000">
            <a:off x="3132000" y="4653720"/>
            <a:ext cx="1332720" cy="147708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01" idx="2"/>
            <a:endCxn id="110" idx="1"/>
          </p:cNvCxnSpPr>
          <p:nvPr/>
        </p:nvCxnSpPr>
        <p:spPr>
          <a:xfrm flipH="1" rot="16200000">
            <a:off x="4931280" y="4330440"/>
            <a:ext cx="469080" cy="125964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 rot="753000">
            <a:off x="7453080" y="55688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3418800">
            <a:off x="6984360" y="5769000"/>
            <a:ext cx="503280" cy="144360"/>
          </a:xfrm>
          <a:prstGeom prst="rightArrow">
            <a:avLst>
              <a:gd name="adj1" fmla="val 50000"/>
              <a:gd name="adj2" fmla="val 8715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7413600">
            <a:off x="6263640" y="5784840"/>
            <a:ext cx="503280" cy="144360"/>
          </a:xfrm>
          <a:prstGeom prst="rightArrow">
            <a:avLst>
              <a:gd name="adj1" fmla="val 50000"/>
              <a:gd name="adj2" fmla="val 8715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9468000">
            <a:off x="5867280" y="5604840"/>
            <a:ext cx="503280" cy="144360"/>
          </a:xfrm>
          <a:prstGeom prst="rightArrow">
            <a:avLst>
              <a:gd name="adj1" fmla="val 50000"/>
              <a:gd name="adj2" fmla="val 8715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500"/>
                            </p:stCondLst>
                            <p:childTnLst>
                              <p:par>
                                <p:cTn id="28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500"/>
                            </p:stCondLst>
                            <p:childTnLst>
                              <p:par>
                                <p:cTn id="29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500"/>
                            </p:stCondLst>
                            <p:childTnLst>
                              <p:par>
                                <p:cTn id="30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6500"/>
                            </p:stCondLst>
                            <p:childTnLst>
                              <p:par>
                                <p:cTn id="31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7000"/>
                            </p:stCondLst>
                            <p:childTnLst>
                              <p:par>
                                <p:cTn id="3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50920" y="2673360"/>
            <a:ext cx="3960720" cy="576360"/>
          </a:xfrm>
          <a:prstGeom prst="roundRect">
            <a:avLst>
              <a:gd name="adj" fmla="val 16667"/>
            </a:avLst>
          </a:prstGeom>
          <a:solidFill>
            <a:srgbClr val="0000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Times New Roman"/>
              </a:rPr>
              <a:t>European farm structure survey</a:t>
            </a: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i="1" lang="it-IT" sz="2000" spc="-1" strike="noStrike">
                <a:solidFill>
                  <a:srgbClr val="ffffff"/>
                </a:solidFill>
                <a:latin typeface="Times New Roman"/>
              </a:rPr>
              <a:t>FSS</a:t>
            </a: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21440" y="4581360"/>
            <a:ext cx="3671640" cy="576360"/>
          </a:xfrm>
          <a:prstGeom prst="roundRect">
            <a:avLst>
              <a:gd name="adj" fmla="val 16667"/>
            </a:avLst>
          </a:prstGeom>
          <a:solidFill>
            <a:srgbClr val="0000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Times New Roman"/>
              </a:rPr>
              <a:t>Business survey</a:t>
            </a: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 on agricul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11280" y="1052640"/>
            <a:ext cx="4321440" cy="504720"/>
          </a:xfrm>
          <a:prstGeom prst="roundRect">
            <a:avLst>
              <a:gd name="adj" fmla="val 16667"/>
            </a:avLst>
          </a:pr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Times New Roman"/>
              </a:rPr>
              <a:t>The surveys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78560" y="2033640"/>
            <a:ext cx="2954160" cy="531720"/>
          </a:xfrm>
          <a:prstGeom prst="roundRect">
            <a:avLst>
              <a:gd name="adj" fmla="val 16667"/>
            </a:avLst>
          </a:prstGeom>
          <a:solidFill>
            <a:srgbClr val="993366">
              <a:alpha val="7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by </a:t>
            </a:r>
            <a:r>
              <a:rPr b="1" lang="it-IT" sz="1600" spc="-1" strike="noStrike">
                <a:solidFill>
                  <a:srgbClr val="ffff66"/>
                </a:solidFill>
                <a:latin typeface="Times New Roman"/>
              </a:rPr>
              <a:t>Census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 each </a:t>
            </a:r>
            <a:r>
              <a:rPr b="1" lang="it-IT" sz="1600" spc="-1" strike="noStrike">
                <a:solidFill>
                  <a:srgbClr val="ffff66"/>
                </a:solidFill>
                <a:latin typeface="Times New Roman"/>
              </a:rPr>
              <a:t>10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 y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78560" y="2708280"/>
            <a:ext cx="2954160" cy="503280"/>
          </a:xfrm>
          <a:prstGeom prst="roundRect">
            <a:avLst>
              <a:gd name="adj" fmla="val 16667"/>
            </a:avLst>
          </a:prstGeom>
          <a:solidFill>
            <a:srgbClr val="993366">
              <a:alpha val="7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by</a:t>
            </a: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ffff00"/>
                </a:solidFill>
                <a:latin typeface="Times New Roman"/>
              </a:rPr>
              <a:t>sample survey</a:t>
            </a: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each</a:t>
            </a: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y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78560" y="3355920"/>
            <a:ext cx="2954160" cy="503280"/>
          </a:xfrm>
          <a:prstGeom prst="roundRect">
            <a:avLst>
              <a:gd name="adj" fmla="val 16667"/>
            </a:avLst>
          </a:prstGeom>
          <a:solidFill>
            <a:srgbClr val="993366">
              <a:alpha val="7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Times New Roman"/>
              </a:rPr>
              <a:t>sample size</a:t>
            </a: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of</a:t>
            </a: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ffff00"/>
                </a:solidFill>
                <a:latin typeface="Times New Roman"/>
              </a:rPr>
              <a:t>55,000</a:t>
            </a: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fa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3968640"/>
            <a:ext cx="3816360" cy="540000"/>
          </a:xfrm>
          <a:prstGeom prst="roundRect">
            <a:avLst>
              <a:gd name="adj" fmla="val 16667"/>
            </a:avLst>
          </a:prstGeom>
          <a:solidFill>
            <a:srgbClr val="993366">
              <a:alpha val="7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by </a:t>
            </a:r>
            <a:r>
              <a:rPr b="1" lang="it-IT" sz="1600" spc="-1" strike="noStrike">
                <a:solidFill>
                  <a:srgbClr val="ffff66"/>
                </a:solidFill>
                <a:latin typeface="Times New Roman"/>
              </a:rPr>
              <a:t>sample survey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 each </a:t>
            </a:r>
            <a:r>
              <a:rPr b="1" lang="it-IT" sz="1600" spc="-1" strike="noStrike">
                <a:solidFill>
                  <a:srgbClr val="ffff66"/>
                </a:solidFill>
                <a:latin typeface="Times New Roman"/>
              </a:rPr>
              <a:t>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4618080"/>
            <a:ext cx="3816360" cy="539640"/>
          </a:xfrm>
          <a:prstGeom prst="roundRect">
            <a:avLst>
              <a:gd name="adj" fmla="val 16667"/>
            </a:avLst>
          </a:prstGeom>
          <a:solidFill>
            <a:srgbClr val="993366">
              <a:alpha val="7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Times New Roman"/>
              </a:rPr>
              <a:t>sample size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 of </a:t>
            </a:r>
            <a:r>
              <a:rPr b="1" lang="it-IT" sz="1600" spc="-1" strike="noStrike">
                <a:solidFill>
                  <a:srgbClr val="ffff66"/>
                </a:solidFill>
                <a:latin typeface="Times New Roman"/>
              </a:rPr>
              <a:t>17,000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 fa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5265720"/>
            <a:ext cx="3816360" cy="539640"/>
          </a:xfrm>
          <a:prstGeom prst="roundRect">
            <a:avLst>
              <a:gd name="adj" fmla="val 16667"/>
            </a:avLst>
          </a:prstGeom>
          <a:solidFill>
            <a:srgbClr val="993366">
              <a:alpha val="7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Times New Roman"/>
              </a:rPr>
              <a:t>since 2002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 incorporates the </a:t>
            </a:r>
            <a:r>
              <a:rPr b="0" lang="it-IT" sz="1600" spc="-1" strike="noStrike">
                <a:solidFill>
                  <a:srgbClr val="ffff66"/>
                </a:solidFill>
                <a:latin typeface="Times New Roman"/>
              </a:rPr>
              <a:t>European Farm Accounting Data Network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it-IT" sz="1600" spc="-1" strike="noStrike">
                <a:solidFill>
                  <a:srgbClr val="ffffff"/>
                </a:solidFill>
                <a:latin typeface="Times New Roman"/>
              </a:rPr>
              <a:t>FADN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6021360"/>
            <a:ext cx="8642160" cy="576360"/>
          </a:xfrm>
          <a:prstGeom prst="roundRect">
            <a:avLst>
              <a:gd name="adj" fmla="val 16667"/>
            </a:avLst>
          </a:prstGeom>
          <a:solidFill>
            <a:srgbClr val="0000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Data used for our exercise come from </a:t>
            </a:r>
            <a:r>
              <a:rPr b="1" lang="it-IT" sz="2000" spc="-1" strike="noStrike">
                <a:solidFill>
                  <a:srgbClr val="ffff66"/>
                </a:solidFill>
                <a:latin typeface="Times New Roman"/>
              </a:rPr>
              <a:t>Census 2000</a:t>
            </a: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it-IT" sz="2000" spc="-1" strike="noStrike">
                <a:solidFill>
                  <a:srgbClr val="ffff66"/>
                </a:solidFill>
                <a:latin typeface="Times New Roman"/>
              </a:rPr>
              <a:t>Business Survey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626240" y="210960"/>
          <a:ext cx="1266840" cy="625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6240" y="210960"/>
                    <a:ext cx="126684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2050920" y="189000"/>
            <a:ext cx="658800" cy="646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250920" y="298440"/>
            <a:ext cx="1703160" cy="336600"/>
          </a:xfrm>
          <a:prstGeom prst="rect">
            <a:avLst/>
          </a:prstGeom>
          <a:ln w="0">
            <a:noFill/>
          </a:ln>
        </p:spPr>
      </p:pic>
      <p:cxnSp>
        <p:nvCxnSpPr>
          <p:cNvPr id="140" name=""/>
          <p:cNvCxnSpPr/>
          <p:nvPr/>
        </p:nvCxnSpPr>
        <p:spPr>
          <a:xfrm flipV="1">
            <a:off x="4193640" y="2223360"/>
            <a:ext cx="1367640" cy="741960"/>
          </a:xfrm>
          <a:prstGeom prst="bentConnector3">
            <a:avLst>
              <a:gd name="adj1" fmla="val 50000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26" idx="3"/>
            <a:endCxn id="130" idx="1"/>
          </p:cNvCxnSpPr>
          <p:nvPr/>
        </p:nvCxnSpPr>
        <p:spPr>
          <a:xfrm flipV="1">
            <a:off x="4211280" y="2959920"/>
            <a:ext cx="1367640" cy="2520"/>
          </a:xfrm>
          <a:prstGeom prst="bentConnector3">
            <a:avLst>
              <a:gd name="adj1" fmla="val 49921"/>
            </a:avLst>
          </a:prstGeom>
          <a:ln w="25560">
            <a:solidFill>
              <a:srgbClr val="ff0000"/>
            </a:solidFill>
            <a:miter/>
            <a:tailEnd len="med" type="diamond" w="med"/>
          </a:ln>
        </p:spPr>
      </p:cxnSp>
      <p:cxnSp>
        <p:nvCxnSpPr>
          <p:cNvPr id="142" name=""/>
          <p:cNvCxnSpPr>
            <a:stCxn id="126" idx="3"/>
            <a:endCxn id="131" idx="1"/>
          </p:cNvCxnSpPr>
          <p:nvPr/>
        </p:nvCxnSpPr>
        <p:spPr>
          <a:xfrm>
            <a:off x="4211280" y="2962440"/>
            <a:ext cx="1367640" cy="646560"/>
          </a:xfrm>
          <a:prstGeom prst="bentConnector3">
            <a:avLst>
              <a:gd name="adj1" fmla="val 48657"/>
            </a:avLst>
          </a:prstGeom>
          <a:ln w="25560">
            <a:solidFill>
              <a:srgbClr val="ff0000"/>
            </a:solidFill>
            <a:miter/>
            <a:tailEnd len="med" type="diamond" w="med"/>
          </a:ln>
        </p:spPr>
      </p:cxnSp>
      <p:cxnSp>
        <p:nvCxnSpPr>
          <p:cNvPr id="143" name=""/>
          <p:cNvCxnSpPr>
            <a:stCxn id="127" idx="1"/>
            <a:endCxn id="132" idx="3"/>
          </p:cNvCxnSpPr>
          <p:nvPr/>
        </p:nvCxnSpPr>
        <p:spPr>
          <a:xfrm rot="10800000">
            <a:off x="4066560" y="4237920"/>
            <a:ext cx="1154880" cy="632520"/>
          </a:xfrm>
          <a:prstGeom prst="bentConnector3">
            <a:avLst>
              <a:gd name="adj1" fmla="val 49922"/>
            </a:avLst>
          </a:prstGeom>
          <a:ln w="25560">
            <a:solidFill>
              <a:srgbClr val="ff0000"/>
            </a:solidFill>
            <a:miter/>
            <a:tailEnd len="med" type="diamond" w="med"/>
          </a:ln>
        </p:spPr>
      </p:cxnSp>
      <p:cxnSp>
        <p:nvCxnSpPr>
          <p:cNvPr id="144" name=""/>
          <p:cNvCxnSpPr>
            <a:stCxn id="127" idx="1"/>
            <a:endCxn id="133" idx="3"/>
          </p:cNvCxnSpPr>
          <p:nvPr/>
        </p:nvCxnSpPr>
        <p:spPr>
          <a:xfrm flipV="1" rot="10800000">
            <a:off x="4066560" y="4869360"/>
            <a:ext cx="1154880" cy="18360"/>
          </a:xfrm>
          <a:prstGeom prst="bentConnector3">
            <a:avLst>
              <a:gd name="adj1" fmla="val 49922"/>
            </a:avLst>
          </a:prstGeom>
          <a:ln w="25560">
            <a:solidFill>
              <a:srgbClr val="ff0000"/>
            </a:solidFill>
            <a:miter/>
            <a:tailEnd len="med" type="diamond" w="med"/>
          </a:ln>
        </p:spPr>
      </p:cxnSp>
      <p:cxnSp>
        <p:nvCxnSpPr>
          <p:cNvPr id="145" name=""/>
          <p:cNvCxnSpPr>
            <a:stCxn id="127" idx="1"/>
            <a:endCxn id="134" idx="3"/>
          </p:cNvCxnSpPr>
          <p:nvPr/>
        </p:nvCxnSpPr>
        <p:spPr>
          <a:xfrm flipV="1" rot="10800000">
            <a:off x="4066560" y="4870440"/>
            <a:ext cx="1154880" cy="665640"/>
          </a:xfrm>
          <a:prstGeom prst="bentConnector3">
            <a:avLst>
              <a:gd name="adj1" fmla="val 49922"/>
            </a:avLst>
          </a:prstGeom>
          <a:ln w="25560">
            <a:solidFill>
              <a:srgbClr val="ff0000"/>
            </a:solidFill>
            <a:miter/>
            <a:tailEnd len="med" type="diamond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500"/>
                            </p:stCondLst>
                            <p:childTnLst>
                              <p:par>
                                <p:cTn id="36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500"/>
                            </p:stCondLst>
                            <p:childTnLst>
                              <p:par>
                                <p:cTn id="38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000"/>
                            </p:stCondLst>
                            <p:childTnLst>
                              <p:par>
                                <p:cTn id="39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00000" y="1557360"/>
            <a:ext cx="7559640" cy="647640"/>
          </a:xfrm>
          <a:prstGeom prst="roundRect">
            <a:avLst>
              <a:gd name="adj" fmla="val 16667"/>
            </a:avLst>
          </a:prstGeom>
          <a:solidFill>
            <a:srgbClr val="0000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it-IT" sz="2000" spc="-1" strike="noStrike">
                <a:solidFill>
                  <a:srgbClr val="ffff66"/>
                </a:solidFill>
                <a:latin typeface="Times New Roman"/>
              </a:rPr>
              <a:t>2000 edition of Business Survey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was based on a </a:t>
            </a:r>
            <a:r>
              <a:rPr b="1" lang="it-IT" sz="2000" spc="-1" strike="noStrike">
                <a:solidFill>
                  <a:srgbClr val="ffff66"/>
                </a:solidFill>
                <a:latin typeface="Times New Roman"/>
              </a:rPr>
              <a:t>random sample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selected from a list of units not selected from the Census archi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907920"/>
            <a:ext cx="5616720" cy="505080"/>
          </a:xfrm>
          <a:prstGeom prst="roundRect">
            <a:avLst>
              <a:gd name="adj" fmla="val 16667"/>
            </a:avLst>
          </a:pr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00"/>
                </a:solidFill>
                <a:latin typeface="Times New Roman"/>
              </a:rPr>
              <a:t>Ex post Data integration</a:t>
            </a:r>
            <a:r>
              <a:rPr b="1" lang="it-IT" sz="2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reference year 2000</a:t>
            </a:r>
            <a:r>
              <a:rPr b="1" lang="it-IT" sz="22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5640" y="3933720"/>
            <a:ext cx="4897440" cy="540000"/>
          </a:xfrm>
          <a:prstGeom prst="roundRect">
            <a:avLst>
              <a:gd name="adj" fmla="val 16667"/>
            </a:avLst>
          </a:prstGeom>
          <a:solidFill>
            <a:srgbClr val="a50021">
              <a:alpha val="7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Record linkage through the farms statistical identification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95640" y="4581360"/>
            <a:ext cx="4897440" cy="540000"/>
          </a:xfrm>
          <a:prstGeom prst="roundRect">
            <a:avLst>
              <a:gd name="adj" fmla="val 16667"/>
            </a:avLst>
          </a:prstGeom>
          <a:solidFill>
            <a:srgbClr val="a50021">
              <a:alpha val="7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Times New Roman"/>
              </a:rPr>
              <a:t>About 90%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 of Business Survey farms linked with the Cens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94200" y="5229360"/>
            <a:ext cx="4897440" cy="539640"/>
          </a:xfrm>
          <a:prstGeom prst="roundRect">
            <a:avLst>
              <a:gd name="adj" fmla="val 16667"/>
            </a:avLst>
          </a:prstGeom>
          <a:solidFill>
            <a:srgbClr val="a50021">
              <a:alpha val="7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Distributions of  main structural variables estimated on the linked units </a:t>
            </a:r>
            <a:r>
              <a:rPr b="1" lang="en-US" sz="1600" spc="-1" strike="noStrike">
                <a:solidFill>
                  <a:srgbClr val="ffff66"/>
                </a:solidFill>
                <a:latin typeface="Symbol"/>
                <a:ea typeface="Symbol"/>
              </a:rPr>
              <a:t>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stributions resulting from the Cens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48000" y="6021360"/>
            <a:ext cx="5545080" cy="647640"/>
          </a:xfrm>
          <a:prstGeom prst="roundRect">
            <a:avLst>
              <a:gd name="adj" fmla="val 16667"/>
            </a:avLst>
          </a:prstGeom>
          <a:solidFill>
            <a:srgbClr val="0000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66"/>
                </a:solidFill>
                <a:latin typeface="Times New Roman"/>
              </a:rPr>
              <a:t>Macrolevel integration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 – the sample weights of Business Survey have been calibrated with respect to the main results of the Cens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2276640"/>
            <a:ext cx="7559640" cy="647640"/>
          </a:xfrm>
          <a:prstGeom prst="roundRect">
            <a:avLst>
              <a:gd name="adj" fmla="val 16667"/>
            </a:avLst>
          </a:prstGeom>
          <a:solidFill>
            <a:srgbClr val="3333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it-IT" sz="2000" spc="-1" strike="noStrike">
                <a:solidFill>
                  <a:srgbClr val="ffff66"/>
                </a:solidFill>
                <a:latin typeface="Times New Roman"/>
              </a:rPr>
              <a:t>Business Survey questionnaire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didn’t include any information on physical and production structure of fa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00000" y="2997360"/>
            <a:ext cx="7559640" cy="647640"/>
          </a:xfrm>
          <a:prstGeom prst="roundRect">
            <a:avLst>
              <a:gd name="adj" fmla="val 16667"/>
            </a:avLst>
          </a:pr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For these reasons data integration has been carried out in </a:t>
            </a:r>
            <a:r>
              <a:rPr b="1" lang="it-IT" sz="2000" spc="-1" strike="noStrike">
                <a:solidFill>
                  <a:srgbClr val="ffff66"/>
                </a:solidFill>
                <a:latin typeface="Times New Roman"/>
              </a:rPr>
              <a:t>2 steps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4437000"/>
            <a:ext cx="1297080" cy="863640"/>
          </a:xfrm>
          <a:prstGeom prst="ellipse">
            <a:avLst/>
          </a:prstGeom>
          <a:solidFill>
            <a:srgbClr val="66003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16000" y="5878440"/>
            <a:ext cx="1297080" cy="863640"/>
          </a:xfrm>
          <a:prstGeom prst="ellipse">
            <a:avLst/>
          </a:prstGeom>
          <a:solidFill>
            <a:srgbClr val="3333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4726080"/>
            <a:ext cx="792000" cy="215640"/>
          </a:xfrm>
          <a:custGeom>
            <a:avLst/>
            <a:gdLst>
              <a:gd name="textAreaLeft" fmla="*/ 99000 w 792000"/>
              <a:gd name="textAreaRight" fmla="*/ 693000 w 79200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9921800">
            <a:off x="2700360" y="4292640"/>
            <a:ext cx="792000" cy="216000"/>
          </a:xfrm>
          <a:custGeom>
            <a:avLst/>
            <a:gdLst>
              <a:gd name="textAreaLeft" fmla="*/ 99000 w 792000"/>
              <a:gd name="textAreaRight" fmla="*/ 693000 w 792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960200">
            <a:off x="2700360" y="5157720"/>
            <a:ext cx="792000" cy="216000"/>
          </a:xfrm>
          <a:custGeom>
            <a:avLst/>
            <a:gdLst>
              <a:gd name="textAreaLeft" fmla="*/ 99000 w 792000"/>
              <a:gd name="textAreaRight" fmla="*/ 693000 w 792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84360" y="6202440"/>
            <a:ext cx="792360" cy="216000"/>
          </a:xfrm>
          <a:custGeom>
            <a:avLst/>
            <a:gdLst>
              <a:gd name="textAreaLeft" fmla="*/ 99000 w 792360"/>
              <a:gd name="textAreaRight" fmla="*/ 693360 w 792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7626240" y="210960"/>
          <a:ext cx="1266840" cy="625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6240" y="210960"/>
                    <a:ext cx="126684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2050920" y="189000"/>
            <a:ext cx="658800" cy="6462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250920" y="298440"/>
            <a:ext cx="1703160" cy="3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500"/>
                            </p:stCondLst>
                            <p:childTnLst>
                              <p:par>
                                <p:cTn id="42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4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000"/>
                            </p:stCondLst>
                            <p:childTnLst>
                              <p:par>
                                <p:cTn id="45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71640" y="2060640"/>
            <a:ext cx="7345440" cy="792000"/>
          </a:xfrm>
          <a:prstGeom prst="roundRect">
            <a:avLst>
              <a:gd name="adj" fmla="val 16667"/>
            </a:avLst>
          </a:prstGeom>
          <a:solidFill>
            <a:srgbClr val="0000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Only the </a:t>
            </a:r>
            <a:r>
              <a:rPr b="1" lang="it-IT" sz="2000" spc="-1" strike="noStrike">
                <a:solidFill>
                  <a:srgbClr val="ffff66"/>
                </a:solidFill>
                <a:latin typeface="Times New Roman"/>
              </a:rPr>
              <a:t>second level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of integration between FSS and Business Survey is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63640" y="979560"/>
            <a:ext cx="5616720" cy="504720"/>
          </a:xfrm>
          <a:prstGeom prst="roundRect">
            <a:avLst>
              <a:gd name="adj" fmla="val 16667"/>
            </a:avLst>
          </a:pr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Ex ante Data integration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(starting year 2002)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00000" y="4797360"/>
            <a:ext cx="7345440" cy="863640"/>
          </a:xfrm>
          <a:prstGeom prst="roundRect">
            <a:avLst>
              <a:gd name="adj" fmla="val 16667"/>
            </a:avLst>
          </a:prstGeom>
          <a:solidFill>
            <a:srgbClr val="0000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The Main structural variables are observed on each sample unit of </a:t>
            </a:r>
            <a:r>
              <a:rPr b="1" lang="it-IT" sz="2000" spc="-1" strike="noStrike">
                <a:solidFill>
                  <a:srgbClr val="ffff66"/>
                </a:solidFill>
                <a:latin typeface="Times New Roman"/>
              </a:rPr>
              <a:t>Business Surv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24360" y="3355920"/>
            <a:ext cx="1297080" cy="863640"/>
          </a:xfrm>
          <a:prstGeom prst="ellipse">
            <a:avLst/>
          </a:prstGeom>
          <a:solidFill>
            <a:srgbClr val="a50021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Times New Roman"/>
              </a:rPr>
              <a:t>Be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7626240" y="210960"/>
          <a:ext cx="1266840" cy="625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6240" y="210960"/>
                    <a:ext cx="126684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2050920" y="189000"/>
            <a:ext cx="658800" cy="646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250920" y="298440"/>
            <a:ext cx="1703160" cy="3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500"/>
                            </p:stCondLst>
                            <p:childTnLst>
                              <p:par>
                                <p:cTn id="4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484360" y="1484280"/>
            <a:ext cx="4321080" cy="792360"/>
          </a:xfrm>
          <a:prstGeom prst="rect">
            <a:avLst/>
          </a:prstGeom>
          <a:solidFill>
            <a:srgbClr val="3366ff">
              <a:alpha val="60000"/>
            </a:srgbClr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Times New Roman"/>
              </a:rPr>
              <a:t>The Structure of Italian agricul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865080" y="3192480"/>
            <a:ext cx="8244000" cy="2663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03600" y="2832120"/>
            <a:ext cx="68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66"/>
                </a:solidFill>
                <a:latin typeface="Times New Roman"/>
              </a:rPr>
              <a:t>Table1 – Distribution of structural variables (inputs) by classes of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83800" y="5613480"/>
            <a:ext cx="361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Times New Roman"/>
              </a:rPr>
              <a:t>Source: Istat – Agricultural Census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7626240" y="210960"/>
          <a:ext cx="1266840" cy="625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6240" y="210960"/>
                    <a:ext cx="126684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2050920" y="189000"/>
            <a:ext cx="658800" cy="6462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250920" y="298440"/>
            <a:ext cx="1703160" cy="3366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rot="20253600">
            <a:off x="87120" y="551628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Wingdings"/>
                <a:ea typeface="Wingdings"/>
              </a:rPr>
              <a:t>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27280" y="3357720"/>
            <a:ext cx="719280" cy="57456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80.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58920" y="4438800"/>
            <a:ext cx="649080" cy="86184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46560" y="4462560"/>
            <a:ext cx="649080" cy="79056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48000" y="5300640"/>
            <a:ext cx="719280" cy="57456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79.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64000" y="5300640"/>
            <a:ext cx="719280" cy="57456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87.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72360" y="5300640"/>
            <a:ext cx="718920" cy="57456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77.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02160" y="4462560"/>
            <a:ext cx="649440" cy="79056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46800" y="4464000"/>
            <a:ext cx="649440" cy="79056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28000" y="3933720"/>
            <a:ext cx="649440" cy="50328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48000" y="3933720"/>
            <a:ext cx="649440" cy="50328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245440" y="3284640"/>
            <a:ext cx="719280" cy="57456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57.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37080" y="3357720"/>
            <a:ext cx="718920" cy="57456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0.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58920" y="3933720"/>
            <a:ext cx="649080" cy="50328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82920" y="3933720"/>
            <a:ext cx="649080" cy="50328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47640" y="3357720"/>
            <a:ext cx="719280" cy="57456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&lt;5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482920" y="4462560"/>
            <a:ext cx="649080" cy="79056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76360" y="5302080"/>
            <a:ext cx="719280" cy="57492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≥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5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028000" y="4437000"/>
            <a:ext cx="649440" cy="79056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4000" y="5300640"/>
            <a:ext cx="718920" cy="57456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42.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484360" y="5373720"/>
            <a:ext cx="719280" cy="57456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9.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52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385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7" dur="385" fill="hold"/>
                                        <p:tgtEl>
                                          <p:spTgt spid="1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9" dur="385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1" dur="385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385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6" dur="385" fill="hold"/>
                                        <p:tgtEl>
                                          <p:spTgt spid="1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8" dur="385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0" dur="385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385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5" dur="385" fill="hold"/>
                                        <p:tgtEl>
                                          <p:spTgt spid="1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7" dur="385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9" dur="385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remove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66 -0.05926 C 0.02205 -0.05996 0.02379 -0.05973 0.02483 -0.06112 C 0.02587 -0.0625 0.02553 -0.06505 0.02622 -0.06667 C 0.02778 -0.07061 0.03073 -0.07362 0.03178 -0.07778 C 0.03386 -0.08612 0.03698 -0.09399 0.0415 -0.1 C 0.0448 -0.1132 0.04011 -0.09723 0.04705 -0.11112 C 0.05105 -0.11899 0.05122 -0.12593 0.05678 -0.13334 C 0.06025 -0.14723 0.05521 -0.13056 0.06233 -0.1426 C 0.0632 -0.14422 0.06303 -0.14653 0.06372 -0.14815 C 0.06528 -0.15209 0.06737 -0.15556 0.06928 -0.15926 C 0.07674 -0.17408 0.08403 -0.18889 0.0915 -0.20371 C 0.09532 -0.21135 0.09636 -0.22431 0.09844 -0.23334 C 0.09966 -0.23889 0.10122 -0.24445 0.10261 -0.25 C 0.10313 -0.25186 0.104 -0.25556 0.104 -0.25556 L 0.10261 -0.25 C 0.10313 -0.23774 0.1033 -0.22524 0.104 -0.21297 C 0.10417 -0.21042 0.1066 -0.19653 0.10678 -0.1963 C 0.11198 -0.1919 0.11875 -0.19399 0.12483 -0.1926 C 0.12761 -0.19329 0.13039 -0.19422 0.13316 -0.19445 C 0.14063 -0.19537 0.1481 -0.19491 0.15539 -0.1963 C 0.16702 -0.19838 0.17066 -0.20857 0.18039 -0.21297 C 0.18386 -0.21459 0.19896 -0.222 0.20122 -0.22408 C 0.20886 -0.23079 0.21823 -0.23311 0.22622 -0.23889 C 0.22917 -0.24098 0.23455 -0.2463 0.23455 -0.2463 C 0.23785 -0.25278 0.24011 -0.25926 0.24289 -0.24815 C 0.23889 -0.23218 0.23039 -0.1926 0.24705 -0.2 C 0.26303 -0.19885 0.27726 -0.19676 0.29289 -0.20186 C 0.29549 -0.20417 0.29879 -0.20487 0.30122 -0.20741 C 0.30261 -0.2088 0.30261 -0.21158 0.304 -0.21297 C 0.30487 -0.21389 0.31337 -0.21644 0.31372 -0.21667 C 0.31702 -0.22338 0.31997 -0.22338 0.32483 -0.22778 C 0.329 -0.23588 0.33438 -0.23565 0.3415 -0.23889 C 0.34462 -0.24028 0.34983 -0.2463 0.34983 -0.2463 C 0.35313 -0.25973 0.35209 -0.24399 0.35122 -0.24075 C 0.35226 -0.22848 0.34914 -0.20278 0.35955 -0.19815 C 0.38803 -0.20764 0.35834 -0.19838 0.43455 -0.20186 C 0.45191 -0.20255 0.4698 -0.20764 0.48733 -0.20926 C 0.49827 -0.21158 0.50816 -0.21366 0.51928 -0.21482 C 0.53299 -0.21852 0.54688 -0.21922 0.56094 -0.22037 C 0.57171 -0.22408 0.5816 -0.22477 0.59289 -0.22593 C 0.60921 -0.23033 0.61181 -0.2301 0.63455 -0.23149 C 0.65417 -0.23797 0.67535 -0.23959 0.69566 -0.2426 C 0.70487 -0.24399 0.72344 -0.2463 0.72344 -0.2463 C 0.74514 -0.25348 0.80139 -0.25232 0.82761 -0.25371 C 0.8316 -0.26181 0.83577 -0.26112 0.84289 -0.26297 C 0.84428 -0.26227 0.84671 -0.26297 0.84705 -0.26112 C 0.84879 -0.25348 0.84792 -0.24514 0.84844 -0.23704 C 0.84931 -0.22593 0.85035 -0.21482 0.85122 -0.20371 C 0.85157 -0.19977 0.85955 -0.2 0.85955 -0.2 C 0.87205 -0.2007 0.89705 -0.20186 0.89705 -0.20186 E">
                                      <p:cBhvr>
                                        <p:cTn id="582" dur="5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385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8" dur="385" fill="hold"/>
                                        <p:tgtEl>
                                          <p:spTgt spid="2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0" dur="385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2" dur="385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385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2" dur="385" fill="hold"/>
                                        <p:tgtEl>
                                          <p:spTgt spid="1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4" dur="385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6" dur="385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385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1" dur="385" fill="hold"/>
                                        <p:tgtEl>
                                          <p:spTgt spid="1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3" dur="385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5" dur="385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385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0" dur="385" fill="hold"/>
                                        <p:tgtEl>
                                          <p:spTgt spid="1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2" dur="385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4" dur="385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385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9" dur="385" fill="hold"/>
                                        <p:tgtEl>
                                          <p:spTgt spid="1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1" dur="385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3" dur="385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remove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3 -0.0132 0.00035 -0.00903 0.00695 -0.01482 C 0.00886 -0.02269 0.01285 -0.02315 0.01667 -0.02963 C 0.0191 -0.0338 0.02622 -0.04584 0.02778 -0.05185 C 0.03056 -0.06273 0.03282 -0.07338 0.03889 -0.08148 C 0.04115 -0.09051 0.04497 -0.09699 0.05 -0.10371 C 0.05174 -0.11088 0.05591 -0.11366 0.05834 -0.12037 C 0.06094 -0.12755 0.06146 -0.13056 0.06667 -0.13519 C 0.0698 -0.14167 0.07292 -0.14584 0.07778 -0.15 C 0.07865 -0.15185 0.07917 -0.15417 0.08056 -0.15556 C 0.08178 -0.15672 0.08421 -0.15926 0.08473 -0.15741 C 0.08594 -0.15232 0.08316 -0.14422 0.08195 -0.13889 C 0.079 -0.125 0.079 -0.11042 0.07639 -0.0963 C 0.07553 -0.08496 0.07119 -0.05857 0.08195 -0.05371 C 0.10365 -0.05949 0.09115 -0.05695 0.11945 -0.05926 C 0.12709 -0.06273 0.13629 -0.06389 0.14306 -0.07037 C 0.14809 -0.07523 0.14809 -0.08056 0.15417 -0.08334 C 0.15556 -0.08519 0.15678 -0.0875 0.15834 -0.08889 C 0.15955 -0.09005 0.16146 -0.08935 0.1625 -0.09074 C 0.16997 -0.1007 0.15695 -0.09329 0.16806 -0.09815 C 0.18143 -0.11598 0.16441 -0.09491 0.17639 -0.10556 C 0.17796 -0.10695 0.179 -0.10949 0.18056 -0.11111 C 0.18664 -0.11736 0.18837 -0.11829 0.19445 -0.12223 C 0.19532 -0.12408 0.19601 -0.12639 0.19723 -0.12778 C 0.19966 -0.13079 0.20556 -0.13519 0.20556 -0.13519 C 0.21303 -0.15 0.2033 -0.13218 0.2125 -0.14445 C 0.2165 -0.14977 0.21875 -0.15486 0.22362 -0.15926 C 0.22691 -0.17269 0.22362 -0.16065 0.22362 -0.1463 C 0.22362 -0.14375 0.22448 -0.14144 0.22483 -0.13889 C 0.22639 -0.11435 0.22605 -0.08889 0.23056 -0.06482 C 0.24619 -0.07014 0.26285 -0.06875 0.27917 -0.07223 C 0.27952 -0.07408 0.27987 -0.07593 0.28039 -0.07778 C 0.28125 -0.07986 0.28247 -0.08125 0.28334 -0.08334 C 0.28716 -0.09514 0.28681 -0.10301 0.29584 -0.11111 C 0.30122 -0.12176 0.30452 -0.12986 0.3125 -0.13704 C 0.31737 -0.14676 0.32587 -0.15116 0.33195 -0.15926 C 0.33247 -0.15741 0.33334 -0.15556 0.33334 -0.15371 C 0.33664 -0.0463 0.31216 -0.0676 0.38473 -0.07037 C 0.39497 -0.075 0.40608 -0.07778 0.41667 -0.07963 C 0.429 -0.08519 0.44184 -0.08889 0.454 -0.09445 C 0.45782 -0.09607 0.46337 -0.09723 0.46667 -0.1 C 0.46945 -0.10278 0.47205 -0.10648 0.475 -0.10926 C 0.47622 -0.11042 0.47796 -0.11019 0.47917 -0.11111 C 0.48299 -0.11389 0.4908 -0.12431 0.49584 -0.12593 C 0.50278 -0.12824 0.50869 -0.13218 0.51528 -0.13519 C 0.52049 -0.14537 0.51511 -0.13727 0.52223 -0.1426 C 0.525 -0.14468 0.53056 -0.15 0.53056 -0.15 C 0.53143 -0.15162 0.5349 -0.16019 0.5375 -0.15926 C 0.53872 -0.1588 0.53837 -0.15556 0.53872 -0.15371 C 0.53698 -0.12037 0.53698 -0.08912 0.53872 -0.05556 C 0.55556 -0.06297 0.58733 -0.06019 0.60417 -0.06111 C 0.60834 -0.06968 0.61007 -0.0794 0.6125 -0.08889 C 0.61563 -0.10232 0.62744 -0.11551 0.63056 -0.12778 C 0.63351 -0.13982 0.63733 -0.15162 0.64167 -0.16297 C 0.64514 -0.14885 0.64098 -0.12894 0.6375 -0.11482 C 0.63681 -0.10648 0.63473 -0.08287 0.63473 -0.07593 C 0.63473 -0.07107 0.63334 -0.06435 0.63612 -0.06111 C 0.63924 -0.05741 0.64445 -0.05996 0.64862 -0.05926 C 0.67969 -0.06135 0.69775 -0.06227 0.725 -0.07778 C 0.73073 -0.08102 0.7375 -0.08148 0.74306 -0.08519 C 0.74619 -0.08727 0.74966 -0.08843 0.75278 -0.09074 C 0.75712 -0.09398 0.76042 -0.1007 0.76528 -0.10185 C 0.76806 -0.10255 0.77084 -0.10278 0.77362 -0.10371 C 0.77639 -0.10463 0.77917 -0.10625 0.78195 -0.10741 C 0.78334 -0.1081 0.78612 -0.10926 0.78612 -0.10926 C 0.79254 -0.11574 0.79931 -0.12084 0.80556 -0.12778 C 0.81007 -0.13264 0.81181 -0.1382 0.81667 -0.1426 C 0.81754 -0.14445 0.82084 -0.15255 0.82362 -0.15185 C 0.82553 -0.15139 0.82726 -0.1426 0.82778 -0.14074 C 0.82969 -0.10185 0.82848 -0.12223 0.83195 -0.07963 C 0.8323 -0.07454 0.83473 -0.06482 0.83473 -0.06482 C 0.84966 -0.07153 0.86632 -0.06852 0.88195 -0.06852 E">
                                      <p:cBhvr>
                                        <p:cTn id="676" dur="5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10:42:31Z</dcterms:created>
  <dc:creator>lecardan</dc:creator>
  <dc:description/>
  <dc:language>en-US</dc:language>
  <cp:lastModifiedBy>CoviRo</cp:lastModifiedBy>
  <dcterms:modified xsi:type="dcterms:W3CDTF">2005-03-02T16:04:06Z</dcterms:modified>
  <cp:revision>175</cp:revision>
  <dc:subject/>
  <dc:title>Nessun titolo diapositiva</dc:title>
</cp:coreProperties>
</file>