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5F89-1FF7-4D92-8004-6EA33A4755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like to start with the title of the session this morning “From Agricultural Statistics to Rural Statistics” and ask few more general questions before addressing the more specific one. I will be addressing the issue from an international statisticians window. The distinguished speaker after me Ms. Susan Offurt will deal with the question from a developed country persp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s start with the general question: Is there a need for change? To organize our attempt to answer this question let me ask another question: Why are we asking this question n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527-34FB-4F09-A136-C33D493B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ABE-A2A6-4E9B-B603-7B0D3ACD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CCA-A6D6-4D57-8AB5-6F368844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314-92E9-4385-95B1-E02CD623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8B9A-35B9-42F6-822E-244983F3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E61E-C255-450D-8D1F-34510201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2D6A-C1EC-45B8-979B-07DDBB53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7300-5A62-4CD4-97E6-D6B6D3D3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5CD8-4128-43B2-B7EA-3D1DE219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9DA0-F7C8-422B-A8D1-B0650B55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856A-629E-40EE-89AA-0DF4A0DC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2D3-1332-4710-922E-706D835C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4946-458D-4B14-BA72-A4642159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2A03-34FD-4933-BC85-8C3DC7E2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81A6-215B-4E14-98BC-809D2E0E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10DB-DFDA-4BBA-948D-31044BB4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AB75-464D-4377-9952-C357982F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531-01F6-4634-B632-FAB8F8FC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65E-77A1-4E9E-9C44-9FA8C4C8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B9F-B270-4204-99DD-E33A3134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88B-6F60-4305-8F65-8813822D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C8D-2E6E-4015-966D-1E50230F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84F-4303-44D0-B4FD-A944647F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425-3082-4D42-A53E-A47F0468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D8C7-10E4-47AD-996E-5F1FCE55490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ACF-337F-4021-8FA7-08F6E2554BC8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New Challenges </a:t>
            </a:r>
            <a:br>
              <a:rPr sz="3600"/>
            </a:b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in Agricultural Statistics</a:t>
            </a:r>
            <a:br>
              <a:rPr sz="3600"/>
            </a:b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luk Kasnakoglu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stics Division, FA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SAI,  Third International Conference on Agricultural 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-4 November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cun, Me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In summary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e preserves its importance as an economic activity for populations in most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netary value of agriculture’s output is low as befo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ortance of agricultural trade in primary products is diminishing but that of processed agricultural commodities is increas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expenditures in agriculture are in a downward t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 in household expenditures of food and agricultural commodities diminishes in higher income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nge for importance of agriculture is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Few Big Players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countries account 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of world’s 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 of world’s agricultural GD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% of world’s agricultural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of world’s food production (calo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of word’s food consumption (calo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 of world’s agricultural 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 of world agricultural im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na, USA, India, Brazil, France, Germany are among the key play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Nothing Else Left to Do in Agriculture</a:t>
            </a: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aditional domains like production and yields on the supply side and land, labor, fertilizers and tractors on the input side may be 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t more to do in other areas such as prices, margins, costs, incomes to name a fe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icultur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way ahead in terms of research agenda and long started working with simulated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icultur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sticians 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behind busy with fine tuning of sample frames and lost in micro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Less Demand for Agricultural Statistics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ortunately Yes,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produced is not what is dema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lden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rich in data points to feed new advances in statistics and econo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icultural policy makers are not interested in agricultural statis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o…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here is a lot to do in the area of agricultural statistics both at the national and international level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theless there is a need for re-aligning agricultural statistics to new problems and user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Agricultural and rural statistics are not alternatives but could complement each oth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need for statisticians focusing on both but not in the expense of the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outes for Expans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riculture to R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y Rural? Because of Agriculture Produc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y 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Ru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ources to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conomic Ac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-Output and S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er to 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mer is the other 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mers are in the rural as well as urban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riculture to Agro-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where the value added occ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between production and consum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riculture to Related Non-Agricul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 and Backward Lin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rating Agriculture to Rest of Econ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Some more thoughts..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0000"/>
                </a:solidFill>
                <a:latin typeface="Times New Roman"/>
              </a:rPr>
              <a:t>One of the problems with agricultural statistics has been the concentration on the supply side and the producer and neglect of the demand side and the consu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hift in emphasis from agriculture to rural statistics as opposed to the other alternative routes could be a continuation of this old lasting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0000"/>
                </a:solidFill>
                <a:latin typeface="Times New Roman"/>
              </a:rPr>
              <a:t>One of the problems with agricultural policies and contributing to their inefficiencies have been the confusion of targets between agriculture and rural develop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ther all rural problems can expected to be solved through agricultural policy nor would agricultural policy be the most efficient way to tackle all rural development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0000"/>
                </a:solidFill>
                <a:latin typeface="Times New Roman"/>
              </a:rPr>
              <a:t>Shifting the focus by agricultural statisticians to rural statistics can also contribute to this confusion and inefficiency in both agricultural and rural development polic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der Scope of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riculture is covered when the supply, demand and the market issues are address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riculture is integrated to the rest of the economy and cannot be studied in 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s are integrated to the rest of the world and cannot be studied in 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cro-Data and Confidenti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rybody wants micro-data but nobody wants to share theirs with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ty of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lity of statistics depends on the quality at the source, processing and the user lev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internet there is an inflation of information and statistics from different sources with different definitions and quality and many times not differentiable due to limited meta data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on Definitions and Class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must for integration of information at all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New Issues and Challenges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What FAO is doing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ing Conceptual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Integration to the International Statistic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ization of FAO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New Product “CountrySta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pproach to Agricultural Cens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ulti-Layered Quality Assessment and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FAOSTAT Conceptual Framework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93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me of MEX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gricultural to Rural Development Indicator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Issues and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O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Integration to International Statistical System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view of Agriculture Related Classific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, CPC, I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(Occupation, Resources, Country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llaboration in Compilation and Proces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– UNSD, OECD, F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ur –I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ata/Knowledge Exchan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New FAOSTAT - January 2006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45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An Example FAOSTAT Module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80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CountryStat – 9 Pilots in 2005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20000"/>
                </a:solidFill>
                <a:latin typeface="Times New Roman"/>
              </a:rPr>
              <a:t>New Agricultural Census Framework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4800" y="1828800"/>
            <a:ext cx="61326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20000"/>
                </a:solidFill>
                <a:latin typeface="Times New Roman"/>
              </a:rPr>
              <a:t>New Census from Country Perspective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87440" y="1828800"/>
            <a:ext cx="63691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20000"/>
                </a:solidFill>
                <a:latin typeface="Times New Roman"/>
              </a:rPr>
              <a:t>FAO Statistical Data Quality Framework</a:t>
            </a:r>
            <a:endParaRPr b="0" lang="en-US" sz="35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1828800"/>
            <a:ext cx="73454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ank you.....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invite you to visi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O Statistics DivisionWeb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www.fao.org/es/ess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our work on these new initia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FAOSTAT Web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w.fao.org/faosta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ollow the progress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OST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ryS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Is There a Need to Review the Domain of Agricultural Statistics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 we as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e is loosing importance so we should shift to other domai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exhausted agriculture and have time remaining to do other thin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not manage agriculture and try our luck in other domai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mand for current domai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s and issues to be addressed are chang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Is Agriculture Getting Less Important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in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in Labour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in Value of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in International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in Public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in Household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Share of Agriculture in Popul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 % of the world population 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1% of the world population in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40% of the total population in  one-third of the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15-40% of the total population in one-third of th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than 15% in the remaining one-third of th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3280" y="2133720"/>
          <a:ext cx="3816360" cy="36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133720"/>
                    <a:ext cx="381636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420000"/>
                </a:solidFill>
                <a:latin typeface="Times New Roman"/>
              </a:rPr>
              <a:t>Share of Agriculture in Output Value</a:t>
            </a:r>
            <a:endParaRPr b="0" lang="en-US" sz="39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riculture accounted for 4 % of the world’s total GDP i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hare of agriculture in total world GDP in 1980 was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nearly 40% of the countries the share of agriculture in GDP is more than 20%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60% of the countries the share of agricultural GDP is more than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nearly quarter of the countries the share of agricultural GDP is less than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48320" y="2060640"/>
          <a:ext cx="424476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60640"/>
                    <a:ext cx="42447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Share of Agriculture in Trade (X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 of primary (and some first level processed) agricultural products in value of world trade in 2002 was 7% as compared to 12% in the early 80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ore than one-third of the countries, the share agricultural exports in total exports is more than 20%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nearly one-quarter of the countries on the other hand the share of agriculture in exports is less than 4%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2205000"/>
          <a:ext cx="424476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5000"/>
                    <a:ext cx="4244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Share of Agriculture in Trade (M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 of agricultural imports in total import value is more than 20% in more than 20% of th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riculture constitutes more than 10% of the import bill in nearly 70% of th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hare of agriculture in import bill and export earnings substantially increase when we account for processed agricultural products and agricultural inpu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48320" y="2205000"/>
          <a:ext cx="4244760" cy="35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5000"/>
                    <a:ext cx="424476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20000"/>
                </a:solidFill>
                <a:latin typeface="Times New Roman"/>
              </a:rPr>
              <a:t>Share in Public and Private Expenditures</a:t>
            </a:r>
            <a:endParaRPr b="0" lang="en-US" sz="3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of Support to Agriculture in GD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1.5% in OEC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-10% in many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of Food in Household Bu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10-20% in develope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20-40% in fast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50% in least develope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 of all agriculture related items (clothing, wood) is 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11:34:00Z</dcterms:created>
  <dc:creator>Kasnakoglu, Haluk (ESSD)</dc:creator>
  <dc:description/>
  <dc:language>en-US</dc:language>
  <cp:lastModifiedBy>CoviRo</cp:lastModifiedBy>
  <dcterms:modified xsi:type="dcterms:W3CDTF">2005-03-02T19:16:58Z</dcterms:modified>
  <cp:revision>40</cp:revision>
  <dc:subject/>
  <dc:title>New Challenges in Agricultural Statistics Haluk Kasnakoglu Statistics Division, FA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0809120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Key Notes</vt:lpwstr>
  </property>
  <property fmtid="{D5CDD505-2E9C-101B-9397-08002B2CF9AE}" pid="6" name="_ReviewingToolsShownOnce">
    <vt:lpwstr/>
  </property>
</Properties>
</file>