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CC06-BFE8-45FD-9006-5771B61054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like to start with the title of the session this morning “From Agricultural Statistics to Rural Statistics” and ask few more general questions before addressing the more specific one. I will be addressing the issue from an international statisticians window. The distinguished speaker after me Ms. Susan Offurt will deal with the question from a developed country perspe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lets start with the general question: Is there a need for change? To organize our attempt to answer this question let me ask another question: Why are we asking this question now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616B-CFB2-4FC4-911E-24D748CC6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5679-38EB-4DBB-BAEA-D29A0F06D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B1F2-39F9-4406-A2FE-D18084DC3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47AF-5779-41A3-9A7B-0B3B040CE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8B37-6518-46A4-BB9E-D8A935F74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1643-3021-4A28-A69F-CF5B1B7F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5786-5A62-4015-953A-E4393243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E53A-AB97-4B33-8301-F7305AB4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58FE-2D8C-4B08-A2D6-E7BCDC56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2AE5-5F44-4512-A018-643885E3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F8DB0-6772-4C81-8C22-FF39F81F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F9F4-4818-40AE-863C-2BFCEC3C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2E92-CEBC-46FF-AB99-1B62F992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32B8-F22A-4989-ABBF-2FAC4FCC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F57D-7764-43AB-8917-969E184F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B5E7-5644-4604-95DE-6D89D1CF8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4C56-EC87-4B51-ABD3-EE69DF9A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9394-8EEE-4EEF-8F1C-3D840784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2204-8C83-4957-85D4-F3B8A826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67E6-B11A-4CED-842C-06F6CAA5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533B-59A7-4A9F-B436-6D6889F6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7DBF-8C16-463B-943E-557192ED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5BF3-3BEE-42BC-9CFF-95C602EE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58B2-D958-4981-B429-70D0850E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5A89-F26E-4685-A9F1-6261A87A580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D8A4-2C3C-4A2F-839F-E86210CB53E2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New Challenges </a:t>
            </a:r>
            <a:br>
              <a:rPr sz="3600"/>
            </a:b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in Agricultural Statistics</a:t>
            </a:r>
            <a:br>
              <a:rPr sz="3600"/>
            </a:b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luk Kasnakoglu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istics Division, FAO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XSAI,  Third International Conference on Agricultural Stat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-4 November,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cun, Mex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0000"/>
                </a:solidFill>
                <a:latin typeface="Times New Roman"/>
              </a:rPr>
              <a:t>In summary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iculture preserves its importance as an economic activity for populations in most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netary value of agriculture’s output is low as befo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mportance of agricultural trade in primary products is diminishing but that of processed agricultural commodities is increas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expenditures in agriculture are in a downward tre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e in household expenditures of food and agricultural commodities diminishes in higher income count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ange for importance of agriculture is 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0000"/>
                </a:solidFill>
                <a:latin typeface="Times New Roman"/>
              </a:rPr>
              <a:t>Few Big Players!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countries account f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 of world’s G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% of world’s agricultural GD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% of world’s agricultural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 of world’s food production (calor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 of word’s food consumption (calor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% of world’s agricultural 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% of world agricultural im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ina, USA, India, Brazil, France, Germany are among the key player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Nothing Else Left to Do in Agriculture</a:t>
            </a:r>
            <a:r>
              <a:rPr b="1" lang="en-US" sz="4000" spc="-1" strike="noStrike">
                <a:solidFill>
                  <a:srgbClr val="42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raditional domains like production and yields on the supply side and land, labor, fertilizers and tractors on the input side may be y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ot more to do in other areas such as prices, margins, costs, incomes to name a few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icultura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conomis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way ahead in terms of research agenda and long started working with simulated da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icultura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isticians a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y behind busy with fine tuning of sample frames and lost in micro iss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Less Demand for Agricultural Statistics?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fortunately Yes, bec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produced is not what is dema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l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olden R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rich in data points to feed new advances in statistics and econo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icultural policy makers are not interested in agricultural statistic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So…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There is a lot to do in the area of agricultural statistics both at the national and international level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vertheless there is a need for re-aligning agricultural statistics to new problems and user requir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Agricultural and rural statistics are not alternatives but could complement each oth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a need for statisticians focusing on both but not in the expense of the oth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Routes for Expansion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riculture to Ru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y Rural? Because of Agriculture Produc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ply Orien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at is Rur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ources to 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conomic Accou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put-Output and S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ducer to Consu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umer is the other 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umers are in the rural as well as urban a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riculture to Agro-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is where the value added occ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between production and consum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riculture to Related Non-Agricultu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ward and Backward Link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rating Agriculture to Rest of Econom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0000"/>
                </a:solidFill>
                <a:latin typeface="Times New Roman"/>
              </a:rPr>
              <a:t>Some more thoughts..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0000"/>
                </a:solidFill>
                <a:latin typeface="Times New Roman"/>
              </a:rPr>
              <a:t>One of the problems with agricultural statistics has been the concentration on the supply side and the producer and neglect of the demand side and the consum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hift in emphasis from agriculture to rural statistics as opposed to the other alternative routes could be a continuation of this old lasting probl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0000"/>
                </a:solidFill>
                <a:latin typeface="Times New Roman"/>
              </a:rPr>
              <a:t>One of the problems with agricultural policies and contributing to their inefficiencies have been the confusion of targets between agriculture and rural developmen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ither all rural problems can expected to be solved through agricultural policy nor would agricultural policy be the most efficient way to tackle all rural development iss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0000"/>
                </a:solidFill>
                <a:latin typeface="Times New Roman"/>
              </a:rPr>
              <a:t>Shifting the focus by agricultural statisticians to rural statistics can also contribute to this confusion and inefficiency in both agricultural and rural development polic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der Scope of Agricultural 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riculture is covered when the supply, demand and the market issues are addressed simultane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griculture is integrated to the rest of the economy and cannot be studied in iso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tions are integrated to the rest of the world and cannot be studied in iso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cro-Data and Confidenti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erybody wants micro-data but nobody wants to share theirs with ot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ality of Stat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Quality of statistics depends on the quality at the source, processing and the user leve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ta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internet there is an inflation of information and statistics from different sources with different definitions and quality and many times not differentiable due to limited meta data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on Definitions and Class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must for integration of information at all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0000"/>
                </a:solidFill>
                <a:latin typeface="Times New Roman"/>
              </a:rPr>
              <a:t>New Issues and Challenges</a:t>
            </a:r>
            <a:br>
              <a:rPr sz="4000"/>
            </a:b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20000"/>
                </a:solidFill>
                <a:latin typeface="Times New Roman"/>
              </a:rPr>
              <a:t>What FAO is doing?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ing Conceptual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Integration to the International Statistica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ization of FAOS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New Product “CountrySta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Approach to Agricultural Cens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Multi-Layered Quality Assessment and Moni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FAOSTAT Conceptual Framework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993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me of MEXSA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Agricultural to Rural Development Indicator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Issues and Challe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O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Integration to International Statistical System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Review of Agriculture Related Classific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S, CPC, I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 (Occupation, Resources, Country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ollaboration in Compilation and Process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e – UNSD, OECD, F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our –I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51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ata/Knowledge Exchan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0000"/>
                </a:solidFill>
                <a:latin typeface="Times New Roman"/>
              </a:rPr>
              <a:t>New FAOSTAT - January 2006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7345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822960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An Example FAOSTAT Module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2803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CountryStat – 9 Pilots in 2005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4170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20000"/>
                </a:solidFill>
                <a:latin typeface="Times New Roman"/>
              </a:rPr>
              <a:t>New Agricultural Census Framework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04800" y="1828800"/>
            <a:ext cx="613260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420000"/>
                </a:solidFill>
                <a:latin typeface="Times New Roman"/>
              </a:rPr>
              <a:t>New Census from Country Perspective</a:t>
            </a:r>
            <a:r>
              <a:rPr b="0" lang="en-US" sz="40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387440" y="1828800"/>
            <a:ext cx="636912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20000"/>
                </a:solidFill>
                <a:latin typeface="Times New Roman"/>
              </a:rPr>
              <a:t>FAO Statistical Data Quality Framework</a:t>
            </a:r>
            <a:endParaRPr b="0" lang="en-US" sz="35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26920" y="1828800"/>
            <a:ext cx="734544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Thank you......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invite you to visit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O Statistics DivisionWeb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0000"/>
                </a:solidFill>
                <a:latin typeface="Times New Roman"/>
              </a:rPr>
              <a:t>www.fao.org/es/ess/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our work on these new initiativ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he FAOSTAT Web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ww.fao.org/faostat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follow the progress i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OST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ntrySt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821844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0000"/>
                </a:solidFill>
                <a:latin typeface="Times New Roman"/>
              </a:rPr>
              <a:t>Is There a Need to Review the Domain of Agricultural Statistics?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do we as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iculture is loosing importance so we should shift to other domai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exhausted agriculture and have time remaining to do other thing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ould not manage agriculture and try our luck in other domai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emand for current domai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lems and issues to be addressed are chang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0000"/>
                </a:solidFill>
                <a:latin typeface="Times New Roman"/>
              </a:rPr>
              <a:t>Is Agriculture Getting Less Important?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e in Pop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e in Labour For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e in Value of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e in International T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e in Public Expendi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e in Household Expendi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0000"/>
                </a:solidFill>
                <a:latin typeface="Times New Roman"/>
              </a:rPr>
              <a:t>Share of Agriculture in Population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40384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2 % of the world population in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1% of the world population in 19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than 40% of the total population in  one-third of the countr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15-40% of the total population in one-third of the cou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 than 15% in the remaining one-third of the cou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643280" y="2133720"/>
          <a:ext cx="3816360" cy="367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2133720"/>
                    <a:ext cx="3816360" cy="36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420000"/>
                </a:solidFill>
                <a:latin typeface="Times New Roman"/>
              </a:rPr>
              <a:t>Share of Agriculture in Output Value</a:t>
            </a:r>
            <a:endParaRPr b="0" lang="en-US" sz="39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403884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riculture accounted for 4 % of the world’s total GDP in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hare of agriculture in total world GDP in 1980 was 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nearly 40% of the countries the share of agriculture in GDP is more than 20%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60% of the countries the share of agricultural GDP is more than 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nearly quarter of the countries the share of agricultural GDP is less than 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48320" y="2060640"/>
          <a:ext cx="424476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60640"/>
                    <a:ext cx="424476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0000"/>
                </a:solidFill>
                <a:latin typeface="Times New Roman"/>
              </a:rPr>
              <a:t>Share of Agriculture in Trade (X)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e of primary (and some first level processed) agricultural products in value of world trade in 2002 was 7% as compared to 12% in the early 80’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more than one-third of the countries, the share agricultural exports in total exports is more than 20%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nearly one-quarter of the countries on the other hand the share of agriculture in exports is less than 4%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48320" y="2205000"/>
          <a:ext cx="4244760" cy="36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5000"/>
                    <a:ext cx="424476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20000"/>
                </a:solidFill>
                <a:latin typeface="Times New Roman"/>
              </a:rPr>
              <a:t>Share of Agriculture in Trade (M)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e of agricultural imports in total import value is more than 20% in more than 20% of the cou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riculture constitutes more than 10% of the import bill in nearly 70% of the cou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hare of agriculture in import bill and export earnings substantially increase when we account for processed agricultural products and agricultural inpu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48320" y="2205000"/>
          <a:ext cx="4244760" cy="35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5000"/>
                    <a:ext cx="424476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420000"/>
                </a:solidFill>
                <a:latin typeface="Times New Roman"/>
              </a:rPr>
              <a:t>Share in Public and Private Expenditures</a:t>
            </a:r>
            <a:endParaRPr b="0" lang="en-US" sz="3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e of Support to Agriculture in GDP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ut 1.5% in OECD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ut 5-10% in many developing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e of Food in Household Bu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ut 10-20% in developed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ut 20-40% in fast developing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 50% in least developed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 of all agriculture related items (clothing, wood) is hig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30T11:34:00Z</dcterms:created>
  <dc:creator>Kasnakoglu, Haluk (ESSD)</dc:creator>
  <dc:description/>
  <dc:language>en-US</dc:language>
  <cp:lastModifiedBy>CoviRo</cp:lastModifiedBy>
  <dcterms:modified xsi:type="dcterms:W3CDTF">2005-03-02T19:16:58Z</dcterms:modified>
  <cp:revision>40</cp:revision>
  <dc:subject/>
  <dc:title>New Challenges in Agricultural Statistics Haluk Kasnakoglu Statistics Division, FA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30809120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Key Notes</vt:lpwstr>
  </property>
  <property fmtid="{D5CDD505-2E9C-101B-9397-08002B2CF9AE}" pid="6" name="_ReviewingToolsShownOnce">
    <vt:lpwstr/>
  </property>
</Properties>
</file>