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4907-8598-46A7-A0E0-B8A4A854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DA2-9F51-4D68-B9F4-1D472615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1DB-4DCB-41AD-B357-5535FF0BD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E676-4926-4E09-86BD-1770828B8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F67-A833-4AB1-B149-BB34C2995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6972-1CF8-4730-884C-CF1DA88B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C04-9C47-4FE4-B915-88C5C0FD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BC3D-2D8A-41B5-88A3-D109D434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6EA-684F-4314-AD0A-F3F2584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DBC8-FCCA-4654-806B-22577B59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211-B8F9-4E69-8202-3EFEDA69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04D-7810-4240-A5F2-50F49EED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2a40c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5E8A912-F7DD-4E30-AE2D-F37888933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7.pn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png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75360" y="5276880"/>
            <a:ext cx="2168640" cy="1581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V="1">
            <a:off x="1092240" y="1809360"/>
            <a:ext cx="7226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66680" y="271440"/>
            <a:ext cx="7836120" cy="55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International Conference on Agricultural Statistics (ICAS III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Cancun, Mexico 1- 3 November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33cc"/>
                </a:solidFill>
                <a:latin typeface="Arial"/>
              </a:rPr>
              <a:t>Topic: Methodology and New Techniques for Statistic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3600" spc="-1" strike="noStrike">
                <a:solidFill>
                  <a:srgbClr val="0033cc"/>
                </a:solidFill>
                <a:latin typeface="Arial"/>
              </a:rPr>
              <a:t>The PC-Axis Software Family          a ”Consortium” for output datab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Lars Nordbä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sv-SE" sz="2400" spc="-1" strike="noStrike">
                <a:solidFill>
                  <a:srgbClr val="0033cc"/>
                </a:solidFill>
                <a:latin typeface="Arial"/>
              </a:rPr>
              <a:t>lars.nordback@scb.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3920" y="-152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Web dynamic tabl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5920" y="743040"/>
            <a:ext cx="546120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19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8220240" y="6184800"/>
            <a:ext cx="923760" cy="673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977760" y="863640"/>
            <a:ext cx="73742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3920" y="-152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iMap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15920" y="743040"/>
            <a:ext cx="1943280" cy="1260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25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995400" y="1031760"/>
            <a:ext cx="81486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88600" y="-360"/>
            <a:ext cx="74422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200" spc="-1" strike="noStrike">
                <a:solidFill>
                  <a:srgbClr val="2a40c3"/>
                </a:solidFill>
                <a:latin typeface="Arial Black"/>
              </a:rPr>
              <a:t>PX-Web application generator</a:t>
            </a:r>
            <a:endParaRPr b="0" lang="en-US" sz="32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958680"/>
            <a:ext cx="7315200" cy="1296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31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24120" y="18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620720" y="1303200"/>
            <a:ext cx="725508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4520" y="31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SQL Macro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0960" y="958680"/>
            <a:ext cx="708660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38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521000" y="1209600"/>
            <a:ext cx="70484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0192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Publ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600200" y="958680"/>
            <a:ext cx="7277040" cy="1296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44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584360" y="1290600"/>
            <a:ext cx="73674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7620120" y="5746680"/>
            <a:ext cx="1523880" cy="1111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99680" y="-360"/>
            <a:ext cx="77439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The function of the PC-Axis “consortium”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0040" y="132048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atistics Sweden as the leading country managing the coope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C-Axis International Reference Group for all parties outside Sweden using PC-Axis as a dissemination too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Nordic kernel for cooperation in the output database area where Denmark, Norway and Sweden are using the same data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wedish user group for the use of PX-Web applications in other organisations in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nal user group at Statistics Swe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board where some of the main end users are consulted concerning the development of Sweden’s Statistical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steering committee for the Data Base Project at Statistics Sweden, where PC-Axis constitutes one of the important ingred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98680" y="117468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152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0440"/>
            <a:ext cx="2346480" cy="1711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371600" y="1447920"/>
            <a:ext cx="7238880" cy="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8088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920" rIns="115920" tIns="57240" bIns="5724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cc"/>
                </a:solidFill>
                <a:latin typeface="Arial Black"/>
              </a:rPr>
              <a:t>Countries using the PC-Axis family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66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91448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167652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urope: Croatia, Denmark, Estonia, Finland, Ireland, Iceland, Latvia, Lithuania, Norway, Slovenia, Spain, Sweden and UN/ECE in Gen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ia: Taiwan, The Philipp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rika: Algeria, Kuwait, East Africa Community, Mozambique, Namibia, Uganda, 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uth America: Bolivia and 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cussions with Czech Republic, Slovakia and Tanz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75360" y="5276880"/>
            <a:ext cx="2168640" cy="1581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36320" y="-63720"/>
            <a:ext cx="740412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Keywords to describe the PC-Axis family are: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88960" y="134568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emination of statistics online (PX-Web or PX-Web components) and off line (PC-Axis Main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tables – pivot function (PX-Web and PC-Axis Main mo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sion to different file formats (PX-Web and PC-Axis) i.e. Excel, Lotus, txt, etc. and for PC-Axis only Gesmes/TS (and XML when a DTD is avail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database (PC-Axis database and/or SQL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dimensional Matrices/Cubicles/Boxes (PC-Axis files and SQL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rich data model in SQL and in the PC-Axis file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(PC-Axis) and Internet (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34960" y="984240"/>
            <a:ext cx="678204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rå-vita-siffror" descr=""/>
          <p:cNvPicPr/>
          <p:nvPr/>
        </p:nvPicPr>
        <p:blipFill>
          <a:blip r:embed="rId1"/>
          <a:srcRect l="0" t="0" r="0" b="45037"/>
          <a:stretch/>
        </p:blipFill>
        <p:spPr>
          <a:xfrm>
            <a:off x="6919920" y="5235480"/>
            <a:ext cx="2224080" cy="16225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3972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"/>
                <a:ea typeface="Times New Roman"/>
              </a:rPr>
              <a:t>Keywords (continued)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6760" y="1155240"/>
            <a:ext cx="72262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-Axis files in a catalogue structure forms a PC-Axis database and is accessed without using SQL (PC-Axis Main module and 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QL-extension (Sybase/Oracle/MS-SQL-Server) for a SQL database structured according to the common macro meta data model (PC-Axis SQL and in some cases PX-Web components and PC-Axis/PX-Batch components in Internet User Interface to a macro data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facilities (PC-Axis and PX-We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s (PX-iGrap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(PX-Map and PX-i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of PC-Axis files from different sources (PC-Axis SQL, PX-Batch, PX-Make, PX-Edit and the Australian SuperStar/SuperCr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ables direct from a SQL or a PC-Axis database inserted into MS-Word or MS-Excel (PX-Pub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9968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Stående-logga-vit" descr=""/>
          <p:cNvPicPr/>
          <p:nvPr/>
        </p:nvPicPr>
        <p:blipFill>
          <a:blip r:embed="rId2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360" y="-6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main modul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968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59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584360" y="1343160"/>
            <a:ext cx="680256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76360" y="820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C-Axis file format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00200" y="97164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64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46280" y="1359000"/>
            <a:ext cx="839772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360" y="5688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sv-SE" sz="3600" spc="-1" strike="noStrike">
                <a:solidFill>
                  <a:srgbClr val="2a40c3"/>
                </a:solidFill>
                <a:latin typeface="Arial Black"/>
              </a:rPr>
              <a:t>PX-Map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946080"/>
            <a:ext cx="678168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70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96960" y="1289160"/>
            <a:ext cx="682164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88960" y="-3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PX-Make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12800" y="958680"/>
            <a:ext cx="678204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76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584360" y="1177920"/>
            <a:ext cx="683892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13000" y="4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600" spc="-1" strike="noStrike">
                <a:solidFill>
                  <a:srgbClr val="2a40c3"/>
                </a:solidFill>
                <a:latin typeface="Arial Black"/>
              </a:rPr>
              <a:t>PX-Edit</a:t>
            </a:r>
            <a:endParaRPr b="0" lang="en-US" sz="3600" spc="-1" strike="noStrike">
              <a:solidFill>
                <a:srgbClr val="2a40c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76360" y="1790280"/>
            <a:ext cx="6324480" cy="41720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SzPct val="17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49440" y="996840"/>
            <a:ext cx="6896160" cy="0"/>
          </a:xfrm>
          <a:prstGeom prst="line">
            <a:avLst/>
          </a:prstGeom>
          <a:ln w="76320">
            <a:solidFill>
              <a:srgbClr val="2a40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Stående-logga-vit" descr=""/>
          <p:cNvPicPr/>
          <p:nvPr/>
        </p:nvPicPr>
        <p:blipFill>
          <a:blip r:embed="rId1"/>
          <a:srcRect l="26895" t="0" r="0" b="0"/>
          <a:stretch/>
        </p:blipFill>
        <p:spPr>
          <a:xfrm>
            <a:off x="0" y="625320"/>
            <a:ext cx="947880" cy="5359680"/>
          </a:xfrm>
          <a:prstGeom prst="rect">
            <a:avLst/>
          </a:prstGeom>
          <a:ln w="0">
            <a:noFill/>
          </a:ln>
        </p:spPr>
      </p:pic>
      <p:pic>
        <p:nvPicPr>
          <p:cNvPr id="82" name="Grå-vita-siffror" descr=""/>
          <p:cNvPicPr/>
          <p:nvPr/>
        </p:nvPicPr>
        <p:blipFill>
          <a:blip r:embed="rId2"/>
          <a:srcRect l="0" t="0" r="0" b="45037"/>
          <a:stretch/>
        </p:blipFill>
        <p:spPr>
          <a:xfrm>
            <a:off x="6797520" y="5146560"/>
            <a:ext cx="2346480" cy="1711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571760" y="1295280"/>
            <a:ext cx="68752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5050"/>
                </a:solidFill>
                <a:latin typeface="Times New Roman"/>
              </a:rPr>
              <a:t>PX-Web, disseminating dynamic tables on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4952880" cy="4357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962520" y="838080"/>
            <a:ext cx="5181480" cy="4202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0" y="2523960"/>
            <a:ext cx="4610160" cy="4334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1523880" y="2057400"/>
            <a:ext cx="5562720" cy="4172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990720" y="2743200"/>
            <a:ext cx="4343400" cy="3201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457200"/>
            <a:ext cx="6858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same way of accessing statistics from a lot of different Statistical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0" y="3886200"/>
            <a:ext cx="6229440" cy="48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0"/>
          <a:ext cx="585720" cy="83808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0"/>
                    <a:ext cx="5857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2895480" y="2057400"/>
            <a:ext cx="6543720" cy="5162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3048120" y="3505320"/>
            <a:ext cx="4038480" cy="3570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tretch/>
        </p:blipFill>
        <p:spPr>
          <a:xfrm>
            <a:off x="0" y="5334120"/>
            <a:ext cx="5681520" cy="45846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tretch/>
        </p:blipFill>
        <p:spPr>
          <a:xfrm>
            <a:off x="4419720" y="2057400"/>
            <a:ext cx="2819160" cy="27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tretch/>
        </p:blipFill>
        <p:spPr>
          <a:xfrm>
            <a:off x="1219320" y="5410080"/>
            <a:ext cx="5929200" cy="474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tretch/>
        </p:blipFill>
        <p:spPr>
          <a:xfrm>
            <a:off x="2057400" y="5261040"/>
            <a:ext cx="4272120" cy="319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6576840" y="838080"/>
            <a:ext cx="5134320" cy="4264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7"/>
          <a:stretch/>
        </p:blipFill>
        <p:spPr>
          <a:xfrm>
            <a:off x="5181480" y="1981080"/>
            <a:ext cx="4524480" cy="3990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8"/>
          <a:stretch/>
        </p:blipFill>
        <p:spPr>
          <a:xfrm>
            <a:off x="2895480" y="4876920"/>
            <a:ext cx="5034240" cy="4440240"/>
          </a:xfrm>
          <a:prstGeom prst="rect">
            <a:avLst/>
          </a:prstGeom>
          <a:ln w="0">
            <a:noFill/>
          </a:ln>
        </p:spPr>
      </p:pic>
      <p:pic>
        <p:nvPicPr>
          <p:cNvPr id="104" name="powered_by_pxweb" descr=""/>
          <p:cNvPicPr/>
          <p:nvPr/>
        </p:nvPicPr>
        <p:blipFill>
          <a:blip r:embed="rId19"/>
          <a:stretch/>
        </p:blipFill>
        <p:spPr>
          <a:xfrm>
            <a:off x="8229600" y="457200"/>
            <a:ext cx="914400" cy="3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0"/>
          <a:stretch/>
        </p:blipFill>
        <p:spPr>
          <a:xfrm>
            <a:off x="3724200" y="4594320"/>
            <a:ext cx="54198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1"/>
          <a:stretch/>
        </p:blipFill>
        <p:spPr>
          <a:xfrm>
            <a:off x="5048280" y="5791320"/>
            <a:ext cx="4095720" cy="3759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2"/>
          <a:stretch/>
        </p:blipFill>
        <p:spPr>
          <a:xfrm>
            <a:off x="4419720" y="4572000"/>
            <a:ext cx="6257880" cy="4957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3"/>
          <a:stretch/>
        </p:blipFill>
        <p:spPr>
          <a:xfrm>
            <a:off x="5257800" y="3048120"/>
            <a:ext cx="5581800" cy="4638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4"/>
          <a:stretch/>
        </p:blipFill>
        <p:spPr>
          <a:xfrm>
            <a:off x="5257800" y="4572000"/>
            <a:ext cx="5297400" cy="5343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5"/>
          <a:stretch/>
        </p:blipFill>
        <p:spPr>
          <a:xfrm>
            <a:off x="6095880" y="4648320"/>
            <a:ext cx="6810480" cy="5365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6"/>
          <a:stretch/>
        </p:blipFill>
        <p:spPr>
          <a:xfrm>
            <a:off x="7010280" y="3124080"/>
            <a:ext cx="7067520" cy="5562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7"/>
          <a:stretch/>
        </p:blipFill>
        <p:spPr>
          <a:xfrm>
            <a:off x="8077320" y="1066680"/>
            <a:ext cx="6114960" cy="5429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8"/>
          <a:stretch/>
        </p:blipFill>
        <p:spPr>
          <a:xfrm>
            <a:off x="7696080" y="3124080"/>
            <a:ext cx="8201160" cy="5915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9"/>
          <a:stretch/>
        </p:blipFill>
        <p:spPr>
          <a:xfrm>
            <a:off x="7772400" y="5105520"/>
            <a:ext cx="6238800" cy="70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15:17:11Z</dcterms:created>
  <dc:creator>scblano</dc:creator>
  <dc:description/>
  <dc:language>en-US</dc:language>
  <cp:lastModifiedBy>scblano</cp:lastModifiedBy>
  <cp:lastPrinted>1999-10-12T13:01:02Z</cp:lastPrinted>
  <dcterms:modified xsi:type="dcterms:W3CDTF">2004-10-20T06:56:35Z</dcterms:modified>
  <cp:revision>15</cp:revision>
  <dc:subject/>
  <dc:title>Rubr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72211851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3</vt:lpwstr>
  </property>
</Properties>
</file>