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92B-4CBB-4186-A87B-F177B752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1AA-C0EF-4900-B3D2-E3E6A6DB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A47-F0C7-4819-A6C1-14A6ABBB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278-77E2-44A7-9CAD-DB5658A7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2C6-2F0F-46BF-8973-62C4A869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133-D1F6-491D-BDF7-7B384C39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496-5310-42D8-8919-39C0E943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014-E7E8-4D95-95B5-618B156F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D08-8E48-4193-961C-5566BC36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7DA-F023-4426-8BA3-0AF40875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C13-4943-4825-84C4-09857A69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D12-D682-4E28-BC4E-832B36C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2a40c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39A997-277B-4FDC-AE8B-F1C3F1CFF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092240" y="1809360"/>
            <a:ext cx="7226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71440"/>
            <a:ext cx="783612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International Conference on Agricultural Statistics (ICAS III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Cancun, Mexico 1- 3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Topic: Methodology and New Techniques for Statistic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The PC-Axis Software Family          a ”Consortium” for output d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 Nordbä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.nordback@scb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Web dynamic tab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5920" y="743040"/>
            <a:ext cx="546120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1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8220240" y="6184800"/>
            <a:ext cx="923760" cy="67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77760" y="863640"/>
            <a:ext cx="73742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i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15920" y="743040"/>
            <a:ext cx="1943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25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995400" y="1031760"/>
            <a:ext cx="81486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86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2a40c3"/>
                </a:solidFill>
                <a:latin typeface="Arial Black"/>
              </a:rPr>
              <a:t>PX-Web application generator</a:t>
            </a:r>
            <a:endParaRPr b="0" lang="en-US" sz="32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958680"/>
            <a:ext cx="731520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1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41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620720" y="1303200"/>
            <a:ext cx="72550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4520" y="3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SQL Macro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0960" y="958680"/>
            <a:ext cx="708660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8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521000" y="1209600"/>
            <a:ext cx="70484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192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Publ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600200" y="958680"/>
            <a:ext cx="727704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4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584360" y="1290600"/>
            <a:ext cx="73674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7620120" y="5746680"/>
            <a:ext cx="1523880" cy="1111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9680" y="-360"/>
            <a:ext cx="77439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The function of the PC-Axis “consortium”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0040" y="13204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cs Sweden as the leading country managing the co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C-Axis International Reference Group for all parties outside Sweden using PC-Axis as a dissemination t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ordic kernel for cooperation in the output database area where Denmark, Norway and Sweden are using the same dat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wedish user group for the use of PX-Web applications in other organisations in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nal user group at Statistics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rd where some of the main end users are consulted concerning the development of Sweden’s Statistic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teering committee for the Data Base Project at Statistics Sweden, where PC-Axis constitutes one of the important ingred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8680" y="11746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52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0440"/>
            <a:ext cx="2346480" cy="1711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71600" y="1447920"/>
            <a:ext cx="72388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808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 Black"/>
              </a:rPr>
              <a:t>Countries using the PC-Axis family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66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4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67652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pe: Croatia, Denmark, Estonia, Finland, Ireland, Iceland, Latvia, Lithuania, Norway, Slovenia, Spain, Sweden and UN/ECE in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ia: Taiwan, The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rika: Algeria, Kuwait, East Africa Community, Mozambique, Namibia, Uganda,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th America: Bolivia and 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ussions with Czech Republic, Slovakia and 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6320" y="-637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to describe the PC-Axis family are: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88960" y="13456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of statistics online (PX-Web or PX-Web components) and off line (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tables – pivot function (PX-Web and 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to different file formats (PX-Web and PC-Axis) i.e. Excel, Lotus, txt, etc. and for PC-Axis only Gesmes/TS (and XML when a DTD is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database (PC-Axis database and/or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mensional Matrices/Cubicles/Boxes (PC-Axis files and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rich data model in SQL and in the PC-Axis fil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(PC-Axis) and Internet (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4960" y="98424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19920" y="5235480"/>
            <a:ext cx="2224080" cy="1622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97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(continued)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6760" y="1155240"/>
            <a:ext cx="72262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-Axis files in a catalogue structure forms a PC-Axis database and is accessed without using SQL (PC-Axis Main module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-extension (Sybase/Oracle/MS-SQL-Server) for a SQL database structured according to the common macro meta data model (PC-Axis SQL and in some cases PX-Web components and PC-Axis/PX-Batch components in Internet User Interface to a macro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facilities (PC-Axis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(PX-iGrap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(PX-Map and PX-i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of PC-Axis files from different sources (PC-Axis SQL, PX-Batch, PX-Make, PX-Edit and the Australian SuperStar/SuperCr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bles direct from a SQL or a PC-Axis database inserted into MS-Word or MS-Excel (PX-Pub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main modu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84360" y="1343160"/>
            <a:ext cx="6802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820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file forma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9716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46280" y="1359000"/>
            <a:ext cx="8397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360" y="568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9460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96960" y="1289160"/>
            <a:ext cx="68216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896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Mak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12800" y="95868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6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84360" y="1177920"/>
            <a:ext cx="68389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3000" y="4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Edi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9440" y="996840"/>
            <a:ext cx="689616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82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71760" y="1295280"/>
            <a:ext cx="6875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PX-Web, disseminating dynamic tables o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952880" cy="435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838080"/>
            <a:ext cx="5181480" cy="420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2523960"/>
            <a:ext cx="4610160" cy="433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523880" y="20574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990720" y="2743200"/>
            <a:ext cx="4343400" cy="320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"/>
            <a:ext cx="685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ame way of accessing statistics from a lot of different Statistical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3886200"/>
            <a:ext cx="6229440" cy="48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0"/>
          <a:ext cx="585720" cy="838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585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2895480" y="2057400"/>
            <a:ext cx="6543720" cy="5162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3048120" y="3505320"/>
            <a:ext cx="4038480" cy="3570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0" y="5334120"/>
            <a:ext cx="5681520" cy="458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4419720" y="2057400"/>
            <a:ext cx="2819160" cy="27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1219320" y="5410080"/>
            <a:ext cx="5929200" cy="474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2057400" y="5261040"/>
            <a:ext cx="4272120" cy="31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6576840" y="838080"/>
            <a:ext cx="5134320" cy="4264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181480" y="1981080"/>
            <a:ext cx="4524480" cy="399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2895480" y="4876920"/>
            <a:ext cx="5034240" cy="4440240"/>
          </a:xfrm>
          <a:prstGeom prst="rect">
            <a:avLst/>
          </a:prstGeom>
          <a:ln w="0">
            <a:noFill/>
          </a:ln>
        </p:spPr>
      </p:pic>
      <p:pic>
        <p:nvPicPr>
          <p:cNvPr id="104" name="powered_by_pxweb" descr=""/>
          <p:cNvPicPr/>
          <p:nvPr/>
        </p:nvPicPr>
        <p:blipFill>
          <a:blip r:embed="rId19"/>
          <a:stretch/>
        </p:blipFill>
        <p:spPr>
          <a:xfrm>
            <a:off x="8229600" y="457200"/>
            <a:ext cx="914400" cy="3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3724200" y="4594320"/>
            <a:ext cx="54198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5048280" y="5791320"/>
            <a:ext cx="4095720" cy="3759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4419720" y="4572000"/>
            <a:ext cx="6257880" cy="4957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5257800" y="3048120"/>
            <a:ext cx="5581800" cy="4638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5257800" y="4572000"/>
            <a:ext cx="5297400" cy="534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6095880" y="4648320"/>
            <a:ext cx="6810480" cy="536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7010280" y="3124080"/>
            <a:ext cx="7067520" cy="556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8077320" y="1066680"/>
            <a:ext cx="6114960" cy="542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7696080" y="3124080"/>
            <a:ext cx="8201160" cy="591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7772400" y="5105520"/>
            <a:ext cx="6238800" cy="70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17:11Z</dcterms:created>
  <dc:creator>scblano</dc:creator>
  <dc:description/>
  <dc:language>en-US</dc:language>
  <cp:lastModifiedBy>scblano</cp:lastModifiedBy>
  <cp:lastPrinted>1999-10-12T13:01:02Z</cp:lastPrinted>
  <dcterms:modified xsi:type="dcterms:W3CDTF">2004-10-20T06:56:35Z</dcterms:modified>
  <cp:revision>15</cp:revision>
  <dc:subject/>
  <dc:title>Rubr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2211851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3</vt:lpwstr>
  </property>
</Properties>
</file>