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A4D-BA39-40B8-BC54-AEF4A839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3A3-DD3F-4C97-834B-DECBB217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051-5973-44D2-AE46-2C0BF18B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2E1-0133-4A97-83DA-A903A430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1223-7F06-44A4-9126-E68F11DA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DF04-E1D4-404B-87D0-28CC6931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6A9A-A01D-4CA2-BDCC-BE2B164F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8A87-3C1B-4FAA-93F3-D2926369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8D01-6A49-45DA-8BA3-822966E6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86B4-610E-42C4-B0DC-A3DCB598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2B6F-BBD0-4D62-A069-BAACAD33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1E1-87A4-4E18-B9DD-173362F7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D106-C361-4EC8-8458-635F1CA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735C-4192-4267-806D-B056EAE0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E134-4740-4954-AA21-D58E9FF8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DE22-CDE0-4D44-AB9B-BF69C89D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7718-5171-4453-9886-62A3956B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660-EF29-4E39-BA4C-428AEEA3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649-F59B-4E2C-807E-BC363AF7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658-F619-49B9-8F95-A3DBA6D6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EC6-A323-4E5D-98FB-B51B20C0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42D-5DBB-458F-964B-4E118E0A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CE7-41D8-4383-896A-4F2BD242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5A3-72EA-4AEB-A602-03E0E26D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B539-C61A-4B7F-836C-E62340F78CBC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2597-3512-441E-8AF9-E9D3F4F76AEA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ASUREMENT  OF  RURAL  LABOUR  FORCE  IN  POLAND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feec94"/>
                </a:solidFill>
                <a:latin typeface="Times New Roman"/>
              </a:rPr>
              <a:t>by</a:t>
            </a:r>
            <a:br>
              <a:rPr sz="2400"/>
            </a:br>
            <a:r>
              <a:rPr b="1" i="1" lang="en-US" sz="3200" spc="-1" strike="noStrike">
                <a:solidFill>
                  <a:srgbClr val="feec94"/>
                </a:solidFill>
                <a:latin typeface="Times New Roman"/>
              </a:rPr>
              <a:t>Witkowski  Janusz</a:t>
            </a:r>
            <a:br>
              <a:rPr sz="32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CENTRAL  STATISTICAL  OFFICE  OF  POLAND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Measuring  Sustainable  Agriculture  Indic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Cancun,  2 – 4  November, 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 NEED FOR  CURRENT  MONITORING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 THE  RURAL  LABOUR  MARKE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FS –  basic source  of  data  on  the  rural  labour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pportunity  to  separate  the  agricultural  and  non-agrarian popu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 categories  of  population 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distinguishe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according  to  the same  method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pportunity  for  a  wide  analysis  of  the  demographic  and occupational structure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of popu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quarterly  frequency  of  data  since  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imited  opportunities  for  the  spatial 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her  data  sour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urrent  employment  statistics  (persons  employed  outside  agri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rm  Structure  Survey –  for  the  employed  in  agricul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nemployment  registered  for  the  limited  number  of  the  rural popu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HE  NEED FOR  THE  EXTENSION  OF ASSESSMENT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WITH  THE  USE  OF  SEVERAL  DATA  SOURCE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gration of data from  population  censuses  with  LFS  and  F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der  use  of  small  area  statistics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1583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Times New Roman"/>
              </a:rPr>
              <a:t>Thank you very much for your kind attention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URAL  LABOUR  MARKET  A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  IMPORTANT COMPONEN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 THE  NATIONAL  LABOUR  MARKE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racteristic  features  of  the  present  situation  in  the  Polish  labour 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ortance  of  the  rural  labour 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IRABLE  SCOPE  OF  ANALYSIS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 THE  RURAL  LABOUR  MARKE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ze  of  the  labour 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uctural  features  of  the  active  populati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x  and  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fessional  and  qualification  characteri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rritorial  diver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mand  for  the  labour  in  rural 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umber of the offered vacancies  (job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obs  in  agriculture  and  outside  agricul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irable  qualifications  for  the  offered  job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ULATION  CENSUSES  AS  A  FUNDAMENTAL  SOURCE  OF  DAT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 RURAL  LABOUR  MARKE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portunity  to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istinguis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3 categories  of population:  the employed,  unemployed  and  ina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tails  of  demographic,  professional  and  social  characteristic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features o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 employed  and  unempl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tailed  data  on  the  population  working  in  private  farm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ficial  and  hidden  unemploy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tial  approach  in any cross-se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UAL  CHARACTER  OF  THE  LABOUR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KET  IN RURAL  AREAS  –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RICULTURAL  AND  NON-AGRARIAN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ULATION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5373360"/>
            <a:ext cx="807696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333360"/>
          <a:ext cx="8229600" cy="6048360"/>
        </p:xfrm>
        <a:graphic>
          <a:graphicData uri="http://schemas.openxmlformats.org/drawingml/2006/table">
            <a:tbl>
              <a:tblPr/>
              <a:tblGrid>
                <a:gridCol w="2027160"/>
                <a:gridCol w="1079640"/>
                <a:gridCol w="1079280"/>
                <a:gridCol w="936720"/>
                <a:gridCol w="1079640"/>
                <a:gridCol w="1081080"/>
                <a:gridCol w="946080"/>
              </a:tblGrid>
              <a:tr h="791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c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ricultural 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agrarian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nomi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loyment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employ-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nom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loyment 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employ-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-wor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b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mob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st-wor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351000"/>
          <a:ext cx="8610480" cy="6562440"/>
        </p:xfrm>
        <a:graphic>
          <a:graphicData uri="http://schemas.openxmlformats.org/drawingml/2006/table">
            <a:tbl>
              <a:tblPr/>
              <a:tblGrid>
                <a:gridCol w="2120760"/>
                <a:gridCol w="1130400"/>
                <a:gridCol w="1128600"/>
                <a:gridCol w="979560"/>
                <a:gridCol w="1130400"/>
                <a:gridCol w="1130040"/>
                <a:gridCol w="990720"/>
              </a:tblGrid>
              <a:tr h="739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c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ricultural 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agrarian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nomo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loy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employ-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nom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loy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employ-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u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ti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st-second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. vacat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ondary  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sic  vocat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lete  prim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omplete  primary and  without  scho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 rural areas we observe considerable separate features in the situation of agricultural and non-agrarian population in the labour market. This first group is characterized by a higher level of economic activity, mainly because of a higher involvement of post-working age and working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non-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obile age population in work process and population with at least primary education (higher employment levels). On the other hand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non-agrarian population is characterized by a high unemployment level, considerably higher than that of the agricultural population, but also considerably higher than that of the urban population. Situation of the non-agrarian population in the labour market is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therefore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particularly difficult but the youth and population with low education levels are in the most difficult situatio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14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  OF  MEASURING  THE  NUMBE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 THE  EMPLOYED  AND  UNEMPLOYED  IN PRIVATE  FARM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ent  number  of  the  emplo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nges  in  the years  1996-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ctors  determining  the  changes  (real  or statistical  situ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dden  unemployment   in 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6:17:21Z</dcterms:created>
  <dc:creator>Kałaska</dc:creator>
  <dc:description/>
  <dc:language>en-US</dc:language>
  <cp:lastModifiedBy>CoviRo</cp:lastModifiedBy>
  <dcterms:modified xsi:type="dcterms:W3CDTF">2005-03-25T18:41:10Z</dcterms:modified>
  <cp:revision>107</cp:revision>
  <dc:subject/>
  <dc:title>JANUSZ  WITKOWSKI PRZYSZŁOŚĆ  PRACY  W  XXI  WIE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50148544</vt:r8>
  </property>
  <property fmtid="{D5CDD505-2E9C-101B-9397-08002B2CF9AE}" pid="3" name="_AuthorEmail">
    <vt:lpwstr>J.Witkowski@stat.gov.pl</vt:lpwstr>
  </property>
  <property fmtid="{D5CDD505-2E9C-101B-9397-08002B2CF9AE}" pid="4" name="_AuthorEmailDisplayName">
    <vt:lpwstr>Witkowski Janusz</vt:lpwstr>
  </property>
  <property fmtid="{D5CDD505-2E9C-101B-9397-08002B2CF9AE}" pid="5" name="_EmailEntryID">
    <vt:lpwstr>00000000752354C1CDD5BA4BBF1B21BFAEAB893CA4D22200</vt:lpwstr>
  </property>
  <property fmtid="{D5CDD505-2E9C-101B-9397-08002B2CF9AE}" pid="6" name="_EmailStoreID">
    <vt:lpwstr>0000000038A1BB1005E5101AA1BB08002B2A56C200006D737073742E646C6C00000000004E495441F9BFB80100AA0037D96E000000433A5C506F637A74615C4A616E75737A2E70737400</vt:lpwstr>
  </property>
  <property fmtid="{D5CDD505-2E9C-101B-9397-08002B2CF9AE}" pid="7" name="_EmailSubject">
    <vt:lpwstr>MEXSAI</vt:lpwstr>
  </property>
  <property fmtid="{D5CDD505-2E9C-101B-9397-08002B2CF9AE}" pid="8" name="_PreviousAdHocReviewCycleID">
    <vt:r8>1250148544</vt:r8>
  </property>
  <property fmtid="{D5CDD505-2E9C-101B-9397-08002B2CF9AE}" pid="9" name="_ReviewCycleID">
    <vt:r8>1147795131</vt:r8>
  </property>
  <property fmtid="{D5CDD505-2E9C-101B-9397-08002B2CF9AE}" pid="10" name="_ReviewingToolsShownOnce">
    <vt:lpwstr/>
  </property>
</Properties>
</file>