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F67F-4AA0-4321-B7F0-6211804D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8DF0-C07A-480B-BF40-676BBC940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8701-E0C1-453B-9A60-33B1A6FCC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2EAF-2A2A-4F26-B9EB-CBB086A4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3CBF-2BAC-4BC5-80AF-A78A19A8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537A-BEA8-4AD3-8F22-4428757C6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62DA-A150-48F4-8CBB-234E9A6C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BC6F-412E-4CFF-B8BB-7727CF55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7B6A-52AD-4954-AD08-377FC9F9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8F4A-A41D-4BA0-B3B4-9FEFF8F3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C35C-450C-4DFD-8453-31BF8868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4E5C-BD55-479E-9DFE-B8E29FF8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662D-9C0C-4454-8E34-D31E987D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2404-F94A-4BDE-91A9-02D6E3AA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37B3-5EFC-42EE-BEA7-E9E0D086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05F5-C0F6-4790-A118-B096996E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08DD-F0D4-47C9-9361-FAB9391B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0FEC-6551-455B-B2D7-A88BDEC1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5462-4932-43DA-9FE2-80D142F8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93C5-B289-4ED9-AE8B-E187458B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B58B-D345-4728-A1CF-DFEAC642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5612-5AAF-4B19-B5AB-74C44A3A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1111-E819-4EBB-B64A-32F2E6AC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FEB7-B8C8-42C1-B7A7-60B6B9AA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80E5-9E65-4A7F-9F04-08BE3117A526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001E-0EA1-4450-9298-616F57E79D5C}" type="slidenum"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MEASUREMENT  OF  RURAL  LABOUR  FORCE  IN  POLAND</a:t>
            </a:r>
            <a:br>
              <a:rPr sz="3200"/>
            </a:br>
            <a:br>
              <a:rPr sz="3200"/>
            </a:br>
            <a:r>
              <a:rPr b="0" i="1" lang="en-US" sz="2400" spc="-1" strike="noStrike">
                <a:solidFill>
                  <a:srgbClr val="feec94"/>
                </a:solidFill>
                <a:latin typeface="Times New Roman"/>
              </a:rPr>
              <a:t>by</a:t>
            </a:r>
            <a:br>
              <a:rPr sz="2400"/>
            </a:br>
            <a:r>
              <a:rPr b="1" i="1" lang="en-US" sz="3200" spc="-1" strike="noStrike">
                <a:solidFill>
                  <a:srgbClr val="feec94"/>
                </a:solidFill>
                <a:latin typeface="Times New Roman"/>
              </a:rPr>
              <a:t>Witkowski  Janusz</a:t>
            </a:r>
            <a:br>
              <a:rPr sz="3200"/>
            </a:br>
            <a:r>
              <a:rPr b="1" i="1" lang="en-US" sz="2400" spc="-1" strike="noStrike">
                <a:solidFill>
                  <a:srgbClr val="feec94"/>
                </a:solidFill>
                <a:latin typeface="Times New Roman"/>
              </a:rPr>
              <a:t>CENTRAL  STATISTICAL  OFFICE  OF  POLAND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400536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Measuring  Sustainable  Agriculture  Indica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ffffff"/>
                </a:solidFill>
                <a:latin typeface="Times New Roman"/>
              </a:rPr>
              <a:t>Cancun,  2 – 4  November,  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1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 NEED FOR  CURRENT  MONITORING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 THE  RURAL  LABOUR  MARKET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FS –  basic source  of  data  on  the  rural  labour 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rke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pportunity  to  separate  the  agricultural  and  non-agrarian popul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 categories  of  population  </a:t>
            </a: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distinguished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according  to  the same  method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opportunity  for  a  wide  analysis  of  the  demographic  and occupational structure</a:t>
            </a:r>
            <a:r>
              <a:rPr b="1" lang="pl-PL" sz="1800" spc="-1" strike="noStrike">
                <a:solidFill>
                  <a:srgbClr val="ffffff"/>
                </a:solidFill>
                <a:latin typeface="Times New Roman"/>
              </a:rPr>
              <a:t> of popul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quarterly  frequency  of  data  since  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imited  opportunities  for  the  spatial  analy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ther  data  sour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urrent  employment  statistics  (persons  employed  outside  agricultu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Farm  Structure  Survey –  for  the  employed  in  agricul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eec94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Unemployment  registered  for  the  limited  number  of  the  rural popul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THE  NEED FOR  THE  EXTENSION  OF ASSESSMENTS </a:t>
            </a:r>
            <a:br>
              <a:rPr sz="2800"/>
            </a:br>
            <a:r>
              <a:rPr b="1" lang="en-US" sz="2800" spc="-1" strike="noStrike">
                <a:solidFill>
                  <a:srgbClr val="feec94"/>
                </a:solidFill>
                <a:latin typeface="Times New Roman"/>
              </a:rPr>
              <a:t>WITH  THE  USE  OF  SEVERAL  DATA  SOURCES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2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gration of data from  population  censuses  with  LFS  and  F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ider  use  of  small  area  statistics</a:t>
            </a: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1583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eec94"/>
                </a:solidFill>
                <a:latin typeface="Times New Roman"/>
              </a:rPr>
              <a:t>Thank you very much for your kind attention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URAL  LABOUR  MARKET  AS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  IMPORTANT COMPONENT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 THE  NATIONAL  LABOUR  MARKET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racteristic  features  of  the  present  situation  in  the  Polish  labour  mar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mportance  of  the  rural  labour  mark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SIRABLE  SCOPE  OF  ANALYSIS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 THE  RURAL  LABOUR  MARKET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ze  of  the  labour 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uctural  features  of  the  active  population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x  and  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fessional  and  qualification  characteris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3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erritorial  divers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mand  for  the  labour  in  rural 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30000"/>
              </a:lnSpc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umber of the offered vacancies  (job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obs  in  agriculture  and  outside  agricul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eec94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esirable  qualifications  for  the  offered  job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PULATION  CENSUSES  AS  A  FUNDAMENTAL  SOURCE  OF  DATA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N  RURAL  LABOUR  MARKET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portunity  to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distinguish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3 categories  of population:  the employed,  unemployed  and  ina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tails  of  demographic,  professional  and  social  characteristic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 features of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 employed  and  unemploy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tailed  data  on  the  population  working  in  private  farm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fficial  and  hidden  unemploy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atial  approach  in any cross-sec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UAL  CHARACTER  OF  THE  LABOUR 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RKET  IN RURAL  AREAS  –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RICULTURAL  AND  NON-AGRARIAN </a:t>
            </a: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ULATION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33520" y="5373360"/>
            <a:ext cx="8076960" cy="1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8360" y="333360"/>
          <a:ext cx="8229600" cy="6048360"/>
        </p:xfrm>
        <a:graphic>
          <a:graphicData uri="http://schemas.openxmlformats.org/drawingml/2006/table">
            <a:tbl>
              <a:tblPr/>
              <a:tblGrid>
                <a:gridCol w="2027160"/>
                <a:gridCol w="1079640"/>
                <a:gridCol w="1079280"/>
                <a:gridCol w="936720"/>
                <a:gridCol w="1079640"/>
                <a:gridCol w="1081080"/>
                <a:gridCol w="946080"/>
              </a:tblGrid>
              <a:tr h="791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ecif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gricultural  pop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n-agrarian pop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conomic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mployment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employ-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conom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mployment 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employ-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0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2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1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m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3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-work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3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Work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6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5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7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1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ob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7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2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2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n-mob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7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3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st-work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04920" y="351000"/>
          <a:ext cx="8610480" cy="6562440"/>
        </p:xfrm>
        <a:graphic>
          <a:graphicData uri="http://schemas.openxmlformats.org/drawingml/2006/table">
            <a:tbl>
              <a:tblPr/>
              <a:tblGrid>
                <a:gridCol w="2120760"/>
                <a:gridCol w="1130400"/>
                <a:gridCol w="1128600"/>
                <a:gridCol w="979560"/>
                <a:gridCol w="1130400"/>
                <a:gridCol w="1130040"/>
                <a:gridCol w="990720"/>
              </a:tblGrid>
              <a:tr h="739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ecif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gricultural  pop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n-agrarian popul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conomo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mploy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employ-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conom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mploy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employ-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uc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ertia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7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4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ost-seconda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1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1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5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c. vacat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8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3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condary  gene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2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9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6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8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asic  vocat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9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6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1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7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mplete  primar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3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9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complete  primary and  without  school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du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8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45684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 rural areas we observe considerable separate features in the situation of agricultural and non-agrarian population in the labour market. This first group is characterized by a higher level of economic activity, mainly because of a higher involvement of post-working age and working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 non-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mobile age population in work process and population with at least primary education (higher employment levels). On the other hand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non-agrarian population is characterized by a high unemployment level, considerably higher than that of the agricultural population, but also considerably higher than that of the urban population. Situation of the non-agrarian population in the labour market is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therefore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particularly difficult but the youth and population with low education levels are in the most difficult situation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 algn="just">
              <a:lnSpc>
                <a:spcPct val="140000"/>
              </a:lnSpc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BLEM  OF  MEASURING  THE  NUMBER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F  THE  EMPLOYED  AND  UNEMPLOYED  IN PRIVATE  FARMS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sent  number  of  the  employ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anges  in  the years  1996-200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actors  determining  the  changes  (real  or statistical  situ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idden  unemployment   in  agricul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0T16:17:21Z</dcterms:created>
  <dc:creator>Kałaska</dc:creator>
  <dc:description/>
  <dc:language>en-US</dc:language>
  <cp:lastModifiedBy>CoviRo</cp:lastModifiedBy>
  <dcterms:modified xsi:type="dcterms:W3CDTF">2005-03-25T18:41:10Z</dcterms:modified>
  <cp:revision>107</cp:revision>
  <dc:subject/>
  <dc:title>JANUSZ  WITKOWSKI PRZYSZŁOŚĆ  PRACY  W  XXI  WIEK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50148544</vt:r8>
  </property>
  <property fmtid="{D5CDD505-2E9C-101B-9397-08002B2CF9AE}" pid="3" name="_AuthorEmail">
    <vt:lpwstr>J.Witkowski@stat.gov.pl</vt:lpwstr>
  </property>
  <property fmtid="{D5CDD505-2E9C-101B-9397-08002B2CF9AE}" pid="4" name="_AuthorEmailDisplayName">
    <vt:lpwstr>Witkowski Janusz</vt:lpwstr>
  </property>
  <property fmtid="{D5CDD505-2E9C-101B-9397-08002B2CF9AE}" pid="5" name="_EmailEntryID">
    <vt:lpwstr>00000000752354C1CDD5BA4BBF1B21BFAEAB893CA4D22200</vt:lpwstr>
  </property>
  <property fmtid="{D5CDD505-2E9C-101B-9397-08002B2CF9AE}" pid="6" name="_EmailStoreID">
    <vt:lpwstr>0000000038A1BB1005E5101AA1BB08002B2A56C200006D737073742E646C6C00000000004E495441F9BFB80100AA0037D96E000000433A5C506F637A74615C4A616E75737A2E70737400</vt:lpwstr>
  </property>
  <property fmtid="{D5CDD505-2E9C-101B-9397-08002B2CF9AE}" pid="7" name="_EmailSubject">
    <vt:lpwstr>MEXSAI</vt:lpwstr>
  </property>
  <property fmtid="{D5CDD505-2E9C-101B-9397-08002B2CF9AE}" pid="8" name="_PreviousAdHocReviewCycleID">
    <vt:r8>1250148544</vt:r8>
  </property>
  <property fmtid="{D5CDD505-2E9C-101B-9397-08002B2CF9AE}" pid="9" name="_ReviewCycleID">
    <vt:r8>1147795131</vt:r8>
  </property>
  <property fmtid="{D5CDD505-2E9C-101B-9397-08002B2CF9AE}" pid="10" name="_ReviewingToolsShownOnce">
    <vt:lpwstr/>
  </property>
</Properties>
</file>