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10.wmf" ContentType="image/x-wmf"/>
  <Override PartName="/ppt/media/image3.png" ContentType="image/png"/>
  <Override PartName="/ppt/media/image4.png" ContentType="image/png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BD2-38A9-4A3B-B5D4-FBB18886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61D-996E-4405-BBF3-855F7429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C3C-E649-4AD1-BAA9-2A69ADF0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E4F-8E7E-401E-83BF-48F049A0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6C3-8C7E-4924-9A9A-1E83443A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9D7-00F8-465D-A9C9-981BFB6A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FED-9744-4D92-B6E5-6251DFFF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DED-0DEC-4A77-BE08-16376D8E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EE0-AE9D-416B-B38C-A743E0AF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461-8D77-472C-B6BA-00D0D259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9F5-7415-430F-ACAF-A852403A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C11-4213-46BA-A9FF-0E55332A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0677-FCEF-4A55-AAFC-BED4ADC5754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structuring the System of Agricultural Statistics in Hung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MEX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-4 November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Canc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Éva Laczka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117360"/>
            <a:ext cx="1440000" cy="115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496360" y="189000"/>
            <a:ext cx="684000" cy="647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5400000">
            <a:off x="6114960" y="3771720"/>
            <a:ext cx="5562720" cy="152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HUNGARIAN CENTRAL STATISTICAL OFFICE</a:t>
            </a:r>
            <a:endParaRPr b="0" lang="en-US" sz="12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Who are the data suppliers?</a:t>
            </a:r>
            <a:br>
              <a:rPr sz="4000"/>
            </a:b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What is the threshol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U requi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915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mber States have to fix the threshold at a level excluding only the smallest holding which together contribute 1 percent or less to the total S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1413000"/>
            <a:ext cx="8424720" cy="530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resholds applied in Hung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7705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8146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600 enter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766 000 house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     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830 000 un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33320" y="239868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33320" y="292428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3320" y="4581360"/>
            <a:ext cx="23832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he main characteristics of the househo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60 % produce for family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0 % produce for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30 % produce for family consumption and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297504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9640" y="355140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39640" y="4127400"/>
            <a:ext cx="23832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920" y="1916280"/>
            <a:ext cx="864216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Are the households farms in economic term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31640" y="2400480"/>
            <a:ext cx="83170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gricultural statistics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 in line with the users’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llow th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fil the information needs of SNA,E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 comparable (time, methodology, specific fea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 cheep,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9640" y="2398680"/>
            <a:ext cx="23832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5564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Times New Roman"/>
              </a:rPr>
              <a:t>Thank you very much for you</a:t>
            </a:r>
            <a:r>
              <a:rPr b="1" i="1" lang="hu-HU" sz="44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i="1" lang="en-GB" sz="4400" spc="-1" strike="noStrike">
                <a:solidFill>
                  <a:srgbClr val="333399"/>
                </a:solidFill>
                <a:latin typeface="Times New Roman"/>
              </a:rPr>
              <a:t>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ffffff"/>
                </a:solidFill>
                <a:latin typeface="Times New Roman"/>
              </a:rPr>
              <a:t>Hung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Total are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93 000 km</a:t>
            </a:r>
            <a:r>
              <a:rPr b="1" lang="hu-HU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Popul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10 million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rcview europa5" descr=""/>
          <p:cNvPicPr/>
          <p:nvPr/>
        </p:nvPicPr>
        <p:blipFill>
          <a:blip r:embed="rId2"/>
          <a:stretch/>
        </p:blipFill>
        <p:spPr>
          <a:xfrm>
            <a:off x="3203640" y="1600200"/>
            <a:ext cx="5940360" cy="5257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10800000">
            <a:off x="6732360" y="3718080"/>
            <a:ext cx="1584360" cy="863280"/>
          </a:xfrm>
          <a:prstGeom prst="wedgeRoundRectCallout">
            <a:avLst>
              <a:gd name="adj1" fmla="val 63023"/>
              <a:gd name="adj2" fmla="val -94120"/>
              <a:gd name="adj3" fmla="val 16667"/>
            </a:avLst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75640" y="4076640"/>
            <a:ext cx="129672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solidFill>
                    <a:srgbClr val="000000"/>
                  </a:solidFill>
                </a:ln>
                <a:solidFill>
                  <a:srgbClr val="000080"/>
                </a:solidFill>
                <a:latin typeface="Arial"/>
              </a:rPr>
              <a:t>HUNGARY</a:t>
            </a:r>
            <a:endParaRPr b="0" lang="en-US" sz="3200" spc="1" strike="noStrike">
              <a:ln w="0">
                <a:solidFill>
                  <a:srgbClr val="000000"/>
                </a:solidFill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11280" y="479736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11280" y="2205000"/>
            <a:ext cx="2156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91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griculture in the GDP 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3 per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ood industry in the GDP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4 per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gricultural land area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63 perc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mployees in Agriculture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6 per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umber of unit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(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7 600 agricultural enter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766 000 house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Hungarian Agriculture</a:t>
            </a:r>
            <a:r>
              <a:rPr b="1" i="1" lang="hu-H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513540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9640" y="443700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39640" y="376704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39640" y="304632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39640" y="2327400"/>
            <a:ext cx="23832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gricultural Cens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31760" y="1599840"/>
            <a:ext cx="303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18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19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19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19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872 Viney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1959 Orc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1965 Viney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2001 Orch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nd viney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93680" y="247032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93680" y="342900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93680" y="393372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93680" y="441468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93680" y="491976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4716360" y="501336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4716360" y="35733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4694400" y="306864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4716360" y="211140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1093680" y="2975040"/>
            <a:ext cx="23832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imes New Roman"/>
              </a:rPr>
              <a:t>The main characteristics of the surveys</a:t>
            </a:r>
            <a:r>
              <a:rPr b="1" i="1" lang="hu-H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(1950–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6360" y="162864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91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Regular surveys</a:t>
            </a:r>
            <a:r>
              <a:rPr b="1" i="1" lang="hu-HU" sz="4000" spc="-1" strike="noStrike">
                <a:solidFill>
                  <a:srgbClr val="ffffff"/>
                </a:solidFill>
                <a:latin typeface="Times New Roman"/>
              </a:rPr>
              <a:t> 20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28480" y="836640"/>
            <a:ext cx="8147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gular surveys 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12720" y="836640"/>
            <a:ext cx="8136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Milestones of the SNA and E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88480" y="159984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1855 first national income and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1950 national balance sheets in material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1960 national accounts in material terms and according to the 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1990 SNA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1994 Regional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1996 Quarterly GDP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79960" y="1600200"/>
            <a:ext cx="381312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999 E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2003 Regional E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71640" y="4076640"/>
            <a:ext cx="237960" cy="238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971640" y="542304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971640" y="595008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971640" y="643104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971640" y="177336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5076720" y="225432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5076720" y="1773360"/>
            <a:ext cx="23832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Data resources of the SNA and E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8840" y="1600200"/>
            <a:ext cx="5915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ysical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ice 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oss production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duction Balance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few new survey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ministrative data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16080" y="297504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16080" y="3573360"/>
            <a:ext cx="237960" cy="238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216080" y="414972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216080" y="4724280"/>
            <a:ext cx="237960" cy="23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1216080" y="5300640"/>
            <a:ext cx="237960" cy="238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238400" y="2398680"/>
            <a:ext cx="2379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5:50:13Z</dcterms:created>
  <dc:creator>KSH</dc:creator>
  <dc:description/>
  <dc:language>en-US</dc:language>
  <cp:lastModifiedBy>KSH</cp:lastModifiedBy>
  <dcterms:modified xsi:type="dcterms:W3CDTF">2004-10-21T13:08:39Z</dcterms:modified>
  <cp:revision>94</cp:revision>
  <dc:subject/>
  <dc:title>Restructuring the system of agricultural statistics in Hung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20429232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2:30 room 1</vt:lpwstr>
  </property>
</Properties>
</file>