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5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217040"/>
            <a:ext cx="8077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5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94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828800"/>
            <a:ext cx="394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217040"/>
            <a:ext cx="394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4217040"/>
            <a:ext cx="394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5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82880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82880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21704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421704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421704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5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5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5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94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828800"/>
            <a:ext cx="394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5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5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94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828800"/>
            <a:ext cx="394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217040"/>
            <a:ext cx="394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5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94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828800"/>
            <a:ext cx="394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4217040"/>
            <a:ext cx="394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51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94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828800"/>
            <a:ext cx="3941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217040"/>
            <a:ext cx="8077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4" marL="1981080" indent="-228600">
              <a:spcBef>
                <a:spcPts val="7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5" marL="1981080" indent="-228600">
              <a:spcBef>
                <a:spcPts val="7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6" marL="1981080" indent="-228600">
              <a:spcBef>
                <a:spcPts val="7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0"/>
            <a:ext cx="0" cy="16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4642920"/>
            <a:ext cx="525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ie Dumitrescu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Institute of Statistic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3080"/>
            <a:ext cx="7848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International Conference on Agricultural Statistic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XSAI-ICAS-III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ancun- Mexico, 2-4 November 20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99476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Lessons learnt from the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2002 - General Agricultural Census in Romania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TRENGH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208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Progressive improvement of competence and accumulation of know-how for NIS census staff (international working groups + seminars + Phare multi-country programmes + FAO training 2002)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208080" indent="0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208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Bilateral technical assistance by EU through the Twinning Program, under national Phare 2000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TRENGH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482760" indent="0">
              <a:lnSpc>
                <a:spcPct val="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4827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High skilled top managers, at county level, in conducting and co-ordinating statistical surveys.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4827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Effective training sessions + internal debate on GAC technical instruments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48276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Efficient utilisation of limited staff and financial resources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48276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Young persons, skilled in IT and foreign languages, hired at NIS central level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29196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686160" y="1676520"/>
            <a:ext cx="9829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        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TRENGH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625760" indent="-48276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Pilot Census in August 2002: testing of census tools and of organisational issues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625760" indent="-48276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Control Survey in February 2003, certified the census coverage and the data quality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625760" indent="-48276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Cost advantages and good skills in census specific activities (Population Census, March 2002):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625760" indent="-48276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E-mail facilities, at territorial level, improved communication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625760" indent="-48276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Technical and organisational solutions aimed to raise GAC overall quality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625760" indent="-48276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Institutional effort for a proper IT endowment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914760" y="1676520"/>
            <a:ext cx="990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      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25760" indent="-38592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Lack of structural information on Romanian agriculture   -&gt; impossibility to set a size threshold before census operations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625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625760" indent="-38592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Land fragmentation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62576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6257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-&gt; very large number of units for enumeration (preliminary results of the census: 4,760 thou. units, of which  4,737 thou. individual holdings/ households)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482760" indent="0" algn="just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2" marL="762120" indent="-36828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Lack of clear definition of the agricultural holding, as a statistical observation unit. 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762120" indent="-36828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Lack of harmonisation between the methodological approach used in the census and the one used in the current statistical surveys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762120" indent="-36828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NO Statistical Farm Register available -&gt; impact on census registering lists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762120" indent="-36828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Lack of an accurate Cadastre register -&gt; impact on census registering lists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762120" indent="-36828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Large number of persons living in other locality than the location of the agr. unit (land owners in urban areas)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762480" y="1600200"/>
            <a:ext cx="952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  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Existence of three levels of census co-ordination (MAFF, NIS, and MPA)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Lack of a national network of specialised enumerators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Short time intervals between census milestones (designing, printing and delivering of census tools)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Overlapping of census activities with other projects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Limited time for the census know-how implementation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Limited staff, both in term of quantity and skills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685800" y="1676520"/>
            <a:ext cx="9524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 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OPPORTUNI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625760" indent="-48276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Experience gained by the Romanian staff involved in census activ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625760" indent="-48276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Know-how transfer from the Twinning Project under the National Phare 2000 for compliance of the Romanian agricultural statistical system with EU norms and standar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625760" indent="-48276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Harmonisation of national census methodology with EU requirements and FAO recommendations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625760" indent="-48276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Obtaining indicators comparable at international level, for the main agricultural variables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838440" y="1676520"/>
            <a:ext cx="967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OPPORTUNI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Set up the sampling frame needed for the development of the statistical system of surveys in agricultur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Set up the basis for defining a proper threshold, in order to define the Romanian agricultural holding, as statistical observation unit, according to EU requirements and national constraints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Set up the Statistical Farm Register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Set up of the global database for the development of the system of agricultural statistics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Data reconciliation: census results vs. current statistic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1067040" y="1676520"/>
            <a:ext cx="10210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  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OPPORTUNI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482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Setting up a national network of specialised trainers and enumerator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Awareness of other Romanian institutional bodies for the need of using the new set of indicators developed under the agricultural census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719360" indent="-38124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Get the interest of the users in the census results and increase their trust in agricultural statistical data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533880" y="1676520"/>
            <a:ext cx="952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THREA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482760" indent="0" algn="just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3344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Burden of implementing new requirements at once in all the agricultural statistical domains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3344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3344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Insufficient human resources for developing on new foundations all the agricultural statistical system, considering the milestones imposed by the EU accession process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33440" indent="-3808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Updating of the Farm Register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33440" indent="-3808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Breaks in time series, as other methodological approaches were in place up to present</a:t>
            </a:r>
            <a:r>
              <a:rPr b="1" lang="en-GB" sz="24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48765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I.  General Environment - Romanian 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Agricultur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28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287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 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II. 2002 General Agricultural Census (GAC)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86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. Main Objective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86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. Legal Basi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86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III. GAC - 2002;  Lessons learnt (SWOT  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Analysi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IV.  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1622520" y="419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209680" y="914040"/>
            <a:ext cx="2057400" cy="60948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Times New Roman"/>
              </a:rPr>
              <a:t>I. General Environmen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47920"/>
          <a:ext cx="3733920" cy="203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373392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809880" y="2870280"/>
          <a:ext cx="5334120" cy="347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870280"/>
                    <a:ext cx="53341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12680" y="3430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cec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  <a:ea typeface="Courier New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  <a:ea typeface="Courier New"/>
              </a:rPr>
              <a:t>Structural Dynamics in Romanian Agriculture: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Reform program started in the 1990’s. 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Privatisation of the land resources started with the 1991 land reform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From a planned, centralised farming system, practised on large agricultural areas, the whole system shifted to a shattered one. 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At present, small-scale farming prevails on most of agricultural area, accompanied by a widespread land fragmentation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4572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Times New Roman"/>
              </a:rPr>
              <a:t>I. General Environ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50840" y="419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a. Main Objectiv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29196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482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. to obtain an exhaustive picture of the structural characteristics of the national agricultural system;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4827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482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. to built a data base, comparable at international level, regarding the key agricultural variables;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48276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482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3. to provide a sampling frame for the agricultural sample surveys to be carried out between censuses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482760" indent="0" algn="just">
              <a:lnSpc>
                <a:spcPct val="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572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Times New Roman"/>
              </a:rPr>
              <a:t>II. 2002 - General Census of Agricultur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b. Premises, requirements and standards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9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284040">
              <a:spcBef>
                <a:spcPts val="499"/>
              </a:spcBef>
              <a:buClr>
                <a:srgbClr val="ffff00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FAO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recommendations, provided in the Programme for the World Census of Agriculture  2000: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860400" indent="-19512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o conduct a general census of agriculture in 1996 – 2005;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3" marL="860400" indent="-19512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o apply, for harmonisation criteria, the definitions, concepts and characteristics foreseen into the FAO Program for the World Census of Agriculture 2000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284040">
              <a:lnSpc>
                <a:spcPct val="140000"/>
              </a:lnSpc>
              <a:spcBef>
                <a:spcPts val="499"/>
              </a:spcBef>
              <a:buClr>
                <a:srgbClr val="000099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List of characteristics by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urostat</a:t>
            </a:r>
            <a:r>
              <a:rPr b="1" lang="en-GB" sz="2000" spc="-1" strike="noStrike">
                <a:solidFill>
                  <a:srgbClr val="ff9933"/>
                </a:solidFill>
                <a:latin typeface="Verdana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for the FSS 2003;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284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2840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National</a:t>
            </a:r>
            <a:r>
              <a:rPr b="1" lang="en-GB" sz="2000" spc="-1" strike="noStrike">
                <a:solidFill>
                  <a:srgbClr val="ff9933"/>
                </a:solidFill>
                <a:latin typeface="Verdana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requests, other than the ones mentioned  abov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921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572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Times New Roman"/>
              </a:rPr>
              <a:t>II. 2002 - General Census of Agricultur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78000" indent="-9540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i="1" lang="en-GB" sz="2000" spc="-1" strike="noStrike">
                <a:solidFill>
                  <a:srgbClr val="000099"/>
                </a:solidFill>
                <a:latin typeface="Verdana"/>
              </a:rPr>
              <a:t>Data Collection Methods:</a:t>
            </a:r>
            <a:r>
              <a:rPr b="1" i="1" lang="en-GB" sz="1800" spc="-1" strike="noStrike">
                <a:solidFill>
                  <a:srgbClr val="000099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378000" indent="-9540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Territory of each municipality divided into </a:t>
            </a: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census sections</a:t>
            </a: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 (max 200 units/enumerator) 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378000" indent="-954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Separate census sections, for units with legal status, set up at the level of each locality; responsible: the chief enumerator)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378000" indent="0">
              <a:lnSpc>
                <a:spcPts val="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378000" indent="0">
              <a:lnSpc>
                <a:spcPts val="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378000" indent="-9540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i="1" lang="en-GB" sz="2000" spc="-1" strike="noStrike">
                <a:solidFill>
                  <a:srgbClr val="000099"/>
                </a:solidFill>
                <a:latin typeface="Verdana"/>
              </a:rPr>
              <a:t>Registration Procedure :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by </a:t>
            </a: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direct interview</a:t>
            </a: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 for holdings/individual agricultural households (physical persons), by enumerators within the distributed sector; 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9216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- by </a:t>
            </a: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self-registering</a:t>
            </a:r>
            <a:r>
              <a:rPr b="1" lang="en-GB" sz="1800" spc="-1" strike="noStrike">
                <a:solidFill>
                  <a:srgbClr val="000099"/>
                </a:solidFill>
                <a:latin typeface="Verdana"/>
              </a:rPr>
              <a:t> for the units with legal status, under the direct supervision of the chief enumerators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378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II. The Romanian GAC – 2002</a:t>
            </a:r>
            <a:endParaRPr b="0" lang="en-US" sz="2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33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2280" y="16761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TRENGH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 algn="just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195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Institutional willingness to build up, on new basis, the national agricultural statistical system, in compliance with the statistical requirements of Eurostat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195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195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NIS experience in the methodological approach to agricultural censuses.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19512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Verdana"/>
                <a:ea typeface="Times New Roman"/>
              </a:rPr>
              <a:t>III. </a:t>
            </a:r>
            <a:r>
              <a:rPr b="1" lang="en-GB" sz="2400" spc="-1" strike="noStrike">
                <a:solidFill>
                  <a:srgbClr val="ff9933"/>
                </a:solidFill>
                <a:latin typeface="Verdana"/>
              </a:rPr>
              <a:t>SWOT Analysis</a:t>
            </a:r>
            <a:r>
              <a:rPr b="0" lang="en-GB" sz="4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1300000">
            <a:off x="275760" y="76320"/>
            <a:ext cx="1635120" cy="1143000"/>
          </a:xfrm>
          <a:custGeom>
            <a:avLst/>
            <a:gdLst/>
            <a:ahLst/>
            <a:rect l="l" t="t" r="r" b="b"/>
            <a:pathLst>
              <a:path w="4119" h="2895">
                <a:moveTo>
                  <a:pt x="0" y="1275"/>
                </a:moveTo>
                <a:lnTo>
                  <a:pt x="36" y="1246"/>
                </a:lnTo>
                <a:lnTo>
                  <a:pt x="51" y="1246"/>
                </a:lnTo>
                <a:lnTo>
                  <a:pt x="79" y="1260"/>
                </a:lnTo>
                <a:lnTo>
                  <a:pt x="101" y="1253"/>
                </a:lnTo>
                <a:lnTo>
                  <a:pt x="115" y="1239"/>
                </a:lnTo>
                <a:lnTo>
                  <a:pt x="144" y="1253"/>
                </a:lnTo>
                <a:lnTo>
                  <a:pt x="180" y="1267"/>
                </a:lnTo>
                <a:lnTo>
                  <a:pt x="187" y="1267"/>
                </a:lnTo>
                <a:lnTo>
                  <a:pt x="202" y="1260"/>
                </a:lnTo>
                <a:lnTo>
                  <a:pt x="209" y="1253"/>
                </a:lnTo>
                <a:lnTo>
                  <a:pt x="216" y="1231"/>
                </a:lnTo>
                <a:lnTo>
                  <a:pt x="223" y="1203"/>
                </a:lnTo>
                <a:lnTo>
                  <a:pt x="245" y="1167"/>
                </a:lnTo>
                <a:lnTo>
                  <a:pt x="267" y="1181"/>
                </a:lnTo>
                <a:lnTo>
                  <a:pt x="288" y="1203"/>
                </a:lnTo>
                <a:lnTo>
                  <a:pt x="303" y="1188"/>
                </a:lnTo>
                <a:lnTo>
                  <a:pt x="310" y="1195"/>
                </a:lnTo>
                <a:lnTo>
                  <a:pt x="346" y="1203"/>
                </a:lnTo>
                <a:lnTo>
                  <a:pt x="353" y="1217"/>
                </a:lnTo>
                <a:lnTo>
                  <a:pt x="367" y="1210"/>
                </a:lnTo>
                <a:lnTo>
                  <a:pt x="375" y="1181"/>
                </a:lnTo>
                <a:lnTo>
                  <a:pt x="396" y="1174"/>
                </a:lnTo>
                <a:lnTo>
                  <a:pt x="403" y="1174"/>
                </a:lnTo>
                <a:lnTo>
                  <a:pt x="411" y="1159"/>
                </a:lnTo>
                <a:lnTo>
                  <a:pt x="425" y="1123"/>
                </a:lnTo>
                <a:lnTo>
                  <a:pt x="425" y="1109"/>
                </a:lnTo>
                <a:lnTo>
                  <a:pt x="454" y="1116"/>
                </a:lnTo>
                <a:lnTo>
                  <a:pt x="468" y="1095"/>
                </a:lnTo>
                <a:lnTo>
                  <a:pt x="468" y="1080"/>
                </a:lnTo>
                <a:lnTo>
                  <a:pt x="461" y="1073"/>
                </a:lnTo>
                <a:lnTo>
                  <a:pt x="454" y="1073"/>
                </a:lnTo>
                <a:lnTo>
                  <a:pt x="447" y="1059"/>
                </a:lnTo>
                <a:lnTo>
                  <a:pt x="461" y="1037"/>
                </a:lnTo>
                <a:lnTo>
                  <a:pt x="468" y="1023"/>
                </a:lnTo>
                <a:lnTo>
                  <a:pt x="475" y="1008"/>
                </a:lnTo>
                <a:lnTo>
                  <a:pt x="475" y="994"/>
                </a:lnTo>
                <a:lnTo>
                  <a:pt x="497" y="979"/>
                </a:lnTo>
                <a:lnTo>
                  <a:pt x="511" y="987"/>
                </a:lnTo>
                <a:lnTo>
                  <a:pt x="526" y="987"/>
                </a:lnTo>
                <a:lnTo>
                  <a:pt x="526" y="965"/>
                </a:lnTo>
                <a:lnTo>
                  <a:pt x="533" y="958"/>
                </a:lnTo>
                <a:lnTo>
                  <a:pt x="576" y="915"/>
                </a:lnTo>
                <a:lnTo>
                  <a:pt x="612" y="821"/>
                </a:lnTo>
                <a:lnTo>
                  <a:pt x="785" y="540"/>
                </a:lnTo>
                <a:lnTo>
                  <a:pt x="871" y="339"/>
                </a:lnTo>
                <a:lnTo>
                  <a:pt x="1095" y="259"/>
                </a:lnTo>
                <a:lnTo>
                  <a:pt x="1282" y="108"/>
                </a:lnTo>
                <a:lnTo>
                  <a:pt x="1721" y="223"/>
                </a:lnTo>
                <a:lnTo>
                  <a:pt x="1880" y="195"/>
                </a:lnTo>
                <a:lnTo>
                  <a:pt x="2038" y="339"/>
                </a:lnTo>
                <a:lnTo>
                  <a:pt x="2182" y="231"/>
                </a:lnTo>
                <a:lnTo>
                  <a:pt x="2542" y="166"/>
                </a:lnTo>
                <a:lnTo>
                  <a:pt x="2657" y="22"/>
                </a:lnTo>
                <a:lnTo>
                  <a:pt x="2808" y="0"/>
                </a:lnTo>
                <a:lnTo>
                  <a:pt x="2916" y="101"/>
                </a:lnTo>
                <a:lnTo>
                  <a:pt x="3284" y="699"/>
                </a:lnTo>
                <a:lnTo>
                  <a:pt x="3406" y="814"/>
                </a:lnTo>
                <a:lnTo>
                  <a:pt x="3478" y="1073"/>
                </a:lnTo>
                <a:lnTo>
                  <a:pt x="3421" y="1267"/>
                </a:lnTo>
                <a:lnTo>
                  <a:pt x="3406" y="1411"/>
                </a:lnTo>
                <a:lnTo>
                  <a:pt x="3435" y="1628"/>
                </a:lnTo>
                <a:lnTo>
                  <a:pt x="3601" y="1844"/>
                </a:lnTo>
                <a:lnTo>
                  <a:pt x="3788" y="1800"/>
                </a:lnTo>
                <a:lnTo>
                  <a:pt x="3982" y="1707"/>
                </a:lnTo>
                <a:lnTo>
                  <a:pt x="4119" y="1764"/>
                </a:lnTo>
                <a:lnTo>
                  <a:pt x="4105" y="1923"/>
                </a:lnTo>
                <a:lnTo>
                  <a:pt x="4119" y="2052"/>
                </a:lnTo>
                <a:lnTo>
                  <a:pt x="3946" y="2110"/>
                </a:lnTo>
                <a:lnTo>
                  <a:pt x="3831" y="2218"/>
                </a:lnTo>
                <a:lnTo>
                  <a:pt x="3781" y="2340"/>
                </a:lnTo>
                <a:lnTo>
                  <a:pt x="3680" y="2412"/>
                </a:lnTo>
                <a:lnTo>
                  <a:pt x="3716" y="2578"/>
                </a:lnTo>
                <a:lnTo>
                  <a:pt x="3694" y="2787"/>
                </a:lnTo>
                <a:lnTo>
                  <a:pt x="3493" y="2772"/>
                </a:lnTo>
                <a:lnTo>
                  <a:pt x="3392" y="2664"/>
                </a:lnTo>
                <a:lnTo>
                  <a:pt x="3291" y="2664"/>
                </a:lnTo>
                <a:lnTo>
                  <a:pt x="3161" y="2636"/>
                </a:lnTo>
                <a:lnTo>
                  <a:pt x="2981" y="2549"/>
                </a:lnTo>
                <a:lnTo>
                  <a:pt x="2837" y="2592"/>
                </a:lnTo>
                <a:lnTo>
                  <a:pt x="2664" y="2628"/>
                </a:lnTo>
                <a:lnTo>
                  <a:pt x="2542" y="2693"/>
                </a:lnTo>
                <a:lnTo>
                  <a:pt x="2398" y="2844"/>
                </a:lnTo>
                <a:lnTo>
                  <a:pt x="2254" y="2895"/>
                </a:lnTo>
                <a:lnTo>
                  <a:pt x="2117" y="2830"/>
                </a:lnTo>
                <a:lnTo>
                  <a:pt x="1944" y="2830"/>
                </a:lnTo>
                <a:lnTo>
                  <a:pt x="1822" y="2801"/>
                </a:lnTo>
                <a:lnTo>
                  <a:pt x="1685" y="2844"/>
                </a:lnTo>
                <a:lnTo>
                  <a:pt x="1448" y="2744"/>
                </a:lnTo>
                <a:lnTo>
                  <a:pt x="1275" y="2736"/>
                </a:lnTo>
                <a:lnTo>
                  <a:pt x="1196" y="2758"/>
                </a:lnTo>
                <a:lnTo>
                  <a:pt x="1095" y="2736"/>
                </a:lnTo>
                <a:lnTo>
                  <a:pt x="1138" y="2636"/>
                </a:lnTo>
                <a:lnTo>
                  <a:pt x="1124" y="2571"/>
                </a:lnTo>
                <a:lnTo>
                  <a:pt x="994" y="2463"/>
                </a:lnTo>
                <a:lnTo>
                  <a:pt x="936" y="2362"/>
                </a:lnTo>
                <a:lnTo>
                  <a:pt x="972" y="2304"/>
                </a:lnTo>
                <a:lnTo>
                  <a:pt x="1052" y="2283"/>
                </a:lnTo>
                <a:lnTo>
                  <a:pt x="915" y="2182"/>
                </a:lnTo>
                <a:lnTo>
                  <a:pt x="763" y="2326"/>
                </a:lnTo>
                <a:lnTo>
                  <a:pt x="720" y="2218"/>
                </a:lnTo>
                <a:lnTo>
                  <a:pt x="569" y="2196"/>
                </a:lnTo>
                <a:lnTo>
                  <a:pt x="555" y="2139"/>
                </a:lnTo>
                <a:lnTo>
                  <a:pt x="483" y="2110"/>
                </a:lnTo>
                <a:lnTo>
                  <a:pt x="547" y="2060"/>
                </a:lnTo>
                <a:lnTo>
                  <a:pt x="475" y="1995"/>
                </a:lnTo>
                <a:lnTo>
                  <a:pt x="533" y="1887"/>
                </a:lnTo>
                <a:lnTo>
                  <a:pt x="274" y="1736"/>
                </a:lnTo>
                <a:lnTo>
                  <a:pt x="231" y="1642"/>
                </a:lnTo>
                <a:lnTo>
                  <a:pt x="252" y="1556"/>
                </a:lnTo>
                <a:lnTo>
                  <a:pt x="180" y="1484"/>
                </a:lnTo>
                <a:lnTo>
                  <a:pt x="108" y="1375"/>
                </a:lnTo>
                <a:lnTo>
                  <a:pt x="65" y="1361"/>
                </a:lnTo>
                <a:lnTo>
                  <a:pt x="0" y="127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3640" y="538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ROMANI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09:07:20Z</dcterms:created>
  <dc:creator>   </dc:creator>
  <dc:description/>
  <dc:language>en-US</dc:language>
  <cp:lastModifiedBy>Som, Hiek (ESSS)</cp:lastModifiedBy>
  <cp:lastPrinted>2004-10-25T10:15:48Z</cp:lastPrinted>
  <dcterms:modified xsi:type="dcterms:W3CDTF">2004-10-29T13:32:00Z</dcterms:modified>
  <cp:revision>182</cp:revision>
  <dc:subject/>
  <dc:title>Agricultural Price Reporting in the European Un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2572420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2</vt:lpwstr>
  </property>
  <property fmtid="{D5CDD505-2E9C-101B-9397-08002B2CF9AE}" pid="6" name="_PreviousAdHocReviewCycleID">
    <vt:r8>-1290502921</vt:r8>
  </property>
</Properties>
</file>