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222-5D6A-4B19-AF41-C9105CAA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A30-DD06-435E-89D9-4300D5C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CB9-3FBF-48FA-A73A-38640D08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70B-E2FA-4297-84A0-349EA74F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D99-5EAD-432F-A174-C5669D6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C40-3CD0-4EBE-BAE0-41FE3A46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20A-A471-4D8B-B070-740F236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6E8-2560-44E7-B4F3-7B2D847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37D-FF0F-4282-8453-FEB6F57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CB4-8295-43BF-956B-72CA280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B77-CD63-46A2-85E9-B8AC33C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30E-F473-4D70-A196-3D3CA93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AD1-AE42-4760-9583-C9D1EF09A9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Poverty Monitoring in Rural Chi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Zude  X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Rural Survey Organization, National Bureau of Statistics, P.R.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P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) Household income and expendi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)  Food consumption and nutr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)  Fixed assets and living fac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) Edu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)  Household capability of accessing marke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)  Income equality and gender disp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7)  Social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8)  Coverage, targeting of poverty reduction project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Special poverty monitoring surv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 series of regional poverty monitoring surveys for special poverty reduction projec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ree of the largest surveys relate to World Bank poverty reduction projects in China:       South-West Poverty Monitoring Survey (SWPMS), Qinba Mountain Area Poverty Monitoring Survey (QMAPMS), and Inner Mongolia and Gansu Poverty Monitoring Survey (IMGPMS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know from poverty monito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verty alleviatio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overty issues in new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verty alleviation progress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336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2009880"/>
          <a:ext cx="731520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09880"/>
                    <a:ext cx="73152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Poverty issues in new Centu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-7 Plan” in las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10 outline” in new centur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-7 Pla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ain content of "8-7 Plan" is to reduce the poverty about 80 million in 7 years through the tax favorite policy, financial support and social-economic development pro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Some new issues for “2010 outline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ffic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ral infra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ci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ude X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ianzd@stats.gov.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Data sour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Special poverty monitoring surv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HS is an integrated social and economic survey and focuses on the income and expenditure of households. 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a collected from the survey are used to estimate the national rural poverty 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usehold 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, seasonal labor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al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ome (income by source, in-kind inc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diture and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able goods and fixed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-based data such as the availability of roads, electricity, telephone, health facilities and schoo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frame is based on data of agricultural cens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8,000 rural household samples are chosen in 31 provinces 857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s of survey on rural household are updated in an interval of five years. Sampling method shall be further improved and MPPS will be us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HS collects the household's information through a way called "dairy book + visiting". The sampled households record all the economic activities such as production, purchasing, selling, consumption etc. in a dairy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do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vincial has 30 to 50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unty  has 6 to 10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there are more than 8,000 professional statistical surveyor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an assistant interviewer  is assigned to each village. About 10,000 assistant are invol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PMS was established in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s main aim is to get a deep understanding of poverty distribution and its change of national poor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ional poor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PMS uses a random, multi stage systematic sampling method. About 10 villages were selected from each poor county and 10 households were selected from each selected vill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3:45:07Z</dcterms:created>
  <dc:creator>xtf</dc:creator>
  <dc:description/>
  <dc:language>en-US</dc:language>
  <cp:lastModifiedBy>xtf</cp:lastModifiedBy>
  <dcterms:modified xsi:type="dcterms:W3CDTF">2004-11-05T05:50:28Z</dcterms:modified>
  <cp:revision>7</cp:revision>
  <dc:subject/>
  <dc:title>Poverty Monitoring in Rural Ch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0272716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