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852B-0CC6-4652-92E7-094212B00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622F-17EF-4477-9AC3-D6A2666D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79E7-ACDB-405B-B952-30218819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2E4A-ED60-4800-9E4D-0CEA6634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DCEE-344D-4BDD-A455-B3B08A02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BDEC-7BE2-4213-B03B-44335A54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65EF-6365-4401-9B6C-F321335F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08EE-CAD1-4BA8-9B91-A5A1E3A0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A023-E565-4510-8CCF-27DFCE74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91B2-B703-4C10-9EC8-7520E8D2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F329-FEC5-4047-BC61-AEFC50AA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08AD-8B6E-4B5D-8BE7-55F78373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05C7-73EE-446A-ADBC-24E5A62FA1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14300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Poverty Monitoring in Rural Chin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Zude  X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00"/>
                </a:solidFill>
                <a:latin typeface="Arial"/>
              </a:rPr>
              <a:t>Rural Survey Organization, National Bureau of Statistics, P.R. Ch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NP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1) Household income and expendi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2)  Food consumption and nutri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3)  Fixed assets and living facilit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4) Edu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5)  Household capability of accessing marke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6)  Income equality and gender disp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7)  Social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8)  Coverage, targeting of poverty reduction projects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Special poverty monitoring surve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there are a series of regional poverty monitoring surveys for special poverty reduction project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Three of the largest surveys relate to World Bank poverty reduction projects in China:       South-West Poverty Monitoring Survey (SWPMS), Qinba Mountain Area Poverty Monitoring Survey (QMAPMS), and Inner Mongolia and Gansu Poverty Monitoring Survey (IMGPMS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e know from poverty monitor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overty alleviation 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overty issues in new Centu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overty alleviation progress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03364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066680" y="2009880"/>
          <a:ext cx="7315200" cy="4091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2009880"/>
                    <a:ext cx="7315200" cy="40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Poverty issues in new Centu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-7 Plan” in last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centu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2010 outline” in new centur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8-7 Plan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main content of "8-7 Plan" is to reduce the poverty about 80 million in 7 years through the tax favorite policy, financial support and social-economic development progra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Some new issues for “2010 outline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iffic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ack to po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ural infra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cial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isp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Zude X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Xianzd@stats.gov.c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Data sourc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Rural Household Survey (RH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National Poverty Monitoring Survey (NPM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Special poverty monitoring surve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Rural Household Survey (RH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HS is an integrated social and economic survey and focuses on the income and expenditure of households. 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a collected from the survey are used to estimate the national rural poverty l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Rural Household Survey (RH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usehold characteristic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mployment, seasonal labor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gricultural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using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ome (income by source, in-kind inc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enditure and consu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urable goods and fixed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munity-based data such as the availability of roads, electricity, telephone, health facilities and school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ing frame is based on data of agricultural censu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8,000 rural household samples are chosen in 31 provinces 857 coun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s of survey on rural household are updated in an interval of five years. Sampling method shall be further improved and MPPS will be use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coll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HS collects the household's information through a way called "dairy book + visiting". The sampled households record all the economic activities such as production, purchasing, selling, consumption etc. in a dairy boo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do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Provincial has 30 to 50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ounty  has 6 to 10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ly there are more than 8,000 professional statistical surveyor in Ch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more, an assistant interviewer  is assigned to each village. About 10,000 assistant are involv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National Poverty Monitoring Survey (NPM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PMS was established in 199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s main aim is to get a deep understanding of poverty distribution and its change of national poor coun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ional poor coun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National Poverty Monitoring Survey (NPM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PMS uses a random, multi stage systematic sampling method. About 10 villages were selected from each poor county and 10 households were selected from each selected vill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5T03:45:07Z</dcterms:created>
  <dc:creator>xtf</dc:creator>
  <dc:description/>
  <dc:language>en-US</dc:language>
  <cp:lastModifiedBy>xtf</cp:lastModifiedBy>
  <dcterms:modified xsi:type="dcterms:W3CDTF">2004-11-05T05:50:28Z</dcterms:modified>
  <cp:revision>7</cp:revision>
  <dc:subject/>
  <dc:title>Poverty Monitoring in Rural China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60272716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3 11:30 room 1</vt:lpwstr>
  </property>
</Properties>
</file>