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15E-009E-47B3-B973-B90AE512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527-5A6F-4239-A55F-588F5605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5B8-D309-4A65-A136-97B2B68A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EA4-CDCF-4EDA-BE74-28414BEE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181-EAB1-4072-970C-C27A4F1A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666-F775-4C49-A430-346A361F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E1B-1CAA-41CE-A5C3-764708EB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7B8-7788-49F7-BAE3-AB9C0978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5FB-0BE2-4A86-83D5-82D589C4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4F1-207A-45D7-B1AE-BAC28C03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0F4-54BF-4C18-A28E-023A9398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19BF-149F-4899-842C-CF16BDA6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E5BB-F130-4079-A28C-988DEB3E6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omic Sans MS"/>
              </a:rPr>
              <a:t>Integrating Rural Household Surveys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0" y="480024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November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4648320"/>
            <a:ext cx="3581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Fred Vog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The World B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being done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Indicator Cluster Surve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CEF sponsored household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tuation of women an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ographic and Health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AID sponsored household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/nutrition of women &amp;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ing Standard Measurement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 Bank sponsored household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e and understand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being done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Indicator Cluster Surve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CEF sponsored household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tuation of women an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ographic and Health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AID sponsored household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/nutrition of women &amp;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ing Standard Measurement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 Bank sponsored household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e and understand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8560" y="5934240"/>
            <a:ext cx="763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095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Dauphin"/>
              </a:rPr>
              <a:t>Note these are Household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,What is the Problem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st Measures at Nationa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 at rur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available on periodic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only measure part of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ck of Statistical Capacity in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odic efforts by international agencies not adding to SUSTAINABLE statistical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Else is the Problem 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ricultural statistics focus on farms and p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ricultural statistics not integrated with other national and international statistical systems and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ource problems—national governments struggle to meet different statistical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About It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at major uses of statistics and connect them with MDG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ilitate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me, employment, health, education, equality, and sustain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hance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rastructure, health,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mote Efficient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od security vs marketing surplus/more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Else Do About It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 major users/donors of statistica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mini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lectively, jointly assess their needs/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ree on framework of co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?????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gnize that the core statistics needed by all can best be provided by a system of household surv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?  Because that is how the independent needs are now being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gnize the need to improve statistical capacity and put it on a sustainable fo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Get Started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ek to integrate core economic, social, demographic indicators in national statistical system with those to monitor progress toward meeting MDG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gnize do not need all data all of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gnize data requirements are 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gnize some things change faster than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gnize some things need mor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quency and Level of Geographic Detail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280" y="1295280"/>
          <a:ext cx="8991720" cy="4481640"/>
        </p:xfrm>
        <a:graphic>
          <a:graphicData uri="http://schemas.openxmlformats.org/drawingml/2006/table">
            <a:tbl>
              <a:tblPr/>
              <a:tblGrid>
                <a:gridCol w="1879560"/>
                <a:gridCol w="1471680"/>
                <a:gridCol w="1471680"/>
                <a:gridCol w="1389240"/>
                <a:gridCol w="1179360"/>
                <a:gridCol w="1600200"/>
              </a:tblGrid>
              <a:tr h="100872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N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te/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rovi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Coun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S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Referenc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enn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quenn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a necessary trade-of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tween frequency and level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ographic detail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 An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mi An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rte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 rowSpan="3"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ed to prioritize issues and economic variables by importance and determine frequency and detail for each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t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H="1" flipV="1">
            <a:off x="1523880" y="12949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914400"/>
            <a:ext cx="9144000" cy="152280"/>
            <a:chOff x="0" y="914400"/>
            <a:chExt cx="9144000" cy="152280"/>
          </a:xfrm>
        </p:grpSpPr>
        <p:sp>
          <p:nvSpPr>
            <p:cNvPr id="82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990360"/>
              <a:ext cx="9144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utting It Together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re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 annually because change rapi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for short term poli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le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less frequently, but need to understand how related to other economic, social, demographic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/purpose of paper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courage international and national statistical organizations to join forces in integrating their data requirements into a sustainable statistical syste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framework to integrate agricultural and rural statistics centered on the household as the unit of meas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del for Data Integration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93000" y="3151080"/>
            <a:ext cx="1805400" cy="9471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1447920"/>
            <a:ext cx="1981080" cy="19227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DG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ver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un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600200"/>
            <a:ext cx="2192400" cy="11912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DGs 4,5,&amp;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440" y="4454640"/>
            <a:ext cx="2225880" cy="22885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DG 7,&amp;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4343400"/>
            <a:ext cx="2361960" cy="23036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DG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ployment/</a:t>
            </a: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-                           </a:t>
            </a: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3352680"/>
            <a:ext cx="152640" cy="990720"/>
          </a:xfrm>
          <a:prstGeom prst="upDownArrow">
            <a:avLst>
              <a:gd name="adj1" fmla="val 50000"/>
              <a:gd name="adj2" fmla="val 12921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5562720"/>
            <a:ext cx="3581280" cy="228600"/>
          </a:xfrm>
          <a:prstGeom prst="leftRightArrow">
            <a:avLst>
              <a:gd name="adj1" fmla="val 50000"/>
              <a:gd name="adj2" fmla="val 311872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1828800"/>
            <a:ext cx="3657600" cy="228600"/>
          </a:xfrm>
          <a:prstGeom prst="leftRightArrow">
            <a:avLst>
              <a:gd name="adj1" fmla="val 50000"/>
              <a:gd name="adj2" fmla="val 31851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3809880"/>
            <a:ext cx="152640" cy="4572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914400" cy="609840"/>
          </a:xfrm>
          <a:prstGeom prst="line">
            <a:avLst/>
          </a:prstGeom>
          <a:ln w="572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4419720"/>
            <a:ext cx="1067040" cy="609480"/>
          </a:xfrm>
          <a:prstGeom prst="line">
            <a:avLst/>
          </a:prstGeom>
          <a:ln w="572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666880" y="4266720"/>
            <a:ext cx="990720" cy="685800"/>
          </a:xfrm>
          <a:prstGeom prst="line">
            <a:avLst/>
          </a:prstGeom>
          <a:ln w="572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81480" y="2285640"/>
            <a:ext cx="914400" cy="685800"/>
          </a:xfrm>
          <a:prstGeom prst="line">
            <a:avLst/>
          </a:prstGeom>
          <a:ln w="572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762120"/>
            <a:ext cx="9144000" cy="152280"/>
            <a:chOff x="0" y="762120"/>
            <a:chExt cx="9144000" cy="152280"/>
          </a:xfrm>
        </p:grpSpPr>
        <p:sp>
          <p:nvSpPr>
            <p:cNvPr id="102" name=""/>
            <p:cNvSpPr/>
            <p:nvPr/>
          </p:nvSpPr>
          <p:spPr>
            <a:xfrm>
              <a:off x="0" y="762120"/>
              <a:ext cx="914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del for Data Integration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9480" y="2971800"/>
            <a:ext cx="6313320" cy="18003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re and related Statistics—</a:t>
            </a:r>
            <a:r>
              <a:rPr b="1" lang="en-US" sz="2800" spc="-1" strike="noStrike">
                <a:solidFill>
                  <a:srgbClr val="996633"/>
                </a:solidFill>
                <a:latin typeface="Comic Sans MS"/>
              </a:rPr>
              <a:t>Household as Unit of measure provides analytical  Framework across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447920"/>
            <a:ext cx="1981440" cy="11912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DG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ver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u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00200"/>
            <a:ext cx="2192400" cy="11912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DGs 4,5,&amp;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5257800"/>
            <a:ext cx="2286000" cy="11912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DG 7,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5029200"/>
            <a:ext cx="2361960" cy="1747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DG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ducation employment</a:t>
            </a: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5638680"/>
            <a:ext cx="3581640" cy="228600"/>
          </a:xfrm>
          <a:prstGeom prst="leftRightArrow">
            <a:avLst>
              <a:gd name="adj1" fmla="val 50000"/>
              <a:gd name="adj2" fmla="val 311903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1828800"/>
            <a:ext cx="3657600" cy="228600"/>
          </a:xfrm>
          <a:prstGeom prst="leftRightArrow">
            <a:avLst>
              <a:gd name="adj1" fmla="val 50000"/>
              <a:gd name="adj2" fmla="val 31851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2362320"/>
            <a:ext cx="914400" cy="609480"/>
          </a:xfrm>
          <a:prstGeom prst="line">
            <a:avLst/>
          </a:prstGeom>
          <a:ln w="572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4876920"/>
            <a:ext cx="1067040" cy="609480"/>
          </a:xfrm>
          <a:prstGeom prst="line">
            <a:avLst/>
          </a:prstGeom>
          <a:ln w="572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90920" y="4952880"/>
            <a:ext cx="1066680" cy="533520"/>
          </a:xfrm>
          <a:prstGeom prst="line">
            <a:avLst/>
          </a:prstGeom>
          <a:ln w="572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7800" y="2286000"/>
            <a:ext cx="838080" cy="533520"/>
          </a:xfrm>
          <a:prstGeom prst="line">
            <a:avLst/>
          </a:prstGeom>
          <a:ln w="572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762120"/>
            <a:ext cx="9144000" cy="152280"/>
            <a:chOff x="0" y="762120"/>
            <a:chExt cx="9144000" cy="152280"/>
          </a:xfrm>
        </p:grpSpPr>
        <p:sp>
          <p:nvSpPr>
            <p:cNvPr id="118" name=""/>
            <p:cNvSpPr/>
            <p:nvPr/>
          </p:nvSpPr>
          <p:spPr>
            <a:xfrm>
              <a:off x="0" y="762120"/>
              <a:ext cx="914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Connect over Time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licated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nually Survey Core items plus one group of MDG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linkage between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nual statistical su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 statistical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 sustainability of statistical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553080" y="1752480"/>
            <a:ext cx="213372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Core e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Year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a detailed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495680"/>
            <a:ext cx="281952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Dauphi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MDG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Dauphi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MDG 2&amp;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Dauphi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MDG 4,5&amp;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Dauphi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MDG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this possible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s on the will of the international and national statistical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s on ability to agree and coop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s on national statistical system to want to build sustainable statistical capa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990720" y="885960"/>
            <a:ext cx="7400880" cy="1019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AC Norm Heavy"/>
              </a:rPr>
              <a:t>The World of Statistics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AC Norm Heavy"/>
              <a:ea typeface="CAC Norm Heavy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5867280"/>
            <a:ext cx="693432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Thanks for listening—questions ???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is this important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ed Nations Millennium Declaration of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itment to the eradication of poverty, to sustainable human development, to gender equality, right to development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opted by 147 heads of states and 189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Millennium Developmen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DG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are the MDGs 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adicate extreme poverty and hu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hieve Universal Primary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mote Gender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 Child Mort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Maternal H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bat HIV/Aids, other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sure Environmental Sus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 Global Partnership fo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should we be interes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MDG’s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 ??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514600"/>
            <a:ext cx="80769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Why should millennium goals be a concern at a conference on Agricultural and Rural Statistics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Realit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ee quarters of world’s poor live in rural areas of developing countries depending on agriculture for livelihood”  (report of UN Secretary-General 02/04/200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Issu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ctions needed to make progress towards meeting the goa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onitor the progr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etermine which actions made a differ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know when the goals are m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halleng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indicat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aluate the indicators via statistical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ablish sustainable statistical system to repeat measurements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has been done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goals—MDG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 targets--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lve the proportion of people whose income is less that one dollar a day (PP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lve prop suffering from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iminate gender disparity in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 +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14:23:11Z</dcterms:created>
  <dc:creator>mccuka</dc:creator>
  <dc:description/>
  <dc:language>en-US</dc:language>
  <cp:lastModifiedBy>decuser</cp:lastModifiedBy>
  <dcterms:modified xsi:type="dcterms:W3CDTF">2004-11-02T20:18:04Z</dcterms:modified>
  <cp:revision>68</cp:revision>
  <dc:subject/>
  <dc:title>Future Issues for Agricultural Statis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264321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3 11:30 room 1</vt:lpwstr>
  </property>
</Properties>
</file>