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58D2-CA23-4EEE-9627-727B1849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A653-EBAD-4EA8-89D1-17D363D4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7799-A12A-457E-8D4A-10C98C7D4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20A6-E912-461F-A7C5-B642C3D3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7030-758E-492F-84E2-F0125625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176B-77BB-4EA2-9DC4-D1B3AD9C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0A44-0D43-4838-AD8B-51097A1F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C88F-798A-46B3-B77B-030B3A5B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1773-2D5F-456F-8242-ED1EB75B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4AC9-CF36-4D7D-9DCB-A770E3D2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A0A6-14C3-4759-94B0-49DAC082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3B32-A7CC-4496-B246-5B87F7B6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807D-1609-40FE-861D-3B5E2D53E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Comic Sans MS"/>
              </a:rPr>
              <a:t>Integrating Rural Household Surveys</a:t>
            </a:r>
            <a:endParaRPr b="0" lang="en-US" sz="5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0" y="4800240"/>
            <a:ext cx="3581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November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4648320"/>
            <a:ext cx="35816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Fred Vog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omic Sans MS"/>
              </a:rPr>
              <a:t>The World Ba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being done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ple Indicator Cluster Survey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CEF sponsored household 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tuation of women and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mographic and Health Surv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AID sponsored household 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lth/nutrition of women &amp;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ving Standard Measurement Surv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ld Bank sponsored household 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asure and understand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being done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ple Indicator Cluster Survey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CEF sponsored household 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tuation of women and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mographic and Health Surv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AID sponsored household 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alth/nutrition of women &amp;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ving Standard Measurement Surv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ld Bank sponsored household 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asure and understand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98560" y="5934240"/>
            <a:ext cx="7635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60958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Dauphin"/>
              </a:rPr>
              <a:t>Note these are Household Surv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,What is the Problem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st Measures at National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 at rura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ta available on periodic b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ach only measure part of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ck of Statistical Capacity in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iodic efforts by international agencies not adding to SUSTAINABLE statistical ca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Else is the Problem 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ricultural statistics focus on farms and produ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ricultural statistics not integrated with other national and international statistical systems and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source problems—national governments struggle to meet different statistical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do About It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at major uses of statistics and connect them with MDG indic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ilitate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ome, employment, health, education, equality, and sustain the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hance Inves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rastructure, health,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mote Efficient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od security vs marketing surplus/more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Else Do About It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dentify major users/donors of statistica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national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tional minis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llectively, jointly assess their needs/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ree on framework of co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?????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ognize that the core statistics needed by all can best be provided by a system of household surve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y?  Because that is how the independent needs are now being m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ognize the need to improve statistical capacity and put it on a sustainable foo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Get Started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ek to integrate core economic, social, demographic indicators in national statistical system with those to monitor progress toward meeting MDG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ognize do not need all data all of the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ognize data requirements are re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ognize some things change faster than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ognize some things need more d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766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equency and Level of Geographic Detail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52280" y="1295280"/>
          <a:ext cx="8991720" cy="4481640"/>
        </p:xfrm>
        <a:graphic>
          <a:graphicData uri="http://schemas.openxmlformats.org/drawingml/2006/table">
            <a:tbl>
              <a:tblPr/>
              <a:tblGrid>
                <a:gridCol w="1879560"/>
                <a:gridCol w="1471680"/>
                <a:gridCol w="1471680"/>
                <a:gridCol w="1389240"/>
                <a:gridCol w="1179360"/>
                <a:gridCol w="1600200"/>
              </a:tblGrid>
              <a:tr h="100872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Frequ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Nat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Regi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ate/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Provi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Coun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IS </a:t>
                      </a: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Referenc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cenn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inquenn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ere is a necessary trade-of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tween frequency and level 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ographic detail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i An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mi An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arter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 rowSpan="3"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eed to prioritize issues and economic variables by importance and determine frequency and detail for each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th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flipH="1" flipV="1">
            <a:off x="1523880" y="12949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0" y="914400"/>
            <a:ext cx="9144000" cy="152280"/>
            <a:chOff x="0" y="914400"/>
            <a:chExt cx="9144000" cy="152280"/>
          </a:xfrm>
        </p:grpSpPr>
        <p:sp>
          <p:nvSpPr>
            <p:cNvPr id="82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990360"/>
              <a:ext cx="914400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1066680"/>
              <a:ext cx="914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utting It Together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re Stat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 annually because change rapi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ed for short term polic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pplem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ed less frequently, but need to understand how related to other economic, social, demographic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verview/purpose of paper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courage international and national statistical organizations to join forces in integrating their data requirements into a sustainable statistical system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 framework to integrate agricultural and rural statistics centered on the household as the unit of measur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odel for Data Integration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93000" y="3151080"/>
            <a:ext cx="1805400" cy="9471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1447920"/>
            <a:ext cx="1981080" cy="19227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DG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vert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ung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600200"/>
            <a:ext cx="2192400" cy="119124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DGs 4,5,&amp;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4440" y="4454640"/>
            <a:ext cx="2225880" cy="22885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DG 7,&amp;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48520" y="4343400"/>
            <a:ext cx="2361960" cy="230364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DG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mployment/</a:t>
            </a:r>
            <a:r>
              <a:rPr b="0" lang="en-US" sz="2400" spc="-1" strike="noStrike">
                <a:solidFill>
                  <a:srgbClr val="6633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33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3300"/>
                </a:solidFill>
                <a:latin typeface="Comic Sans MS"/>
              </a:rPr>
              <a:t>-                           </a:t>
            </a:r>
            <a:r>
              <a:rPr b="0" lang="en-US" sz="2400" spc="-1" strike="noStrike">
                <a:solidFill>
                  <a:srgbClr val="6633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3352680"/>
            <a:ext cx="152640" cy="990720"/>
          </a:xfrm>
          <a:prstGeom prst="upDownArrow">
            <a:avLst>
              <a:gd name="adj1" fmla="val 50000"/>
              <a:gd name="adj2" fmla="val 129210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5562720"/>
            <a:ext cx="3581280" cy="228600"/>
          </a:xfrm>
          <a:prstGeom prst="leftRightArrow">
            <a:avLst>
              <a:gd name="adj1" fmla="val 50000"/>
              <a:gd name="adj2" fmla="val 311872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1828800"/>
            <a:ext cx="3657600" cy="228600"/>
          </a:xfrm>
          <a:prstGeom prst="leftRightArrow">
            <a:avLst>
              <a:gd name="adj1" fmla="val 50000"/>
              <a:gd name="adj2" fmla="val 318519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467480" y="3809880"/>
            <a:ext cx="152640" cy="457200"/>
          </a:xfrm>
          <a:prstGeom prst="upDownArrow">
            <a:avLst>
              <a:gd name="adj1" fmla="val 50000"/>
              <a:gd name="adj2" fmla="val 59628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438280"/>
            <a:ext cx="914400" cy="609840"/>
          </a:xfrm>
          <a:prstGeom prst="line">
            <a:avLst/>
          </a:prstGeom>
          <a:ln w="572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4419720"/>
            <a:ext cx="1067040" cy="609480"/>
          </a:xfrm>
          <a:prstGeom prst="line">
            <a:avLst/>
          </a:prstGeom>
          <a:ln w="572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666880" y="4266720"/>
            <a:ext cx="990720" cy="685800"/>
          </a:xfrm>
          <a:prstGeom prst="line">
            <a:avLst/>
          </a:prstGeom>
          <a:ln w="5724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181480" y="2285640"/>
            <a:ext cx="914400" cy="685800"/>
          </a:xfrm>
          <a:prstGeom prst="line">
            <a:avLst/>
          </a:prstGeom>
          <a:ln w="5724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0" y="762120"/>
            <a:ext cx="9144000" cy="152280"/>
            <a:chOff x="0" y="762120"/>
            <a:chExt cx="9144000" cy="152280"/>
          </a:xfrm>
        </p:grpSpPr>
        <p:sp>
          <p:nvSpPr>
            <p:cNvPr id="102" name=""/>
            <p:cNvSpPr/>
            <p:nvPr/>
          </p:nvSpPr>
          <p:spPr>
            <a:xfrm>
              <a:off x="0" y="762120"/>
              <a:ext cx="914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838080"/>
              <a:ext cx="914400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odel for Data Integration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9480" y="2971800"/>
            <a:ext cx="6313320" cy="180036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ore and related Statistics—</a:t>
            </a:r>
            <a:r>
              <a:rPr b="1" lang="en-US" sz="2800" spc="-1" strike="noStrike">
                <a:solidFill>
                  <a:srgbClr val="996633"/>
                </a:solidFill>
                <a:latin typeface="Comic Sans MS"/>
              </a:rPr>
              <a:t>Household as Unit of measure provides analytical  Framework across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1447920"/>
            <a:ext cx="1981440" cy="119124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DG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vert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u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600200"/>
            <a:ext cx="2192400" cy="119124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DGs 4,5,&amp;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5257800"/>
            <a:ext cx="2286000" cy="119124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DG 7,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5029200"/>
            <a:ext cx="2361960" cy="174744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DG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ducation employment</a:t>
            </a:r>
            <a:r>
              <a:rPr b="0" lang="en-US" sz="2400" spc="-1" strike="noStrike">
                <a:solidFill>
                  <a:srgbClr val="663300"/>
                </a:solidFill>
                <a:latin typeface="Comic Sans MS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5638680"/>
            <a:ext cx="3581640" cy="228600"/>
          </a:xfrm>
          <a:prstGeom prst="leftRightArrow">
            <a:avLst>
              <a:gd name="adj1" fmla="val 50000"/>
              <a:gd name="adj2" fmla="val 311903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1828800"/>
            <a:ext cx="3657600" cy="228600"/>
          </a:xfrm>
          <a:prstGeom prst="leftRightArrow">
            <a:avLst>
              <a:gd name="adj1" fmla="val 50000"/>
              <a:gd name="adj2" fmla="val 318519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38280" y="2362320"/>
            <a:ext cx="914400" cy="609480"/>
          </a:xfrm>
          <a:prstGeom prst="line">
            <a:avLst/>
          </a:prstGeom>
          <a:ln w="572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81480" y="4876920"/>
            <a:ext cx="1067040" cy="609480"/>
          </a:xfrm>
          <a:prstGeom prst="line">
            <a:avLst/>
          </a:prstGeom>
          <a:ln w="57240">
            <a:solidFill>
              <a:srgbClr val="66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590920" y="4952880"/>
            <a:ext cx="1066680" cy="533520"/>
          </a:xfrm>
          <a:prstGeom prst="line">
            <a:avLst/>
          </a:prstGeom>
          <a:ln w="5724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257800" y="2286000"/>
            <a:ext cx="838080" cy="533520"/>
          </a:xfrm>
          <a:prstGeom prst="line">
            <a:avLst/>
          </a:prstGeom>
          <a:ln w="5724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0" y="762120"/>
            <a:ext cx="9144000" cy="152280"/>
            <a:chOff x="0" y="762120"/>
            <a:chExt cx="9144000" cy="152280"/>
          </a:xfrm>
        </p:grpSpPr>
        <p:sp>
          <p:nvSpPr>
            <p:cNvPr id="118" name=""/>
            <p:cNvSpPr/>
            <p:nvPr/>
          </p:nvSpPr>
          <p:spPr>
            <a:xfrm>
              <a:off x="0" y="762120"/>
              <a:ext cx="914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838080"/>
              <a:ext cx="9144000" cy="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Connect over Time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plicated S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nually Survey Core items plus one group of MDG indic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 linkage between indic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nual statistical surv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rove statistical ca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rove sustainability of statistical ca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6553080" y="1752480"/>
            <a:ext cx="2133720" cy="1371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auphin"/>
              </a:rPr>
              <a:t>Core e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auphin"/>
              </a:rPr>
              <a:t>Year 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auphin"/>
              </a:rPr>
              <a:t>a detailed 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495680"/>
            <a:ext cx="2819520" cy="2133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Dauphi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auphin"/>
              </a:rPr>
              <a:t>MDG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Dauphi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auphin"/>
              </a:rPr>
              <a:t>MDG 2&amp;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Dauphi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auphin"/>
              </a:rPr>
              <a:t>MDG 4,5&amp;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Dauphi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auphin"/>
              </a:rPr>
              <a:t>MDG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s this possible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pends on the will of the international and national statistical organ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pends on ability to agree and coope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pends on national statistical system to want to build sustainable statistical capa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990720" y="885960"/>
            <a:ext cx="7400880" cy="1019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AC Norm Heavy"/>
              </a:rPr>
              <a:t>The World of Statistics</a:t>
            </a:r>
            <a:endParaRPr b="0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AC Norm Heavy"/>
              <a:ea typeface="CAC Norm Heavy"/>
            </a:endParaRPr>
          </a:p>
        </p:txBody>
      </p:sp>
      <p:sp>
        <p:nvSpPr>
          <p:cNvPr id="131" name=""/>
          <p:cNvSpPr/>
          <p:nvPr/>
        </p:nvSpPr>
        <p:spPr>
          <a:xfrm>
            <a:off x="1295280" y="5867280"/>
            <a:ext cx="6934320" cy="609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auphi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Dauphin"/>
              </a:rPr>
              <a:t>Thanks for listening—questions ??????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is this important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ted Nations Millennium Declaration of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mitment to the eradication of poverty, to sustainable human development, to gender equality, right to development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opted by 147 heads of states and 189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 Millennium Development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DG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are the MDGs 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radicate extreme poverty and hu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hieve Universal Primary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mote Gender 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ce Child Mort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rove Maternal Heal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bat HIV/Aids, other dis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sure Environmental Sust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velop Global Partnership for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should we be interest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MDG’s</a:t>
            </a: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 ??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2514600"/>
            <a:ext cx="80769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Dauphin"/>
              </a:rPr>
              <a:t>Why should millennium goals be a concern at a conference on Agricultural and Rural Statistics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Realit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ree quarters of world’s poor live in rural areas of developing countries depending on agriculture for livelihood”  (report of UN Secretary-General 02/04/200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Issu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actions needed to make progress towards meeting the goa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monitor the progre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determine which actions made a differen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know when the goals are m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halleng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e th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termine the indicato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aluate the indicators via statistical measu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stablish sustainable statistical system to repeat measurements over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has been done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 goals—MDG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8 targets--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lve the proportion of people whose income is less that one dollar a day (PP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lve prop suffering from hu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iminate gender disparity in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 +indic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2T14:23:11Z</dcterms:created>
  <dc:creator>mccuka</dc:creator>
  <dc:description/>
  <dc:language>en-US</dc:language>
  <cp:lastModifiedBy>decuser</cp:lastModifiedBy>
  <dcterms:modified xsi:type="dcterms:W3CDTF">2004-11-02T20:18:04Z</dcterms:modified>
  <cp:revision>68</cp:revision>
  <dc:subject/>
  <dc:title>Future Issues for Agricultural Statist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3264321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Presentations day 3 11:30 room 1</vt:lpwstr>
  </property>
</Properties>
</file>