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7.wmf" ContentType="image/x-wmf"/>
  <Override PartName="/ppt/media/image6.jpeg" ContentType="image/jpeg"/>
  <Override PartName="/ppt/media/image10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9.jpeg" ContentType="image/jpeg"/>
  <Override PartName="/ppt/media/image23.wmf" ContentType="image/x-wmf"/>
  <Override PartName="/ppt/media/image27.wmf" ContentType="image/x-wmf"/>
  <Override PartName="/ppt/media/image16.jpeg" ContentType="image/jpeg"/>
  <Override PartName="/ppt/media/image25.wmf" ContentType="image/x-wmf"/>
  <Override PartName="/ppt/media/image17.jpeg" ContentType="image/jpeg"/>
  <Override PartName="/ppt/media/image24.wmf" ContentType="image/x-wmf"/>
  <Override PartName="/ppt/media/image22.wmf" ContentType="image/x-wmf"/>
  <Override PartName="/ppt/media/image20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26.wmf" ContentType="image/x-wmf"/>
  <Override PartName="/ppt/media/image1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13C-E14C-459F-A997-1E2223EC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AE4B-88DB-4C44-8CB1-90E98F23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2C6-655C-4B53-830C-B530A3E5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DB3-92DB-47D3-94B7-083E4966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E185-BB44-4C9A-853A-8C8357D65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7A6D-2366-43E8-8D58-B20B2F32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06C6-6A8A-49DC-84D0-AA1A8448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2AD-8E39-4543-ACAA-5ABCE8C8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67B-5005-443D-A819-221A30ED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F47-707F-462A-804D-0393797A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22B8-F5DC-4E6E-B11D-5DDF253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67E-3722-46F5-B5E0-CD2D75BF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1198-B1A9-40F9-8A13-CE16FD9E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44230-632F-4B71-A504-EF43DB45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0F34-09B9-4FA2-9622-54251C7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1622-FFF9-49F3-917E-D9BFA2F1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4932-652E-4987-9A0C-4C944B2E6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741B-5A5F-47D7-AD6D-CB1BB6F8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5F71-1C36-42F4-9063-40152FF0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276-971E-4535-806B-1A5E5096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6B4-7CE4-4381-8FC3-D6A0EA16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2198-7109-4CBC-A9A7-23769C4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9B1-C2A8-4E77-8A68-D06FF6C6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D5B9-785C-410B-ABDB-F0524DD8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ural_slide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44EB-F63B-449A-90B1-1930F00EBB73}" type="slidenum">
              <a:rPr b="0" lang="en-US" sz="1400" spc="-1" strike="noStrike">
                <a:solidFill>
                  <a:srgbClr val="ccff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bas00" descr=""/>
          <p:cNvPicPr/>
          <p:nvPr/>
        </p:nvPicPr>
        <p:blipFill>
          <a:blip r:embed="rId3"/>
          <a:stretch/>
        </p:blipFill>
        <p:spPr>
          <a:xfrm>
            <a:off x="228600" y="270000"/>
            <a:ext cx="1222200" cy="949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44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wb" descr=""/>
          <p:cNvPicPr/>
          <p:nvPr/>
        </p:nvPicPr>
        <p:blipFill>
          <a:blip r:embed="rId4"/>
          <a:stretch/>
        </p:blipFill>
        <p:spPr>
          <a:xfrm>
            <a:off x="830592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ural_title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9339-482E-4769-8DA6-B9BE5E717DF7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6002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114480" y="112680"/>
            <a:ext cx="1942920" cy="1563840"/>
          </a:xfrm>
          <a:prstGeom prst="rect">
            <a:avLst/>
          </a:prstGeom>
          <a:ln w="0">
            <a:noFill/>
          </a:ln>
        </p:spPr>
      </p:pic>
      <p:pic>
        <p:nvPicPr>
          <p:cNvPr id="51" name="Rural%20Sector%20Statistical%20_Information%20System_(RSSIS)" descr=""/>
          <p:cNvPicPr/>
          <p:nvPr/>
        </p:nvPicPr>
        <p:blipFill>
          <a:blip r:embed="rId4"/>
          <a:stretch/>
        </p:blipFill>
        <p:spPr>
          <a:xfrm>
            <a:off x="0" y="1727280"/>
            <a:ext cx="9144000" cy="2322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952520" y="4419360"/>
            <a:ext cx="396252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Romeo S. Recid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o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eau of Agricultural Statistic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artment of Agriculture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umber  of  indicators  by  module of  the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31960" y="1639800"/>
          <a:ext cx="7738920" cy="46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639800"/>
                    <a:ext cx="7738920" cy="4675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Number  of  indicators  by  module of  the  RSSIS (cont…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2280" y="1679400"/>
          <a:ext cx="7870680" cy="414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79400"/>
                    <a:ext cx="7870680" cy="4148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Training of BAS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 mandate focused on agricultur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SIS cuts across much wider range of concern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ining in the form of lecture series on RSSIS modules was conduct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BAS Technical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3" name="negros%20recon5" descr=""/>
          <p:cNvPicPr/>
          <p:nvPr/>
        </p:nvPicPr>
        <p:blipFill>
          <a:blip r:embed="rId1"/>
          <a:stretch/>
        </p:blipFill>
        <p:spPr>
          <a:xfrm>
            <a:off x="1670040" y="1486080"/>
            <a:ext cx="614196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BAS Technical staff on RSSIS Module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5" name="Pict0043" descr=""/>
          <p:cNvPicPr/>
          <p:nvPr/>
        </p:nvPicPr>
        <p:blipFill>
          <a:blip r:embed="rId1"/>
          <a:stretch/>
        </p:blipFill>
        <p:spPr>
          <a:xfrm>
            <a:off x="1773360" y="1569960"/>
            <a:ext cx="58752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Consultation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ed to data producers and use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te inputs and insights from stakeholder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l as well as external consult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al and informa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onsultations on the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9" name="Pict0049" descr=""/>
          <p:cNvPicPr/>
          <p:nvPr/>
        </p:nvPicPr>
        <p:blipFill>
          <a:blip r:embed="rId1"/>
          <a:stretch/>
        </p:blipFill>
        <p:spPr>
          <a:xfrm>
            <a:off x="1649520" y="1641600"/>
            <a:ext cx="570852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’t of computer-based indicator system management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6040" y="2908440"/>
            <a:ext cx="8077320" cy="1503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ed applications programs to manage databases and generate indica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ssues and Constraints in Pursuing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6040" y="1477800"/>
            <a:ext cx="8077320" cy="293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rural? 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fies urbanity conditions and takes rural as complement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e or rural?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 as almost synonymous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421200" indent="-421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nking with source agencies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-421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hieving cohesiveness in a decentralized statistical system</a:t>
            </a: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  <a:p>
            <a:pPr marL="421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82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Managing the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S to play central role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 on the AIS to include socio-economic, finance and infrastructure concer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n inter-agency Advisory Steering Committe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rganize an internal RSSIS Management Committee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0840" y="304920"/>
            <a:ext cx="732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utline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9280" y="2022120"/>
            <a:ext cx="869472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s and Processes in Develop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sues and Constraints in Pursu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ing the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ing the CL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ing the CL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SSIS provides national level indica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a devolved governance regime, a community level information system is need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lot development in four provinc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rong technical and social prepar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eveloping the CLSIS (cont. . .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6040" y="2109600"/>
            <a:ext cx="8077320" cy="19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SIS gathered, organized and analyzed household level demographic data, and a report on agricultural and fishery 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640" y="1720800"/>
            <a:ext cx="773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LGU staff on data collection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2" name="DCP_1789" descr=""/>
          <p:cNvPicPr/>
          <p:nvPr/>
        </p:nvPicPr>
        <p:blipFill>
          <a:blip r:embed="rId1"/>
          <a:stretch/>
        </p:blipFill>
        <p:spPr>
          <a:xfrm>
            <a:off x="1135080" y="1665360"/>
            <a:ext cx="68896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BAS field staff interviewing villager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4" name="barangay%20interview1" descr=""/>
          <p:cNvPicPr/>
          <p:nvPr/>
        </p:nvPicPr>
        <p:blipFill>
          <a:blip r:embed="rId1"/>
          <a:stretch/>
        </p:blipFill>
        <p:spPr>
          <a:xfrm>
            <a:off x="1709640" y="1476360"/>
            <a:ext cx="60231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GU staff interviewing villager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6" name="hh%20interview7" descr=""/>
          <p:cNvPicPr/>
          <p:nvPr/>
        </p:nvPicPr>
        <p:blipFill>
          <a:blip r:embed="rId1"/>
          <a:stretch/>
        </p:blipFill>
        <p:spPr>
          <a:xfrm>
            <a:off x="1650960" y="1649520"/>
            <a:ext cx="616104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88" name="DCP_3319" descr=""/>
          <p:cNvPicPr/>
          <p:nvPr/>
        </p:nvPicPr>
        <p:blipFill>
          <a:blip r:embed="rId1"/>
          <a:stretch/>
        </p:blipFill>
        <p:spPr>
          <a:xfrm>
            <a:off x="1515960" y="1611360"/>
            <a:ext cx="647064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0" name="DCP_3369" descr=""/>
          <p:cNvPicPr/>
          <p:nvPr/>
        </p:nvPicPr>
        <p:blipFill>
          <a:blip r:embed="rId1"/>
          <a:stretch/>
        </p:blipFill>
        <p:spPr>
          <a:xfrm>
            <a:off x="1168560" y="151128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n CLSIS Data Processing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2" name="DCP_3381" descr=""/>
          <p:cNvPicPr/>
          <p:nvPr/>
        </p:nvPicPr>
        <p:blipFill>
          <a:blip r:embed="rId1"/>
          <a:stretch/>
        </p:blipFill>
        <p:spPr>
          <a:xfrm>
            <a:off x="960480" y="1338120"/>
            <a:ext cx="72644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Training of LGU staff on Data Analy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94" name="dumaguete5" descr=""/>
          <p:cNvPicPr/>
          <p:nvPr/>
        </p:nvPicPr>
        <p:blipFill>
          <a:blip r:embed="rId1"/>
          <a:stretch/>
        </p:blipFill>
        <p:spPr>
          <a:xfrm>
            <a:off x="1828800" y="1500120"/>
            <a:ext cx="59641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Future Direction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6040" y="1477440"/>
            <a:ext cx="8077320" cy="449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king at indicator systems at two extreme levels: macro RSSIS and micro CLSIS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RS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CLSI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lementation between LGUs and national agenc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0840" y="304920"/>
            <a:ext cx="73245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Rural Sector Statistical Info. System (RSSIS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comprehensive, integrated, well-managed and sustainable statistical system for the rural secto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ded to aid government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 developing appropriate strategies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lementing policies and programs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  <a:p>
            <a:pPr lvl="1" marL="1031760" indent="-336600" algn="just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itoring the progress of poverty reduction in the rural areas.</a:t>
            </a:r>
            <a:endParaRPr b="1" lang="en-US" sz="2800" spc="-1" strike="noStrike">
              <a:solidFill>
                <a:srgbClr val="cc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652320" y="1417680"/>
          <a:ext cx="8105760" cy="49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1417680"/>
                    <a:ext cx="8105760" cy="4997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4960" y="1419120"/>
          <a:ext cx="7559640" cy="52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4960" y="1419120"/>
                    <a:ext cx="7559640" cy="528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17400" y="1386000"/>
          <a:ext cx="7720200" cy="53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86000"/>
                    <a:ext cx="7720200" cy="5359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08080" y="1566720"/>
          <a:ext cx="875016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566720"/>
                    <a:ext cx="8750160" cy="474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72960" y="1486080"/>
          <a:ext cx="8315280" cy="488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486080"/>
                    <a:ext cx="8315280" cy="48891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74840" y="1484280"/>
          <a:ext cx="811188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840" y="1484280"/>
                    <a:ext cx="8111880" cy="49878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63480" y="1346040"/>
          <a:ext cx="7899480" cy="537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3480" y="1346040"/>
                    <a:ext cx="7899480" cy="537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743040" y="1425600"/>
          <a:ext cx="7580160" cy="520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425600"/>
                    <a:ext cx="7580160" cy="5202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9400" y="324000"/>
            <a:ext cx="709776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List  of  indicators  by  area  of  concern, 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66760" y="1547640"/>
          <a:ext cx="8670960" cy="484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47640"/>
                    <a:ext cx="8670960" cy="484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65200" y="3108240"/>
            <a:ext cx="75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Muchas Gracia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Objectives of RSSI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ke available all the important and relevant statistical indicators that are required in monitoring rural welfare and the progress in poverty reduction in the country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nvisioned to be the Philippines’ version of the World Bank’s Rural Profil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304920"/>
            <a:ext cx="66294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Assessment of Data System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19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tiviti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 of  the  basic  mandates  of  major  statistical  agencies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 of  existing  data  that  normally  carry  rural – urban  disaggregation;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ussions with  major  data  producers  and  users  of  rural  statistics.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6280" y="1523880"/>
            <a:ext cx="794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first critical step towards developing the RS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8580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Revisiting the Agr’l Indicators System (AIS)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 Agricultural  Indicators  System (AIS)  would be subsystem of the  envisioned  RSSI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581280"/>
            <a:ext cx="480060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733920"/>
            <a:ext cx="236232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S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ra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495680"/>
            <a:ext cx="2514600" cy="1676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4952880"/>
            <a:ext cx="2286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icultural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429000"/>
            <a:ext cx="2362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ilippine Set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rocesses: 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9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ilt on the Agri.  Indicators  System (AIS) to avoid  possible duplication  of  statistical  outputs of  the  BA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igned  to  capture  the urban-rural sector  distinction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96720" indent="-39672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cut across economic, social and financial concer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9760" y="1558800"/>
            <a:ext cx="8570880" cy="4608720"/>
            <a:chOff x="239760" y="1558800"/>
            <a:chExt cx="8570880" cy="4608720"/>
          </a:xfrm>
        </p:grpSpPr>
        <p:sp>
          <p:nvSpPr>
            <p:cNvPr id="110" name=""/>
            <p:cNvSpPr/>
            <p:nvPr/>
          </p:nvSpPr>
          <p:spPr>
            <a:xfrm>
              <a:off x="3541680" y="15588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88920" y="17524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pula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mogra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8360" y="25560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terary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asic Educ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9760" y="33685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althy Lif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88920" y="51418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sonal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m.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8120" y="42480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utri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ood 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83200" y="1801800"/>
              <a:ext cx="213372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ublic Expendi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&amp; 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343560" y="25639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ll-be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680160" y="336708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loyment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ivelihoo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04040" y="41846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helter &amp;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ousing Amenit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79840" y="56293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62760" y="50846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99ff33"/>
                </a:gs>
                <a:gs pos="100000">
                  <a:srgbClr val="65a921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articipa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mpower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713040" y="2825640"/>
              <a:ext cx="1570320" cy="1968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ur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Pover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44640" y="349884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629200">
              <a:off x="2814120" y="423720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879200">
              <a:off x="3230640" y="4814640"/>
              <a:ext cx="622080" cy="29196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4249440" y="2297160"/>
              <a:ext cx="617400" cy="29340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400"/>
                <a:gd name="textAreaBottom" fmla="*/ 22032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76800">
              <a:off x="3270240" y="235080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270200">
              <a:off x="2906640" y="2860200"/>
              <a:ext cx="622440" cy="29232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2320"/>
                <a:gd name="textAreaBottom" fmla="*/ 2192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 rot="16200000">
              <a:off x="4270320" y="503928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720800">
              <a:off x="5267160" y="481788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970800">
              <a:off x="5556600" y="4220640"/>
              <a:ext cx="622800" cy="292320"/>
            </a:xfrm>
            <a:custGeom>
              <a:avLst/>
              <a:gdLst>
                <a:gd name="textAreaLeft" fmla="*/ 77760 w 622800"/>
                <a:gd name="textAreaRight" fmla="*/ 545040 w 622800"/>
                <a:gd name="textAreaTop" fmla="*/ 73080 h 292320"/>
                <a:gd name="textAreaBottom" fmla="*/ 2192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670720" y="3521160"/>
              <a:ext cx="622080" cy="29196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rot="20329800">
              <a:off x="5334120" y="2900160"/>
              <a:ext cx="622080" cy="291600"/>
            </a:xfrm>
            <a:custGeom>
              <a:avLst/>
              <a:gdLst>
                <a:gd name="textAreaLeft" fmla="*/ 77760 w 622080"/>
                <a:gd name="textAreaRight" fmla="*/ 544320 w 622080"/>
                <a:gd name="textAreaTop" fmla="*/ 72720 h 291600"/>
                <a:gd name="textAreaBottom" fmla="*/ 218880 h 29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 rot="20023200">
              <a:off x="5102640" y="2351160"/>
              <a:ext cx="622440" cy="291960"/>
            </a:xfrm>
            <a:custGeom>
              <a:avLst/>
              <a:gdLst>
                <a:gd name="textAreaLeft" fmla="*/ 77760 w 622440"/>
                <a:gd name="textAreaRight" fmla="*/ 544680 w 622440"/>
                <a:gd name="textAreaTop" fmla="*/ 73080 h 291960"/>
                <a:gd name="textAreaBottom" fmla="*/ 21924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858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Drafting the  RSSIS  Framework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39760" y="1558800"/>
            <a:ext cx="8570880" cy="4608720"/>
            <a:chOff x="239760" y="1558800"/>
            <a:chExt cx="8570880" cy="4608720"/>
          </a:xfrm>
        </p:grpSpPr>
        <p:sp>
          <p:nvSpPr>
            <p:cNvPr id="137" name=""/>
            <p:cNvSpPr/>
            <p:nvPr/>
          </p:nvSpPr>
          <p:spPr>
            <a:xfrm>
              <a:off x="3541680" y="155880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ructure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25400" y="2117880"/>
              <a:ext cx="2130480" cy="53784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rowth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erform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9760" y="34718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duction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ductiv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640" y="49291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ccess 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chnological 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02320" y="21067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ices &amp; 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80160" y="34495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ternal Tra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83240" y="487044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grarian Refor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79840" y="5629320"/>
              <a:ext cx="2130480" cy="538200"/>
            </a:xfrm>
            <a:prstGeom prst="rect">
              <a:avLst/>
            </a:prstGeom>
            <a:gradFill rotWithShape="0">
              <a:gsLst>
                <a:gs pos="0">
                  <a:srgbClr val="43a943"/>
                </a:gs>
                <a:gs pos="50000">
                  <a:srgbClr val="66ff66"/>
                </a:gs>
                <a:gs pos="100000">
                  <a:srgbClr val="43a943"/>
                </a:gs>
              </a:gsLst>
              <a:lin ang="10800000"/>
            </a:gra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nvestment &amp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49520" y="487980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20920" y="3041640"/>
              <a:ext cx="2764080" cy="13320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Agricultur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6600"/>
                  </a:solidFill>
                  <a:latin typeface="Tahoma"/>
                </a:rPr>
                <a:t>Secto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 rot="16200000">
              <a:off x="4388760" y="241452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520360" y="3589200"/>
              <a:ext cx="617400" cy="29376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999040" y="3510000"/>
              <a:ext cx="617760" cy="29376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 rot="13279800">
              <a:off x="2998080" y="2493000"/>
              <a:ext cx="617400" cy="293400"/>
            </a:xfrm>
            <a:custGeom>
              <a:avLst/>
              <a:gdLst>
                <a:gd name="textAreaLeft" fmla="*/ 77040 w 617400"/>
                <a:gd name="textAreaRight" fmla="*/ 540360 w 61740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 rot="8320200">
              <a:off x="5780520" y="249264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080 h 293400"/>
                <a:gd name="textAreaBottom" fmla="*/ 2199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8320200">
              <a:off x="3000240" y="4761000"/>
              <a:ext cx="617760" cy="29376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760"/>
                <a:gd name="textAreaBottom" fmla="*/ 220320 h 29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rot="13279800">
              <a:off x="5742360" y="4701600"/>
              <a:ext cx="617760" cy="293400"/>
            </a:xfrm>
            <a:custGeom>
              <a:avLst/>
              <a:gdLst>
                <a:gd name="textAreaLeft" fmla="*/ 77040 w 617760"/>
                <a:gd name="textAreaRight" fmla="*/ 540720 w 617760"/>
                <a:gd name="textAreaTop" fmla="*/ 73440 h 293400"/>
                <a:gd name="textAreaBottom" fmla="*/ 22032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9T00:57:25Z</dcterms:created>
  <dc:creator>Engr. Jing B. Jalisan</dc:creator>
  <dc:description/>
  <dc:language>en-US</dc:language>
  <cp:lastModifiedBy>rr</cp:lastModifiedBy>
  <dcterms:modified xsi:type="dcterms:W3CDTF">2004-11-03T05:41:50Z</dcterms:modified>
  <cp:revision>23</cp:revision>
  <dc:subject/>
  <dc:title>Rural Sector Statistical Information System (RSSI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0915210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1</vt:lpwstr>
  </property>
</Properties>
</file>