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11.png" ContentType="image/png"/>
  <Override PartName="/ppt/media/image7.wmf" ContentType="image/x-wmf"/>
  <Override PartName="/ppt/media/image6.jpeg" ContentType="image/jpeg"/>
  <Override PartName="/ppt/media/image10.png" ContentType="image/png"/>
  <Override PartName="/ppt/media/image5.gif" ContentType="image/gif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9.jpeg" ContentType="image/jpeg"/>
  <Override PartName="/ppt/media/image23.wmf" ContentType="image/x-wmf"/>
  <Override PartName="/ppt/media/image27.wmf" ContentType="image/x-wmf"/>
  <Override PartName="/ppt/media/image16.jpeg" ContentType="image/jpeg"/>
  <Override PartName="/ppt/media/image25.wmf" ContentType="image/x-wmf"/>
  <Override PartName="/ppt/media/image17.jpeg" ContentType="image/jpeg"/>
  <Override PartName="/ppt/media/image24.wmf" ContentType="image/x-wmf"/>
  <Override PartName="/ppt/media/image22.wmf" ContentType="image/x-wmf"/>
  <Override PartName="/ppt/media/image20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26.wmf" ContentType="image/x-wmf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140-D938-4EBB-A2B7-53DB1231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98A-0923-4AED-8A46-834CA7E2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72F5-4917-4559-BD3D-407D7386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B21-9C25-4237-A2DB-3D914FD2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45FC-F56E-46E6-BEC3-E63FD13B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5B82-26F1-45A8-ACB3-996D2598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52BE-BEAF-4913-8824-B6E38834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C71B-C3FD-42D1-BE6F-9E90444E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0309-028A-4662-90A2-A9C3F03B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DE49-F847-4031-A50C-E7F2B2F9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1A23-42B3-43E7-94F9-CC91D0F1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7CB-4D67-4531-8953-8FC308FE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C4CC-2ABA-4D13-ADA5-39811D71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22D4-6089-45E2-9CB3-7BCD18A5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A1DD-F8C5-4512-B85B-D23F9284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C31B-3608-455D-8096-40E942D6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ACFD-30C9-48FF-B5CB-95E15A3C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7D8-6A88-4EEA-BACD-AC44A1C2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08C-77C9-4435-B439-A53A4257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240-C46E-4748-AE54-2EB00601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E5F0-FE3B-4439-88F8-2DC7B9B1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E92-F1F4-4FE4-987C-B4DCF0E2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701A-C96E-439B-83BC-2171E3DA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986-5083-44FE-A988-BA7B3EE5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ural_slide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9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99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99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99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99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108F-DAF9-4C6E-9958-44C6C8B86E44}" type="slidenum">
              <a:rPr b="0" lang="en-US" sz="1400" spc="-1" strike="noStrike">
                <a:solidFill>
                  <a:srgbClr val="ccff99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bas00" descr=""/>
          <p:cNvPicPr/>
          <p:nvPr/>
        </p:nvPicPr>
        <p:blipFill>
          <a:blip r:embed="rId3"/>
          <a:stretch/>
        </p:blipFill>
        <p:spPr>
          <a:xfrm>
            <a:off x="228600" y="270000"/>
            <a:ext cx="1222200" cy="949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44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wb" descr=""/>
          <p:cNvPicPr/>
          <p:nvPr/>
        </p:nvPicPr>
        <p:blipFill>
          <a:blip r:embed="rId4"/>
          <a:stretch/>
        </p:blipFill>
        <p:spPr>
          <a:xfrm>
            <a:off x="8305920" y="61722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ural_title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360A-6D28-4888-AE61-944C6C3BEA2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6002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114480" y="112680"/>
            <a:ext cx="1942920" cy="1563840"/>
          </a:xfrm>
          <a:prstGeom prst="rect">
            <a:avLst/>
          </a:prstGeom>
          <a:ln w="0">
            <a:noFill/>
          </a:ln>
        </p:spPr>
      </p:pic>
      <p:pic>
        <p:nvPicPr>
          <p:cNvPr id="51" name="Rural%20Sector%20Statistical%20_Information%20System_(RSSIS)" descr=""/>
          <p:cNvPicPr/>
          <p:nvPr/>
        </p:nvPicPr>
        <p:blipFill>
          <a:blip r:embed="rId4"/>
          <a:stretch/>
        </p:blipFill>
        <p:spPr>
          <a:xfrm>
            <a:off x="0" y="1727280"/>
            <a:ext cx="9144000" cy="2322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cf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952520" y="4419360"/>
            <a:ext cx="3962520" cy="190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Romeo S. Recid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reau of Agricultural Statistic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ment of Agricultu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ilippin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Number  of  indicators  by  module of  the 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31960" y="1639800"/>
          <a:ext cx="7738920" cy="467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639800"/>
                    <a:ext cx="7738920" cy="4675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Number  of  indicators  by  module of  the  RSSIS (cont…)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92280" y="1679400"/>
          <a:ext cx="7870680" cy="414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79400"/>
                    <a:ext cx="7870680" cy="4148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rocesses: Training of BAS staff on RSSIS module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 mandate focused on agricul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SSIS cuts across much wider range of concern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ining in the form of lecture series on RSSIS modules was conduc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raining of BAS Technical staff on RSSIS Module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3" name="negros%20recon5" descr=""/>
          <p:cNvPicPr/>
          <p:nvPr/>
        </p:nvPicPr>
        <p:blipFill>
          <a:blip r:embed="rId1"/>
          <a:stretch/>
        </p:blipFill>
        <p:spPr>
          <a:xfrm>
            <a:off x="1670040" y="1486080"/>
            <a:ext cx="614196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raining of BAS Technical staff on RSSIS Module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5" name="Pict0043" descr=""/>
          <p:cNvPicPr/>
          <p:nvPr/>
        </p:nvPicPr>
        <p:blipFill>
          <a:blip r:embed="rId1"/>
          <a:stretch/>
        </p:blipFill>
        <p:spPr>
          <a:xfrm>
            <a:off x="1773360" y="1569960"/>
            <a:ext cx="58752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rocesses: Consultation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ed to data producers and user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te inputs and insights from stakeholders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nal as well as external consult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l and inform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onsultations on the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9" name="Pict0049" descr=""/>
          <p:cNvPicPr/>
          <p:nvPr/>
        </p:nvPicPr>
        <p:blipFill>
          <a:blip r:embed="rId1"/>
          <a:stretch/>
        </p:blipFill>
        <p:spPr>
          <a:xfrm>
            <a:off x="1649520" y="1641600"/>
            <a:ext cx="570852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ev’t of computer-based indicator system management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6040" y="2908440"/>
            <a:ext cx="8077320" cy="150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ed applications programs to manage databases and generate indicator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ssues and Constraints in Pursuing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6040" y="1477800"/>
            <a:ext cx="8077320" cy="293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421200" indent="-421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rural?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28720" indent="-421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ies urbanity conditions and takes rural as complement</a:t>
            </a:r>
            <a:endParaRPr b="1" lang="en-US" sz="2400" spc="-1" strike="noStrike">
              <a:solidFill>
                <a:srgbClr val="ccff99"/>
              </a:solidFill>
              <a:latin typeface="Arial"/>
            </a:endParaRPr>
          </a:p>
          <a:p>
            <a:pPr marL="42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21200" indent="-421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e or rural?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28720" indent="-421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n as almost synonymous</a:t>
            </a:r>
            <a:endParaRPr b="1" lang="en-US" sz="2400" spc="-1" strike="noStrike">
              <a:solidFill>
                <a:srgbClr val="ccff99"/>
              </a:solidFill>
              <a:latin typeface="Arial"/>
            </a:endParaRPr>
          </a:p>
          <a:p>
            <a:pPr marL="42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21200" indent="-421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king with source agencie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28720" indent="-421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hieving cohesiveness in a decentralized statistical system</a:t>
            </a:r>
            <a:endParaRPr b="1" lang="en-US" sz="2400" spc="-1" strike="noStrike">
              <a:solidFill>
                <a:srgbClr val="ccff99"/>
              </a:solidFill>
              <a:latin typeface="Arial"/>
            </a:endParaRPr>
          </a:p>
          <a:p>
            <a:pPr marL="42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28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Managing the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6040" y="1477440"/>
            <a:ext cx="8077320" cy="449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 to play central role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d on the AIS to include socio-economic, finance and infrastructure concern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n inter-agency Advisory Steering Committe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anize an internal RSSIS Management Committe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0840" y="304920"/>
            <a:ext cx="73245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Outline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9280" y="2022120"/>
            <a:ext cx="8694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s and Processes in Developing the RSS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sues and Constraints in Pursuing the RSS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aging the RSS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ing the CLS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ture Direc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eveloping the CL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6040" y="1477440"/>
            <a:ext cx="8077320" cy="449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SSIS provides national level indicator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 devolved governance regime, a community level information system is need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ot development in four provin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ong technical and social prepar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eveloping the CLSIS (cont. . .)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6040" y="2109600"/>
            <a:ext cx="8077320" cy="19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SIS gathered, organized and analyzed household level demographic data, and a report on agricultural and fishery activ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4640" y="1720800"/>
            <a:ext cx="773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raining of LGU staff on data collection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82" name="DCP_1789" descr=""/>
          <p:cNvPicPr/>
          <p:nvPr/>
        </p:nvPicPr>
        <p:blipFill>
          <a:blip r:embed="rId1"/>
          <a:stretch/>
        </p:blipFill>
        <p:spPr>
          <a:xfrm>
            <a:off x="1135080" y="1665360"/>
            <a:ext cx="68896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BAS field staff interviewing villager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84" name="barangay%20interview1" descr=""/>
          <p:cNvPicPr/>
          <p:nvPr/>
        </p:nvPicPr>
        <p:blipFill>
          <a:blip r:embed="rId1"/>
          <a:stretch/>
        </p:blipFill>
        <p:spPr>
          <a:xfrm>
            <a:off x="1709640" y="1476360"/>
            <a:ext cx="60231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GU staff interviewing villager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86" name="hh%20interview7" descr=""/>
          <p:cNvPicPr/>
          <p:nvPr/>
        </p:nvPicPr>
        <p:blipFill>
          <a:blip r:embed="rId1"/>
          <a:stretch/>
        </p:blipFill>
        <p:spPr>
          <a:xfrm>
            <a:off x="1650960" y="1649520"/>
            <a:ext cx="616104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raining on CLSIS Data Processing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88" name="DCP_3319" descr=""/>
          <p:cNvPicPr/>
          <p:nvPr/>
        </p:nvPicPr>
        <p:blipFill>
          <a:blip r:embed="rId1"/>
          <a:stretch/>
        </p:blipFill>
        <p:spPr>
          <a:xfrm>
            <a:off x="1515960" y="1611360"/>
            <a:ext cx="647064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raining on CLSIS Data Processing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90" name="DCP_3369" descr=""/>
          <p:cNvPicPr/>
          <p:nvPr/>
        </p:nvPicPr>
        <p:blipFill>
          <a:blip r:embed="rId1"/>
          <a:stretch/>
        </p:blipFill>
        <p:spPr>
          <a:xfrm>
            <a:off x="1168560" y="151128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raining on CLSIS Data Processing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92" name="DCP_3381" descr=""/>
          <p:cNvPicPr/>
          <p:nvPr/>
        </p:nvPicPr>
        <p:blipFill>
          <a:blip r:embed="rId1"/>
          <a:stretch/>
        </p:blipFill>
        <p:spPr>
          <a:xfrm>
            <a:off x="960480" y="1338120"/>
            <a:ext cx="726444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raining of LGU staff on Data Analy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94" name="dumaguete5" descr=""/>
          <p:cNvPicPr/>
          <p:nvPr/>
        </p:nvPicPr>
        <p:blipFill>
          <a:blip r:embed="rId1"/>
          <a:stretch/>
        </p:blipFill>
        <p:spPr>
          <a:xfrm>
            <a:off x="1828800" y="1500120"/>
            <a:ext cx="59641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Future Direction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6040" y="1477440"/>
            <a:ext cx="8077320" cy="449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oking at indicator systems at two extreme levels: macro RSSIS and micro CLSI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intenance of RSS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intenance of CLS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lementation between LGUs and national agenc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0840" y="304920"/>
            <a:ext cx="73245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Rural Sector Statistical Info. System (RSSIS)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mprehensive, integrated, well-managed and sustainable statistical system for the rural sec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ded to aid governmen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31760" indent="-336600" algn="just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developing appropriate strategies</a:t>
            </a:r>
            <a:endParaRPr b="1" lang="en-US" sz="2800" spc="-1" strike="noStrike">
              <a:solidFill>
                <a:srgbClr val="ccff99"/>
              </a:solidFill>
              <a:latin typeface="Arial"/>
            </a:endParaRPr>
          </a:p>
          <a:p>
            <a:pPr lvl="1" marL="1031760" indent="-336600" algn="just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lementing policies and programs</a:t>
            </a:r>
            <a:endParaRPr b="1" lang="en-US" sz="2800" spc="-1" strike="noStrike">
              <a:solidFill>
                <a:srgbClr val="ccff99"/>
              </a:solidFill>
              <a:latin typeface="Arial"/>
            </a:endParaRPr>
          </a:p>
          <a:p>
            <a:pPr lvl="1" marL="1031760" indent="-336600" algn="just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itoring the progress of poverty reduction in the rural areas.</a:t>
            </a:r>
            <a:endParaRPr b="1" lang="en-US" sz="2800" spc="-1" strike="noStrike">
              <a:solidFill>
                <a:srgbClr val="cc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9400" y="32400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ist  of  indicators  by  area  of  concern, 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52320" y="1417680"/>
          <a:ext cx="8105760" cy="49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17680"/>
                    <a:ext cx="8105760" cy="4997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9400" y="32400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ist  of  indicators  by  area  of  concern, 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4960" y="1419120"/>
          <a:ext cx="7559640" cy="52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4960" y="1419120"/>
                    <a:ext cx="7559640" cy="528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9400" y="32400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ist  of  indicators  by  area  of  concern, 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17400" y="1386000"/>
          <a:ext cx="7720200" cy="535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386000"/>
                    <a:ext cx="7720200" cy="5359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9400" y="32400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ist  of  indicators  by  area  of  concern, 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08080" y="1566720"/>
          <a:ext cx="8750160" cy="474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566720"/>
                    <a:ext cx="8750160" cy="4741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9400" y="32400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ist  of  indicators  by  area  of  concern, 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72960" y="1486080"/>
          <a:ext cx="8315280" cy="488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1486080"/>
                    <a:ext cx="8315280" cy="4889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9400" y="32400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ist  of  indicators  by  area  of  concern, 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74840" y="1484280"/>
          <a:ext cx="8111880" cy="49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840" y="1484280"/>
                    <a:ext cx="8111880" cy="4987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79400" y="32400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ist  of  indicators  by  area  of  concern, 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63480" y="1346040"/>
          <a:ext cx="7899480" cy="537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1346040"/>
                    <a:ext cx="7899480" cy="5370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9400" y="32400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ist  of  indicators  by  area  of  concern, 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43040" y="1425600"/>
          <a:ext cx="7580160" cy="520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425600"/>
                    <a:ext cx="7580160" cy="52023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9400" y="32400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ist  of  indicators  by  area  of  concern, 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66760" y="1547640"/>
          <a:ext cx="8670960" cy="484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547640"/>
                    <a:ext cx="8670960" cy="484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65200" y="3108240"/>
            <a:ext cx="75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Muchas Gracia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Objectives of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available all the important and relevant statistical indicators that are required in monitoring rural welfare and the progress in poverty reduction in the countr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visioned to be the Philippines’ version of the World Bank’s Rural Profil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629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rocesses: Assessment of Data System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1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tiv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 of  the  basic  mandates  of  major  statistical  agencies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 of  existing  data  that  normally  carry  rural – urban  disaggregation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sions with  major  data  producers  and  users  of  rural  statistics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6280" y="1523880"/>
            <a:ext cx="7940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e first critical step towards developing the RS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858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rocesses: Revisiting the Agr’l Indicators System (AIS)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 Agricultural  Indicators  System (AIS)  would be subsystem of the  envisioned  RSSIS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3581280"/>
            <a:ext cx="4800600" cy="2743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733920"/>
            <a:ext cx="236232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S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ral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4495680"/>
            <a:ext cx="2514600" cy="1676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4952880"/>
            <a:ext cx="228600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icultural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429000"/>
            <a:ext cx="2362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ilippine Sett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rocesses: Drafting the  RSSIS  Framework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ilt on the Agri.  Indicators  System (AIS) to avoid  possible duplication  of  statistical  outputs of  the  B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ed  to  capture  the urban-rural sector  distin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cut across economic, social and financial concer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rafting the  RSSIS  Framework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39760" y="1558800"/>
            <a:ext cx="8570880" cy="4608720"/>
            <a:chOff x="239760" y="1558800"/>
            <a:chExt cx="8570880" cy="4608720"/>
          </a:xfrm>
        </p:grpSpPr>
        <p:sp>
          <p:nvSpPr>
            <p:cNvPr id="110" name=""/>
            <p:cNvSpPr/>
            <p:nvPr/>
          </p:nvSpPr>
          <p:spPr>
            <a:xfrm>
              <a:off x="3541680" y="155880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88920" y="175248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pulation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mograph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8360" y="255600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erary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asic Educ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9760" y="336852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althy Li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88920" y="514188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ersonal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m. 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8120" y="424800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utrition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ood 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83200" y="1801800"/>
              <a:ext cx="213372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ublic Expendi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&amp; F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43560" y="256392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ll-be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80160" y="336708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mployment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veliho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4040" y="418464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helter &amp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ousing Amen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79840" y="562932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o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62760" y="508464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articipation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mpower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13040" y="2825640"/>
              <a:ext cx="1570320" cy="19684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Arial"/>
                </a:rPr>
                <a:t>Rur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Arial"/>
                </a:rPr>
                <a:t>Pover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4640" y="3498840"/>
              <a:ext cx="622440" cy="291960"/>
            </a:xfrm>
            <a:custGeom>
              <a:avLst/>
              <a:gdLst>
                <a:gd name="textAreaLeft" fmla="*/ 77760 w 622440"/>
                <a:gd name="textAreaRight" fmla="*/ 544680 w 622440"/>
                <a:gd name="textAreaTop" fmla="*/ 73080 h 291960"/>
                <a:gd name="textAreaBottom" fmla="*/ 21924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629200">
              <a:off x="2814120" y="4237200"/>
              <a:ext cx="622440" cy="291960"/>
            </a:xfrm>
            <a:custGeom>
              <a:avLst/>
              <a:gdLst>
                <a:gd name="textAreaLeft" fmla="*/ 77760 w 622440"/>
                <a:gd name="textAreaRight" fmla="*/ 544680 w 622440"/>
                <a:gd name="textAreaTop" fmla="*/ 73080 h 291960"/>
                <a:gd name="textAreaBottom" fmla="*/ 21924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9879200">
              <a:off x="3230640" y="4814640"/>
              <a:ext cx="622080" cy="291960"/>
            </a:xfrm>
            <a:custGeom>
              <a:avLst/>
              <a:gdLst>
                <a:gd name="textAreaLeft" fmla="*/ 77760 w 622080"/>
                <a:gd name="textAreaRight" fmla="*/ 544320 w 622080"/>
                <a:gd name="textAreaTop" fmla="*/ 73080 h 291960"/>
                <a:gd name="textAreaBottom" fmla="*/ 21924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4249440" y="2297160"/>
              <a:ext cx="617400" cy="293400"/>
            </a:xfrm>
            <a:custGeom>
              <a:avLst/>
              <a:gdLst>
                <a:gd name="textAreaLeft" fmla="*/ 77040 w 617400"/>
                <a:gd name="textAreaRight" fmla="*/ 540360 w 617400"/>
                <a:gd name="textAreaTop" fmla="*/ 73440 h 293400"/>
                <a:gd name="textAreaBottom" fmla="*/ 220320 h 2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576800">
              <a:off x="3270240" y="2350800"/>
              <a:ext cx="622440" cy="291960"/>
            </a:xfrm>
            <a:custGeom>
              <a:avLst/>
              <a:gdLst>
                <a:gd name="textAreaLeft" fmla="*/ 77760 w 622440"/>
                <a:gd name="textAreaRight" fmla="*/ 544680 w 622440"/>
                <a:gd name="textAreaTop" fmla="*/ 73080 h 291960"/>
                <a:gd name="textAreaBottom" fmla="*/ 21924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270200">
              <a:off x="2906640" y="2860200"/>
              <a:ext cx="622440" cy="292320"/>
            </a:xfrm>
            <a:custGeom>
              <a:avLst/>
              <a:gdLst>
                <a:gd name="textAreaLeft" fmla="*/ 77760 w 622440"/>
                <a:gd name="textAreaRight" fmla="*/ 544680 w 622440"/>
                <a:gd name="textAreaTop" fmla="*/ 73080 h 292320"/>
                <a:gd name="textAreaBottom" fmla="*/ 2192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 rot="16200000">
              <a:off x="4270320" y="5039280"/>
              <a:ext cx="617400" cy="293760"/>
            </a:xfrm>
            <a:custGeom>
              <a:avLst/>
              <a:gdLst>
                <a:gd name="textAreaLeft" fmla="*/ 77040 w 617400"/>
                <a:gd name="textAreaRight" fmla="*/ 540360 w 617400"/>
                <a:gd name="textAreaTop" fmla="*/ 73440 h 293760"/>
                <a:gd name="textAreaBottom" fmla="*/ 220320 h 2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rot="1720800">
              <a:off x="5267160" y="4817880"/>
              <a:ext cx="622440" cy="291960"/>
            </a:xfrm>
            <a:custGeom>
              <a:avLst/>
              <a:gdLst>
                <a:gd name="textAreaLeft" fmla="*/ 77760 w 622440"/>
                <a:gd name="textAreaRight" fmla="*/ 544680 w 622440"/>
                <a:gd name="textAreaTop" fmla="*/ 73080 h 291960"/>
                <a:gd name="textAreaBottom" fmla="*/ 21924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rot="970800">
              <a:off x="5556600" y="4220640"/>
              <a:ext cx="622800" cy="292320"/>
            </a:xfrm>
            <a:custGeom>
              <a:avLst/>
              <a:gdLst>
                <a:gd name="textAreaLeft" fmla="*/ 77760 w 622800"/>
                <a:gd name="textAreaRight" fmla="*/ 545040 w 622800"/>
                <a:gd name="textAreaTop" fmla="*/ 73080 h 292320"/>
                <a:gd name="textAreaBottom" fmla="*/ 2192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670720" y="3521160"/>
              <a:ext cx="622080" cy="291960"/>
            </a:xfrm>
            <a:custGeom>
              <a:avLst/>
              <a:gdLst>
                <a:gd name="textAreaLeft" fmla="*/ 77760 w 622080"/>
                <a:gd name="textAreaRight" fmla="*/ 544320 w 622080"/>
                <a:gd name="textAreaTop" fmla="*/ 73080 h 291960"/>
                <a:gd name="textAreaBottom" fmla="*/ 21924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rot="20329800">
              <a:off x="5334120" y="2900160"/>
              <a:ext cx="622080" cy="291600"/>
            </a:xfrm>
            <a:custGeom>
              <a:avLst/>
              <a:gdLst>
                <a:gd name="textAreaLeft" fmla="*/ 77760 w 622080"/>
                <a:gd name="textAreaRight" fmla="*/ 544320 w 622080"/>
                <a:gd name="textAreaTop" fmla="*/ 72720 h 291600"/>
                <a:gd name="textAreaBottom" fmla="*/ 218880 h 29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rot="20023200">
              <a:off x="5102640" y="2351160"/>
              <a:ext cx="622440" cy="291960"/>
            </a:xfrm>
            <a:custGeom>
              <a:avLst/>
              <a:gdLst>
                <a:gd name="textAreaLeft" fmla="*/ 77760 w 622440"/>
                <a:gd name="textAreaRight" fmla="*/ 544680 w 622440"/>
                <a:gd name="textAreaTop" fmla="*/ 73080 h 291960"/>
                <a:gd name="textAreaBottom" fmla="*/ 21924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rafting the  RSSIS  Framework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39760" y="1558800"/>
            <a:ext cx="8570880" cy="4608720"/>
            <a:chOff x="239760" y="1558800"/>
            <a:chExt cx="8570880" cy="4608720"/>
          </a:xfrm>
        </p:grpSpPr>
        <p:sp>
          <p:nvSpPr>
            <p:cNvPr id="137" name=""/>
            <p:cNvSpPr/>
            <p:nvPr/>
          </p:nvSpPr>
          <p:spPr>
            <a:xfrm>
              <a:off x="3541680" y="155880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43a943"/>
                </a:gs>
                <a:gs pos="50000">
                  <a:srgbClr val="66ff66"/>
                </a:gs>
                <a:gs pos="100000">
                  <a:srgbClr val="43a943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ructure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5400" y="2117880"/>
              <a:ext cx="2130480" cy="537840"/>
            </a:xfrm>
            <a:prstGeom prst="rect">
              <a:avLst/>
            </a:prstGeom>
            <a:gradFill rotWithShape="0">
              <a:gsLst>
                <a:gs pos="0">
                  <a:srgbClr val="43a943"/>
                </a:gs>
                <a:gs pos="50000">
                  <a:srgbClr val="66ff66"/>
                </a:gs>
                <a:gs pos="100000">
                  <a:srgbClr val="43a943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rowth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erform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9760" y="347184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43a943"/>
                </a:gs>
                <a:gs pos="50000">
                  <a:srgbClr val="66ff66"/>
                </a:gs>
                <a:gs pos="100000">
                  <a:srgbClr val="43a943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duction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ductiv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5640" y="492912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43a943"/>
                </a:gs>
                <a:gs pos="50000">
                  <a:srgbClr val="66ff66"/>
                </a:gs>
                <a:gs pos="100000">
                  <a:srgbClr val="43a943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ccess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chnological 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02320" y="210672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43a943"/>
                </a:gs>
                <a:gs pos="50000">
                  <a:srgbClr val="66ff66"/>
                </a:gs>
                <a:gs pos="100000">
                  <a:srgbClr val="43a943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ices &amp; Marke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form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80160" y="344952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43a943"/>
                </a:gs>
                <a:gs pos="50000">
                  <a:srgbClr val="66ff66"/>
                </a:gs>
                <a:gs pos="100000">
                  <a:srgbClr val="43a943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ternal Tr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83240" y="487044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43a943"/>
                </a:gs>
                <a:gs pos="50000">
                  <a:srgbClr val="66ff66"/>
                </a:gs>
                <a:gs pos="100000">
                  <a:srgbClr val="43a943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grarian Refo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79840" y="562932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43a943"/>
                </a:gs>
                <a:gs pos="50000">
                  <a:srgbClr val="66ff66"/>
                </a:gs>
                <a:gs pos="100000">
                  <a:srgbClr val="43a943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vestment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4349520" y="4879800"/>
              <a:ext cx="617400" cy="293760"/>
            </a:xfrm>
            <a:custGeom>
              <a:avLst/>
              <a:gdLst>
                <a:gd name="textAreaLeft" fmla="*/ 77040 w 617400"/>
                <a:gd name="textAreaRight" fmla="*/ 540360 w 617400"/>
                <a:gd name="textAreaTop" fmla="*/ 73440 h 293760"/>
                <a:gd name="textAreaBottom" fmla="*/ 220320 h 2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20920" y="3041640"/>
              <a:ext cx="2764080" cy="13320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ahoma"/>
                </a:rPr>
                <a:t>Agricultur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ahoma"/>
                </a:rPr>
                <a:t>Sect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 rot="16200000">
              <a:off x="4388760" y="2414520"/>
              <a:ext cx="617760" cy="293400"/>
            </a:xfrm>
            <a:custGeom>
              <a:avLst/>
              <a:gdLst>
                <a:gd name="textAreaLeft" fmla="*/ 77040 w 617760"/>
                <a:gd name="textAreaRight" fmla="*/ 540720 w 617760"/>
                <a:gd name="textAreaTop" fmla="*/ 73080 h 293400"/>
                <a:gd name="textAreaBottom" fmla="*/ 219960 h 2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520360" y="3589200"/>
              <a:ext cx="617400" cy="293760"/>
            </a:xfrm>
            <a:custGeom>
              <a:avLst/>
              <a:gdLst>
                <a:gd name="textAreaLeft" fmla="*/ 77040 w 617400"/>
                <a:gd name="textAreaRight" fmla="*/ 540360 w 617400"/>
                <a:gd name="textAreaTop" fmla="*/ 73440 h 293760"/>
                <a:gd name="textAreaBottom" fmla="*/ 220320 h 2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999040" y="3510000"/>
              <a:ext cx="617760" cy="293760"/>
            </a:xfrm>
            <a:custGeom>
              <a:avLst/>
              <a:gdLst>
                <a:gd name="textAreaLeft" fmla="*/ 77040 w 617760"/>
                <a:gd name="textAreaRight" fmla="*/ 540720 w 617760"/>
                <a:gd name="textAreaTop" fmla="*/ 73440 h 293760"/>
                <a:gd name="textAreaBottom" fmla="*/ 220320 h 2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 rot="13279800">
              <a:off x="2998080" y="2493000"/>
              <a:ext cx="617400" cy="293400"/>
            </a:xfrm>
            <a:custGeom>
              <a:avLst/>
              <a:gdLst>
                <a:gd name="textAreaLeft" fmla="*/ 77040 w 617400"/>
                <a:gd name="textAreaRight" fmla="*/ 540360 w 617400"/>
                <a:gd name="textAreaTop" fmla="*/ 73080 h 293400"/>
                <a:gd name="textAreaBottom" fmla="*/ 219960 h 2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 rot="8320200">
              <a:off x="5780520" y="2492640"/>
              <a:ext cx="617760" cy="293400"/>
            </a:xfrm>
            <a:custGeom>
              <a:avLst/>
              <a:gdLst>
                <a:gd name="textAreaLeft" fmla="*/ 77040 w 617760"/>
                <a:gd name="textAreaRight" fmla="*/ 540720 w 617760"/>
                <a:gd name="textAreaTop" fmla="*/ 73080 h 293400"/>
                <a:gd name="textAreaBottom" fmla="*/ 219960 h 2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8320200">
              <a:off x="3000240" y="4761000"/>
              <a:ext cx="617760" cy="293760"/>
            </a:xfrm>
            <a:custGeom>
              <a:avLst/>
              <a:gdLst>
                <a:gd name="textAreaLeft" fmla="*/ 77040 w 617760"/>
                <a:gd name="textAreaRight" fmla="*/ 540720 w 617760"/>
                <a:gd name="textAreaTop" fmla="*/ 73440 h 293760"/>
                <a:gd name="textAreaBottom" fmla="*/ 220320 h 2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rot="13279800">
              <a:off x="5742360" y="4701600"/>
              <a:ext cx="617760" cy="293400"/>
            </a:xfrm>
            <a:custGeom>
              <a:avLst/>
              <a:gdLst>
                <a:gd name="textAreaLeft" fmla="*/ 77040 w 617760"/>
                <a:gd name="textAreaRight" fmla="*/ 540720 w 617760"/>
                <a:gd name="textAreaTop" fmla="*/ 73440 h 293400"/>
                <a:gd name="textAreaBottom" fmla="*/ 220320 h 2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00:57:25Z</dcterms:created>
  <dc:creator>Engr. Jing B. Jalisan</dc:creator>
  <dc:description/>
  <dc:language>en-US</dc:language>
  <cp:lastModifiedBy>rr</cp:lastModifiedBy>
  <dcterms:modified xsi:type="dcterms:W3CDTF">2004-11-03T05:41:50Z</dcterms:modified>
  <cp:revision>23</cp:revision>
  <dc:subject/>
  <dc:title>Rural Sector Statistical Information System (RSSI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09152108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11:30 room 1</vt:lpwstr>
  </property>
</Properties>
</file>