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12B-0B3D-44F3-A20C-B5C431B2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1C35-D31D-4C5A-8D1B-077CC889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69D-B7FA-4DFB-A351-91DDD18A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2CE9-272B-4A91-B45F-666C4908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3367-A491-4DA3-9B16-5A71E48B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77F4-E00C-4352-84A4-99EE521E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9A4D-9FF0-47D3-9AC2-10E42FA2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79AA-2286-4109-B95C-FB79F2FA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35FD-CA40-4CE3-99CB-D3DCFE2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2046-8D56-432B-9DE1-59A77620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2F65-C7FB-4603-998B-98C7677C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A3C-CACC-479C-832C-0A753BDE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9FDE-3892-462A-8EDA-64836E314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SIZE REQUIREMENTS FOR STRATIFIED RANDOM SAMPLING OF AGRICULTURAL RUN OFF POLLUTANTS IN  POND WATER WITH COST CONSIDERATIONS US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YESIAN METHODOLOG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A. Bartolucc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Biostatistics, University of Alabama at Birmingham, Birmingham, Alabama  35294-0022  US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. Bae and K.P. Sing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Biostatistics, School of Public Health, University of  North Texas Health Science Center at Forth Worth, Forth Worth, Texas  76107-2699 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63144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um n:   Using Prespecified Fix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-3267000" y="2811600"/>
          <a:ext cx="103824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67000" y="2811600"/>
                    <a:ext cx="1038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04920" y="2557440"/>
            <a:ext cx="830556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cost per population unit in the hth stratum and c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fixed overhea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optimum n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590920" y="1143000"/>
          <a:ext cx="41148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1143000"/>
                    <a:ext cx="41148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14600" y="4648320"/>
          <a:ext cx="441972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648320"/>
                    <a:ext cx="441972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693000"/>
            <a:ext cx="830592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s above,  the optimum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 stratum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-4035600" y="2174760"/>
            <a:ext cx="26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-4035600" y="2174760"/>
          <a:ext cx="2743200" cy="7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035600" y="2174760"/>
                    <a:ext cx="2743200" cy="7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-4035600" y="2968560"/>
          <a:ext cx="2625840" cy="768240"/>
        </p:xfrm>
        <a:graphic>
          <a:graphicData uri="http://schemas.openxmlformats.org/drawingml/2006/table">
            <a:tbl>
              <a:tblPr/>
              <a:tblGrid>
                <a:gridCol w="262584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380880" y="365760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ur examples will reflect both conditions of prespecified margin of error and prespecified fixed c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133720" y="1523880"/>
          <a:ext cx="426708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1523880"/>
                    <a:ext cx="42670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21400"/>
            <a:ext cx="8534520" cy="45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lation Among the Depth St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 average correlation among the depth strata, i.e. average of all possible pairwise correl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= number of strata.  ns=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the number to be sampled in each of the L strata or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stratum size.  Thu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838080" y="4648320"/>
          <a:ext cx="685800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648320"/>
                    <a:ext cx="685800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142200"/>
            <a:ext cx="8458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yesian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rivation of the posterior variance using the Bayesian approach to the solution of the Behren’s Fisher problem for inference on mean (μ) and variance (σ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of the normal distribution when both paramters ar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lihood function for n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219320" y="3352680"/>
          <a:ext cx="71150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71150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28600" y="4968720"/>
            <a:ext cx="868680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υ=n-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m=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......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, υ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.....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x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m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100" spc="-1" strike="noStrike" baseline="-25000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762120" y="3886200"/>
          <a:ext cx="716256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886200"/>
                    <a:ext cx="716256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362320" y="2133720"/>
          <a:ext cx="447660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133720"/>
                    <a:ext cx="447660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04800" y="4719600"/>
          <a:ext cx="2324160" cy="53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800" y="4719600"/>
                    <a:ext cx="2324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609480" y="152280"/>
            <a:ext cx="7934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the t-dens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φ(x;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=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[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/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ta(υ/2,1/2)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1+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x/s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(υ+1)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4800" y="3803760"/>
            <a:ext cx="50706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or for the mean, μ, 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4800" y="5741280"/>
            <a:ext cx="320364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or υ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WP MathExtendedA"/>
                <a:ea typeface="WP MathExtendedA"/>
              </a:rPr>
              <a:t></a:t>
            </a:r>
            <a:r>
              <a:rPr b="1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914400" y="2819520"/>
          <a:ext cx="7543800" cy="747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819520"/>
                    <a:ext cx="754380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133720" y="1752480"/>
          <a:ext cx="304776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1752480"/>
                    <a:ext cx="304776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133720" y="4572000"/>
          <a:ext cx="38098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4572000"/>
                    <a:ext cx="38098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 flipH="1">
            <a:off x="380160" y="204120"/>
            <a:ext cx="4953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i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/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2438280"/>
          <a:ext cx="27720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438280"/>
                    <a:ext cx="27720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457200" y="2105640"/>
            <a:ext cx="8229600" cy="408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t  B=υ+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sterior variance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(υ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τ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/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substitute ε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above computations of n and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28600" y="33480"/>
            <a:ext cx="86868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the average phosphorous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μg/100ml) in Pond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osphorous concentration of a 100-ml aliquot from each 1-Liter  sample will be meas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=total number of 100-ml water samples in the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number of aliquots in stratum 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five strata of depth levels, h=1,2,....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720000"/>
            <a:ext cx="746748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ata for stratified random sampling to estim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 per strata (PMO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lassical Approach (υ =1, τ =0, g =1)  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= 0.0140, Cost=74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For cost per strata please see next sl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33520" y="2438280"/>
          <a:ext cx="7467480" cy="3200040"/>
        </p:xfrm>
        <a:graphic>
          <a:graphicData uri="http://schemas.openxmlformats.org/drawingml/2006/table">
            <a:tbl>
              <a:tblPr/>
              <a:tblGrid>
                <a:gridCol w="977760"/>
                <a:gridCol w="1116000"/>
                <a:gridCol w="1187640"/>
                <a:gridCol w="1395360"/>
                <a:gridCol w="1536480"/>
                <a:gridCol w="1254240"/>
              </a:tblGrid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6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M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3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2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3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9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68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3682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0" y="461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57200" y="9280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unit cost to sample each depth level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4920" y="3048120"/>
          <a:ext cx="8458200" cy="1038240"/>
        </p:xfrm>
        <a:graphic>
          <a:graphicData uri="http://schemas.openxmlformats.org/drawingml/2006/table">
            <a:tbl>
              <a:tblPr/>
              <a:tblGrid>
                <a:gridCol w="1585800"/>
                <a:gridCol w="1233360"/>
                <a:gridCol w="1411560"/>
                <a:gridCol w="1407960"/>
                <a:gridCol w="1411200"/>
                <a:gridCol w="140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(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609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228600" y="46908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ssumption being that the cost is higher at greater dep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90720" y="1006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2.  Bayesian Results (PMO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8600" y="1905120"/>
          <a:ext cx="8610480" cy="4657680"/>
        </p:xfrm>
        <a:graphic>
          <a:graphicData uri="http://schemas.openxmlformats.org/drawingml/2006/table">
            <a:tbl>
              <a:tblPr/>
              <a:tblGrid>
                <a:gridCol w="1143000"/>
                <a:gridCol w="771480"/>
                <a:gridCol w="954000"/>
                <a:gridCol w="954360"/>
                <a:gridCol w="957240"/>
                <a:gridCol w="955440"/>
                <a:gridCol w="955800"/>
                <a:gridCol w="954000"/>
                <a:gridCol w="9651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412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υ,τ,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m</a:t>
                      </a:r>
                      <a:r>
                        <a:rPr b="1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1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2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,1,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35,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,35,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587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016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20304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-60120"/>
            <a:ext cx="8610480" cy="65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ING A BAYESIAN APPROACH WE WISH TO DETERMINE THE OPTIMUM SAMPLE SIZE , n,  AND SAMPLE SIZE,  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, FOR SAMPLING  WITHIN STRATUM, h, WHERE h=1,2,......L  AND n=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........+n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ATA ARE BASICALLY DEPTH LEVELS IN A POND.  SAMPLING IS TO DETERMINE THE AMOUNT OF POLLUTION IN THE POND .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8600" y="320400"/>
            <a:ext cx="871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3.  Pre specified fixed cost (Bayesi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s in bottom r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380880" y="2286000"/>
          <a:ext cx="8076960" cy="2819520"/>
        </p:xfrm>
        <a:graphic>
          <a:graphicData uri="http://schemas.openxmlformats.org/drawingml/2006/table">
            <a:tbl>
              <a:tblPr/>
              <a:tblGrid>
                <a:gridCol w="807840"/>
                <a:gridCol w="816480"/>
                <a:gridCol w="794520"/>
                <a:gridCol w="939600"/>
                <a:gridCol w="675000"/>
                <a:gridCol w="808200"/>
                <a:gridCol w="808200"/>
                <a:gridCol w="807480"/>
                <a:gridCol w="808200"/>
                <a:gridCol w="81144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-c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99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200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668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168120"/>
                          <a:tab algn="l" pos="399960"/>
                          <a:tab algn="l" pos="857160"/>
                          <a:tab algn="l" pos="1314360"/>
                          <a:tab algn="l" pos="1771560"/>
                          <a:tab algn="l" pos="2228760"/>
                          <a:tab algn="l" pos="2685960"/>
                          <a:tab algn="l" pos="3143160"/>
                          <a:tab algn="l" pos="3600360"/>
                          <a:tab algn="l" pos="4057560"/>
                          <a:tab algn="l" pos="4514760"/>
                          <a:tab algn="l" pos="4971960"/>
                          <a:tab algn="l" pos="5429160"/>
                          <a:tab algn="l" pos="588636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0" y="40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7520"/>
            <a:ext cx="762012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ble 4.   Example Using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Correlation Structure,  ρ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752480"/>
          <a:ext cx="7772400" cy="3557880"/>
        </p:xfrm>
        <a:graphic>
          <a:graphicData uri="http://schemas.openxmlformats.org/drawingml/2006/table">
            <a:tbl>
              <a:tblPr/>
              <a:tblGrid>
                <a:gridCol w="2170080"/>
                <a:gridCol w="1401840"/>
                <a:gridCol w="1400040"/>
                <a:gridCol w="1400400"/>
                <a:gridCol w="14000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or (υ,τ,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ic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35,1,0.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0,1,0.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40,35,.2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ρ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   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5     45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 1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 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    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6  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    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   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    1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     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    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   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     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9     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     1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    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    17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     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    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    2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    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   1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ctr" pos="523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     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    23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   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    126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0" y="478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833480" y="409680"/>
          <a:ext cx="5478480" cy="604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409680"/>
                    <a:ext cx="5478480" cy="60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833480" y="527040"/>
          <a:ext cx="547848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27040"/>
                    <a:ext cx="547848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833480" y="625320"/>
          <a:ext cx="5478480" cy="560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625320"/>
                    <a:ext cx="5478480" cy="560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-471600"/>
            <a:ext cx="8991720" cy="87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4040" rIns="914040" tIns="914040" bIns="914040" anchor="ctr">
            <a:spAutoFit/>
          </a:bodyPr>
          <a:p>
            <a:pPr>
              <a:tabLst>
                <a:tab algn="l" pos="0"/>
                <a:tab algn="l" pos="10312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d to the classical sampling analysis for the pre specified margin of error approach as well   as the correlational approach, the Bayesian analysis resulted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Reduction in required number of samples thus    lowering the cost , especially when realistic (empirical) prior hyperparameters are uti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No serious adverse impact on standard error of the estimates of the mean concen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1139760"/>
            <a:ext cx="8610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There were no real differences between classical  and  Bayesian approaches in the pre specified fixed cos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 Given current computational tools the Bayesian calculations proved to be fairly straight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Given the current availability of databases, future Bayesian approaches to environmental sampling should be given serious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e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7696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 Specified Margin of Error (PMO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 Specified Fixed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lation Structure Among the Str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-239760" y="2435400"/>
          <a:ext cx="1905120" cy="114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9760" y="2435400"/>
                    <a:ext cx="1905120" cy="114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-239760" y="4917960"/>
          <a:ext cx="619200" cy="6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39760" y="4917960"/>
                    <a:ext cx="6192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0880" y="839880"/>
            <a:ext cx="84582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ADITIONAL SET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=Total number of population units in the target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or  L  strata,  h=1,........L 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791240"/>
            <a:ext cx="754380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 total number of sampling units in the target sa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 =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+......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=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98840" y="35805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3048120"/>
            <a:ext cx="5105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352680" y="3352680"/>
                <a:ext cx="15750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505320" y="556272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47760" y="2602080"/>
          <a:ext cx="44766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7760" y="2602080"/>
                    <a:ext cx="44766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247760" y="4656240"/>
          <a:ext cx="24955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47760" y="4656240"/>
                    <a:ext cx="24955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3520" y="29520"/>
            <a:ext cx="7924680" cy="25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eight of stratum h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/ 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an, μ, of the population of n uni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622320"/>
            <a:ext cx="484848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by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7120" y="5410800"/>
            <a:ext cx="6316560" cy="5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x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ith observation in stratum 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2133720"/>
          <a:ext cx="54864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133720"/>
                    <a:ext cx="54864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 flipV="1">
            <a:off x="0" y="1080"/>
            <a:ext cx="9144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267080" y="3429000"/>
          <a:ext cx="243864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3429000"/>
                    <a:ext cx="24386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52480" y="647640"/>
            <a:ext cx="49993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unbiased estimator of μ i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95480" y="2286000"/>
          <a:ext cx="20383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286000"/>
                    <a:ext cx="20383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760400" y="3551760"/>
            <a:ext cx="5623200" cy="11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et 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/ N = n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/ n in all strata, t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2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24080" y="1676520"/>
          <a:ext cx="1981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676520"/>
                    <a:ext cx="1981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048040" y="4648320"/>
          <a:ext cx="4592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48040" y="4648320"/>
                    <a:ext cx="45925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-74520" y="1633680"/>
          <a:ext cx="2200320" cy="97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4520" y="1633680"/>
                    <a:ext cx="220032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-74520" y="4405320"/>
          <a:ext cx="183816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74520" y="4405320"/>
                    <a:ext cx="183816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947160"/>
            <a:ext cx="43434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r(m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2452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 the stratum vari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, b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4544640"/>
            <a:ext cx="62708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03124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1241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 can be shown that for large 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276720" y="1219320"/>
          <a:ext cx="2514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1219320"/>
                    <a:ext cx="25146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514600" y="3429000"/>
          <a:ext cx="3733920" cy="990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14600" y="3429000"/>
                    <a:ext cx="37339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32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743200" y="5257800"/>
          <a:ext cx="3200400" cy="1219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5257800"/>
                    <a:ext cx="32004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280" y="14760"/>
            <a:ext cx="876312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ptimum n: Using Prespecified Margin of E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MO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Let d= pre specified margin of error, i.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=|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μ|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at can be tolerated and a small probability, α,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f exceeding that error.  i.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( |m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-μ|</a:t>
            </a:r>
            <a:r>
              <a:rPr b="1" lang="en-US" sz="3000" spc="-1" strike="noStrike">
                <a:solidFill>
                  <a:srgbClr val="000000"/>
                </a:solidFill>
                <a:latin typeface="WP MathA"/>
                <a:ea typeface="WP MathA"/>
              </a:rPr>
              <a:t>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) = 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 by Cochran an optimum n 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2209680" y="380880"/>
          <a:ext cx="3857760" cy="16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80880"/>
                    <a:ext cx="385776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33720" y="3048120"/>
          <a:ext cx="3867120" cy="16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048120"/>
                    <a:ext cx="38671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22240" y="6364440"/>
          <a:ext cx="3162240" cy="80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2240" y="6364440"/>
                    <a:ext cx="31622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822240" y="-1856880"/>
            <a:ext cx="2743200" cy="22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040" y="2136600"/>
            <a:ext cx="429552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N</a:t>
            </a:r>
            <a:r>
              <a:rPr b="1" lang="en-US" sz="2800" spc="-1" strike="noStrike">
                <a:solidFill>
                  <a:srgbClr val="000000"/>
                </a:solidFill>
                <a:latin typeface="WP MathA"/>
                <a:ea typeface="WP MathA"/>
              </a:rPr>
              <a:t>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3695400"/>
            <a:ext cx="58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us the optimal n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for each h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4040" y="7044480"/>
            <a:ext cx="749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 our example we let d=0.2 and α =0.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41560" y="304920"/>
          <a:ext cx="5138640" cy="1676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41560" y="304920"/>
                    <a:ext cx="51386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95480" y="2743200"/>
          <a:ext cx="304812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5480" y="2743200"/>
                    <a:ext cx="3048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895480" y="4648320"/>
          <a:ext cx="297180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5480" y="4648320"/>
                    <a:ext cx="29718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flipV="1" rot="10800000">
            <a:off x="833400" y="5649120"/>
            <a:ext cx="732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our example we let d=0.2 and α =0.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4:28:24Z</dcterms:created>
  <dc:creator>ABartolucci</dc:creator>
  <dc:description/>
  <dc:language>en-US</dc:language>
  <cp:lastModifiedBy>CoviRo</cp:lastModifiedBy>
  <dcterms:modified xsi:type="dcterms:W3CDTF">2005-03-02T18:10:02Z</dcterms:modified>
  <cp:revision>32</cp:revision>
  <dc:subject/>
  <dc:title>Slide 1</dc:title>
</cp:coreProperties>
</file>