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E7C-44A9-450F-8A98-282F76E6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0C3-FE5B-4D49-93C7-AED85E7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77C-667F-4E5A-A675-16BE995E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97A-FF0B-4EC3-A905-53282D36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71D-3C00-406B-8C67-C56FAD9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FE7-7EF9-4C92-A402-C2D0EBD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228-2D1E-4150-9D3E-EEAEC1A4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BE0-E741-46AA-B7C4-CD0F124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62D-0B47-4182-8550-797BE9B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B9E-4D30-4E04-99EE-8E88F7E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2BB-32E5-4FDE-911B-210DF6A8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316-F3E0-4841-B673-1FA3B52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DF1B-FE17-4A6B-A868-77E9070D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 REQUIREMENTS FOR STRATIFIED RANDOM SAMPLING OF AGRICULTURAL RUN OFF POLLUTANTS IN  POND WATER WITH COST CONSIDERATIONS US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AYESIAN METHODOLOG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A. Bartolucc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Biostatistics, University of Alabama at Birmingham, Birmingham, Alabama  35294-0022  U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 Bae and K.P. Sing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Biostatistics, School of Public Health, University of  North Texas Health Science Center at Forth Worth, Forth Worth, Texas  76107-2699 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63144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um n:   Using Prespecified Fix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3267000" y="2811600"/>
          <a:ext cx="10382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67000" y="2811600"/>
                    <a:ext cx="1038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04920" y="2557440"/>
            <a:ext cx="830556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cost per population unit in the hth stratum and 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ixed overhead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optimum 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90920" y="1143000"/>
          <a:ext cx="41148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143000"/>
                    <a:ext cx="4114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14600" y="4648320"/>
          <a:ext cx="44197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648320"/>
                    <a:ext cx="44197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693000"/>
            <a:ext cx="8305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above,  the optimum 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 stratum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4035600" y="2174760"/>
            <a:ext cx="262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4035600" y="2174760"/>
          <a:ext cx="27432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035600" y="2174760"/>
                    <a:ext cx="2743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-4035600" y="2968560"/>
          <a:ext cx="2625840" cy="768240"/>
        </p:xfrm>
        <a:graphic>
          <a:graphicData uri="http://schemas.openxmlformats.org/drawingml/2006/table">
            <a:tbl>
              <a:tblPr/>
              <a:tblGrid>
                <a:gridCol w="262584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3657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ur examples will reflect both conditions of prespecified margin of error and prespecified fixed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33720" y="1523880"/>
          <a:ext cx="426708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523880"/>
                    <a:ext cx="4267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1400"/>
            <a:ext cx="85345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Among the Depth St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he average correlation among the depth strata, i.e. average of all possible pairwise correl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number of strata.  ns=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he number to be sampled in each of the L strata or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stratum size.  Thu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4648320"/>
          <a:ext cx="68580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648320"/>
                    <a:ext cx="68580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422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yesia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rivation of the posterior variance using the Bayesian approach to the solution of the Behren’s Fisher problem for inference on mean (μ) and variance (σ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the normal distribution when both paramters ar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ihood function for n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3352680"/>
          <a:ext cx="71150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7115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8600" y="4968720"/>
            <a:ext cx="8686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υ=n-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m=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......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, υ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(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m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(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m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.....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m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3886200"/>
          <a:ext cx="7162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86200"/>
                    <a:ext cx="7162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362320" y="2133720"/>
          <a:ext cx="447660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44766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04800" y="4719600"/>
          <a:ext cx="23241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4719600"/>
                    <a:ext cx="2324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09480" y="152280"/>
            <a:ext cx="7934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t-dens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(x;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=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[υ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/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ta(υ/2,1/2)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1+υ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x/s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(υ+1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" y="3803760"/>
            <a:ext cx="5070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or for the mean, μ,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4800" y="5741280"/>
            <a:ext cx="3203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or υ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WP MathExtendedA"/>
                <a:ea typeface="WP MathExtendedA"/>
              </a:rPr>
              <a:t></a:t>
            </a:r>
            <a:r>
              <a:rPr b="1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14400" y="2819520"/>
          <a:ext cx="75438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819520"/>
                    <a:ext cx="75438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33720" y="1752480"/>
          <a:ext cx="30477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1752480"/>
                    <a:ext cx="304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33720" y="4572000"/>
          <a:ext cx="38098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4572000"/>
                    <a:ext cx="3809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380160" y="20412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2438280"/>
          <a:ext cx="27720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2772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2105640"/>
            <a:ext cx="82296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t  B=υ+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terior varianc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(υ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τ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/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 substitute 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ove computations of n and 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3480"/>
            <a:ext cx="868680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the average phosphorous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μg/100ml) in Pond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osphorous concentration of a 100-ml aliquot from each 1-Liter  sample will be meas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=total number of 100-ml water samples in the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number of aliquots in stratum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five strata of depth levels, h=1,2,...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720000"/>
            <a:ext cx="74674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for stratified random sampling to 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 per strata (PMO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cal Approach (υ =1, τ =0, g =1) 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m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0.0140, Cost=74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For cost per strata please 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2438280"/>
          <a:ext cx="7467480" cy="3200040"/>
        </p:xfrm>
        <a:graphic>
          <a:graphicData uri="http://schemas.openxmlformats.org/drawingml/2006/table">
            <a:tbl>
              <a:tblPr/>
              <a:tblGrid>
                <a:gridCol w="977760"/>
                <a:gridCol w="1116000"/>
                <a:gridCol w="1187640"/>
                <a:gridCol w="1395360"/>
                <a:gridCol w="1536480"/>
                <a:gridCol w="125424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3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461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928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t cost to sample each depth level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3048120"/>
          <a:ext cx="8458200" cy="1038240"/>
        </p:xfrm>
        <a:graphic>
          <a:graphicData uri="http://schemas.openxmlformats.org/drawingml/2006/table">
            <a:tbl>
              <a:tblPr/>
              <a:tblGrid>
                <a:gridCol w="1585800"/>
                <a:gridCol w="1233360"/>
                <a:gridCol w="1411560"/>
                <a:gridCol w="1407960"/>
                <a:gridCol w="1411200"/>
                <a:gridCol w="140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(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28600" y="4690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ssumption being that the cost is higher at greater dep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90720" y="1006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2.  Bayesian Results (PMO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1905120"/>
          <a:ext cx="8610480" cy="4657680"/>
        </p:xfrm>
        <a:graphic>
          <a:graphicData uri="http://schemas.openxmlformats.org/drawingml/2006/table">
            <a:tbl>
              <a:tblPr/>
              <a:tblGrid>
                <a:gridCol w="1143000"/>
                <a:gridCol w="771480"/>
                <a:gridCol w="954000"/>
                <a:gridCol w="954360"/>
                <a:gridCol w="957240"/>
                <a:gridCol w="955440"/>
                <a:gridCol w="955800"/>
                <a:gridCol w="954000"/>
                <a:gridCol w="9651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412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υ,τ,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1,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2,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1,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35,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35,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-60120"/>
            <a:ext cx="861048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A BAYESIAN APPROACH WE WISH TO DETERMINE THE OPTIMUM SAMPLE SIZE , n,  AND SAMPLE SIZE, 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FOR SAMPLING  WITHIN STRATUM, h, WHERE h=1,2,......L  AND n=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........+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ATA ARE BASICALLY DEPTH LEVELS IN A POND.  SAMPLING IS TO DETERMINE THE AMOUNT OF POLLUTION IN THE POND .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320400"/>
            <a:ext cx="871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3.  Pre specified fixed cost (Bayesi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bottom r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2286000"/>
          <a:ext cx="8076960" cy="2819520"/>
        </p:xfrm>
        <a:graphic>
          <a:graphicData uri="http://schemas.openxmlformats.org/drawingml/2006/table">
            <a:tbl>
              <a:tblPr/>
              <a:tblGrid>
                <a:gridCol w="807840"/>
                <a:gridCol w="816480"/>
                <a:gridCol w="794520"/>
                <a:gridCol w="939600"/>
                <a:gridCol w="675000"/>
                <a:gridCol w="808200"/>
                <a:gridCol w="808200"/>
                <a:gridCol w="807480"/>
                <a:gridCol w="808200"/>
                <a:gridCol w="811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-c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99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20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81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99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20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81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99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20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81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7520"/>
            <a:ext cx="762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4.   Example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Correlation Structure,  ρ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752480"/>
          <a:ext cx="7772400" cy="3557880"/>
        </p:xfrm>
        <a:graphic>
          <a:graphicData uri="http://schemas.openxmlformats.org/drawingml/2006/table">
            <a:tbl>
              <a:tblPr/>
              <a:tblGrid>
                <a:gridCol w="2170080"/>
                <a:gridCol w="1401840"/>
                <a:gridCol w="1400040"/>
                <a:gridCol w="1400400"/>
                <a:gridCol w="1400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 (υ,τ,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ic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5,1,0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,0.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0,35,.2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ρ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   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   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  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 45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   1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   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    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  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    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    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    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     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    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   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   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     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     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 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   1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   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    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    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    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  1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    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   23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   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   126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0" y="478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833480" y="409680"/>
          <a:ext cx="547848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409680"/>
                    <a:ext cx="547848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833480" y="527040"/>
          <a:ext cx="547848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27040"/>
                    <a:ext cx="547848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833480" y="625320"/>
          <a:ext cx="5478480" cy="560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625320"/>
                    <a:ext cx="5478480" cy="56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-471600"/>
            <a:ext cx="8991720" cy="87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914040" bIns="914040" anchor="ctr">
            <a:spAutoFit/>
          </a:bodyPr>
          <a:p>
            <a:pPr>
              <a:tabLst>
                <a:tab algn="l" pos="0"/>
                <a:tab algn="l" pos="103124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d to the classical sampling analysis for the pre specified margin of error approach as well   as the correlational approach, the Bayesian analysis resul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Reduction in required number of samples thus    lowering the cost , especially when realistic (empirical) prior hyperparameters are uti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No serious adverse impact on standard error of the estimates of the mea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113976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There were no real differences between classical  and  Bayesian approaches in the pre specified fixed cos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Given current computational tools the Bayesian calculations proved to be fairly straight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Given the current availability of databases, future Bayesian approaches to environmental sampling should be given serious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 Specified Margin of Error (PMO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 Specified Fixe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ion Structure Among the St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-239760" y="2435400"/>
          <a:ext cx="190512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9760" y="2435400"/>
                    <a:ext cx="190512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-239760" y="4917960"/>
          <a:ext cx="619200" cy="6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39760" y="4917960"/>
                    <a:ext cx="6192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0880" y="839880"/>
            <a:ext cx="8458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=Total number of population units in the target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or  L  strata,  h=1,........L 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791240"/>
            <a:ext cx="75438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 total number of sampling units in the target samp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 = 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......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=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8840" y="3580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048120"/>
            <a:ext cx="5105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52680" y="3352680"/>
                <a:ext cx="1575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05320" y="556272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47760" y="2602080"/>
          <a:ext cx="44766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602080"/>
                    <a:ext cx="4476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47760" y="4656240"/>
          <a:ext cx="24955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7760" y="4656240"/>
                    <a:ext cx="2495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29520"/>
            <a:ext cx="792468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stratum 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/ 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an, μ, of the population of n un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622320"/>
            <a:ext cx="48484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by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7120" y="5410800"/>
            <a:ext cx="631656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x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ith observation in stratum 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2133720"/>
          <a:ext cx="54864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133720"/>
                    <a:ext cx="5486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0" y="1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67080" y="3429000"/>
          <a:ext cx="24386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429000"/>
                    <a:ext cx="2438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52480" y="647640"/>
            <a:ext cx="4999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unbiased estimator of μ 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95480" y="2286000"/>
          <a:ext cx="20383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86000"/>
                    <a:ext cx="2038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760400" y="3551760"/>
            <a:ext cx="562320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et  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/ N = 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/ n in all strata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24080" y="1676520"/>
          <a:ext cx="1981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1981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048040" y="4648320"/>
          <a:ext cx="4592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8040" y="4648320"/>
                    <a:ext cx="4592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-74520" y="1633680"/>
          <a:ext cx="22003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4520" y="1633680"/>
                    <a:ext cx="2200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-74520" y="4405320"/>
          <a:ext cx="183816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4520" y="4405320"/>
                    <a:ext cx="18381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947160"/>
            <a:ext cx="43434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r(m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52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the stratum 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,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544640"/>
            <a:ext cx="6270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124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shown that for large 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76720" y="1219320"/>
          <a:ext cx="25146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219320"/>
                    <a:ext cx="2514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14600" y="3429000"/>
          <a:ext cx="37339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3429000"/>
                    <a:ext cx="3733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43200" y="5257800"/>
          <a:ext cx="320040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5257800"/>
                    <a:ext cx="3200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4760"/>
            <a:ext cx="876312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timum n: Using Prespecified Margin of E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M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t d= pre specified margin of error, i.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=|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μ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at can be tolerated and a small probability, α,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exceeding that error.  i.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( |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μ|</a:t>
            </a:r>
            <a:r>
              <a:rPr b="1" lang="en-US" sz="30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) = 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n by Cochran an optimum n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09680" y="380880"/>
          <a:ext cx="38577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38577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33720" y="3048120"/>
          <a:ext cx="386712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048120"/>
                    <a:ext cx="3867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822240" y="6364440"/>
          <a:ext cx="316224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240" y="6364440"/>
                    <a:ext cx="3162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822240" y="-1856880"/>
            <a:ext cx="274320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040" y="2136600"/>
            <a:ext cx="42955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N</a:t>
            </a:r>
            <a:r>
              <a:rPr b="1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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695400"/>
            <a:ext cx="58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optimal 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each h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4040" y="7044480"/>
            <a:ext cx="749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our example we let d=0.2 and α =0.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41560" y="304920"/>
          <a:ext cx="5138640" cy="16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41560" y="304920"/>
                    <a:ext cx="5138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95480" y="2743200"/>
          <a:ext cx="304812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274320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895480" y="4648320"/>
          <a:ext cx="29718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46483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flipV="1" rot="10800000">
            <a:off x="833400" y="5649120"/>
            <a:ext cx="732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our example we let d=0.2 and α =0.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4:28:24Z</dcterms:created>
  <dc:creator>ABartolucci</dc:creator>
  <dc:description/>
  <dc:language>en-US</dc:language>
  <cp:lastModifiedBy>CoviRo</cp:lastModifiedBy>
  <dcterms:modified xsi:type="dcterms:W3CDTF">2005-03-02T18:10:02Z</dcterms:modified>
  <cp:revision>32</cp:revision>
  <dc:subject/>
  <dc:title>Slide 1</dc:title>
</cp:coreProperties>
</file>