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wmf" ContentType="image/x-wmf"/>
  <Override PartName="/ppt/media/image9.wmf" ContentType="image/x-wmf"/>
  <Override PartName="/ppt/media/image10.png" ContentType="image/png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AFF4-D7DC-48E6-B79A-F138C40C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B7F3-28D8-45D0-9AA9-5C90690D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00F3-21EA-4B17-BD7A-E464823E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0C6A-FE63-4A77-8DA0-F28CBD07A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B36D-0BB2-46F7-A037-3D4E7699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FF73-ACC6-41BC-A412-B34FA506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57A5-9D1F-4A82-AE1D-E7556E29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0853-EB87-4067-8539-73818F88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C7031-D4FF-43E8-958E-D32D89F3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24BC3-2C04-4ED3-9FC2-3EEFF0DF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AF0F-B523-4FAC-88B5-05B0B9A9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2F0C-41D7-4D9C-95FB-6BAAB645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80D7-97C6-4690-BF61-EA8B4C5A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9F50-BF65-4A01-B3D9-8CD9F929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4009-EC25-4216-A142-796DC302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4A1E-2BBC-4051-B136-810CA9A9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8E4A-5EE2-4EB7-8E5D-68ACC087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CA79-6ADE-4E7D-80EB-780F3B1D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4572-3AC2-4602-8CF4-F387F0BB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A3BB-E7E0-4799-888A-E2596CED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535C-F493-43FA-BF1A-861271CF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B330-B98B-4587-8058-84F10860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8656-60F6-4392-970E-1080561A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A5BF-F620-42B1-A9D3-8CCCE773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1D4E-FAE6-482F-A235-79ADCEB9780D}" type="slidenum">
              <a:rPr b="0" lang="sl-SI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BE32-8A6C-4233-B8AC-5D360BB7F312}" type="slidenum">
              <a:rPr b="0" lang="sl-SI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arbara.kutin@gov.si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554480" y="692280"/>
            <a:ext cx="626148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of Adapting the Slovenian Nat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Statistical System of Agriculture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Concerning European and Other International Requir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EXSAI, Cancun 2 – 4 November 20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Arial"/>
              </a:rPr>
              <a:t>Barbara KUTIN</a:t>
            </a: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, BSc (Agri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Statistical Office of the Republic of Sloven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Address: Vožarski pot 12, SI-1000 Ljublj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E-mail: </a:t>
            </a:r>
            <a:r>
              <a:rPr b="0" lang="en-GB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barbara.kutin@gov.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211640" y="6237360"/>
          <a:ext cx="1085760" cy="42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11640" y="6237360"/>
                    <a:ext cx="108576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120" y="6519960"/>
            <a:ext cx="543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Barbara KUTIN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MEXSAI, Cancun 2 – 4 November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4000" y="476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djustment of agriculture statistics to requirements of the EU and other</a:t>
            </a:r>
            <a:r>
              <a:rPr b="0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international organisations</a:t>
            </a: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- t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he period up to 2000</a:t>
            </a: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5280" y="1628640"/>
            <a:ext cx="806436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Classific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lassifications according to which data were collected also needed to be updated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sl-SI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take into account data comparability for the period before the chan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mplementarity between the updated classification of agricultural products and other classifications defining the same products but for other purposes (e.g. HS/CN, CPA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 multilevel classification, which at the lowest level contains a very detailed list of produc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120" y="6519960"/>
            <a:ext cx="543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Barbara KUTIN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MEXSAI, Cancun 2 – 4 November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476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djustment of agriculture statistics to requirements of the EU and other</a:t>
            </a:r>
            <a:r>
              <a:rPr b="0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international organisations</a:t>
            </a: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- t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he period </a:t>
            </a: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after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 2000</a:t>
            </a: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1920" y="2276640"/>
            <a:ext cx="726516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Statistical register of agricultural hold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 provide a good sampling frame for preparing samples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for surve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history of data on agricultural holdings since 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updat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rious statistical sources (statistical surveys)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ACS (Integrated Administrative and Control System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 adjust the method of updating the regi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future developme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links with other statistical regis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ffffff"/>
                </a:solidFill>
                <a:latin typeface="Arial"/>
              </a:rPr>
              <a:t>business regis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ffffff"/>
                </a:solidFill>
                <a:latin typeface="Arial"/>
              </a:rPr>
              <a:t>register of population (‘dead’ agricultural holding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2133720"/>
            <a:ext cx="2743200" cy="3352680"/>
          </a:xfrm>
          <a:prstGeom prst="rect">
            <a:avLst/>
          </a:prstGeom>
          <a:solidFill>
            <a:srgbClr val="ff9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932360" y="3357720"/>
            <a:ext cx="3940200" cy="1523880"/>
          </a:xfrm>
          <a:prstGeom prst="flowChartMultidocument">
            <a:avLst/>
          </a:prstGeom>
          <a:solidFill>
            <a:srgbClr val="ffffcc"/>
          </a:solidFill>
          <a:ln w="38160">
            <a:solidFill>
              <a:srgbClr val="003b76"/>
            </a:solidFill>
            <a:miter/>
          </a:ln>
          <a:effectLst>
            <a:outerShdw dist="352991" dir="19784867" blurRad="0" rotWithShape="0">
              <a:srgbClr val="ff99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Arial CE"/>
              </a:rPr>
              <a:t>ADMINISTRATIV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Arial CE"/>
              </a:rPr>
              <a:t>ON INDIVIDUAL </a:t>
            </a:r>
            <a:r>
              <a:rPr b="1" lang="sl-SI" sz="2000" spc="-1" strike="noStrike">
                <a:solidFill>
                  <a:srgbClr val="003b76"/>
                </a:solidFill>
                <a:latin typeface="Arial CE"/>
              </a:rPr>
              <a:t>HOLD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22280" y="2666880"/>
            <a:ext cx="1968120" cy="2590560"/>
            <a:chOff x="422280" y="2666880"/>
            <a:chExt cx="1968120" cy="2590560"/>
          </a:xfrm>
        </p:grpSpPr>
        <p:sp>
          <p:nvSpPr>
            <p:cNvPr id="246" name=""/>
            <p:cNvSpPr/>
            <p:nvPr/>
          </p:nvSpPr>
          <p:spPr>
            <a:xfrm>
              <a:off x="422280" y="2666880"/>
              <a:ext cx="1968120" cy="12952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cc"/>
                  </a:solidFill>
                  <a:latin typeface="Arial CE"/>
                </a:rPr>
                <a:t>ADDRESS DA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2280" y="3962160"/>
              <a:ext cx="1968120" cy="12952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cc"/>
                  </a:solidFill>
                  <a:latin typeface="Arial CE"/>
                </a:rPr>
                <a:t>FARM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cc"/>
                  </a:solidFill>
                  <a:latin typeface="Arial CE"/>
                </a:rPr>
                <a:t>CHARACTERISTIC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0" y="2208600"/>
            <a:ext cx="27795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b76"/>
                </a:solidFill>
                <a:latin typeface="Arial CE"/>
              </a:rPr>
              <a:t>REGI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1828800" y="762120"/>
            <a:ext cx="98424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0" name=""/>
          <p:cNvCxnSpPr>
            <a:stCxn id="251" idx="1"/>
            <a:endCxn id="249" idx="0"/>
          </p:cNvCxnSpPr>
          <p:nvPr/>
        </p:nvCxnSpPr>
        <p:spPr>
          <a:xfrm flipV="1" rot="10800000">
            <a:off x="1828080" y="1305360"/>
            <a:ext cx="3012120" cy="599400"/>
          </a:xfrm>
          <a:prstGeom prst="bentConnector4">
            <a:avLst>
              <a:gd name="adj1" fmla="val 33313"/>
              <a:gd name="adj2" fmla="val 138161"/>
            </a:avLst>
          </a:prstGeom>
          <a:ln w="0">
            <a:noFill/>
          </a:ln>
        </p:spPr>
      </p:cxnSp>
      <p:sp>
        <p:nvSpPr>
          <p:cNvPr id="252" name=""/>
          <p:cNvSpPr/>
          <p:nvPr/>
        </p:nvSpPr>
        <p:spPr>
          <a:xfrm>
            <a:off x="2813040" y="2590920"/>
            <a:ext cx="1689120" cy="1066680"/>
          </a:xfrm>
          <a:prstGeom prst="leftArrow">
            <a:avLst>
              <a:gd name="adj1" fmla="val 50000"/>
              <a:gd name="adj2" fmla="val 39588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b76"/>
                </a:solidFill>
                <a:latin typeface="Arial CE"/>
              </a:rPr>
              <a:t>UPDA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b76"/>
                </a:solidFill>
                <a:latin typeface="Arial CE"/>
              </a:rPr>
              <a:t>PROCEDU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63640" y="5229360"/>
            <a:ext cx="2251080" cy="1066680"/>
          </a:xfrm>
          <a:prstGeom prst="rightArrow">
            <a:avLst>
              <a:gd name="adj1" fmla="val 50000"/>
              <a:gd name="adj2" fmla="val 52759"/>
            </a:avLst>
          </a:prstGeom>
          <a:solidFill>
            <a:srgbClr val="c0c0c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Arial CE"/>
              </a:rPr>
              <a:t>OUTPUT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11640" y="4869000"/>
            <a:ext cx="4586400" cy="1989000"/>
          </a:xfrm>
          <a:prstGeom prst="flowChartMultidocument">
            <a:avLst/>
          </a:prstGeom>
          <a:solidFill>
            <a:srgbClr val="ccecff"/>
          </a:solidFill>
          <a:ln w="38160">
            <a:solidFill>
              <a:srgbClr val="003b76"/>
            </a:solidFill>
            <a:miter/>
          </a:ln>
          <a:effectLst>
            <a:outerShdw dist="250128" dir="1436744" blurRad="0" rotWithShape="0">
              <a:srgbClr val="ffff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b76"/>
                </a:solidFill>
                <a:latin typeface="Arial CE"/>
              </a:rPr>
              <a:t>-REVIEW OF COURENT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b76"/>
                </a:solidFill>
                <a:latin typeface="Arial CE"/>
              </a:rPr>
              <a:t>-REVIEW OF HI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b76"/>
                </a:solidFill>
                <a:latin typeface="Arial CE"/>
              </a:rPr>
              <a:t>-LISTS OF HOLDINGS (samp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3b76"/>
                </a:solidFill>
                <a:latin typeface="Arial CE"/>
              </a:rPr>
              <a:t>frame, address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0815000">
            <a:off x="912600" y="761760"/>
            <a:ext cx="3798720" cy="1450800"/>
          </a:xfrm>
          <a:custGeom>
            <a:avLst/>
            <a:gdLst>
              <a:gd name="textAreaLeft" fmla="*/ 1266120 w 3798720"/>
              <a:gd name="textAreaRight" fmla="*/ 3253680 w 3798720"/>
              <a:gd name="textAreaTop" fmla="*/ 896400 h 1450800"/>
              <a:gd name="textAreaBottom" fmla="*/ 1242720 h 1450800"/>
            </a:gdLst>
            <a:ahLst/>
            <a:rect l="textAreaLeft" t="textAreaTop" r="textAreaRight" b="textAreaBottom"/>
            <a:pathLst>
              <a:path w="21600" h="21600">
                <a:moveTo>
                  <a:pt x="0" y="16445"/>
                </a:moveTo>
                <a:lnTo>
                  <a:pt x="13345" y="16445"/>
                </a:lnTo>
                <a:lnTo>
                  <a:pt x="13345" y="7200"/>
                </a:lnTo>
                <a:lnTo>
                  <a:pt x="10245" y="7200"/>
                </a:lnTo>
                <a:lnTo>
                  <a:pt x="15923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b76"/>
                </a:solidFill>
                <a:latin typeface="Arial CE"/>
              </a:rPr>
              <a:t>UPDA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b76"/>
                </a:solidFill>
                <a:latin typeface="Arial CE"/>
              </a:rPr>
              <a:t>PROCEDU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87680" y="289080"/>
            <a:ext cx="169920" cy="336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-304920"/>
            <a:ext cx="842184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66ccff"/>
                </a:solidFill>
                <a:latin typeface="Arial CE"/>
              </a:rPr>
              <a:t>UPDATING stat. farm regi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32360" y="2060640"/>
            <a:ext cx="3446640" cy="1371600"/>
          </a:xfrm>
          <a:prstGeom prst="flowChartMultidocument">
            <a:avLst/>
          </a:prstGeom>
          <a:solidFill>
            <a:srgbClr val="ffffcc"/>
          </a:solidFill>
          <a:ln w="38160">
            <a:solidFill>
              <a:srgbClr val="003b76"/>
            </a:solidFill>
            <a:miter/>
          </a:ln>
          <a:effectLst>
            <a:outerShdw dist="352991" dir="19784867" blurRad="0" rotWithShape="0">
              <a:srgbClr val="ff99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Arial CE"/>
              </a:rPr>
              <a:t>DATA FRO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Arial CE"/>
              </a:rPr>
              <a:t>STATISTIC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3b76"/>
                </a:solidFill>
                <a:latin typeface="Arial CE"/>
              </a:rPr>
              <a:t>REGIS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280" y="620640"/>
            <a:ext cx="3446640" cy="1371600"/>
          </a:xfrm>
          <a:prstGeom prst="flowChartMultidocument">
            <a:avLst/>
          </a:prstGeom>
          <a:solidFill>
            <a:srgbClr val="ffffcc"/>
          </a:solidFill>
          <a:ln w="38160">
            <a:solidFill>
              <a:srgbClr val="003b76"/>
            </a:solidFill>
            <a:miter/>
          </a:ln>
          <a:effectLst>
            <a:outerShdw dist="352991" dir="19784867" blurRad="0" rotWithShape="0">
              <a:srgbClr val="ff99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Arial CE"/>
              </a:rPr>
              <a:t>DATA FRO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Arial CE"/>
              </a:rPr>
              <a:t>STATISTIC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76"/>
                </a:solidFill>
                <a:latin typeface="Arial CE"/>
              </a:rPr>
              <a:t>SURVEY</a:t>
            </a:r>
            <a:r>
              <a:rPr b="1" lang="sl-SI" sz="2000" spc="-1" strike="noStrike">
                <a:solidFill>
                  <a:srgbClr val="003b76"/>
                </a:solidFill>
                <a:latin typeface="Arial CE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120" y="6519960"/>
            <a:ext cx="543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Barbara KUTIN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MEXSAI, Cancun 2 – 4 November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4000" y="476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djustment of agriculture statistics to requirements of the EU and other</a:t>
            </a:r>
            <a:r>
              <a:rPr b="0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international organisations</a:t>
            </a: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- t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he period </a:t>
            </a: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after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 2000</a:t>
            </a: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9920" y="2276640"/>
            <a:ext cx="69105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Use of administrative sources - as much as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reduce costs, no response burden</a:t>
            </a:r>
            <a:r>
              <a:rPr b="0" lang="sl-SI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(current and expected) difficultie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ith using administrative data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methodological work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120" y="6519960"/>
            <a:ext cx="543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Barbara KUTIN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MEXSAI, Cancun 2 – 4 November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476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djustment of agriculture statistics to requirements of the EU and other</a:t>
            </a:r>
            <a:r>
              <a:rPr b="0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international organisations</a:t>
            </a: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- t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he period </a:t>
            </a: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after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 2000</a:t>
            </a: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03200" y="1844640"/>
            <a:ext cx="6848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Example 1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different classifications used in different data sourc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milk and milk products statis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Example 2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Use of IACS* data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- not enough detailed list of variable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- good quality data are only data on financial supported catego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20" y="6021360"/>
            <a:ext cx="510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Arial"/>
              </a:rPr>
              <a:t>* IASC = Integrated Administrative and Control Syst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468360" y="2852640"/>
          <a:ext cx="5896080" cy="1647720"/>
        </p:xfrm>
        <a:graphic>
          <a:graphicData uri="http://schemas.openxmlformats.org/drawingml/2006/table">
            <a:tbl>
              <a:tblPr/>
              <a:tblGrid>
                <a:gridCol w="1965240"/>
                <a:gridCol w="1965240"/>
                <a:gridCol w="19656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Type of chees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Dairy statistic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CN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Sof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68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&gt; 72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Medium-sof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62%; &lt; 68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&gt; 62%; </a:t>
                      </a:r>
                      <a:r>
                        <a:rPr b="0" lang="fr-BE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≤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72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Medium-har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55%; &lt; 62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&gt; 52%; </a:t>
                      </a:r>
                      <a:r>
                        <a:rPr b="0" lang="fr-BE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≤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62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Har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47%; &lt; 55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&gt; 47%; </a:t>
                      </a:r>
                      <a:r>
                        <a:rPr b="0" lang="fr-BE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≤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52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Extra har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&lt; 47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BE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≤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3b76"/>
                          </a:solidFill>
                          <a:latin typeface="Times New Roman"/>
                          <a:ea typeface="Times New Roman"/>
                        </a:rPr>
                        <a:t>47%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120" y="6519960"/>
            <a:ext cx="543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Barbara KUTIN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MEXSAI, Cancun 2 – 4 November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4000" y="476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djustment of agriculture statistics to requirements of the EU and other</a:t>
            </a:r>
            <a:r>
              <a:rPr b="0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international organisations</a:t>
            </a: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- t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he period </a:t>
            </a: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after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 2000</a:t>
            </a: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95280" y="2205000"/>
            <a:ext cx="80121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Data dissemin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ternet dissemination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(SI-STAT): use of pc-ax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paration and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ssemination of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a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cording to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ecial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eds of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         u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rs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: use of Oracle Discoverer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for fast tabul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120" y="6519960"/>
            <a:ext cx="543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Barbara KUTIN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MEXSAI, Cancun 2 – 4 November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4000" y="476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djustment of agriculture statistics to requirements of the EU and other</a:t>
            </a:r>
            <a:r>
              <a:rPr b="0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international organisations</a:t>
            </a: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- t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he period </a:t>
            </a: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after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 2000</a:t>
            </a: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5516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120" y="6519960"/>
            <a:ext cx="543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Barbara KUTIN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MEXSAI, Cancun 2 – 4 November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2200" y="404640"/>
            <a:ext cx="51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The future of agriculture stat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7080" y="1773360"/>
            <a:ext cx="6810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Continuation of building a statistical system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that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economical in data coll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adjustable as regards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and provid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quality and objective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ffffff"/>
                </a:solidFill>
                <a:latin typeface="Arial"/>
              </a:rPr>
              <a:t>New approach and new knowledge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in preparing statistical dat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the needs are cha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need for harmonisation of administrative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6120" y="6519960"/>
            <a:ext cx="543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Barbara KUTIN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MEXSAI, Cancun 2 – 4 November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832360" cy="331344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933800" y="18900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ccecff"/>
                </a:solidFill>
                <a:latin typeface="Arial"/>
              </a:rPr>
              <a:t>future demand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ccecff"/>
                </a:solidFill>
                <a:latin typeface="Arial"/>
              </a:rPr>
              <a:t>future agricultural statistis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8400" y="3573360"/>
            <a:ext cx="46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ccecff"/>
                </a:solidFill>
                <a:latin typeface="Arial"/>
              </a:rPr>
              <a:t>present agricultural statistic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ccecff"/>
                </a:solidFill>
                <a:latin typeface="Arial"/>
              </a:rPr>
              <a:t>if you want to be up-to-date in the future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ccecff"/>
                </a:solidFill>
                <a:latin typeface="Arial"/>
              </a:rPr>
              <a:t>you must forsee future demands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040" y="6519960"/>
            <a:ext cx="526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Barbara KUTIN, MEXSAI, Cancun 2 – 4 November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692280"/>
            <a:ext cx="43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Structure of the 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844640"/>
            <a:ext cx="8794440" cy="36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ffcc"/>
              </a:buClr>
              <a:buFont typeface="Arial Unicode MS"/>
              <a:buChar char="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Introduction: Agriculture in 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Font typeface="Arial Unicode MS"/>
              <a:buChar char="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Font typeface="Arial Unicode MS"/>
              <a:buChar char="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Font typeface="Arial Unicode MS"/>
              <a:buChar char="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djustment of agriculture statistics to requirements of the E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other international organis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period up to 2000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e period after 2000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Font typeface="Arial Unicode MS"/>
              <a:buChar char="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Font typeface="Arial Unicode MS"/>
              <a:buChar char="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cc"/>
              </a:buClr>
              <a:buFont typeface="Arial Unicode MS"/>
              <a:buChar char="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future of agriculture stat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040" y="6519960"/>
            <a:ext cx="526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Barbara KUTIN, MEXSAI, Cancun 2 – 4 November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7680" y="692280"/>
            <a:ext cx="546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Introduction: Agriculture in 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8320" y="1844640"/>
            <a:ext cx="5407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Area (Register of Spatial Units, 2001)    20 273 km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- wooded area  60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l-SI" sz="1800" spc="-1" strike="noStrike">
                <a:solidFill>
                  <a:srgbClr val="ffffcc"/>
                </a:solidFill>
                <a:latin typeface="Arial"/>
              </a:rPr>
              <a:t>all agricultural area 34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- other 6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3357720"/>
            <a:ext cx="5329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Population of RS (2002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1 964 03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cc"/>
                </a:solidFill>
                <a:latin typeface="Arial"/>
              </a:rPr>
              <a:t>Population on family farms’ households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(AC, 200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322 981 or </a:t>
            </a:r>
            <a:r>
              <a:rPr b="0" lang="sl-SI" sz="1800" spc="-1" strike="noStrike">
                <a:solidFill>
                  <a:srgbClr val="ffffcc"/>
                </a:solidFill>
                <a:latin typeface="Arial"/>
              </a:rPr>
              <a:t>16 % of pop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7960" y="4941720"/>
            <a:ext cx="506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cc"/>
                </a:solidFill>
                <a:latin typeface="Arial"/>
              </a:rPr>
              <a:t>GDP of Agriculture, Hunting and Forestry (200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cc"/>
                </a:solidFill>
                <a:latin typeface="Arial"/>
              </a:rPr>
              <a:t>2,8 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pritisni za povečavo"/>
          <p:cNvPicPr/>
          <p:nvPr/>
        </p:nvPicPr>
        <p:blipFill>
          <a:blip r:embed="rId1"/>
          <a:stretch/>
        </p:blipFill>
        <p:spPr>
          <a:xfrm>
            <a:off x="3619440" y="2747880"/>
            <a:ext cx="1905120" cy="136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5796000" y="4646520"/>
          <a:ext cx="3348000" cy="221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6000" y="4646520"/>
                    <a:ext cx="3348000" cy="22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5796000" y="2492280"/>
          <a:ext cx="3348000" cy="214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6000" y="2492280"/>
                    <a:ext cx="334800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250920" y="1197000"/>
          <a:ext cx="6588000" cy="316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658800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5040" y="6519960"/>
            <a:ext cx="526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Barbara KUTIN, MEXSAI, Cancun 2 – 4 November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3000" y="692280"/>
            <a:ext cx="4709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Selected indicators on farm structure (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6400" y="115920"/>
            <a:ext cx="546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Introduction: Agriculture in 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6402240" y="3716280"/>
          <a:ext cx="274176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2240" y="3716280"/>
                    <a:ext cx="274176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250920" y="3933720"/>
            <a:ext cx="2808360" cy="25275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00000" y="1773360"/>
            <a:ext cx="2448000" cy="79200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87560" y="198900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Verdana"/>
              </a:rPr>
              <a:t>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040" y="6519960"/>
            <a:ext cx="526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Barbara KUTIN, MEXSAI, Cancun 2 – 4 November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6400" y="115920"/>
            <a:ext cx="546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Introduction: Agriculture in 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3000" y="692280"/>
            <a:ext cx="47098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Selected indicators on farm structure (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987640" y="1052640"/>
          <a:ext cx="5688000" cy="301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052640"/>
                    <a:ext cx="5688000" cy="30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179280" y="3789360"/>
          <a:ext cx="5276880" cy="251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789360"/>
                    <a:ext cx="5276880" cy="25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040" y="6519960"/>
            <a:ext cx="526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Barbara KUTIN, MEXSAI, Cancun 2 – 4 November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14520" y="3503520"/>
            <a:ext cx="60501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19280" y="2492280"/>
            <a:ext cx="183960" cy="457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5560" y="981000"/>
            <a:ext cx="72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Agricultural, Forestry and Fishing statistics: 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review of surve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91440" y="1844640"/>
            <a:ext cx="1084320" cy="3988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19640" y="2492280"/>
            <a:ext cx="1657080" cy="647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2565360"/>
            <a:ext cx="183960" cy="3668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17760" y="2538360"/>
            <a:ext cx="1830600" cy="580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ffcc"/>
                </a:solidFill>
                <a:latin typeface="Arial"/>
              </a:rPr>
              <a:t>Farm Structure Surve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8880" y="3284640"/>
            <a:ext cx="1236960" cy="580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ffcc"/>
                </a:solidFill>
                <a:latin typeface="Arial"/>
              </a:rPr>
              <a:t>Cro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ffcc"/>
                </a:solidFill>
                <a:latin typeface="Arial"/>
              </a:rPr>
              <a:t>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43600" y="3284640"/>
            <a:ext cx="1236960" cy="580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ffcc"/>
                </a:solidFill>
                <a:latin typeface="Arial"/>
              </a:rPr>
              <a:t>Anim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ffcc"/>
                </a:solidFill>
                <a:latin typeface="Arial"/>
              </a:rPr>
              <a:t>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04680" y="4076640"/>
            <a:ext cx="1317600" cy="580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ffcc"/>
                </a:solidFill>
                <a:latin typeface="Arial"/>
              </a:rPr>
              <a:t>Agricultu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ffcc"/>
                </a:solidFill>
                <a:latin typeface="Arial"/>
              </a:rPr>
              <a:t>Pr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07240" y="3284640"/>
            <a:ext cx="1104120" cy="580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ffcc"/>
                </a:solidFill>
                <a:latin typeface="Arial"/>
              </a:rPr>
              <a:t>Forestry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ffcc"/>
                </a:solidFill>
                <a:latin typeface="Arial"/>
              </a:rPr>
              <a:t>Hun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81040" y="3284640"/>
            <a:ext cx="1058400" cy="580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ffcc"/>
                </a:solidFill>
                <a:latin typeface="Arial"/>
              </a:rPr>
              <a:t>Fishery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ffcc"/>
                </a:solidFill>
                <a:latin typeface="Arial"/>
              </a:rPr>
              <a:t>statistic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11280" y="4221000"/>
            <a:ext cx="1819440" cy="1159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cc"/>
                </a:solidFill>
                <a:latin typeface="Arial"/>
              </a:rPr>
              <a:t>Use of pesticides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cc"/>
                </a:solidFill>
                <a:latin typeface="Arial"/>
              </a:rPr>
              <a:t>manure, energy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cc"/>
                </a:solidFill>
                <a:latin typeface="Arial"/>
              </a:rPr>
              <a:t>water in agricul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l-SI" sz="1400" spc="-1" strike="noStrike">
                <a:solidFill>
                  <a:srgbClr val="ffffcc"/>
                </a:solidFill>
                <a:latin typeface="Arial"/>
              </a:rPr>
              <a:t>produ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3284640"/>
            <a:ext cx="1657080" cy="647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24000" y="3284640"/>
            <a:ext cx="1657440" cy="647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88000" y="3284640"/>
            <a:ext cx="1657440" cy="64764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16360" y="3284640"/>
            <a:ext cx="1657440" cy="64764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56000" y="4076640"/>
            <a:ext cx="1657440" cy="57636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4076640"/>
            <a:ext cx="1730520" cy="115272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48360" y="1989000"/>
            <a:ext cx="2448000" cy="0"/>
          </a:xfrm>
          <a:prstGeom prst="line">
            <a:avLst/>
          </a:prstGeom>
          <a:ln w="32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55640" y="1989000"/>
            <a:ext cx="2448000" cy="0"/>
          </a:xfrm>
          <a:prstGeom prst="line">
            <a:avLst/>
          </a:prstGeom>
          <a:ln w="32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1989000"/>
            <a:ext cx="0" cy="1152720"/>
          </a:xfrm>
          <a:prstGeom prst="line">
            <a:avLst/>
          </a:prstGeom>
          <a:ln w="32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4149720"/>
            <a:ext cx="0" cy="1800360"/>
          </a:xfrm>
          <a:prstGeom prst="line">
            <a:avLst/>
          </a:prstGeom>
          <a:ln w="32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96360" y="1989000"/>
            <a:ext cx="0" cy="1152720"/>
          </a:xfrm>
          <a:prstGeom prst="line">
            <a:avLst/>
          </a:prstGeom>
          <a:ln w="32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96360" y="4149720"/>
            <a:ext cx="0" cy="1800360"/>
          </a:xfrm>
          <a:prstGeom prst="line">
            <a:avLst/>
          </a:prstGeom>
          <a:ln w="32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5640" y="5950080"/>
            <a:ext cx="6840720" cy="0"/>
          </a:xfrm>
          <a:prstGeom prst="line">
            <a:avLst/>
          </a:prstGeom>
          <a:ln w="3240">
            <a:solidFill>
              <a:srgbClr val="003b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92360" y="5300640"/>
            <a:ext cx="1657440" cy="64764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9040" y="5300640"/>
            <a:ext cx="1451880" cy="5806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ffcc"/>
                </a:solidFill>
                <a:latin typeface="Arial"/>
              </a:rPr>
              <a:t>Internation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ffcc"/>
                </a:solidFill>
                <a:latin typeface="Arial"/>
              </a:rPr>
              <a:t>dema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08720" y="1484280"/>
            <a:ext cx="914400" cy="914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43960" y="1773360"/>
            <a:ext cx="298332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ccccff"/>
                </a:solidFill>
                <a:latin typeface="Arial"/>
              </a:rPr>
              <a:t>Administrative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70880" y="5877000"/>
            <a:ext cx="298332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b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ccccff"/>
                </a:solidFill>
                <a:latin typeface="Arial"/>
              </a:rPr>
              <a:t>Administrative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1692360" y="3789000"/>
            <a:ext cx="5759280" cy="215892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635280" y="3715920"/>
            <a:ext cx="3673440" cy="208908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451640" y="4005360"/>
            <a:ext cx="0" cy="194472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4932000" y="2133720"/>
            <a:ext cx="2376360" cy="79056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5508720" y="2060640"/>
            <a:ext cx="1728720" cy="115092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4140360" y="4508280"/>
            <a:ext cx="3240000" cy="136836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0760" y="404640"/>
            <a:ext cx="546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Introduction: Agriculture in Slov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356000" y="4724280"/>
            <a:ext cx="1657440" cy="50508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6680" y="479736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EAA, SB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120" y="6519960"/>
            <a:ext cx="543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Barbara KUTIN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MEXSAI, Cancun 2 – 4 November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476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djustment of agriculture statistics to requirements of the EU and other</a:t>
            </a:r>
            <a:r>
              <a:rPr b="0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international organisations</a:t>
            </a: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- t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he period up to 2000</a:t>
            </a: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9560" y="2209680"/>
            <a:ext cx="590796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Data collection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up to 1997: on the basis of estimates by statisticia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and experts on the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since 1997 data have been collected in different way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(also with sample survays with interviewer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120" y="6519960"/>
            <a:ext cx="543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Barbara KUTIN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MEXSAI, Cancun 2 – 4 November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47628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djustment of agriculture statistics to requirements of the EU and other</a:t>
            </a:r>
            <a:r>
              <a:rPr b="0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international organisations</a:t>
            </a: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- t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he period up to 2000</a:t>
            </a: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2349360"/>
            <a:ext cx="784872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Determination of the treshold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 (criteria for European size class agricultural holdings) 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and definitions</a:t>
            </a:r>
            <a:r>
              <a:rPr b="0" lang="sl-SI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adjustment of definitions of agricultural holding and agricultural production to the EU recommendations on the basis of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EU legalislation and thresholds used in some EU Member Count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determination of the treshol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44960" y="1197000"/>
            <a:ext cx="665604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</a:rPr>
              <a:t>Final treshold for the AC 2000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 (124 234 agricultural holdings </a:t>
            </a: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finally 93 345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All agricultural holdings which hav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a) at least 1hectare of UAA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b) less than 1 hectare of UAA, bu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at least 0.1 ha of UAA and 0.9 ha of forest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at least 0.5 ha of arable land and kitchen gardens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at least 0.05 ha of intensive vineyards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at least 0.3 ha of all vineyards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at least 0.1 ha of orchard plantations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at least 0.3 ha of all orchards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at least 0.3 ha of vineyards and orchards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1 and more livestock units (LSU)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more than 50 beehives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are market producers of vegetabl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</a:rPr>
              <a:t>Most data are presented for the agricultural holdigs satisfying the criteria of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</a:rPr>
              <a:t>the EU comparable treshold 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(86 466 agricultural holdings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a) at least 1hectare of UAA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b) less than 1 hectare of UAA, bu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at least 0.1 ha of UAA and 0.9 ha of forest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at least 0.3 ha of vineyards and / or orchards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2 or more livestock units (LSU)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0.15 – 0.3 ha of vineyards and 1 or 2 LSU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more than 50 beehives, 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l-SI" sz="1400" spc="-1" strike="noStrike">
                <a:solidFill>
                  <a:srgbClr val="ffffff"/>
                </a:solidFill>
                <a:latin typeface="Arial"/>
              </a:rPr>
              <a:t>- are market producers of vegetabl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0920" y="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Adjustment of agriculture statistics to requirements of the EU and other</a:t>
            </a:r>
            <a:r>
              <a:rPr b="0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cc"/>
                </a:solidFill>
                <a:latin typeface="Arial"/>
              </a:rPr>
              <a:t>international organisations</a:t>
            </a: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9933"/>
                </a:solidFill>
                <a:latin typeface="Arial"/>
              </a:rPr>
              <a:t>- t</a:t>
            </a:r>
            <a:r>
              <a:rPr b="1" lang="en-GB" sz="2400" spc="-1" strike="noStrike">
                <a:solidFill>
                  <a:srgbClr val="ff9933"/>
                </a:solidFill>
                <a:latin typeface="Arial"/>
              </a:rPr>
              <a:t>he period up to 2000</a:t>
            </a:r>
            <a:r>
              <a:rPr b="1" lang="sl-SI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8:42:40Z</dcterms:created>
  <dc:creator>Kutin Barbara</dc:creator>
  <dc:description/>
  <dc:language>en-US</dc:language>
  <cp:lastModifiedBy>CoviRo</cp:lastModifiedBy>
  <dcterms:modified xsi:type="dcterms:W3CDTF">2005-03-02T16:22:34Z</dcterms:modified>
  <cp:revision>160</cp:revision>
  <dc:subject/>
  <dc:title>Slide 1</dc:title>
</cp:coreProperties>
</file>