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302-DC4B-4B50-B549-B996DD25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CE4-86E2-4E45-B6A3-DC9B063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C36-D17F-4EC9-BF7D-BC614880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F8A-5F65-4285-BAB4-30F92DB1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315F-AE31-4916-81D5-063910B6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5326-1B02-4C3A-9556-6DE7BBDB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5228-8AA4-4309-AE98-C35C1898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D03C-AE77-453B-A9AA-2935157B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9398-70DF-4ECF-A7B6-2760729D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B0E8-69BB-4BE8-8F80-A9D18873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7141-94C1-4EEA-8E96-6FD491B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9FD-286B-49D3-90EA-90BA172B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9C4B-C91B-4739-8E6E-F028CA54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94F9-FEB9-46DD-91AF-0DB3A47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139C-6D44-4542-8657-4DA23CA0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6661-0A64-43AB-8845-4AA4FAD7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F3FC-E811-4C63-89EA-59FEFF09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5E3-A8F0-4C08-94ED-46F33F6C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A29-168C-4408-8FC9-2D6F4E69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706-6F1B-4B74-A46D-3CC1DB42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126-CE99-492E-B1EC-C68A3380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CAE-AA0B-4422-91AC-3AFBBA7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1C3-AB91-4907-A3C8-209E0B4C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34E-4EDB-4329-ABA3-9FF6454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DA14-AF5F-4F0A-B155-4654DA71826C}" type="slidenum">
              <a:rPr b="0" lang="sl-SI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9488-3191-4906-97F2-017059E299A3}" type="slidenum">
              <a:rPr b="0" lang="sl-SI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rbara.kutin@gov.si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54480" y="692280"/>
            <a:ext cx="62614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of Adapting the Slovenian 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Statistical System of Agriculture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Concerning European and Other International Requir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XSAI, Cancun 2 – 4 November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, BSc (Agri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Statistical Office of the Republic of Slov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Address: Vožarski pot 12, SI-1000 Ljublj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E-mail: </a:t>
            </a:r>
            <a:r>
              <a:rPr b="0" lang="en-GB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barbara.kutin@gov.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211640" y="6237360"/>
          <a:ext cx="10857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6237360"/>
                    <a:ext cx="10857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up to 2000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628640"/>
            <a:ext cx="806436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Classific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lassifications according to which data were collected also needed to be updat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take into account data comparability for the period before the ch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lementarity between the updated classification of agricultural products and other classifications defining the same products but for other purposes (e.g. HS/CN, CP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multilevel classification, which at the lowest level contains a very detailed list of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2000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920" y="2276640"/>
            <a:ext cx="726516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Statistical register of agricultural hol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provide a good sampling frame for preparing samples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for surve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history of data on agricultural holdings since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updat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ous statistical sources (statistical surveys)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ACS (Integrated Administrative and Control Syste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adjust the method of updating the reg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future develop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links with other statistical regis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business regi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register of population (‘dead’ agricultural holdin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133720"/>
            <a:ext cx="2743200" cy="3352680"/>
          </a:xfrm>
          <a:prstGeom prst="rect">
            <a:avLst/>
          </a:prstGeom>
          <a:solidFill>
            <a:srgbClr val="ff9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32360" y="3357720"/>
            <a:ext cx="3940200" cy="1523880"/>
          </a:xfrm>
          <a:prstGeom prst="flowChartMultidocument">
            <a:avLst/>
          </a:prstGeom>
          <a:solidFill>
            <a:srgbClr val="ffffcc"/>
          </a:solidFill>
          <a:ln w="38160">
            <a:solidFill>
              <a:srgbClr val="003b76"/>
            </a:solidFill>
            <a:miter/>
          </a:ln>
          <a:effectLst>
            <a:outerShdw dist="352991" dir="19784867" blurRad="0" rotWithShape="0">
              <a:srgbClr val="ff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ADMINISTRATIV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ON INDIVIDUAL </a:t>
            </a:r>
            <a:r>
              <a:rPr b="1" lang="sl-SI" sz="2000" spc="-1" strike="noStrike">
                <a:solidFill>
                  <a:srgbClr val="003b76"/>
                </a:solidFill>
                <a:latin typeface="Arial CE"/>
              </a:rPr>
              <a:t>HOL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22280" y="2666880"/>
            <a:ext cx="1968120" cy="2590560"/>
            <a:chOff x="422280" y="2666880"/>
            <a:chExt cx="1968120" cy="2590560"/>
          </a:xfrm>
        </p:grpSpPr>
        <p:sp>
          <p:nvSpPr>
            <p:cNvPr id="246" name=""/>
            <p:cNvSpPr/>
            <p:nvPr/>
          </p:nvSpPr>
          <p:spPr>
            <a:xfrm>
              <a:off x="422280" y="2666880"/>
              <a:ext cx="1968120" cy="129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 CE"/>
                </a:rPr>
                <a:t>ADDRESS DA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2280" y="3962160"/>
              <a:ext cx="1968120" cy="129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 CE"/>
                </a:rPr>
                <a:t>FARM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 CE"/>
                </a:rPr>
                <a:t>CHARACTERIS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0" y="2208600"/>
            <a:ext cx="27795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Arial CE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828800" y="762120"/>
            <a:ext cx="9842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51" idx="1"/>
            <a:endCxn id="249" idx="0"/>
          </p:cNvCxnSpPr>
          <p:nvPr/>
        </p:nvCxnSpPr>
        <p:spPr>
          <a:xfrm flipV="1" rot="10800000">
            <a:off x="1828080" y="1305360"/>
            <a:ext cx="3012120" cy="599400"/>
          </a:xfrm>
          <a:prstGeom prst="bentConnector4">
            <a:avLst>
              <a:gd name="adj1" fmla="val 33313"/>
              <a:gd name="adj2" fmla="val 138161"/>
            </a:avLst>
          </a:prstGeom>
          <a:ln w="0">
            <a:noFill/>
          </a:ln>
        </p:spPr>
      </p:cxnSp>
      <p:sp>
        <p:nvSpPr>
          <p:cNvPr id="252" name=""/>
          <p:cNvSpPr/>
          <p:nvPr/>
        </p:nvSpPr>
        <p:spPr>
          <a:xfrm>
            <a:off x="2813040" y="2590920"/>
            <a:ext cx="1689120" cy="1066680"/>
          </a:xfrm>
          <a:prstGeom prst="leftArrow">
            <a:avLst>
              <a:gd name="adj1" fmla="val 50000"/>
              <a:gd name="adj2" fmla="val 3958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Arial CE"/>
              </a:rPr>
              <a:t>UPDA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Arial CE"/>
              </a:rPr>
              <a:t>PROCED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5229360"/>
            <a:ext cx="2251080" cy="1066680"/>
          </a:xfrm>
          <a:prstGeom prst="rightArrow">
            <a:avLst>
              <a:gd name="adj1" fmla="val 50000"/>
              <a:gd name="adj2" fmla="val 52759"/>
            </a:avLst>
          </a:prstGeom>
          <a:solidFill>
            <a:srgbClr val="c0c0c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OUTPU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1640" y="4869000"/>
            <a:ext cx="4586400" cy="1989000"/>
          </a:xfrm>
          <a:prstGeom prst="flowChartMultidocument">
            <a:avLst/>
          </a:prstGeom>
          <a:solidFill>
            <a:srgbClr val="ccecff"/>
          </a:solidFill>
          <a:ln w="38160">
            <a:solidFill>
              <a:srgbClr val="003b76"/>
            </a:solidFill>
            <a:miter/>
          </a:ln>
          <a:effectLst>
            <a:outerShdw dist="250128" dir="1436744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b76"/>
                </a:solidFill>
                <a:latin typeface="Arial CE"/>
              </a:rPr>
              <a:t>-REVIEW OF COURENT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b76"/>
                </a:solidFill>
                <a:latin typeface="Arial CE"/>
              </a:rPr>
              <a:t>-REVIEW OF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b76"/>
                </a:solidFill>
                <a:latin typeface="Arial CE"/>
              </a:rPr>
              <a:t>-LISTS OF HOLDINGS (sam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b76"/>
                </a:solidFill>
                <a:latin typeface="Arial CE"/>
              </a:rPr>
              <a:t>frame, addres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0815000">
            <a:off x="912600" y="761760"/>
            <a:ext cx="3798720" cy="1450800"/>
          </a:xfrm>
          <a:custGeom>
            <a:avLst/>
            <a:gdLst>
              <a:gd name="textAreaLeft" fmla="*/ 1266120 w 3798720"/>
              <a:gd name="textAreaRight" fmla="*/ 3253680 w 3798720"/>
              <a:gd name="textAreaTop" fmla="*/ 896400 h 1450800"/>
              <a:gd name="textAreaBottom" fmla="*/ 1242720 h 1450800"/>
            </a:gdLst>
            <a:ahLst/>
            <a:rect l="textAreaLeft" t="textAreaTop" r="textAreaRight" b="textAreaBottom"/>
            <a:pathLst>
              <a:path w="21600" h="21600">
                <a:moveTo>
                  <a:pt x="0" y="16445"/>
                </a:moveTo>
                <a:lnTo>
                  <a:pt x="13345" y="16445"/>
                </a:lnTo>
                <a:lnTo>
                  <a:pt x="13345" y="7200"/>
                </a:lnTo>
                <a:lnTo>
                  <a:pt x="10245" y="7200"/>
                </a:lnTo>
                <a:lnTo>
                  <a:pt x="1592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Arial CE"/>
              </a:rPr>
              <a:t>UPDA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Arial CE"/>
              </a:rPr>
              <a:t>PROCED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87680" y="289080"/>
            <a:ext cx="169920" cy="33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-304920"/>
            <a:ext cx="84218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66ccff"/>
                </a:solidFill>
                <a:latin typeface="Arial CE"/>
              </a:rPr>
              <a:t>UPDATING stat. farm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32360" y="2060640"/>
            <a:ext cx="3446640" cy="1371600"/>
          </a:xfrm>
          <a:prstGeom prst="flowChartMultidocument">
            <a:avLst/>
          </a:prstGeom>
          <a:solidFill>
            <a:srgbClr val="ffffcc"/>
          </a:solidFill>
          <a:ln w="38160">
            <a:solidFill>
              <a:srgbClr val="003b76"/>
            </a:solidFill>
            <a:miter/>
          </a:ln>
          <a:effectLst>
            <a:outerShdw dist="352991" dir="19784867" blurRad="0" rotWithShape="0">
              <a:srgbClr val="ff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DATA FR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STATIST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3b76"/>
                </a:solidFill>
                <a:latin typeface="Arial CE"/>
              </a:rPr>
              <a:t>REG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620640"/>
            <a:ext cx="3446640" cy="1371600"/>
          </a:xfrm>
          <a:prstGeom prst="flowChartMultidocument">
            <a:avLst/>
          </a:prstGeom>
          <a:solidFill>
            <a:srgbClr val="ffffcc"/>
          </a:solidFill>
          <a:ln w="38160">
            <a:solidFill>
              <a:srgbClr val="003b76"/>
            </a:solidFill>
            <a:miter/>
          </a:ln>
          <a:effectLst>
            <a:outerShdw dist="352991" dir="19784867" blurRad="0" rotWithShape="0">
              <a:srgbClr val="ff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DATA FR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STATIST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SURVEY</a:t>
            </a:r>
            <a:r>
              <a:rPr b="1" lang="sl-SI" sz="2000" spc="-1" strike="noStrike">
                <a:solidFill>
                  <a:srgbClr val="003b76"/>
                </a:solidFill>
                <a:latin typeface="Arial CE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920" y="2276640"/>
            <a:ext cx="69105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Use of administrative sources - as much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reduce costs, no response burden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(current and expected) difficul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ith using administrative data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methodological work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200" y="1844640"/>
            <a:ext cx="6848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Example 1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different classifications used in different data sourc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milk and milk products stat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Example 2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Use of IACS* dat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not enough detailed list of variab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good quality data are only data on financial supported 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20" y="6021360"/>
            <a:ext cx="51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* IASC = Integrated Administrative and Control 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68360" y="2852640"/>
          <a:ext cx="5896080" cy="1647720"/>
        </p:xfrm>
        <a:graphic>
          <a:graphicData uri="http://schemas.openxmlformats.org/drawingml/2006/table">
            <a:tbl>
              <a:tblPr/>
              <a:tblGrid>
                <a:gridCol w="1965240"/>
                <a:gridCol w="1965240"/>
                <a:gridCol w="1965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Type of chee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Dairy statistic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C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of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8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&gt; 7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Medium-sof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2%; &lt; 68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&gt; 62%; </a:t>
                      </a: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7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Medium-h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55%; &lt; 6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&gt; 52%; </a:t>
                      </a: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6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H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47%; &lt; 5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&gt; 47%; </a:t>
                      </a: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5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Extra h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&lt; 4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4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2205000"/>
            <a:ext cx="80121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Data disse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ernet dissemination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(SI-STAT): use of pc-ax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aration and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ssemination of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a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cording to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cial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eds of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       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s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: use of Oracle Discover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for fast tabul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516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2200" y="404640"/>
            <a:ext cx="51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he future of agriculture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7080" y="1773360"/>
            <a:ext cx="6810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Continuation of building a statistical system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tha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economical in data col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djustable as regards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nd provid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quality and objective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New approach and new knowledge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in preparing statistical da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the needs are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need for harmonisation of administrative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832360" cy="3313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933800" y="18900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ccecff"/>
                </a:solidFill>
                <a:latin typeface="Arial"/>
              </a:rPr>
              <a:t>future demand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ccecff"/>
                </a:solidFill>
                <a:latin typeface="Arial"/>
              </a:rPr>
              <a:t>future agricultural statist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8400" y="3573360"/>
            <a:ext cx="46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ccecff"/>
                </a:solidFill>
                <a:latin typeface="Arial"/>
              </a:rPr>
              <a:t>present agricultural statistic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ccecff"/>
                </a:solidFill>
                <a:latin typeface="Arial"/>
              </a:rPr>
              <a:t>if you want to be up-to-date in the futur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ccecff"/>
                </a:solidFill>
                <a:latin typeface="Arial"/>
              </a:rPr>
              <a:t>you must forsee future demand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040" y="6519960"/>
            <a:ext cx="526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Barbara KUTIN, 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69228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Structure of the 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844640"/>
            <a:ext cx="879444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Introduction: Agriculture in 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justment of agriculture statistics to requirements of the E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other international organis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period up to 2000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period after 200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uture of agriculture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040" y="6519960"/>
            <a:ext cx="526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Barbara KUTIN, 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69228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Introduction: Agriculture in 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8320" y="1844640"/>
            <a:ext cx="540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rea (Register of Spatial Units, 2001)    20 273 k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wooded area  60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all agricultural area 34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other 6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357720"/>
            <a:ext cx="532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Population of RS (2002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1 964 0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Population on family farms’ households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(AC, 2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322 981 or </a:t>
            </a: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16 % of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960" y="4941720"/>
            <a:ext cx="50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GDP of Agriculture, Hunting and Forestry (20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2,8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pritisni za povečavo"/>
          <p:cNvPicPr/>
          <p:nvPr/>
        </p:nvPicPr>
        <p:blipFill>
          <a:blip r:embed="rId1"/>
          <a:stretch/>
        </p:blipFill>
        <p:spPr>
          <a:xfrm>
            <a:off x="3619440" y="2747880"/>
            <a:ext cx="1905120" cy="136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5796000" y="4646520"/>
          <a:ext cx="3348000" cy="22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4646520"/>
                    <a:ext cx="334800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796000" y="2492280"/>
          <a:ext cx="3348000" cy="214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2492280"/>
                    <a:ext cx="334800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50920" y="1197000"/>
          <a:ext cx="6588000" cy="31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6588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040" y="6519960"/>
            <a:ext cx="526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Barbara KUTIN, 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000" y="692280"/>
            <a:ext cx="4709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Selected indicators on farm structure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400" y="11592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Introduction: Agriculture in 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402240" y="3716280"/>
          <a:ext cx="274176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2240" y="3716280"/>
                    <a:ext cx="2741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50920" y="3933720"/>
            <a:ext cx="2808360" cy="2527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00000" y="1773360"/>
            <a:ext cx="2448000" cy="7920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87560" y="19890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Verdana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040" y="6519960"/>
            <a:ext cx="526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Barbara KUTIN, 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6400" y="11592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Introduction: Agriculture in 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000" y="692280"/>
            <a:ext cx="4709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Selected indicators on farm structure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987640" y="1052640"/>
          <a:ext cx="5688000" cy="301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052640"/>
                    <a:ext cx="568800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79280" y="3789360"/>
          <a:ext cx="5276880" cy="251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789360"/>
                    <a:ext cx="52768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040" y="6519960"/>
            <a:ext cx="526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Barbara KUTIN, 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4520" y="3503520"/>
            <a:ext cx="6050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24922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560" y="981000"/>
            <a:ext cx="72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Agricultural, Forestry and Fishing statistics: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review of surve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1440" y="1844640"/>
            <a:ext cx="108432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2492280"/>
            <a:ext cx="165708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56536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17760" y="2538360"/>
            <a:ext cx="183060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Farm Structur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8880" y="3284640"/>
            <a:ext cx="123696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Cro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3600" y="3284640"/>
            <a:ext cx="123696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Anim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4680" y="4076640"/>
            <a:ext cx="131760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Agricultu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Pr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7240" y="3284640"/>
            <a:ext cx="110412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Forestry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Hun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81040" y="3284640"/>
            <a:ext cx="105840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Fishe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statis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4221000"/>
            <a:ext cx="1819440" cy="115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cc"/>
                </a:solidFill>
                <a:latin typeface="Arial"/>
              </a:rPr>
              <a:t>Use of pesticides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cc"/>
                </a:solidFill>
                <a:latin typeface="Arial"/>
              </a:rPr>
              <a:t>manure, energy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cc"/>
                </a:solidFill>
                <a:latin typeface="Arial"/>
              </a:rPr>
              <a:t>water in agricul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l-SI" sz="1400" spc="-1" strike="noStrike">
                <a:solidFill>
                  <a:srgbClr val="ffffcc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284640"/>
            <a:ext cx="165708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84640"/>
            <a:ext cx="165744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3284640"/>
            <a:ext cx="1657440" cy="64764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3284640"/>
            <a:ext cx="1657440" cy="64764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4076640"/>
            <a:ext cx="1657440" cy="57636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4076640"/>
            <a:ext cx="1730520" cy="115272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8360" y="1989000"/>
            <a:ext cx="2448000" cy="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55640" y="1989000"/>
            <a:ext cx="2448000" cy="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1989000"/>
            <a:ext cx="0" cy="115272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4149720"/>
            <a:ext cx="0" cy="180036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1989000"/>
            <a:ext cx="0" cy="115272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96360" y="4149720"/>
            <a:ext cx="0" cy="180036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5950080"/>
            <a:ext cx="6840720" cy="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5300640"/>
            <a:ext cx="165744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9040" y="5300640"/>
            <a:ext cx="145188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Internat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dema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08720" y="148428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3960" y="1773360"/>
            <a:ext cx="2983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ccff"/>
                </a:solidFill>
                <a:latin typeface="Arial"/>
              </a:rPr>
              <a:t>Administrative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70880" y="5877000"/>
            <a:ext cx="2983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ccff"/>
                </a:solidFill>
                <a:latin typeface="Arial"/>
              </a:rPr>
              <a:t>Administrative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692360" y="3789000"/>
            <a:ext cx="5759280" cy="21589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635280" y="3715920"/>
            <a:ext cx="3673440" cy="20890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451640" y="4005360"/>
            <a:ext cx="0" cy="19447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932000" y="2133720"/>
            <a:ext cx="2376360" cy="79056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508720" y="2060640"/>
            <a:ext cx="1728720" cy="11509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140360" y="4508280"/>
            <a:ext cx="3240000" cy="136836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760" y="40464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Introduction: Agriculture in 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4724280"/>
            <a:ext cx="1657440" cy="5050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6680" y="47973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AA, S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up to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9560" y="2209680"/>
            <a:ext cx="5907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Data collection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up to 1997: on the basis of estimates by statisticia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nd experts on the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since 1997 data have been collected in different way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(also with sample survays with interview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up to 2000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2349360"/>
            <a:ext cx="7848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Determination of the treshold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(criteria for European size class agricultural holdings)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and definitions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djustment of definitions of agricultural holding and agricultural production to the EU recommendations on the basis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U legalislation and thresholds used in some EU Member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determination of the treshol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44960" y="1197000"/>
            <a:ext cx="66560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</a:rPr>
              <a:t>Final treshold for the AC 2000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 (124 234 agricultural holdings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finally 93 34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All agricultural holdings which hav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a) at least 1hectare of UAA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b) less than 1 hectare of UAA, b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1 ha of UAA and 0.9 ha of forest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5 ha of arable land and kitchen garden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05 ha of intensive vineyard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3 ha of all vineyard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1 ha of orchard plantation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3 ha of all orchard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3 ha of vineyards and orchard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1 and more livestock units (LSU)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more than 50 beehive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re market producers of vegetab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</a:rPr>
              <a:t>Most data are presented for the agricultural holdigs satisfying the criteria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</a:rPr>
              <a:t>the EU comparable treshold 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(86 466 agricultural holdings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a) at least 1hectare of UAA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b) less than 1 hectare of UAA, b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1 ha of UAA and 0.9 ha of forest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3 ha of vineyards and / or orchard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2 or more livestock units (LSU)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0.15 – 0.3 ha of vineyards and 1 or 2 LSU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more than 50 beehive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re market producers of vegetab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up to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8:42:40Z</dcterms:created>
  <dc:creator>Kutin Barbara</dc:creator>
  <dc:description/>
  <dc:language>en-US</dc:language>
  <cp:lastModifiedBy>CoviRo</cp:lastModifiedBy>
  <dcterms:modified xsi:type="dcterms:W3CDTF">2005-03-02T16:22:34Z</dcterms:modified>
  <cp:revision>160</cp:revision>
  <dc:subject/>
  <dc:title>Slide 1</dc:title>
</cp:coreProperties>
</file>