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3C37-93EB-4573-A4DB-5ABA66C8C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A462-A55B-4742-B49C-7D6004EEE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6A95C-D97D-4172-B29D-8020A100B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BFBFC-58E5-4DD7-BEA9-54F8A8010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3B011-6BCF-421C-B62D-A906F20BE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E58A6-EF27-4FE8-9B5D-B5C801659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AB662-E5AB-4060-B11B-CE7742D21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4365C-A564-4F25-983A-873AF051A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217EF-6CFA-4F79-8479-3199DC95E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6595-60A8-4563-A72C-684EB7886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32678-6F84-423A-B535-BB45B5E74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E939-CE84-4F50-B753-D3B80F9F5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7C38D-877B-4BAD-B3CD-C99A6A4F8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824A-839F-4A27-8452-FA9F8347B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1BC98-0A11-4AEB-836F-04F846F05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D6DBD-E8E9-4BCF-B848-5B34243A1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CC486-F772-4568-910D-39D8AB972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BE05-AA74-4A21-BDF5-578D8AD6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99997-76D6-44E7-A240-A00E845BC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4EBD-CFD5-4AD2-B747-493586CF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E0FB-285E-456B-9235-D0C692E4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1265-5B59-4A4B-B1D0-AC2051DE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AE01-8C97-4383-918C-1D47F90E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FAE6-2BC1-4BA1-801C-91AA0E43A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CB6B-B352-4FE4-8545-EB66B2086B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F6A5-7135-4203-8383-985BF87FE0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828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Measurement and Analysis of Rural Household Income in a Dualistic Economy: The Case of South Africa</a:t>
            </a:r>
            <a:endParaRPr b="0" lang="en-US" sz="4400" spc="-1" strike="noStrike">
              <a:solidFill>
                <a:srgbClr val="ffcc66"/>
              </a:solidFill>
              <a:latin typeface="Arial"/>
            </a:endParaRPr>
          </a:p>
        </p:txBody>
      </p:sp>
      <p:sp>
        <p:nvSpPr>
          <p:cNvPr id="89" name="PlaceHolder 2"/>
          <p:cNvSpPr>
            <a:spLocks noGrp="1"/>
          </p:cNvSpPr>
          <p:nvPr>
            <p:ph type="subTitle"/>
          </p:nvPr>
        </p:nvSpPr>
        <p:spPr>
          <a:xfrm>
            <a:off x="1143000" y="3886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ann Kirst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Preto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p;</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ter Moldenhau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Agricul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ea typeface="Times New Roman"/>
              </a:rPr>
              <a:t>Farming Income and Non-farm Income As a Percentage of Total Income of Farm Households in South Africa</a:t>
            </a:r>
            <a:r>
              <a:rPr b="0" lang="en-GB" sz="4400" spc="-1" strike="noStrike">
                <a:solidFill>
                  <a:srgbClr val="ffcc66"/>
                </a:solidFill>
                <a:latin typeface="Arial"/>
                <a:ea typeface="Times New Roman"/>
              </a:rPr>
              <a:t> </a:t>
            </a:r>
            <a:endParaRPr b="0" lang="en-US" sz="4400" spc="-1" strike="noStrike">
              <a:solidFill>
                <a:srgbClr val="ffcc66"/>
              </a:solidFill>
              <a:latin typeface="Arial"/>
            </a:endParaRPr>
          </a:p>
        </p:txBody>
      </p:sp>
      <p:graphicFrame>
        <p:nvGraphicFramePr>
          <p:cNvPr id="107" name=""/>
          <p:cNvGraphicFramePr/>
          <p:nvPr/>
        </p:nvGraphicFramePr>
        <p:xfrm>
          <a:off x="0" y="1447920"/>
          <a:ext cx="9144000" cy="5159160"/>
        </p:xfrm>
        <a:graphic>
          <a:graphicData uri="http://schemas.openxmlformats.org/presentationml/2006/ole">
            <p:oleObj progId="Excel.Sheet.12" r:id="rId1" spid="">
              <p:embed/>
              <p:pic>
                <p:nvPicPr>
                  <p:cNvPr id="108" name="" descr=""/>
                  <p:cNvPicPr/>
                  <p:nvPr/>
                </p:nvPicPr>
                <p:blipFill>
                  <a:blip r:embed="rId2"/>
                  <a:stretch/>
                </p:blipFill>
                <p:spPr>
                  <a:xfrm>
                    <a:off x="0" y="1447920"/>
                    <a:ext cx="9144000" cy="51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revealed that only 13.7% of total farming operations were situated in the Former SA, received 98.8% of total farm income. </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farm income was far more important in the former homeland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943 000 farming operations in the former homelands covered a total land surface of 97,3 million hectares while the 150 000 farming operations in the former South Africa covered a total land surface of 217,98 million hectar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ea typeface="Times New Roman"/>
              </a:rPr>
              <a:t>Total land surface of farming operations according to geographical locat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2"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 name=""/>
          <p:cNvGraphicFramePr/>
          <p:nvPr/>
        </p:nvGraphicFramePr>
        <p:xfrm>
          <a:off x="611280" y="1844640"/>
          <a:ext cx="7956360" cy="4556160"/>
        </p:xfrm>
        <a:graphic>
          <a:graphicData uri="http://schemas.openxmlformats.org/presentationml/2006/ole">
            <p:oleObj progId="Excel.Sheet.12" r:id="rId1" spid="">
              <p:embed/>
              <p:pic>
                <p:nvPicPr>
                  <p:cNvPr id="114" name="" descr=""/>
                  <p:cNvPicPr/>
                  <p:nvPr/>
                </p:nvPicPr>
                <p:blipFill>
                  <a:blip r:embed="rId2"/>
                  <a:stretch/>
                </p:blipFill>
                <p:spPr>
                  <a:xfrm>
                    <a:off x="611280" y="1844640"/>
                    <a:ext cx="7956360" cy="45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sus of Commercial Agriculture 2002</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again it only covered the activities on commercial farms in South Africa.</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 purposes of the census, a commercial farm was defined as a farm that is registered for Value Added Tax (VAT). </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far as income is concerned, one can consider the census as step towards the right dire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sus of Commercial Agriculture 2002 (2)</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 captured all income earned from farming activities as well as other sources of income.</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iggest problem here lies in the last section: ‘other sources of income’. It is not clear whether salaries from non-farm employment were captured he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eliminary findings were released on 15 September 2004.</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results, there were 45 818 active commercial farming units in South Africa in 2002. This is a decrease of 12 162 farming units since the last agricultural census in 1993.</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there were fewer farming units, the gross farming income generated was R53 billion compared to the R39 billion generated in 1993 at 2002 constant pr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incipal Statistics; 1993 &amp; 2002</a:t>
            </a:r>
            <a:endParaRPr b="0" lang="en-US" sz="3600" spc="-1" strike="noStrike">
              <a:solidFill>
                <a:srgbClr val="ffcc66"/>
              </a:solidFill>
              <a:latin typeface="Arial"/>
            </a:endParaRPr>
          </a:p>
        </p:txBody>
      </p:sp>
      <p:graphicFrame>
        <p:nvGraphicFramePr>
          <p:cNvPr id="122" name=""/>
          <p:cNvGraphicFramePr/>
          <p:nvPr/>
        </p:nvGraphicFramePr>
        <p:xfrm>
          <a:off x="380880" y="1981080"/>
          <a:ext cx="8305920" cy="2943360"/>
        </p:xfrm>
        <a:graphic>
          <a:graphicData uri="http://schemas.openxmlformats.org/drawingml/2006/table">
            <a:tbl>
              <a:tblPr/>
              <a:tblGrid>
                <a:gridCol w="2819520"/>
                <a:gridCol w="1333440"/>
                <a:gridCol w="2076480"/>
                <a:gridCol w="2076480"/>
              </a:tblGrid>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e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33"/>
                    </a:solidFill>
                  </a:tcPr>
                </a:tc>
              </a:tr>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ming uni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7 9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 81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ploym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161 9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86 84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ployees’ remuneration (constant 2002 pric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782 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215 58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ss farming income (constant 2002 pric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 813 29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2 971 2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ss farming income as released on 15 Sep 2004, only includes income earned from agricultural products sold.</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hold income was once again not repor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ural Indicators / Surveys</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or to democracy in 1994, government had little interest very few surveys were undertaken in the former homeland areas.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udies and data ‘panel-beating’ exercises tried to fill this information ga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SLSD, 1993</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ject for Statistics and Living Standards and Development (PSLSD) was the first South African household survey.</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undertaken in the last half of 1993 by a consortium of South African survey groups and universiti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 comprehensive household survey and collected a broad array of information on the socio-economic conditions of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sence of the problem</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egular agricultural censuses and intermittent agricultural surveys provided a relatively good overview of farm income, assets, land size, etc. in the so-called ‘commercial sector’.</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ly very limited statistics on farm household activities, sales, income was available from the agricultural sector in the ‘former homelands’.</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IDS 1993 - 1997</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KwaZulu-Natal Income Dynamics Survey (KIDS) was a re-survey of households surveyed by the PSLSD in KwaZulu-Natal with the aim of addressing the dynamics of poverty in South Afr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Rural Survey of 1997</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conducted by Statistics South Africa (STATSSA) in 1997.</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specifically designed to provide in-depth information about living conditions of rural households in the former homelands of South Africa.</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mpling frame was derived from the 1996 population census database and yielded a sample of +/- 6 000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ne 1997, about 12.7 million people, or 31.4% of the total South African population, lived in rural areas of the former homelands of South Africa.</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o farmland is crucial for these rural households since they either depend entirely on farming activities for their survival and generation of income, or depend on these activities to supplement their main source or sources of inco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 (2)</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many as 71% of the 2.4 million households (approximately 1.7 million) in the rural areas in the former homelands had access to land for farming purposes. </a:t>
            </a:r>
            <a:endParaRPr b="0" lang="en-US" sz="2800" spc="-1" strike="noStrike">
              <a:solidFill>
                <a:srgbClr val="ffffff"/>
              </a:solidFill>
              <a:latin typeface="Times New Roman"/>
            </a:endParaRPr>
          </a:p>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3% of the 2.4 million households in the sample relied on farming activities as their main source of income. </a:t>
            </a:r>
            <a:endParaRPr b="0" lang="en-US" sz="2800" spc="-1" strike="noStrike">
              <a:solidFill>
                <a:srgbClr val="ffffff"/>
              </a:solidFill>
              <a:latin typeface="Times New Roman"/>
            </a:endParaRPr>
          </a:p>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hold income was mostly generated from household members’ salaries and wages and pensions received by the senior citizens of the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ost Important Sources of Income of Households in Rural Areas</a:t>
            </a:r>
            <a:endParaRPr b="0" lang="en-US" sz="2800" spc="-1" strike="noStrike">
              <a:solidFill>
                <a:srgbClr val="ffcc66"/>
              </a:solidFill>
              <a:latin typeface="Arial"/>
            </a:endParaRPr>
          </a:p>
        </p:txBody>
      </p:sp>
      <p:sp>
        <p:nvSpPr>
          <p:cNvPr id="138" name=""/>
          <p:cNvSpPr/>
          <p:nvPr/>
        </p:nvSpPr>
        <p:spPr>
          <a:xfrm>
            <a:off x="19144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9" name=""/>
          <p:cNvGraphicFramePr/>
          <p:nvPr/>
        </p:nvGraphicFramePr>
        <p:xfrm>
          <a:off x="380880" y="1219320"/>
          <a:ext cx="8458200" cy="5306760"/>
        </p:xfrm>
        <a:graphic>
          <a:graphicData uri="http://schemas.openxmlformats.org/presentationml/2006/ole">
            <p:oleObj progId="Excel.Sheet.12" r:id="rId1" spid="">
              <p:embed/>
              <p:pic>
                <p:nvPicPr>
                  <p:cNvPr id="140" name="" descr=""/>
                  <p:cNvPicPr/>
                  <p:nvPr/>
                </p:nvPicPr>
                <p:blipFill>
                  <a:blip r:embed="rId2"/>
                  <a:stretch/>
                </p:blipFill>
                <p:spPr>
                  <a:xfrm>
                    <a:off x="380880" y="1219320"/>
                    <a:ext cx="845820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onclusion:</a:t>
            </a:r>
            <a:r>
              <a:rPr b="1" lang="en-GB" sz="2800" spc="-1" strike="noStrike">
                <a:solidFill>
                  <a:srgbClr val="ffcc66"/>
                </a:solidFill>
                <a:latin typeface="Arial"/>
                <a:ea typeface="Times New Roman"/>
              </a:rPr>
              <a:t> Treatment of household income in different agricultural and rural surveys</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142" name=""/>
          <p:cNvGraphicFramePr/>
          <p:nvPr/>
        </p:nvGraphicFramePr>
        <p:xfrm>
          <a:off x="228600" y="1371600"/>
          <a:ext cx="8686800" cy="5105160"/>
        </p:xfrm>
        <a:graphic>
          <a:graphicData uri="http://schemas.openxmlformats.org/drawingml/2006/table">
            <a:tbl>
              <a:tblPr/>
              <a:tblGrid>
                <a:gridCol w="2895480"/>
                <a:gridCol w="2895840"/>
                <a:gridCol w="2895480"/>
              </a:tblGrid>
              <a:tr h="394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rvey / Censu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verag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come definiti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33"/>
                    </a:solidFill>
                  </a:tcPr>
                </a:tc>
              </a:tr>
              <a:tr h="60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census 199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commercial farms in former ‘white’ South Afric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census 200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commercial farms (farms registered for V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 PLUS other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surveys: 1994, 1995, 1996</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 of commercial farms in former ‘white’ South Afric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rvey of large and small scale agriculture, 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rm households in ‘former homelands’ and commercial farm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SDS 199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of 9000 urban and rural household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DS, 1998</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e households from PSLDS in KwaZulu-Natal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ural Survey, 1997</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useholds in former homeland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sence of the problem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None of the agricultural censuses in the pre-1994 years covered these regions resulting in only a one-sided picture of the total agricultural sector and also a total data void on rural households and livelihoods in the ‘former homeland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s for Rural Income Measurement &amp; Analysi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ricultural censuses &amp; survey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ral indicators / survey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information source on farming incom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d not consider total household incom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es &amp; surveys were regularly conducted.</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re mainly based on mail questionnaires, which farmers had to complet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were fairly aggregat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 (2)</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only covered the so-called ‘commercial sector.’</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in the homelands were excluded from the censuses &amp; surveys.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d a fairly good coverag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me were measured solely on income earned from agricultural activiti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ly because farming was considered a full-time activ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 (3)</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es and surveys continued to exclude farmers from the former homeland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the vital information needed to steer policy in the new democracy was not availa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rvey of Large &amp; Small-scale Agriculture 2000</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as Statistics South Africa’s first attempt to collect data on the small-scale and subsistence farming sector in south Africa.</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d the farming sector into a former south Africa and a former homelands region.</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er SA: large-scale commercial farm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er homelands: small &amp; subsistence farms from the former homelan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rvey of Large &amp; Small-scale Agriculture 2000 (Income)</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as the first attempt to measure income as the amount generated from agricultural and non-agricultural activities.</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contained information on total income, farming turnover, expenses, debt, farming profit and total profi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was useful to estimate non-farm income for the 2 reg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viRo</cp:lastModifiedBy>
  <dcterms:modified xsi:type="dcterms:W3CDTF">2005-03-25T19:02:26Z</dcterms:modified>
  <cp:revision>18</cp:revision>
  <dc:subject/>
  <dc:title>PowerPoint Presentation</dc:title>
</cp:coreProperties>
</file>