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2C2-79DA-4232-91EF-10F6EDF1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648-0B3B-4903-9EA1-B9F1A51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1CD-4CF8-4DD8-A09F-ED1BBB35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05F-CFD4-410B-BBAE-9705B0DD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88BA-8AB8-41B1-95B9-F7D6EF41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8211-687E-4505-89E5-819A1BDA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AE3D-779C-4B69-8432-C4BB5E84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75E-37DD-483A-A571-A7154818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DF0-A9BA-4198-BFFC-5F47F93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1F9-FD7D-4C5B-9A05-0066EC0C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8B50-9AA5-4D8A-86E4-3A5CB1C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B9E-06E6-4E14-96C6-C5E833B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1FA-0CEA-45D0-BD49-F815E69E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296A-44B1-4EBC-8FEC-C9B9C57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9AFB-1058-48F2-A5E5-CF16136E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2F60-529B-4B3B-9F96-96480EA9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371-6B08-4194-BC48-ABFF7C64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6B6-48F4-4D11-82C3-7675165A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BEE-B223-4FE3-AF77-92BCB3DC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294-4452-4449-8031-1DC1FC9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7B0-AC0B-42C1-A08E-D23501C5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267-B263-4839-BA60-1BDBEB96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EF7-B9B6-4C5A-B37A-A744073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D3C-E9D7-474F-AA7F-B622399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number </a:t>
            </a:r>
            <a:fld id="{8B803E1F-649A-47CB-8F6A-32049FF2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649440"/>
            <a:ext cx="9142560" cy="6742080"/>
            <a:chOff x="0" y="64944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88764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649440"/>
              <a:ext cx="9142560" cy="3238200"/>
              <a:chOff x="0" y="64944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350676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a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649440"/>
                <a:ext cx="2286000" cy="3149280"/>
                <a:chOff x="3633840" y="64944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73656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310644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92088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64944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55608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93168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1179360"/>
                <a:ext cx="2209680" cy="1760760"/>
                <a:chOff x="3287880" y="117936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8241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87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80828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86840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210168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229536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235440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65752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56852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603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54152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117936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67796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234324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240336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252720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89728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249552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aris21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ational Strategies for the Development of Statistics and Their Impact on Agricultural and Rural Statistics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raham Eele, World Bank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quality to be as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wide range of data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gencies involved in compilation and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undament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oordination and harmonization based on existing processes such as G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2FC-F9A8-4185-96F5-EA60A25C022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rategic planning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national and system-wide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s medium to long-term tim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etailed assessment of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goals and targets –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nd prioritizes actions and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detailed implem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1F6-0F7A-466C-A263-6BAF1B136B4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How it works in practic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as important a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mprehensive and inclusive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leadership and polit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building in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in mechanisms for monitoring and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F32-CA4C-49F8-BADB-3FD8C9328C8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Implications for Agricultural and Rural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105-6552-463F-A549-17BB08618D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Getting involved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being part of NSD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olit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ing active participation in coordi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ble to specify clear goal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585-FA3F-4CE4-B4F3-5C9E7AB1CA6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Focusing on result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NSDS should be better use of statistics, not just better funde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“quick w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better coordination of statistic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to re-build statistical systems, in line with national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B9-6701-491A-9A72-B40B96EE511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ome technical issu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common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se of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ms of data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221-6F1A-4B0E-80C6-A0565E97834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BB1-B014-4444-A709-968D98057B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Issues and opportuniti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demand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the case for investment i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or coordination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data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ng value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A9A-272A-4299-B24F-BAF0A604B2B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in exist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for 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ractice material from PARIS21 (</a:t>
            </a:r>
            <a:r>
              <a:rPr b="0" lang="en-US" sz="3200" spc="-1" strike="noStrike" u="sng">
                <a:solidFill>
                  <a:srgbClr val="85adff"/>
                </a:solidFill>
                <a:uFillTx/>
                <a:latin typeface="Arial"/>
                <a:hlinkClick r:id="rId1"/>
              </a:rPr>
              <a:t>www.paris21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road map/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requirements for financial and technical assistance (TFSC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E1B-AFD7-44DB-ADF6-9D9C876596F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portunities fo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strategies for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ications for Agricultural and Rur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171-D0DB-4185-BFAB-28BD8A6CE057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ew Opportunities for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F99-03E2-40F6-9DB5-0ABF2C8011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The case for better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nage the business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nd monitor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information for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ternational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C91-6AF9-4C3D-AF6F-C03C26DBAA0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The role of government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 statistics are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d from general t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the business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nformation assists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for transparency and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44B-5D5B-4E7E-BDD3-D16FFC17066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atistics and developmen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cognition of need for good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G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reduc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many statistical systems, especially in developing countries are und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AA3-AC5E-460E-9427-A7937A2C1BB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atistical capacity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7906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47640" y="1198440"/>
          <a:ext cx="784872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198440"/>
                    <a:ext cx="784872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A04-365E-48B3-B838-5D0BDB86D28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ational strategies for the development of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36B-C94F-4377-9C24-F526E98764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 not new to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spond to changing demand, but with supply that changes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f allocating scarc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competing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mphasis on efficiency and value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744-40C3-401B-BE8D-BF6E351B98C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DDG</dc:creator>
  <dc:description/>
  <dc:language>en-US</dc:language>
  <cp:lastModifiedBy>wb55993</cp:lastModifiedBy>
  <cp:lastPrinted>2000-10-26T12:59:04Z</cp:lastPrinted>
  <dcterms:modified xsi:type="dcterms:W3CDTF">2004-10-29T12:52:45Z</dcterms:modified>
  <cp:revision>214</cp:revision>
  <dc:subject/>
  <dc:title>Technical Assistance in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7794164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1</vt:lpwstr>
  </property>
</Properties>
</file>