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66E-B039-45C2-BAC6-131D36C5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842-3916-4D3D-9A40-29973B75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77E-A3D5-49DD-A2A1-7E30DB83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B82-A232-4196-852A-AAFAC5A0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D11F-76CD-45C3-BC43-2FA0ADD6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EC94-119D-47E7-964F-3D18AA51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8B25D-4887-4A03-87D9-A1AE9E9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E321-E2EF-4234-963D-21C37320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2D4A9-C47F-40C6-A134-D7F18AE7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2681-0E6B-48FB-83CD-2BD34639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9CD9-30BC-485E-99EF-1821BA66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76FA-2EBD-408C-9144-E987164F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96F8-59BA-4D91-833B-F9083326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8E61-3407-4490-AA0B-4F3A134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66AA-5CA4-46C2-B8BA-CB48537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AF2F-7D88-4AA6-B796-A8022C4C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6F90-CDDE-478B-8D90-A3BC7F40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9196-76E7-45B0-9BB4-96255273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C812-C21D-4396-908F-E31CACDB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3BD-1C91-490D-9C44-F972556DB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BC55-2E1D-4B41-A8DB-EC5E8361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2696-4052-496E-82C7-10A096D7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6D33-540C-4973-9A83-1F802116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9698-35E2-4B1F-AB36-ABD25953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5ad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number </a:t>
            </a:r>
            <a:fld id="{B8A00969-14FE-4EAF-B8D8-58A371A44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649440"/>
            <a:ext cx="9142560" cy="6742080"/>
            <a:chOff x="0" y="64944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887640"/>
              <a:ext cx="9142560" cy="350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649440"/>
              <a:ext cx="9142560" cy="3238200"/>
              <a:chOff x="0" y="64944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350676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85ad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649440"/>
                <a:ext cx="2286000" cy="3149280"/>
                <a:chOff x="3633840" y="64944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73656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33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310644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92088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64944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55608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3399"/>
                    </a:gs>
                    <a:gs pos="100000">
                      <a:srgbClr val="ffff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93168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1179360"/>
                <a:ext cx="2209680" cy="1760760"/>
                <a:chOff x="3287880" y="117936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8241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87308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80828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86840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210168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229536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235440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65752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56852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60344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54152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117936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67796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234324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240336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252720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89728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249552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aris21.org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560" y="3962520"/>
            <a:ext cx="845820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National Strategies for the Development of Statistics and Their Impact on Agricultural and Rural Statistics</a:t>
            </a: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Graham Eele, World Bank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60195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ational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quality to be ass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ly wide range of data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gencies involved in compilation and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of fundamental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ote coordination and harmonization based on existing processes such as GD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639-08A6-49EA-9FEE-783015D242B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trategic planning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national and system-wide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ers medium to long-term tim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detailed assessment of strengths and wea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goals and targets –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and prioritizes actions and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detailed implement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1DD-D80D-4B6F-9489-CD4352F24C4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How it works in practice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as important as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comprehensive and inclusive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leadership and politic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building in flex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in mechanisms for monitoring and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AB8-76E6-40ED-BEB0-B5C4E10A0643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Implications for Agricultural and Rural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1729-1BFD-47DE-B92E-2D6232DEC77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Getting involved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being part of NSDS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politic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ing active participation in coordinating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able to specify clear goal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45E-91F0-49C7-9D28-D8D006AADF2C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Focusing on result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 of NSDS should be better use of statistics, not just better funded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“quick win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better coordination of statistical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y to re-build statistical systems, in line with national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82A9-7F53-4677-8AC7-C4FF773AB825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ome technical issu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common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se of 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G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orms of data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BBEA-2B26-4E8E-940D-304E8CB71B4F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550-A9D7-4102-AEA1-7791EABD015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Issues and opportunitie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demand an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the case for investment in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or coordination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data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ng value fo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D9D-E6A8-4580-8A36-58FC0EC47A93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ion in exist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for strategic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ractice material from PARIS21 (</a:t>
            </a:r>
            <a:r>
              <a:rPr b="0" lang="en-US" sz="3200" spc="-1" strike="noStrike" u="sng">
                <a:solidFill>
                  <a:srgbClr val="85adff"/>
                </a:solidFill>
                <a:uFillTx/>
                <a:latin typeface="Arial"/>
                <a:hlinkClick r:id="rId1"/>
              </a:rPr>
              <a:t>www.paris21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 road map/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requirements for financial and technical assistance (TFSC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6FEB-BC22-4C44-991B-6E7F2EAB2C02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portunities for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tional strategies for statistic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mplications for Agricultural and Rur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D3C2-106A-4D25-ADD7-E7B20209A50F}" type="slidenum">
              <a:t>2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ew Opportunities for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FE5-C0A0-4A9C-9972-C61D5983142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The case for better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nage the business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and monitor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upport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information for citiz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ternational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2EE-9AC9-4231-8E1B-AC4403F87830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The role of government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ial statistics are public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ed from general ta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for the business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information assists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 for transparency and accoun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7A7-F455-49B6-884B-0D7183C4E87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tatistics and development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recognition of need for good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DG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 reduction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many statistical systems, especially in developing countries are under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05C8-DE1D-4160-8C2A-B5912D260BA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Statistical capacity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179064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47640" y="1198440"/>
          <a:ext cx="7848720" cy="512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198440"/>
                    <a:ext cx="7848720" cy="512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A14-DC47-4392-904D-0CF1285E154B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National strategies for the development of statistics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79F5-8C63-41ED-8FCC-BDFDA636623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4b1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planning not new to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respond to changing demand, but with supply that changes slow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of allocating scarc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ing competing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mphasis on efficiency and value for mo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8CC-A80D-40CE-A644-18B85FC9B6A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DDG</dc:creator>
  <dc:description/>
  <dc:language>en-US</dc:language>
  <cp:lastModifiedBy>wb55993</cp:lastModifiedBy>
  <cp:lastPrinted>2000-10-26T12:59:04Z</cp:lastPrinted>
  <dcterms:modified xsi:type="dcterms:W3CDTF">2004-10-29T12:52:45Z</dcterms:modified>
  <cp:revision>214</cp:revision>
  <dc:subject/>
  <dc:title>Technical Assistance in Statistic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97794164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1</vt:lpwstr>
  </property>
</Properties>
</file>