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1440" y="152280"/>
            <a:ext cx="9150120" cy="6858000"/>
            <a:chOff x="1440" y="152280"/>
            <a:chExt cx="9150120" cy="6858000"/>
          </a:xfrm>
        </p:grpSpPr>
        <p:sp>
          <p:nvSpPr>
            <p:cNvPr id="18" name=""/>
            <p:cNvSpPr/>
            <p:nvPr/>
          </p:nvSpPr>
          <p:spPr>
            <a:xfrm>
              <a:off x="1440" y="5029200"/>
              <a:ext cx="915012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40" y="152280"/>
              <a:ext cx="915012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"/>
          <p:cNvSpPr/>
          <p:nvPr/>
        </p:nvSpPr>
        <p:spPr>
          <a:xfrm>
            <a:off x="6243480" y="6421320"/>
            <a:ext cx="289584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6186600"/>
            <a:ext cx="7845480" cy="850680"/>
            <a:chOff x="0" y="6186600"/>
            <a:chExt cx="7845480" cy="850680"/>
          </a:xfrm>
        </p:grpSpPr>
        <p:sp>
          <p:nvSpPr>
            <p:cNvPr id="22" name=""/>
            <p:cNvSpPr/>
            <p:nvPr/>
          </p:nvSpPr>
          <p:spPr>
            <a:xfrm>
              <a:off x="2362320" y="618660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" name=""/>
            <p:cNvGrpSpPr/>
            <p:nvPr/>
          </p:nvGrpSpPr>
          <p:grpSpPr>
            <a:xfrm>
              <a:off x="3946680" y="6186600"/>
              <a:ext cx="3898800" cy="850680"/>
              <a:chOff x="3946680" y="6186600"/>
              <a:chExt cx="3898800" cy="850680"/>
            </a:xfrm>
          </p:grpSpPr>
          <p:sp>
            <p:nvSpPr>
              <p:cNvPr id="24" name=""/>
              <p:cNvSpPr/>
              <p:nvPr/>
            </p:nvSpPr>
            <p:spPr>
              <a:xfrm>
                <a:off x="6267600" y="6197760"/>
                <a:ext cx="157788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4249800" y="618660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4809960" y="634680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5759280" y="630396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946680" y="629280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0" y="618660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" name=""/>
          <p:cNvGrpSpPr/>
          <p:nvPr/>
        </p:nvGrpSpPr>
        <p:grpSpPr>
          <a:xfrm>
            <a:off x="628560" y="6173640"/>
            <a:ext cx="5684760" cy="849240"/>
            <a:chOff x="628560" y="6173640"/>
            <a:chExt cx="5684760" cy="849240"/>
          </a:xfrm>
        </p:grpSpPr>
        <p:sp>
          <p:nvSpPr>
            <p:cNvPr id="31" name=""/>
            <p:cNvSpPr/>
            <p:nvPr/>
          </p:nvSpPr>
          <p:spPr>
            <a:xfrm>
              <a:off x="1900080" y="617364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085920" y="623088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906640" y="622116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358640" y="625140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122120" y="627048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628560" y="620208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7" name="ubos10" descr=""/>
          <p:cNvPicPr/>
          <p:nvPr/>
        </p:nvPicPr>
        <p:blipFill>
          <a:blip r:embed="rId2"/>
          <a:stretch/>
        </p:blipFill>
        <p:spPr>
          <a:xfrm>
            <a:off x="611280" y="76320"/>
            <a:ext cx="1447560" cy="1371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38" name="" descr=""/>
          <p:cNvPicPr/>
          <p:nvPr/>
        </p:nvPicPr>
        <p:blipFill>
          <a:blip r:embed="rId3"/>
          <a:stretch/>
        </p:blipFill>
        <p:spPr>
          <a:xfrm>
            <a:off x="7164360" y="76320"/>
            <a:ext cx="1419120" cy="13716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9" name=""/>
          <p:cNvSpPr/>
          <p:nvPr/>
        </p:nvSpPr>
        <p:spPr>
          <a:xfrm>
            <a:off x="2211480" y="457200"/>
            <a:ext cx="4724280" cy="414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3399ff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4634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Times New Roman"/>
              </a:rPr>
              <a:t>UGANDA BUREAU OF STATISTIC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534960" y="1600200"/>
            <a:ext cx="8153280" cy="0"/>
          </a:xfrm>
          <a:prstGeom prst="line">
            <a:avLst/>
          </a:prstGeom>
          <a:ln cap="rnd" w="5724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" name="CIMG0019" descr=""/>
          <p:cNvPicPr/>
          <p:nvPr/>
        </p:nvPicPr>
        <p:blipFill>
          <a:blip r:embed="rId4"/>
          <a:stretch/>
        </p:blipFill>
        <p:spPr>
          <a:xfrm>
            <a:off x="3505320" y="2743200"/>
            <a:ext cx="1981080" cy="1905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CIMG0019" descr=""/>
          <p:cNvPicPr/>
          <p:nvPr/>
        </p:nvPicPr>
        <p:blipFill>
          <a:blip r:embed="rId1"/>
          <a:stretch/>
        </p:blipFill>
        <p:spPr>
          <a:xfrm>
            <a:off x="142920" y="1752480"/>
            <a:ext cx="8839080" cy="5005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62120" y="1676520"/>
            <a:ext cx="7848360" cy="4724280"/>
          </a:xfrm>
          <a:prstGeom prst="ellipse">
            <a:avLst/>
          </a:prstGeom>
          <a:solidFill>
            <a:srgbClr val="3399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THE INTEGRATED FRAMEWORK FOR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THE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DEVELOPMENT OF AGRICULTURAL STATISTIC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ffffff"/>
                </a:solidFill>
                <a:latin typeface="Times New Roman"/>
              </a:rPr>
              <a:t>IN UGANDA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 presentation to the participants of the International Con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n Agricultural Statistics (ICAS) II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ancun, Mexico; 2</a:t>
            </a:r>
            <a:r>
              <a:rPr b="1" lang="en-US" sz="2000" spc="-1" strike="noStrike" baseline="30000">
                <a:solidFill>
                  <a:srgbClr val="ffff00"/>
                </a:solidFill>
                <a:latin typeface="Times New Roman"/>
              </a:rPr>
              <a:t>nd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– 4</a:t>
            </a:r>
            <a:r>
              <a:rPr b="1" lang="en-US" sz="20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November 20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J.B. Magezi – Apuuli, Senior Statistici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Uganda Bureau of Statist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38080" y="1595520"/>
            <a:ext cx="8153640" cy="52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TION 3:  THE FRAMEWORK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3.1  Its development coincided with that of the NS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3.2  Its objective: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underpin the development process of the agricultural sector by improving flow of integrated,consistent, accurate and timely data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GB" sz="23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Secondly</a:t>
            </a:r>
            <a:r>
              <a:rPr b="1" lang="en-GB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at providing a description of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ority data requirement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appropriate methods and means of data collec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ted organizational/institutional arrangements for data   product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838080" y="1765440"/>
            <a:ext cx="815364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TION 3:  THE FRAMEWORK (continues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3.3  Assumptions made in the designing of the Framework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ricultural Statistics used in a wider sens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s to be used most efficiently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 done hitherto, is starting point for Framework      implementatio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suring consensus among critical institution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vernment to be committed to Framework implementatio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amework to be attractive to donor community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38080" y="1595520"/>
            <a:ext cx="815364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TION 3:  THE FRAMEWORK (continue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3.4  Main features of the Framework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  User – oriented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   Wide subject coverage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   Flexibility and pragmatism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  Long term perspecti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)   Partnership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)   Integrated approac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5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ent duplication that leads to inconsistent dat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5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hieve cost effectivenes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5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working at cross – purpos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5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e higher quality da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38080" y="1995480"/>
            <a:ext cx="815364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3.4  Main features of the Framework (continu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)   Benefits of continuity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)   Focus on Institutional Capacity Building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ion of a rationalized institutional framewor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ion of a critical mass of skilled personne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sion of requisite resour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28600" y="1828800"/>
          <a:ext cx="8686800" cy="4869000"/>
        </p:xfrm>
        <a:graphic>
          <a:graphicData uri="http://schemas.openxmlformats.org/drawingml/2006/table">
            <a:tbl>
              <a:tblPr/>
              <a:tblGrid>
                <a:gridCol w="3809880"/>
                <a:gridCol w="487692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66ff66"/>
                          </a:solidFill>
                          <a:latin typeface="Arial"/>
                        </a:rPr>
                        <a:t>COMPONEN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cc"/>
                        </a:gs>
                        <a:gs pos="50000">
                          <a:srgbClr val="3399ff"/>
                        </a:gs>
                        <a:gs pos="100000">
                          <a:srgbClr val="0000c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66ff66"/>
                          </a:solidFill>
                          <a:latin typeface="Arial"/>
                        </a:rPr>
                        <a:t>SUB-COMPONEN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cc"/>
                        </a:gs>
                        <a:gs pos="50000">
                          <a:srgbClr val="3399ff"/>
                        </a:gs>
                        <a:gs pos="100000">
                          <a:srgbClr val="0000cc"/>
                        </a:gs>
                      </a:gsLst>
                      <a:lin ang="8100000"/>
                    </a:gradFill>
                  </a:tcPr>
                </a:tc>
              </a:tr>
              <a:tr h="10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Data Managemen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cc"/>
                        </a:gs>
                        <a:gs pos="50000">
                          <a:srgbClr val="3399ff"/>
                        </a:gs>
                        <a:gs pos="100000">
                          <a:srgbClr val="0000c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. Analysis &amp; harmonization of       existing data</a:t>
                      </a:r>
                      <a:r>
                        <a:rPr b="0" lang="en-US" sz="2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. Establishment of Agric databas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cc"/>
                        </a:gs>
                        <a:gs pos="50000">
                          <a:srgbClr val="3399ff"/>
                        </a:gs>
                        <a:gs pos="100000">
                          <a:srgbClr val="0000cc"/>
                        </a:gs>
                      </a:gsLst>
                      <a:lin ang="8100000"/>
                    </a:gradFill>
                  </a:tcPr>
                </a:tc>
              </a:tr>
              <a:tr h="187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Inst. Capacity Building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cc"/>
                        </a:gs>
                        <a:gs pos="50000">
                          <a:srgbClr val="3399ff"/>
                        </a:gs>
                        <a:gs pos="100000">
                          <a:srgbClr val="0000c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1. Resource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2. Training programme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3. Creation of survey infrastructur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. Devt of approp. Methodologie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. Application of new technologie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cc"/>
                        </a:gs>
                        <a:gs pos="50000">
                          <a:srgbClr val="3399ff"/>
                        </a:gs>
                        <a:gs pos="100000">
                          <a:srgbClr val="0000cc"/>
                        </a:gs>
                      </a:gsLst>
                      <a:lin ang="8100000"/>
                    </a:gradFill>
                  </a:tcPr>
                </a:tc>
              </a:tr>
              <a:tr h="113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Census Programm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cc"/>
                        </a:gs>
                        <a:gs pos="50000">
                          <a:srgbClr val="3399ff"/>
                        </a:gs>
                        <a:gs pos="100000">
                          <a:srgbClr val="0000c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. Popn &amp; Housing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. Census of Agriculture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. Livestock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cc"/>
                        </a:gs>
                        <a:gs pos="50000">
                          <a:srgbClr val="3399ff"/>
                        </a:gs>
                        <a:gs pos="100000">
                          <a:srgbClr val="0000cc"/>
                        </a:gs>
                      </a:gsLst>
                      <a:lin ang="8100000"/>
                    </a:gra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Annual Agric. Survey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cc"/>
                        </a:gs>
                        <a:gs pos="50000">
                          <a:srgbClr val="3399ff"/>
                        </a:gs>
                        <a:gs pos="100000">
                          <a:srgbClr val="0000c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. Annual Agric. Survey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cc"/>
                        </a:gs>
                        <a:gs pos="50000">
                          <a:srgbClr val="3399ff"/>
                        </a:gs>
                        <a:gs pos="100000">
                          <a:srgbClr val="0000cc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2133720" y="1295280"/>
            <a:ext cx="5181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66ff66"/>
                </a:solidFill>
                <a:latin typeface="Arial"/>
              </a:rPr>
              <a:t>3.5. Components of the Framework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28600" y="1828800"/>
          <a:ext cx="8686800" cy="4199040"/>
        </p:xfrm>
        <a:graphic>
          <a:graphicData uri="http://schemas.openxmlformats.org/drawingml/2006/table">
            <a:tbl>
              <a:tblPr/>
              <a:tblGrid>
                <a:gridCol w="3809880"/>
                <a:gridCol w="487692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66ff66"/>
                          </a:solidFill>
                          <a:latin typeface="Arial"/>
                        </a:rPr>
                        <a:t>COMPONEN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cc"/>
                        </a:gs>
                        <a:gs pos="50000">
                          <a:srgbClr val="3399ff"/>
                        </a:gs>
                        <a:gs pos="100000">
                          <a:srgbClr val="0000c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66ff66"/>
                          </a:solidFill>
                          <a:latin typeface="Arial"/>
                        </a:rPr>
                        <a:t>SUB-COMPONEN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cc"/>
                        </a:gs>
                        <a:gs pos="50000">
                          <a:srgbClr val="3399ff"/>
                        </a:gs>
                        <a:gs pos="100000">
                          <a:srgbClr val="0000cc"/>
                        </a:gs>
                      </a:gsLst>
                      <a:lin ang="8100000"/>
                    </a:gradFill>
                  </a:tcPr>
                </a:tc>
              </a:tr>
              <a:tr h="187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Household Survey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cc"/>
                        </a:gs>
                        <a:gs pos="50000">
                          <a:srgbClr val="3399ff"/>
                        </a:gs>
                        <a:gs pos="100000">
                          <a:srgbClr val="0000c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. Labour Force Survey</a:t>
                      </a:r>
                      <a:r>
                        <a:rPr b="0" lang="en-US" sz="22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. Informal Sector Survey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. Food Cons. &amp; Nutrition Survey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. HH Budget Survey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. Cost of Production Survey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cc"/>
                        </a:gs>
                        <a:gs pos="50000">
                          <a:srgbClr val="3399ff"/>
                        </a:gs>
                        <a:gs pos="100000">
                          <a:srgbClr val="0000cc"/>
                        </a:gs>
                      </a:gsLst>
                      <a:lin ang="8100000"/>
                    </a:gradFill>
                  </a:tcPr>
                </a:tc>
              </a:tr>
              <a:tr h="76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VRS / AR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cc"/>
                        </a:gs>
                        <a:gs pos="50000">
                          <a:srgbClr val="3399ff"/>
                        </a:gs>
                        <a:gs pos="100000">
                          <a:srgbClr val="0000c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1. VRS / AR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. District level Statistic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cc"/>
                        </a:gs>
                        <a:gs pos="50000">
                          <a:srgbClr val="3399ff"/>
                        </a:gs>
                        <a:gs pos="100000">
                          <a:srgbClr val="0000cc"/>
                        </a:gs>
                      </a:gsLst>
                      <a:lin ang="8100000"/>
                    </a:gra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 Early Warning System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cc"/>
                        </a:gs>
                        <a:gs pos="50000">
                          <a:srgbClr val="3399ff"/>
                        </a:gs>
                        <a:gs pos="100000">
                          <a:srgbClr val="0000c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1. Early warning System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cc"/>
                        </a:gs>
                        <a:gs pos="50000">
                          <a:srgbClr val="3399ff"/>
                        </a:gs>
                        <a:gs pos="100000">
                          <a:srgbClr val="0000cc"/>
                        </a:gs>
                      </a:gsLst>
                      <a:lin ang="8100000"/>
                    </a:gradFill>
                  </a:tcPr>
                </a:tc>
              </a:tr>
              <a:tr h="76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 Devt of Fisheries Statistic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cc"/>
                        </a:gs>
                        <a:gs pos="50000">
                          <a:srgbClr val="3399ff"/>
                        </a:gs>
                        <a:gs pos="100000">
                          <a:srgbClr val="0000cc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1. Frame Survey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2. Catch Assessment Survey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cc"/>
                        </a:gs>
                        <a:gs pos="50000">
                          <a:srgbClr val="3399ff"/>
                        </a:gs>
                        <a:gs pos="100000">
                          <a:srgbClr val="0000cc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2133720" y="1295280"/>
            <a:ext cx="5181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66ff66"/>
                </a:solidFill>
                <a:latin typeface="Arial"/>
              </a:rPr>
              <a:t>3.5. Components of the Framework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28600" y="6045120"/>
          <a:ext cx="8686800" cy="432000"/>
        </p:xfrm>
        <a:graphic>
          <a:graphicData uri="http://schemas.openxmlformats.org/drawingml/2006/table">
            <a:tbl>
              <a:tblPr/>
              <a:tblGrid>
                <a:gridCol w="3809880"/>
                <a:gridCol w="487692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 Forestry Statistic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1. Forestry Statistic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38080" y="1523880"/>
            <a:ext cx="8153640" cy="59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7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3.6. Status of Framework Implementa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5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BOS/Govt of Uganda prepared project proposals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5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wards end of 2001, Norway provided grant for SSAS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5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SASP implementation commenced in May 2002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mponents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5000"/>
              </a:lnSpc>
              <a:spcBef>
                <a:spcPts val="1375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ata Mgt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a start was mad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5000"/>
              </a:lnSpc>
              <a:spcBef>
                <a:spcPts val="1375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st. Capacity Building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some resources have been ha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limited formal training due to few a staff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on job train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devt. of appropriate methodolog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Census Programme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:  PHC 2002 Agric Module piggy-back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PCA conducted in 2003 1</a:t>
            </a:r>
            <a:r>
              <a:rPr b="0" lang="en-GB" sz="2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st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as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ADB promises to fund Livestock Censu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1708200"/>
            <a:ext cx="853452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7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3.6. Status of Framework Implementation (continues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mponents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  Annual Agric Surveys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Discussions are on with UNHSP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  Household Surveys     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Part of UNHSP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. VRS / ARS</a:t>
            </a:r>
            <a:r>
              <a:rPr b="0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:  Findings indicated difficulties for VRS/A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PASS was proposed &amp; being piloted in 5   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c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. Early Warning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:  Consultant hired and report prepar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MAAIF to make commen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-9. Devt of Fisheries/Forestry Statistics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75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“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t of Food &amp; Agric Stat” was prepared, budgeted for and sent to Gov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38080" y="1889280"/>
            <a:ext cx="8153640" cy="43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TION 4:  CONCLUDING REMARK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Framework is a policy &amp; strategic document for rebuilding the entire NAS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is being implemented in a wider Framework for the NAS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ring its implementation, data will be collected on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5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stainable agric indicators with emphasis on rural dev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5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onomic sustainability indicators; and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5000"/>
              </a:lnSpc>
              <a:spcBef>
                <a:spcPts val="1375"/>
              </a:spcBef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vironmental sustainability indicator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NASTC in place to ensure that all aspects of Framework are addressed, to the extent possibl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1600200" y="1523880"/>
            <a:ext cx="5562720" cy="5257800"/>
            <a:chOff x="1600200" y="1523880"/>
            <a:chExt cx="5562720" cy="5257800"/>
          </a:xfrm>
        </p:grpSpPr>
        <p:sp>
          <p:nvSpPr>
            <p:cNvPr id="106" name=""/>
            <p:cNvSpPr/>
            <p:nvPr/>
          </p:nvSpPr>
          <p:spPr>
            <a:xfrm>
              <a:off x="3048120" y="1523880"/>
              <a:ext cx="4114800" cy="2210040"/>
            </a:xfrm>
            <a:prstGeom prst="cloudCallout">
              <a:avLst>
                <a:gd name="adj1" fmla="val -32986"/>
                <a:gd name="adj2" fmla="val 100217"/>
              </a:avLst>
            </a:prstGeom>
            <a:solidFill>
              <a:srgbClr val="3399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66"/>
                  </a:solidFill>
                  <a:latin typeface="Times New Roman"/>
                </a:rPr>
                <a:t>NICE DELIBERATION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7" name="PE01832_" descr=""/>
            <p:cNvPicPr/>
            <p:nvPr/>
          </p:nvPicPr>
          <p:blipFill>
            <a:blip r:embed="rId1"/>
            <a:stretch/>
          </p:blipFill>
          <p:spPr>
            <a:xfrm>
              <a:off x="1600200" y="4273560"/>
              <a:ext cx="2745000" cy="250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09480" y="2133720"/>
            <a:ext cx="80773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The presentation will cover 4 sections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0   General information on Ugand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0   Backgroun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0   The Framework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0   Concluding Remar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14400" y="1550880"/>
            <a:ext cx="7848720" cy="52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TION 1:  GENERAL INFORMATION ON UGANDA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1.1  Geographical Indicator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itude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GB" sz="21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r>
              <a:rPr b="0" lang="en-GB" sz="21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&amp; 1</a:t>
            </a:r>
            <a:r>
              <a:rPr b="0" lang="en-GB" sz="21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</a:t>
            </a:r>
            <a:r>
              <a:rPr b="0" lang="en-GB" sz="21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itude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</a:t>
            </a:r>
            <a:r>
              <a:rPr b="0" lang="en-GB" sz="21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4</a:t>
            </a:r>
            <a:r>
              <a:rPr b="0" lang="en-GB" sz="21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&amp; 35</a:t>
            </a:r>
            <a:r>
              <a:rPr b="0" lang="en-GB" sz="21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itude (Min ASL)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20m (Albert Nile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Max ASL)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110m (Rwenzori peak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area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1,038 Km</a:t>
            </a:r>
            <a:r>
              <a:rPr b="0" lang="en-GB" sz="21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 area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7,097 Km</a:t>
            </a:r>
            <a:r>
              <a:rPr b="0" lang="en-GB" sz="21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er &amp; Swamps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43,941 Km</a:t>
            </a:r>
            <a:r>
              <a:rPr b="0" lang="en-GB" sz="21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mperature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0" lang="en-GB" sz="21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 – 30</a:t>
            </a:r>
            <a:r>
              <a:rPr b="0" lang="en-GB" sz="21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infall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50mm – 2000mm/year</a:t>
            </a:r>
            <a:r>
              <a:rPr b="0" lang="en-GB" sz="21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1558800"/>
            <a:ext cx="8153640" cy="57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TION 1:  GENERAL INFORMATION ON UGANDA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GB" sz="21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-Continu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1.2  Water Bodi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Lake Victoria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1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ed with Kenya &amp; Tanzani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Lakes Albert &amp; Edward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d with DRC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Lakes Kyoga,Bisina,George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amp; Wamala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in boundari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Rivers Nile &amp; Kagera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jor river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1.3  Some economic indicator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      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GDP at current factor price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g. Shs 9,308 billion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Per capita GDP (current prices):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g. Shs 389,999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609480" y="1982880"/>
            <a:ext cx="8153640" cy="3808440"/>
            <a:chOff x="609480" y="1982880"/>
            <a:chExt cx="8153640" cy="3808440"/>
          </a:xfrm>
        </p:grpSpPr>
        <p:sp>
          <p:nvSpPr>
            <p:cNvPr id="86" name=""/>
            <p:cNvSpPr/>
            <p:nvPr/>
          </p:nvSpPr>
          <p:spPr>
            <a:xfrm>
              <a:off x="3048120" y="5029200"/>
              <a:ext cx="1295280" cy="762120"/>
            </a:xfrm>
            <a:prstGeom prst="ellipse">
              <a:avLst/>
            </a:prstGeom>
            <a:solidFill>
              <a:srgbClr val="3399ff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76920" y="5029200"/>
              <a:ext cx="1295280" cy="762120"/>
            </a:xfrm>
            <a:prstGeom prst="ellipse">
              <a:avLst/>
            </a:prstGeom>
            <a:solidFill>
              <a:srgbClr val="3399ff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09480" y="1982880"/>
              <a:ext cx="8153640" cy="360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SECTION 1:  GENERAL INFORMATION ON UGANDA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n-GB" sz="2400" spc="-1" strike="noStrike">
                  <a:solidFill>
                    <a:srgbClr val="ff3300"/>
                  </a:solidFill>
                  <a:latin typeface="Times New Roman"/>
                  <a:ea typeface="Times New Roman"/>
                </a:rPr>
                <a:t>-Continu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66ff66"/>
                  </a:solidFill>
                  <a:latin typeface="Times New Roman"/>
                  <a:ea typeface="Times New Roman"/>
                </a:rPr>
                <a:t>1.4  Demography (millions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Times New Roman"/>
                </a:rPr>
                <a:t>1991 Census</a:t>
              </a:r>
              <a:r>
                <a:rPr b="0" lang="en-GB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en-GB" sz="2400" spc="-1" strike="noStrike" u="sng">
                  <a:solidFill>
                    <a:srgbClr val="ffffff"/>
                  </a:solidFill>
                  <a:uFillTx/>
                  <a:latin typeface="Times New Roman"/>
                  <a:ea typeface="Times New Roman"/>
                </a:rPr>
                <a:t>2002 Provision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le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8.2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2.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emale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8.5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2.6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otal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6.7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4.7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1523880"/>
            <a:ext cx="8153640" cy="52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TION 2:  BACKGROUND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2.1  Importance of the agricultural sector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ibution to GDP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%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ibution to total export: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%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sion of employment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0%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ople living in rural areas :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5%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of raw materials</a:t>
            </a:r>
            <a:r>
              <a:rPr b="0" lang="en-GB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2.1 Government programmes for poverty eradication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AP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437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MA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38080" y="1805040"/>
            <a:ext cx="81536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TION 2:  BACKGROUND (contin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2.2  Use of agricultural da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 and underpin the planning proces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ile national account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 public policy analysis, debate &amp; advic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 sector performanc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 and evaluate impact of policies &amp; programmes;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 decision mak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1741320"/>
            <a:ext cx="81536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2.3  The agricultural statistics in Ugan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 not adequately respond to data nee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entrali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s never fully develo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d the ARS with DAOs, DVOs &amp; DF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63/65: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s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ensus of Agricul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0/91: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nd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ensus of Agricul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HSP included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rop module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38080" y="1817640"/>
            <a:ext cx="8153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66"/>
                </a:solidFill>
                <a:latin typeface="Times New Roman"/>
                <a:ea typeface="Times New Roman"/>
              </a:rPr>
              <a:t>2.4 Assessment of Agricultural Statistics in Ugan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Needs Assessment Study – August 19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keholders’ Workshop in October 19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paration of the Framework in March 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2T18:53:55Z</dcterms:created>
  <dc:creator>Magezi</dc:creator>
  <dc:description/>
  <dc:language>en-US</dc:language>
  <cp:lastModifiedBy>Magezi</cp:lastModifiedBy>
  <dcterms:modified xsi:type="dcterms:W3CDTF">2004-10-29T14:55:11Z</dcterms:modified>
  <cp:revision>2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53421586</vt:r8>
  </property>
  <property fmtid="{D5CDD505-2E9C-101B-9397-08002B2CF9AE}" pid="3" name="_AuthorEmail">
    <vt:lpwstr>xfernandez@siap.sagarpa.gob.mx</vt:lpwstr>
  </property>
  <property fmtid="{D5CDD505-2E9C-101B-9397-08002B2CF9AE}" pid="4" name="_AuthorEmailDisplayName">
    <vt:lpwstr>Ximena Fernández Martínez</vt:lpwstr>
  </property>
  <property fmtid="{D5CDD505-2E9C-101B-9397-08002B2CF9AE}" pid="5" name="_EmailSubject">
    <vt:lpwstr>Presentations day 2 11:30 room 1</vt:lpwstr>
  </property>
</Properties>
</file>