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672-6DBB-493E-B6CA-DF14F7BAA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920-1A07-4F70-B72D-D812BBCB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B315-745F-46B4-B1E3-B3E71F9A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268-7540-4FA4-BED4-BE3694F6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FFCD-B4D8-4B82-93B5-4EAA8350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2537-E3BB-4D5B-B3ED-4D9DDAE7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9CBD-FDF3-4255-917A-AA9DBE5E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19B8-5562-4F39-8E07-028DE50A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723D-D695-4A52-AB67-7903DAB4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9098-4E24-4B0A-B74C-E1775148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AF5E-0C51-4097-BBF1-79B3FC30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01D9-E331-40D1-887E-0A2C2008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F3D8-5DA1-4043-81D6-5302A91E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76AC-1A5C-4FB5-830C-20A28A23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5A7D-B662-4F51-B9A0-8E37C5DD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CBB9-DC37-4D3F-9E39-DE646546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EF2F-CC24-4B24-93BD-719F5791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E5D-8A15-4FA6-B71F-9213CAF3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952-0A5B-4CC2-B735-7FFD4C4C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BDB-38FF-48F6-ACB0-3CC7EA25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BB7-0E75-4F87-8E62-B56592A6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8381-8364-48CA-A544-965EB9F5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A47-A76E-4FB1-B62A-243185C9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1B93-6EC5-4A9E-816E-716E8EC2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CFE0-9284-4E13-840E-FDFFF2BAE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23E2-5D87-42DD-9EC1-4D2A34B61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Conference Wrap-u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ed Vog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orld B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Outcome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re is a need to integrate and link various survey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usehold Budget/Expenditure surv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abor Force Surv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nd to link them to population censu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Farm vs. Household as Unit of Measu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y does one have to choo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y not try to use both to understand how issues are rel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How Move Forward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dicators based on units of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useho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terprises/Instit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581280" y="762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9320" y="1295280"/>
            <a:ext cx="22096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ban/r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rm/non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2590920"/>
            <a:ext cx="175248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920" y="3505320"/>
            <a:ext cx="175248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38280" y="3505320"/>
            <a:ext cx="152424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3962520"/>
            <a:ext cx="182880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/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38280" y="3962520"/>
            <a:ext cx="144792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pp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57800" y="1371600"/>
            <a:ext cx="236232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erpris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05320" y="18288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580920" y="12952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48320" y="12952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581280" y="9144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9320" y="1295280"/>
            <a:ext cx="22096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ban/r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rm/non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371600" y="2590920"/>
            <a:ext cx="175248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3505320"/>
            <a:ext cx="175248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38280" y="3505320"/>
            <a:ext cx="152424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3962520"/>
            <a:ext cx="182880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/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38280" y="3962520"/>
            <a:ext cx="144792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pp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562720" y="1371600"/>
            <a:ext cx="304776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e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72200" y="2514600"/>
            <a:ext cx="175248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0" y="3505320"/>
            <a:ext cx="1447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5880" y="3505320"/>
            <a:ext cx="1447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/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3505320"/>
            <a:ext cx="106704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52880" y="4038480"/>
            <a:ext cx="1981440" cy="1981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ndi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467480" y="4038480"/>
            <a:ext cx="152424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r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86400" y="3809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324480" y="38098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7339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71600" y="1295280"/>
            <a:ext cx="22096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ban/r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rm/non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71600" y="2590920"/>
            <a:ext cx="175248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04920" y="3505320"/>
            <a:ext cx="175248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38280" y="3505320"/>
            <a:ext cx="152424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3962520"/>
            <a:ext cx="182880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/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438280" y="3962520"/>
            <a:ext cx="144792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pp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62720" y="1371600"/>
            <a:ext cx="304776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e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172200" y="2514600"/>
            <a:ext cx="175248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3505320"/>
            <a:ext cx="1447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5880" y="3505320"/>
            <a:ext cx="1447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/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96080" y="3505320"/>
            <a:ext cx="106704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76920" y="3962520"/>
            <a:ext cx="198108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ndi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467480" y="4038480"/>
            <a:ext cx="152424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r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6019920"/>
            <a:ext cx="533376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6600"/>
                </a:solidFill>
                <a:uFillTx/>
                <a:latin typeface="Times New Roman"/>
              </a:rPr>
              <a:t>Environment/land/water/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33920" y="1752480"/>
            <a:ext cx="1218960" cy="76320"/>
          </a:xfrm>
          <a:prstGeom prst="leftArrow">
            <a:avLst>
              <a:gd name="adj1" fmla="val 50000"/>
              <a:gd name="adj2" fmla="val 39929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17524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733920" y="838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371600" y="1295280"/>
            <a:ext cx="22096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ban/r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rm/nonf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2590920"/>
            <a:ext cx="175248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505320"/>
            <a:ext cx="175248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38280" y="3505320"/>
            <a:ext cx="152424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3962520"/>
            <a:ext cx="182880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/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38280" y="3962520"/>
            <a:ext cx="144792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pp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2720" y="1371600"/>
            <a:ext cx="304776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e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72200" y="2514600"/>
            <a:ext cx="175248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572000" y="3505320"/>
            <a:ext cx="1447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3505320"/>
            <a:ext cx="144792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/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696080" y="3505320"/>
            <a:ext cx="106704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’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3886200"/>
            <a:ext cx="198108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ndi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67480" y="4038480"/>
            <a:ext cx="152424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r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676520" y="6019920"/>
            <a:ext cx="57150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6600"/>
                </a:solidFill>
                <a:uFillTx/>
                <a:latin typeface="Times New Roman"/>
              </a:rPr>
              <a:t>Environment/land/water/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1752480"/>
            <a:ext cx="1218960" cy="76320"/>
          </a:xfrm>
          <a:prstGeom prst="leftArrow">
            <a:avLst>
              <a:gd name="adj1" fmla="val 50000"/>
              <a:gd name="adj2" fmla="val 39929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0" y="1752480"/>
            <a:ext cx="914400" cy="76320"/>
          </a:xfrm>
          <a:prstGeom prst="rightArrow">
            <a:avLst>
              <a:gd name="adj1" fmla="val 50000"/>
              <a:gd name="adj2" fmla="val 29952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23880" y="228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152280"/>
            <a:ext cx="70866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Statistical System—Stove Pi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International Standards and</a:t>
            </a:r>
            <a:br>
              <a:rPr sz="4400"/>
            </a:b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Methodology: The way Forwar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t minimum agricultural information from Population Cens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ider Household Master S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sider two phase sam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t ag labor from labor force surv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g income from household exp surv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50000">
              <a:srgbClr val="ffffcc"/>
            </a:gs>
            <a:gs pos="100000">
              <a:srgbClr val="f8f8f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1981080"/>
            <a:ext cx="3200400" cy="3657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76920" y="1676520"/>
            <a:ext cx="1904760" cy="1218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438280"/>
            <a:ext cx="2210040" cy="1067040"/>
          </a:xfrm>
          <a:prstGeom prst="ellipse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4120" y="3048120"/>
            <a:ext cx="2057400" cy="914400"/>
          </a:xfrm>
          <a:prstGeom prst="ellipse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1828800" y="2057040"/>
            <a:ext cx="3581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905120" y="2971440"/>
            <a:ext cx="3429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81080" y="3276720"/>
            <a:ext cx="3733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62720" y="1066680"/>
            <a:ext cx="289548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 Exp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62920" y="2209680"/>
            <a:ext cx="198108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or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248520" y="4114800"/>
            <a:ext cx="26668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od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29040" y="14479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162560" y="2666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flipV="1">
            <a:off x="6934320" y="38858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520" y="1143000"/>
            <a:ext cx="38862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sus of Popul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28600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50000">
              <a:srgbClr val="ffffcc"/>
            </a:gs>
            <a:gs pos="100000">
              <a:srgbClr val="f8f8f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33520" y="1981080"/>
            <a:ext cx="3200400" cy="36576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6920" y="1676520"/>
            <a:ext cx="1904760" cy="12189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952880" y="2438280"/>
            <a:ext cx="2210040" cy="1067040"/>
          </a:xfrm>
          <a:prstGeom prst="ellipse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4120" y="3048120"/>
            <a:ext cx="2057400" cy="914400"/>
          </a:xfrm>
          <a:prstGeom prst="ellipse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1828800" y="2057040"/>
            <a:ext cx="35812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905120" y="2971440"/>
            <a:ext cx="3429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981080" y="3276720"/>
            <a:ext cx="3733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1066680"/>
            <a:ext cx="289548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 Exp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162920" y="2209680"/>
            <a:ext cx="198108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or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48520" y="4114800"/>
            <a:ext cx="266688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od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6629040" y="14479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7162560" y="2666880"/>
            <a:ext cx="533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 flipV="1">
            <a:off x="6934320" y="388584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520" y="1143000"/>
            <a:ext cx="38862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sus of Populatio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286000" y="1752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86200" y="4572000"/>
            <a:ext cx="2590920" cy="1981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am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05120" y="3276720"/>
            <a:ext cx="24382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Conference Overview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ch in terms of papers, questions, discu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ch in terms of particip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ch in terms of the synergy of exchanging ideas between countries, organizations around the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Food for Though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 techniques such as network sampling to form linkages between households and enterpri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mplete the loop between indicato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National Strategies for the Development of Statistic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cept of Nationa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e basic principles of strategic planning for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grate official statistics-national and intern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ss of independence in methods and procedures offset by g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Census of Agriculture-thing of the Past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oo Expen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ewer and fewer countries condu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re doing on sample ba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ed to connect with Population Cens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General Themes Develop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gration of rural/agricul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griculture become part of national statis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usehold surveys become part of national/international statistical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Innovative use of Surveys and Censu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tisticians are not way behi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ed to make their methodologies relevant for developing count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ed to ensure methods are sustain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eed to ensure there is comparability across time and sp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Rural Poverty and Hung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mension to Rural Development overlooked by Agricultural statisticians and econom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usehold surveys basis for many/most of the indi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ds to burden of statistical system unless integ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Environmental Sustainabilit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ata nee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e/pollution of natural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od 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stainable agricul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llection challe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bine/harmonize administrative data with sample survey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What is Next?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what we said should be do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te dialogue with rest of statistical system 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tinue dialogue with international organizations via Household Surve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Challeng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n established statistical systems meet the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ill developing countries have to lead the wa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ational Strategies for Statistical Development—statistical master plans—statistical capacity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Another Challeng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sure developing countries much better represented at next international confer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pers by those represented here demonstrate innovative ideas, desire to move forw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ed to be part of international statistical co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Overview of the Overview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pecial Announc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cussion of Conference The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allenges for the Fu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Still more Challeng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efine rural or decide it does not ma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ce comparability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finitions-households/in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termine basis for income comparisons—exchange rates or purchasing power par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termine basis for poverty comparis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And mor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ore attention to use of technology to bridge survey, administrative, and remotely sensed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IS, GPS, --------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And Finall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xpand Scope of the Discu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lude organization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ld Trad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Labor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ES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at about Sums it U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gratulations to Juan Manual Galarza and organizing committ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gratulations to the program committ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ank you to the authors of the papers and key note speak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ank you to the participants for your attention and 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See you in Beij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d Speed and Safe Journey H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merging Forc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ob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ned to Market Econom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creasing demand—environmental con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DG’s—Poverty,health, educatio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400440" y="198108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are happening at the same time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483" name=""/>
          <p:cNvCxnSpPr/>
          <p:nvPr/>
        </p:nvCxnSpPr>
        <p:spPr>
          <a:xfrm flipV="1" rot="10800000">
            <a:off x="4037760" y="3809520"/>
            <a:ext cx="2363040" cy="1448640"/>
          </a:xfrm>
          <a:prstGeom prst="curvedConnector5">
            <a:avLst>
              <a:gd name="adj1" fmla="val 49992"/>
              <a:gd name="adj2" fmla="val 49987"/>
              <a:gd name="adj3" fmla="val 4999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84" name=""/>
          <p:cNvCxnSpPr/>
          <p:nvPr/>
        </p:nvCxnSpPr>
        <p:spPr>
          <a:xfrm>
            <a:off x="3809520" y="2285640"/>
            <a:ext cx="2515320" cy="15246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3300"/>
                </a:solidFill>
                <a:latin typeface="Comic Sans MS"/>
              </a:rPr>
              <a:t>What is Rural?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2895840" cy="266364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5742720" y="2514600"/>
            <a:ext cx="35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Households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Farm/nonfa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423240" y="5342040"/>
            <a:ext cx="366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Enterprises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Farm/non fa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920" y="2590920"/>
            <a:ext cx="1447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Land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Comic Sans MS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5867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4197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0" y="1523880"/>
            <a:ext cx="9144000" cy="152640"/>
            <a:chOff x="0" y="1523880"/>
            <a:chExt cx="9144000" cy="152640"/>
          </a:xfrm>
        </p:grpSpPr>
        <p:sp>
          <p:nvSpPr>
            <p:cNvPr id="494" name=""/>
            <p:cNvSpPr/>
            <p:nvPr/>
          </p:nvSpPr>
          <p:spPr>
            <a:xfrm>
              <a:off x="0" y="1523880"/>
              <a:ext cx="9144000" cy="0"/>
            </a:xfrm>
            <a:prstGeom prst="line">
              <a:avLst/>
            </a:prstGeom>
            <a:ln w="3816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0" y="1600200"/>
              <a:ext cx="9144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0" y="1676520"/>
              <a:ext cx="9144000" cy="0"/>
            </a:xfrm>
            <a:prstGeom prst="line">
              <a:avLst/>
            </a:prstGeom>
            <a:ln w="3816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Nee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scribe current sit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alysis—effect of alternative actions and projections of con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nitor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Comic Sans MS"/>
              </a:rPr>
              <a:t>Agricultural and Rural Statistic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2590920" y="1219320"/>
            <a:ext cx="3809880" cy="3809880"/>
            <a:chOff x="2590920" y="1219320"/>
            <a:chExt cx="3809880" cy="3809880"/>
          </a:xfrm>
        </p:grpSpPr>
        <p:sp>
          <p:nvSpPr>
            <p:cNvPr id="501" name=""/>
            <p:cNvSpPr/>
            <p:nvPr/>
          </p:nvSpPr>
          <p:spPr>
            <a:xfrm>
              <a:off x="2590920" y="1295280"/>
              <a:ext cx="3809880" cy="37339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57600" y="1219320"/>
              <a:ext cx="18727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663300"/>
                  </a:solidFill>
                  <a:uFillTx/>
                  <a:latin typeface="Comic Sans MS"/>
                </a:rPr>
                <a:t>The Da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95480" y="2286000"/>
              <a:ext cx="3276360" cy="16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Comic Sans MS"/>
                </a:rPr>
                <a:t>Surve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Comic Sans MS"/>
                </a:rPr>
                <a:t>Cens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Comic Sans MS"/>
                </a:rPr>
                <a:t>Administr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Comic Sans MS"/>
                </a:rPr>
                <a:t>Remotely Sens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172200" y="1447920"/>
            <a:ext cx="3276720" cy="3312360"/>
            <a:chOff x="6172200" y="1447920"/>
            <a:chExt cx="3276720" cy="3312360"/>
          </a:xfrm>
        </p:grpSpPr>
        <p:sp>
          <p:nvSpPr>
            <p:cNvPr id="505" name=""/>
            <p:cNvSpPr/>
            <p:nvPr/>
          </p:nvSpPr>
          <p:spPr>
            <a:xfrm>
              <a:off x="6299640" y="1447920"/>
              <a:ext cx="2328120" cy="71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663300"/>
                  </a:solidFill>
                  <a:uFillTx/>
                  <a:latin typeface="Comic Sans MS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6" name=""/>
            <p:cNvGrpSpPr/>
            <p:nvPr/>
          </p:nvGrpSpPr>
          <p:grpSpPr>
            <a:xfrm>
              <a:off x="6172200" y="2090880"/>
              <a:ext cx="3276720" cy="2669400"/>
              <a:chOff x="6172200" y="2090880"/>
              <a:chExt cx="3276720" cy="2669400"/>
            </a:xfrm>
          </p:grpSpPr>
          <p:sp>
            <p:nvSpPr>
              <p:cNvPr id="507" name=""/>
              <p:cNvSpPr/>
              <p:nvPr/>
            </p:nvSpPr>
            <p:spPr>
              <a:xfrm>
                <a:off x="6477120" y="2090880"/>
                <a:ext cx="2971800" cy="266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Comic Sans MS"/>
                  </a:rPr>
                  <a:t>Public Policy              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Comic Sans MS"/>
                  </a:rPr>
                  <a:t>Efficient Market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Comic Sans MS"/>
                  </a:rPr>
                  <a:t>Invest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248520" y="243828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324480" y="32004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172200" y="38862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2013120" y="4876920"/>
            <a:ext cx="4875120" cy="1539720"/>
            <a:chOff x="2013120" y="4876920"/>
            <a:chExt cx="4875120" cy="1539720"/>
          </a:xfrm>
        </p:grpSpPr>
        <p:sp>
          <p:nvSpPr>
            <p:cNvPr id="512" name=""/>
            <p:cNvSpPr/>
            <p:nvPr/>
          </p:nvSpPr>
          <p:spPr>
            <a:xfrm>
              <a:off x="3363120" y="5896080"/>
              <a:ext cx="203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663300"/>
                  </a:solidFill>
                  <a:uFillTx/>
                  <a:latin typeface="Comic Sans MS"/>
                </a:rPr>
                <a:t>Frequenc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2013120" y="4876920"/>
              <a:ext cx="4875120" cy="985680"/>
              <a:chOff x="2013120" y="4876920"/>
              <a:chExt cx="4875120" cy="985680"/>
            </a:xfrm>
          </p:grpSpPr>
          <p:sp>
            <p:nvSpPr>
              <p:cNvPr id="514" name=""/>
              <p:cNvSpPr/>
              <p:nvPr/>
            </p:nvSpPr>
            <p:spPr>
              <a:xfrm>
                <a:off x="2013120" y="5159520"/>
                <a:ext cx="1753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3300"/>
                    </a:solidFill>
                    <a:latin typeface="Comic Sans MS"/>
                  </a:rPr>
                  <a:t>Seasona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792960" y="5342040"/>
                <a:ext cx="1448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3300"/>
                    </a:solidFill>
                    <a:latin typeface="Comic Sans MS"/>
                  </a:rPr>
                  <a:t>Annual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270400" y="5149800"/>
                <a:ext cx="161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663300"/>
                    </a:solidFill>
                    <a:latin typeface="Comic Sans MS"/>
                  </a:rPr>
                  <a:t>Periodi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419360" y="525780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2895120" y="487692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86400" y="4876920"/>
                <a:ext cx="4572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0" name=""/>
          <p:cNvGrpSpPr/>
          <p:nvPr/>
        </p:nvGrpSpPr>
        <p:grpSpPr>
          <a:xfrm>
            <a:off x="76320" y="1544760"/>
            <a:ext cx="2590200" cy="2745720"/>
            <a:chOff x="76320" y="1544760"/>
            <a:chExt cx="2590200" cy="2745720"/>
          </a:xfrm>
        </p:grpSpPr>
        <p:sp>
          <p:nvSpPr>
            <p:cNvPr id="521" name=""/>
            <p:cNvSpPr/>
            <p:nvPr/>
          </p:nvSpPr>
          <p:spPr>
            <a:xfrm>
              <a:off x="140400" y="1544760"/>
              <a:ext cx="12124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663300"/>
                  </a:solidFill>
                  <a:uFillTx/>
                  <a:latin typeface="Comic Sans MS"/>
                </a:rPr>
                <a:t>Sco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76320" y="2382480"/>
              <a:ext cx="2590200" cy="1908000"/>
              <a:chOff x="76320" y="2382480"/>
              <a:chExt cx="2590200" cy="1908000"/>
            </a:xfrm>
          </p:grpSpPr>
          <p:sp>
            <p:nvSpPr>
              <p:cNvPr id="523" name=""/>
              <p:cNvSpPr/>
              <p:nvPr/>
            </p:nvSpPr>
            <p:spPr>
              <a:xfrm>
                <a:off x="76320" y="2382480"/>
                <a:ext cx="2334960" cy="19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Comic Sans MS"/>
                  </a:rPr>
                  <a:t>Internation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Comic Sans MS"/>
                  </a:rPr>
                  <a:t>Nation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Comic Sans MS"/>
                  </a:rPr>
                  <a:t>St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663300"/>
                    </a:solidFill>
                    <a:latin typeface="Comic Sans MS"/>
                  </a:rPr>
                  <a:t>Loc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676160" y="3067920"/>
                <a:ext cx="83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218960" y="3601440"/>
                <a:ext cx="1331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066680" y="4058640"/>
                <a:ext cx="158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209680" y="261072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"/>
          <p:cNvGrpSpPr/>
          <p:nvPr/>
        </p:nvGrpSpPr>
        <p:grpSpPr>
          <a:xfrm>
            <a:off x="0" y="838080"/>
            <a:ext cx="9144000" cy="152640"/>
            <a:chOff x="0" y="838080"/>
            <a:chExt cx="9144000" cy="152640"/>
          </a:xfrm>
        </p:grpSpPr>
        <p:sp>
          <p:nvSpPr>
            <p:cNvPr id="529" name="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3816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0" y="990720"/>
              <a:ext cx="9144000" cy="0"/>
            </a:xfrm>
            <a:prstGeom prst="line">
              <a:avLst/>
            </a:prstGeom>
            <a:ln w="3816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m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rom Agricultural to Rural Development Indi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ternational Standards and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ural Poverty and Hun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nvironmental Sustain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Beginning Keynot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gricultural Statisticians way behind—busy fine tuning sample frames and lost in micro detail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od Indicators are Hard to Find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The Dilemm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 everything that can be counted, cou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ot everything that counts can be coun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. Einste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Issues Discussed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rm household is focal point how policy affects farm production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about non farm households—do they not count in policy decisi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re there not similar issues affecting non farm household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Issues Discussed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come of farm households is import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about income of school teacher households, hired worker household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685800" y="1661760"/>
            <a:ext cx="77724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fficult to measure labor input of farm operator—family labor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, how does this differ from measuring labor input of butcher, baker, candlestick make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pply of labor reflects the nature of households supplying it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 course it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ducation—health—access to transportation--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513520" y="838080"/>
            <a:ext cx="408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Issues Discus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11:40Z</dcterms:created>
  <dc:creator>decuser</dc:creator>
  <dc:description/>
  <dc:language>en-US</dc:language>
  <cp:lastModifiedBy>CoviRo</cp:lastModifiedBy>
  <dcterms:modified xsi:type="dcterms:W3CDTF">2005-03-02T19:11:36Z</dcterms:modified>
  <cp:revision>14</cp:revision>
  <dc:subject/>
  <dc:title>Conference Wrap-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58812162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Key Notes</vt:lpwstr>
  </property>
  <property fmtid="{D5CDD505-2E9C-101B-9397-08002B2CF9AE}" pid="6" name="_ReviewingToolsShownOnce">
    <vt:lpwstr/>
  </property>
</Properties>
</file>