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F53-4CF9-4B55-9599-ABAC3E29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1BF-75B3-462B-9866-CBD2502A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B31-812B-4309-8187-F3132F0B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2A4-1ED1-4B35-B6F2-13B312A0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3544-AAAA-4EBF-B15C-43728FF0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AB74-084F-436E-B653-42B52A0D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2286-AB25-430F-A75D-6D74E063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6BF-216E-44B0-B895-A2C3C636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8EB-4901-489C-921E-D447EEB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0417-F7AF-4CD2-A1F4-83932F56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0E50-56B3-4FEF-A9E3-B7586B1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26F-6A7A-4340-8538-EA25210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1F61-E392-4A9D-ACAD-5B3BBEA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FE1F-5B78-41CB-B3D8-7A359B4C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E481-F581-4AE6-8F82-03D2BF21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7873-5C46-42E7-81EF-D38A76BF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C219-29C7-4B06-AEE3-0DA6C45A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54C-90F9-4880-A818-2EE15D7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481-38F4-4FAA-BBC8-F6E97E5B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DA0-49BE-4E0D-A1C4-C0CAEEB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113-ADCD-413D-9241-F264003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18B-5F91-4688-B2CD-547C2F09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705-627D-4BEE-963C-16873AF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CE1-A3EC-412F-913F-391E489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6CB-93A7-4FF6-BA8E-91D483A07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7707-D058-4B9C-B03C-FD61D1F2C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Conference Wrap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d Vog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utcome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re is a need to integrate and link various survey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usehold Budget/Expenditure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bor Force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d to link them to population cens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Farm vs. Household as Unit of Meas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does one have to choo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not try to use both to understand how issues are rel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How Move Forward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icators based on units of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use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erprises/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581280" y="762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57800" y="1371600"/>
            <a:ext cx="2362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5320" y="1828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580920" y="1295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12952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581280" y="914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932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1371600"/>
            <a:ext cx="30477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251460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/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3505320"/>
            <a:ext cx="10670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4038480"/>
            <a:ext cx="1981440" cy="1981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67480" y="4038480"/>
            <a:ext cx="1524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324480" y="3809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7339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1371600"/>
            <a:ext cx="30477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251460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588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/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505320"/>
            <a:ext cx="10670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3962520"/>
            <a:ext cx="19810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4038480"/>
            <a:ext cx="1524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6019920"/>
            <a:ext cx="533376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</a:rPr>
              <a:t>Environment/land/water/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1752480"/>
            <a:ext cx="1218960" cy="76320"/>
          </a:xfrm>
          <a:prstGeom prst="leftArrow">
            <a:avLst>
              <a:gd name="adj1" fmla="val 50000"/>
              <a:gd name="adj2" fmla="val 39929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7339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1371600"/>
            <a:ext cx="30477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251460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/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96080" y="3505320"/>
            <a:ext cx="10670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886200"/>
            <a:ext cx="19810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4038480"/>
            <a:ext cx="1524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6019920"/>
            <a:ext cx="57150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</a:rPr>
              <a:t>Environment/land/water/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1752480"/>
            <a:ext cx="1218960" cy="76320"/>
          </a:xfrm>
          <a:prstGeom prst="leftArrow">
            <a:avLst>
              <a:gd name="adj1" fmla="val 50000"/>
              <a:gd name="adj2" fmla="val 39929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152280"/>
            <a:ext cx="7086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Statistical System—Stove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International Standards and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Methodology: The way Forwar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 minimum agricultural information from Population Cens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ider Household Master S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ider two phase sam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 ag labor from labor force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 income from household exp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50000">
              <a:srgbClr val="ffffcc"/>
            </a:gs>
            <a:gs pos="100000">
              <a:srgbClr val="f8f8f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981080"/>
            <a:ext cx="3200400" cy="3657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76920" y="1676520"/>
            <a:ext cx="1904760" cy="1218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438280"/>
            <a:ext cx="2210040" cy="106704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3048120"/>
            <a:ext cx="2057400" cy="91440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828800" y="205704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5120" y="297144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3276720"/>
            <a:ext cx="3733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066680"/>
            <a:ext cx="28954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Exp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62920" y="2209680"/>
            <a:ext cx="19810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4114800"/>
            <a:ext cx="26668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29040" y="14479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162560" y="2666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934320" y="3885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143000"/>
            <a:ext cx="38862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sus of Popul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50000">
              <a:srgbClr val="ffffcc"/>
            </a:gs>
            <a:gs pos="100000">
              <a:srgbClr val="f8f8f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981080"/>
            <a:ext cx="3200400" cy="3657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1676520"/>
            <a:ext cx="1904760" cy="1218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2438280"/>
            <a:ext cx="2210040" cy="106704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3048120"/>
            <a:ext cx="2057400" cy="91440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828800" y="205704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905120" y="297144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3276720"/>
            <a:ext cx="3733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1066680"/>
            <a:ext cx="28954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Exp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62920" y="2209680"/>
            <a:ext cx="19810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114800"/>
            <a:ext cx="26668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629040" y="14479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162560" y="2666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6934320" y="3885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1143000"/>
            <a:ext cx="38862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sus of Popul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4572000"/>
            <a:ext cx="2590920" cy="1981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3276720"/>
            <a:ext cx="2438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Conference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ch in terms of papers, questions, discu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ch in terms of particip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ch in terms of the synergy of exchanging ideas between countries, organizations around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Food for Though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techniques such as network sampling to form linkages between households and enterpr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te the loop between indic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ational Strategies for the Development of Statistic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cept of Nationa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basic principles of strategic planning for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rate official statistics-national and inter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ss of independence in methods and procedures offset by g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Census of Agriculture-thing of the Pas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o 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wer and fewer countries condu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doing on sample b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connect with Population Cen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General Themes Develop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tion of rural/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riculture become part of national statis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usehold surveys become part of national/international statistical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Innovative use of Surveys and Censu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tisticians are not way beh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make their methodologies relevant for developing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ensure methods are sustai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ensure there is comparability across time an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Rural Poverty and Hung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mension to Rural Development overlooked by Agricultural statisticians and econom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usehold surveys basis for many/most of the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ds to burden of statistical system unless integ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Environmental Sustainabil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/pollution of natural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od 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stainable 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lection challe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bine/harmonize administrative data with sample surve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What is Nex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what we said should be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te dialogue with rest of statistical system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inue dialogue with international organizations via Household Surve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Challeng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 established statistical systems meet the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ill developing countries have to lead the w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ional Strategies for Statistical Development—statistical master plans—statistical capacity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nother Challeng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sure developing countries much better represented at next international con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pers by those represented here demonstrate innovative ideas, desire to move 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ed to be part of international statistical co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verview of the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ecial Announc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cussion of Conference T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allenges for the Fu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Still more Challe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e rural or decide it does not ma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e comparability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initions-households/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rmine basis for income comparisons—exchange rates or purchasing power pa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rmine basis for poverty compari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nd mo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attention to use of technology to bridge survey, administrative, and remotely sens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S, GPS, -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nd Finall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pand Scope of the Discu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lude organization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ld Trad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Labor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ES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at about Sums it 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gratulations to Juan Manual Galarza and organizing committ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gratulations to the program committ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ank you to the authors of the papers and key note spea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ank you to the participants for your attention and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See you in Beij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d Speed and Safe Journey H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merging Fo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ned to Market Econom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reasing demand—environmental con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DG’s—Poverty,health, educatio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400440" y="198108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are happening at the same tim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83" name=""/>
          <p:cNvCxnSpPr/>
          <p:nvPr/>
        </p:nvCxnSpPr>
        <p:spPr>
          <a:xfrm flipV="1" rot="10800000">
            <a:off x="4037760" y="3809520"/>
            <a:ext cx="2363040" cy="1448640"/>
          </a:xfrm>
          <a:prstGeom prst="curvedConnector5">
            <a:avLst>
              <a:gd name="adj1" fmla="val 49992"/>
              <a:gd name="adj2" fmla="val 49987"/>
              <a:gd name="adj3" fmla="val 4999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4" name=""/>
          <p:cNvCxnSpPr/>
          <p:nvPr/>
        </p:nvCxnSpPr>
        <p:spPr>
          <a:xfrm>
            <a:off x="3809520" y="2285640"/>
            <a:ext cx="2515320" cy="1524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omic Sans MS"/>
              </a:rPr>
              <a:t>What is Rural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2895840" cy="2663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5742720" y="251460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usehold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Farm/nonf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3240" y="5342040"/>
            <a:ext cx="36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Enterpris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Farm/non f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2590920"/>
            <a:ext cx="144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an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867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197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0" y="1523880"/>
            <a:ext cx="9144000" cy="152640"/>
            <a:chOff x="0" y="1523880"/>
            <a:chExt cx="9144000" cy="152640"/>
          </a:xfrm>
        </p:grpSpPr>
        <p:sp>
          <p:nvSpPr>
            <p:cNvPr id="494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160020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167652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Ne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be current sit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sis—effect of alternative actions and projections of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itor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Comic Sans MS"/>
              </a:rPr>
              <a:t>Agricultural and Rural Statistic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90920" y="1219320"/>
            <a:ext cx="3809880" cy="3809880"/>
            <a:chOff x="2590920" y="1219320"/>
            <a:chExt cx="3809880" cy="3809880"/>
          </a:xfrm>
        </p:grpSpPr>
        <p:sp>
          <p:nvSpPr>
            <p:cNvPr id="501" name=""/>
            <p:cNvSpPr/>
            <p:nvPr/>
          </p:nvSpPr>
          <p:spPr>
            <a:xfrm>
              <a:off x="2590920" y="1295280"/>
              <a:ext cx="3809880" cy="3733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57600" y="1219320"/>
              <a:ext cx="1872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The 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95480" y="2286000"/>
              <a:ext cx="327636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Surv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Cens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Administr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Remotely Sen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72200" y="1447920"/>
            <a:ext cx="3276720" cy="3312360"/>
            <a:chOff x="6172200" y="1447920"/>
            <a:chExt cx="3276720" cy="3312360"/>
          </a:xfrm>
        </p:grpSpPr>
        <p:sp>
          <p:nvSpPr>
            <p:cNvPr id="505" name=""/>
            <p:cNvSpPr/>
            <p:nvPr/>
          </p:nvSpPr>
          <p:spPr>
            <a:xfrm>
              <a:off x="6299640" y="1447920"/>
              <a:ext cx="23281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6172200" y="2090880"/>
              <a:ext cx="3276720" cy="2669400"/>
              <a:chOff x="6172200" y="2090880"/>
              <a:chExt cx="3276720" cy="2669400"/>
            </a:xfrm>
          </p:grpSpPr>
          <p:sp>
            <p:nvSpPr>
              <p:cNvPr id="507" name=""/>
              <p:cNvSpPr/>
              <p:nvPr/>
            </p:nvSpPr>
            <p:spPr>
              <a:xfrm>
                <a:off x="6477120" y="2090880"/>
                <a:ext cx="2971800" cy="266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Public Policy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Efficient Marke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Inves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48520" y="2438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324480" y="3200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172200" y="3886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2013120" y="4876920"/>
            <a:ext cx="4875120" cy="1539720"/>
            <a:chOff x="2013120" y="4876920"/>
            <a:chExt cx="4875120" cy="1539720"/>
          </a:xfrm>
        </p:grpSpPr>
        <p:sp>
          <p:nvSpPr>
            <p:cNvPr id="512" name=""/>
            <p:cNvSpPr/>
            <p:nvPr/>
          </p:nvSpPr>
          <p:spPr>
            <a:xfrm>
              <a:off x="3363120" y="5896080"/>
              <a:ext cx="203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013120" y="4876920"/>
              <a:ext cx="4875120" cy="985680"/>
              <a:chOff x="2013120" y="4876920"/>
              <a:chExt cx="4875120" cy="985680"/>
            </a:xfrm>
          </p:grpSpPr>
          <p:sp>
            <p:nvSpPr>
              <p:cNvPr id="514" name=""/>
              <p:cNvSpPr/>
              <p:nvPr/>
            </p:nvSpPr>
            <p:spPr>
              <a:xfrm>
                <a:off x="2013120" y="5159520"/>
                <a:ext cx="175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3300"/>
                    </a:solidFill>
                    <a:latin typeface="Comic Sans MS"/>
                  </a:rPr>
                  <a:t>Season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92960" y="5342040"/>
                <a:ext cx="144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3300"/>
                    </a:solidFill>
                    <a:latin typeface="Comic Sans MS"/>
                  </a:rPr>
                  <a:t>Annu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270400" y="5149800"/>
                <a:ext cx="161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3300"/>
                    </a:solidFill>
                    <a:latin typeface="Comic Sans MS"/>
                  </a:rPr>
                  <a:t>Periodi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19360" y="5257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2895120" y="487692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86400" y="4876920"/>
                <a:ext cx="4572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76320" y="1544760"/>
            <a:ext cx="2590200" cy="2745720"/>
            <a:chOff x="76320" y="1544760"/>
            <a:chExt cx="2590200" cy="2745720"/>
          </a:xfrm>
        </p:grpSpPr>
        <p:sp>
          <p:nvSpPr>
            <p:cNvPr id="521" name=""/>
            <p:cNvSpPr/>
            <p:nvPr/>
          </p:nvSpPr>
          <p:spPr>
            <a:xfrm>
              <a:off x="140400" y="1544760"/>
              <a:ext cx="1212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Sco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6320" y="2382480"/>
              <a:ext cx="2590200" cy="1908000"/>
              <a:chOff x="76320" y="2382480"/>
              <a:chExt cx="2590200" cy="1908000"/>
            </a:xfrm>
          </p:grpSpPr>
          <p:sp>
            <p:nvSpPr>
              <p:cNvPr id="523" name=""/>
              <p:cNvSpPr/>
              <p:nvPr/>
            </p:nvSpPr>
            <p:spPr>
              <a:xfrm>
                <a:off x="76320" y="2382480"/>
                <a:ext cx="2334960" cy="19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Internat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Nat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3067920"/>
                <a:ext cx="83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18960" y="3601440"/>
                <a:ext cx="13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066680" y="4058640"/>
                <a:ext cx="15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209680" y="26107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0" y="838080"/>
            <a:ext cx="9144000" cy="152640"/>
            <a:chOff x="0" y="838080"/>
            <a:chExt cx="9144000" cy="152640"/>
          </a:xfrm>
        </p:grpSpPr>
        <p:sp>
          <p:nvSpPr>
            <p:cNvPr id="529" name="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m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om Agricultural to Rural Development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national Standards and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ral Poverty and Hu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vironmental Sustain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Beginning Keyno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ricultural Statisticians way behind—busy fine tuning sample frames and lost in micro detai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od Indicators are Hard to Fin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ilemm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everything that can be counted, cou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everything that counts can be cou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Einst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Issues Discussed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rm household is focal point how policy affects farm production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bout non farm households—do they not count in policy decis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e there not similar issues affecting non farm househol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Issues Discuss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come of farm households is import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bout income of school teacher households, hired worker househol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166176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icult to measure labor input of farm operator—family labo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, how does this differ from measuring labor input of butcher, baker, candlestick mak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ly of labor reflects the nature of households supplying i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course it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ion—health—access to transportation--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13520" y="838080"/>
            <a:ext cx="40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Issues Discu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11:40Z</dcterms:created>
  <dc:creator>decuser</dc:creator>
  <dc:description/>
  <dc:language>en-US</dc:language>
  <cp:lastModifiedBy>CoviRo</cp:lastModifiedBy>
  <dcterms:modified xsi:type="dcterms:W3CDTF">2005-03-02T19:11:36Z</dcterms:modified>
  <cp:revision>14</cp:revision>
  <dc:subject/>
  <dc:title>Conference Wrap-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881216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Key Notes</vt:lpwstr>
  </property>
  <property fmtid="{D5CDD505-2E9C-101B-9397-08002B2CF9AE}" pid="6" name="_ReviewingToolsShownOnce">
    <vt:lpwstr/>
  </property>
</Properties>
</file>