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95023-EBD3-48E2-9DEB-EE811EB97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160F-A90C-44A3-BFDC-70D5DD3E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EE72D-6A7B-4DCF-95E1-785EE5539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F913-28E9-4F63-A8F7-9C3A9301B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64744-412D-4247-94E4-B4F5E12F5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A69EA-E9F9-436A-977D-4C3F1EEA9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ABC24-265B-4106-ACCC-07CDC8C17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E24D5-BC1C-4572-89A6-89CB92252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B884A-EFD7-4DCE-9843-00BF82983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3F50E-012C-4893-AFB5-EE7A64331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C3999-2A0F-4DFA-82EC-C4AB040B5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27E9A-F33D-4886-A098-B631C2AD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D22B8-49CB-4DD2-8611-07D392B7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FB1F0-C64A-4A5A-8940-FD8B4C51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3EFBD-F51A-4B7A-B563-874AEC12B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0FD9A-3A41-43E9-ADFF-2DBA50088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F608B-5D32-4BCD-B91A-8B22453A1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8CF2-A2E7-4446-94DB-81F0CC79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CC30-F040-4423-9FF7-52C162FB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A34C-E695-4673-8238-EB51389F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89A1C-A75D-4215-827D-AD84F416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54D4-D5C0-41D5-9453-A235C721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4711-2990-48DB-ADAA-7C5FF4512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E4E4-354C-4DCE-A961-7DAC4BFA1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1E8D-997F-4F26-A293-CFCA697126B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3971-2F15-4E91-9D13-003ECFCB831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000" y="765000"/>
            <a:ext cx="7559640" cy="561672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A new Approach to Improving Sample Design for Crop Forecast and Post – Harvest Estimates in Zambia”</a:t>
            </a:r>
            <a:endParaRPr b="0" lang="en-US" sz="32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ntributed Paper Session Presented at the International Conference on Agricultural Statistics (ICAS  III), Westin Regina Hotel, Cancun, Q.R. Mexico</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nd-4th November 2004</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hn Kalumbi</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puty Director – Agriculture &amp; Environment Division</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entral Statistical Office (CSO)</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usaka, Zambia</a:t>
            </a:r>
            <a:endParaRPr b="0" lang="en-US" sz="2400" spc="-1" strike="noStrike">
              <a:solidFill>
                <a:srgbClr val="ffffff"/>
              </a:solidFill>
              <a:latin typeface="Verdan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4000" spc="-1" strike="noStrike">
                <a:solidFill>
                  <a:srgbClr val="ccecff"/>
                </a:solidFill>
                <a:latin typeface="Arial"/>
              </a:rPr>
              <a:t>Stratification of households by number of livestock or poultry raised criteria</a:t>
            </a:r>
            <a:endParaRPr b="0" lang="en-US" sz="4000" spc="-1" strike="noStrike">
              <a:solidFill>
                <a:srgbClr val="ccecff"/>
              </a:solidFill>
              <a:latin typeface="Arial"/>
            </a:endParaRPr>
          </a:p>
        </p:txBody>
      </p:sp>
      <p:sp>
        <p:nvSpPr>
          <p:cNvPr id="173"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ed on the number of livestock or poultry raised, households are added to category C if the following minimum number are being raised:</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tle – 5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gs – 2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oats – 3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ultry – 50</a:t>
            </a:r>
            <a:endParaRPr b="0" lang="en-US" sz="3200" spc="-1" strike="noStrike">
              <a:solidFill>
                <a:srgbClr val="ffffff"/>
              </a:solidFill>
              <a:latin typeface="Verdan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ification of households by growing of special crops criteria</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useholds may be added to category B and C based on the special crops treatment criteria</a:t>
            </a:r>
            <a:endParaRPr b="0" lang="en-US" sz="26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 sample SEA only has 1 or 2 households with any of these special crops, these households will be asigned to category C ( in case they do not qualify based on land area and animals)</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 sample SEA has only 3 to 5 households with any of these special crops, such households are assigned to category B (if they were previously assigned to category A based on land area and livestock)</a:t>
            </a:r>
            <a:endParaRPr b="0" lang="en-US" sz="2400" spc="-1" strike="noStrike">
              <a:solidFill>
                <a:srgbClr val="ffffff"/>
              </a:solidFill>
              <a:latin typeface="Verdan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V. SAMPLE HOUSEHOLDS SELECTION IN SAMPLE SEAs</a:t>
            </a:r>
            <a:endParaRPr b="0" lang="en-US" sz="4000" spc="-1" strike="noStrike">
              <a:solidFill>
                <a:srgbClr val="ccecff"/>
              </a:solidFill>
              <a:latin typeface="Arial"/>
            </a:endParaRPr>
          </a:p>
        </p:txBody>
      </p:sp>
      <p:sp>
        <p:nvSpPr>
          <p:cNvPr id="177" name="PlaceHolder 2"/>
          <p:cNvSpPr>
            <a:spLocks noGrp="1"/>
          </p:cNvSpPr>
          <p:nvPr>
            <p:ph/>
          </p:nvPr>
        </p:nvSpPr>
        <p:spPr>
          <a:xfrm>
            <a:off x="457200" y="1557360"/>
            <a:ext cx="8229600" cy="499752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otal sample size for each SEA – 20 households</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istribution of sample households to each category:</a:t>
            </a:r>
            <a:endParaRPr b="0" lang="en-US" sz="19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C – 10</a:t>
            </a:r>
            <a:endParaRPr b="0" lang="en-US" sz="17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B – 5</a:t>
            </a:r>
            <a:endParaRPr b="0" lang="en-US" sz="17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A – 5</a:t>
            </a:r>
            <a:endParaRPr b="0" lang="en-US" sz="17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f there are shortfall in category C, the difference from 20 will be allocated equally to categories B and A or category B will have one more sample households than category A, if the difference cannot be allocated equally.</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Where there is no household in category C and less than 10 in category B, the difference from twenty will be met from category A.</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f all listed households fall in category A, then all 20 sample households will come from category A.</a:t>
            </a:r>
            <a:endParaRPr b="0" lang="en-US" sz="1900" spc="-1" strike="noStrike">
              <a:solidFill>
                <a:srgbClr val="ffffff"/>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lvl="1" marL="743040" indent="-285840">
              <a:lnSpc>
                <a:spcPct val="8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r each category in the sample SEA, selection of sample households is done using Linear Systematic Sampling (LSS) Procedure with random start.</a:t>
            </a:r>
            <a:endParaRPr b="0" lang="en-US" sz="1900" spc="-1" strike="noStrike">
              <a:solidFill>
                <a:srgbClr val="ffffff"/>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V.  ESTIMATION</a:t>
            </a: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imating for the total involves the weighing of variables before additions are made at district, provincial and national levels. The basic sampling weight is obtained as inverse of the probabilities of selecting the SEAs and households by category siz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formula for estimating the survey estimates of a total is as follows:</a:t>
            </a:r>
            <a:endParaRPr b="0" lang="en-US" sz="20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Y =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W</a:t>
            </a:r>
            <a:r>
              <a:rPr b="0" lang="es-ES" sz="1800" spc="-1" strike="noStrike">
                <a:solidFill>
                  <a:srgbClr val="ffffff"/>
                </a:solidFill>
                <a:latin typeface="Symbol"/>
                <a:ea typeface="Symbol"/>
              </a:rPr>
              <a:t></a:t>
            </a:r>
            <a:r>
              <a:rPr b="0" lang="en-US" sz="1800" spc="-1" strike="noStrike" baseline="-25000">
                <a:solidFill>
                  <a:srgbClr val="ffffff"/>
                </a:solidFill>
                <a:latin typeface="Verdana"/>
              </a:rPr>
              <a:t>shi </a:t>
            </a:r>
            <a:r>
              <a:rPr b="0" lang="en-US" sz="1800" spc="-1" strike="noStrike">
                <a:solidFill>
                  <a:srgbClr val="ffffff"/>
                </a:solidFill>
                <a:latin typeface="Verdana"/>
              </a:rPr>
              <a:t> Y</a:t>
            </a:r>
            <a:r>
              <a:rPr b="0" lang="en-US" sz="1800" spc="-1" strike="noStrike" baseline="-25000">
                <a:solidFill>
                  <a:srgbClr val="ffffff"/>
                </a:solidFill>
                <a:latin typeface="Verdana"/>
              </a:rPr>
              <a:t>shij</a:t>
            </a:r>
            <a:endParaRPr b="0" lang="en-US" sz="18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1000" spc="-1" strike="noStrike">
                <a:solidFill>
                  <a:srgbClr val="ffffff"/>
                </a:solidFill>
                <a:latin typeface="Verdana"/>
              </a:rPr>
              <a:t>h    i    s     j</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a:t>
            </a:r>
            <a:r>
              <a:rPr b="0" lang="en-US" sz="1800" spc="-1" strike="noStrike" baseline="-25000">
                <a:solidFill>
                  <a:srgbClr val="ffffff"/>
                </a:solidFill>
                <a:latin typeface="Verdana"/>
              </a:rPr>
              <a:t>shij </a:t>
            </a:r>
            <a:r>
              <a:rPr b="0" lang="en-US" sz="1800" spc="-1" strike="noStrike">
                <a:solidFill>
                  <a:srgbClr val="ffffff"/>
                </a:solidFill>
                <a:latin typeface="Verdana"/>
              </a:rPr>
              <a:t>  = </a:t>
            </a:r>
            <a:r>
              <a:rPr b="0" lang="en-US" sz="1800" spc="-1" strike="noStrike">
                <a:solidFill>
                  <a:srgbClr val="ffffff"/>
                </a:solidFill>
                <a:latin typeface="Verdana"/>
              </a:rPr>
              <a:t>	</a:t>
            </a:r>
            <a:r>
              <a:rPr b="0" lang="en-US" sz="1800" spc="-1" strike="noStrike">
                <a:solidFill>
                  <a:srgbClr val="ffffff"/>
                </a:solidFill>
                <a:latin typeface="Verdana"/>
              </a:rPr>
              <a:t>value of variable y for the j-th sample household in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ategory s within the i-th sample SEA in district h</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t>
            </a:r>
            <a:r>
              <a:rPr b="0" lang="es-ES" sz="1800" spc="-1" strike="noStrike">
                <a:solidFill>
                  <a:srgbClr val="ffffff"/>
                </a:solidFill>
                <a:latin typeface="Symbol"/>
                <a:ea typeface="Symbol"/>
              </a:rPr>
              <a:t></a:t>
            </a:r>
            <a:r>
              <a:rPr b="0" lang="en-US" sz="1800" spc="-1" strike="noStrike" baseline="-25000">
                <a:solidFill>
                  <a:srgbClr val="ffffff"/>
                </a:solidFill>
                <a:latin typeface="Verdana"/>
              </a:rPr>
              <a:t>shi</a:t>
            </a:r>
            <a:r>
              <a:rPr b="0" lang="en-US" sz="1800" spc="-1" strike="noStrike">
                <a:solidFill>
                  <a:srgbClr val="ffffff"/>
                </a:solidFill>
                <a:latin typeface="Verdana"/>
              </a:rPr>
              <a:t> =  </a:t>
            </a:r>
            <a:r>
              <a:rPr b="0" lang="en-US" sz="1800" spc="-1" strike="noStrike">
                <a:solidFill>
                  <a:srgbClr val="ffffff"/>
                </a:solidFill>
                <a:latin typeface="Verdana"/>
              </a:rPr>
              <a:t>	</a:t>
            </a:r>
            <a:r>
              <a:rPr b="0" lang="en-US" sz="1800" spc="-1" strike="noStrike">
                <a:solidFill>
                  <a:srgbClr val="ffffff"/>
                </a:solidFill>
                <a:latin typeface="Verdana"/>
              </a:rPr>
              <a:t>basic weight for the sample households in category s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within the i-th  sample SEA in district h.</a:t>
            </a:r>
            <a:endParaRPr b="0" lang="en-US" sz="1800" spc="-1" strike="noStrike">
              <a:solidFill>
                <a:srgbClr val="ffffff"/>
              </a:solidFill>
              <a:latin typeface="Verdan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txBox="1"/>
          <p:nvPr/>
        </p:nvSpPr>
        <p:spPr>
          <a:xfrm>
            <a:off x="1187280" y="2492280"/>
            <a:ext cx="6840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ND OF PRESENTATIO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80"/>
                                        </p:tgtEl>
                                        <p:attrNameLst>
                                          <p:attrName>style.visibility</p:attrName>
                                        </p:attrNameLst>
                                      </p:cBhvr>
                                      <p:to>
                                        <p:strVal val="visible"/>
                                      </p:to>
                                    </p:set>
                                    <p:anim calcmode="lin" valueType="num">
                                      <p:cBhvr additive="base">
                                        <p:cTn id="7" dur="500" fill="hold"/>
                                        <p:tgtEl>
                                          <p:spTgt spid="180"/>
                                        </p:tgtEl>
                                        <p:attrNameLst>
                                          <p:attrName>ppt_x</p:attrName>
                                        </p:attrNameLst>
                                      </p:cBhvr>
                                      <p:tavLst>
                                        <p:tav tm="0">
                                          <p:val>
                                            <p:strVal val="#ppt_x"/>
                                          </p:val>
                                        </p:tav>
                                        <p:tav tm="100000">
                                          <p:val>
                                            <p:strVal val="#ppt_x"/>
                                          </p:val>
                                        </p:tav>
                                      </p:tavLst>
                                    </p:anim>
                                    <p:anim calcmode="lin" valueType="num">
                                      <p:cBhvr additive="base">
                                        <p:cTn id="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277920"/>
            <a:ext cx="8964720" cy="1139760"/>
          </a:xfrm>
          <a:prstGeom prst="rect">
            <a:avLst/>
          </a:prstGeom>
          <a:noFill/>
          <a:ln w="0">
            <a:noFill/>
          </a:ln>
        </p:spPr>
        <p:txBody>
          <a:bodyPr lIns="90000" rIns="90000" tIns="46800" bIns="46800" anchor="ctr" anchorCtr="1">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Arial"/>
              </a:rPr>
              <a:t>I. INTRODUCTION AND INSTITUTIONAL ARRANGEMENT</a:t>
            </a:r>
            <a:endParaRPr b="0" lang="en-US" sz="38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duction of Agricultural Statistics</a:t>
            </a:r>
            <a:endParaRPr b="0" lang="en-US" sz="28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of the CSO (Agric. &amp; Environment Division)</a:t>
            </a:r>
            <a:endParaRPr b="0" lang="en-US" sz="24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ion of data is done in conjunction with the Ministry of Agriculture and Cooperatives (MACO) through the Early Warning and Data Base Management Unit.</a:t>
            </a:r>
            <a:endParaRPr b="0" lang="en-US" sz="2400" spc="-1" strike="noStrike">
              <a:solidFill>
                <a:srgbClr val="ffffff"/>
              </a:solidFill>
              <a:latin typeface="Verdan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Agriculture &amp; Environment Division</a:t>
            </a:r>
            <a:endParaRPr b="0" lang="en-US" sz="2800" spc="-1" strike="noStrike">
              <a:solidFill>
                <a:srgbClr val="ffffff"/>
              </a:solidFill>
              <a:latin typeface="Verdan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riculture Branch</a:t>
            </a:r>
            <a:endParaRPr b="0" lang="en-US" sz="28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mall &amp; Medium Scale Farm Section</a:t>
            </a:r>
            <a:endParaRPr b="0" lang="en-US" sz="24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Scale Farm Section</a:t>
            </a:r>
            <a:r>
              <a:rPr b="0" lang="es-ES" sz="2400" spc="-1" strike="noStrike">
                <a:solidFill>
                  <a:srgbClr val="ffffff"/>
                </a:solidFill>
                <a:latin typeface="Verdana"/>
              </a:rPr>
              <a:t> </a:t>
            </a:r>
            <a:endParaRPr b="0" lang="en-US" sz="2400" spc="-1" strike="noStrike">
              <a:solidFill>
                <a:srgbClr val="ffffff"/>
              </a:solidFill>
              <a:latin typeface="Verdan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259920"/>
            <a:ext cx="8229600" cy="5543640"/>
          </a:xfrm>
          <a:prstGeom prst="rect">
            <a:avLst/>
          </a:prstGeom>
          <a:noFill/>
          <a:ln w="0">
            <a:noFill/>
          </a:ln>
        </p:spPr>
        <p:txBody>
          <a:bodyPr lIns="90000" rIns="90000" tIns="46800" bIns="46800" anchor="t">
            <a:normAutofit fontScale="89000"/>
          </a:bodyPr>
          <a:p>
            <a:pPr marL="305280" indent="-305280">
              <a:lnSpc>
                <a:spcPct val="8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Environment Branch</a:t>
            </a:r>
            <a:endParaRPr b="0" lang="en-US" sz="27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Land degrada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ir pollu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Water Sanita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orestry</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Wildlife</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isheries</a:t>
            </a:r>
            <a:endParaRPr b="0" lang="en-US" sz="2300" spc="-1" strike="noStrike">
              <a:solidFill>
                <a:srgbClr val="ffffff"/>
              </a:solidFill>
              <a:latin typeface="Verdana"/>
            </a:endParaRPr>
          </a:p>
          <a:p>
            <a:pPr marL="3052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052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rPr>
              <a:t>Evolution of Agricultural Surveys in Zambia</a:t>
            </a:r>
            <a:endParaRPr b="0" lang="en-US" sz="27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1970/71 Census of Agriculture marked the beginning of annual agricultural surveys in Zambia.</a:t>
            </a:r>
            <a:endParaRPr b="0" lang="en-US" sz="28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Crop Forecast Survey (CFS)</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Post Harvest Survey (PHS)</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rea Measurement and Crop-Cutting Survey (AMCC) – has since been discontinued</a:t>
            </a:r>
            <a:endParaRPr b="0" lang="en-US" sz="2300" spc="-1" strike="noStrike">
              <a:solidFill>
                <a:srgbClr val="ffffff"/>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I. METHODOLOGY US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vey sampling for both CFS and PHS for Small &amp; Medium Scale agricultural holding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enumeration for Large-Scale Agric. Holdings</a:t>
            </a:r>
            <a:endParaRPr b="0" lang="en-US" sz="24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Sample Desig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tographic census field operation defines Census Supervisory Areas (CSAs), which are further subdivided into Standard Enumeration Areas (SE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SEA is the unit of data collection point at district level</a:t>
            </a:r>
            <a:endParaRPr b="0" lang="en-US" sz="2400" spc="-1" strike="noStrike">
              <a:solidFill>
                <a:srgbClr val="ffffff"/>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revious CFS/PHS Sample Design</a:t>
            </a:r>
            <a:endParaRPr b="0" lang="en-US" sz="4000" spc="-1" strike="noStrike">
              <a:solidFill>
                <a:srgbClr val="ccecff"/>
              </a:solidFill>
              <a:latin typeface="Arial"/>
            </a:endParaRPr>
          </a:p>
        </p:txBody>
      </p:sp>
      <p:sp>
        <p:nvSpPr>
          <p:cNvPr id="163" name="PlaceHolder 2"/>
          <p:cNvSpPr>
            <a:spLocks noGrp="1"/>
          </p:cNvSpPr>
          <p:nvPr>
            <p:ph/>
          </p:nvPr>
        </p:nvSpPr>
        <p:spPr>
          <a:xfrm>
            <a:off x="250560" y="1484280"/>
            <a:ext cx="8713800" cy="5068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Based on 1990 census dat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nly rural districts were covered</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 stratified three stage sample design was used</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SAs Primary Sampling Units (PSUs) selected at first stage with PP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As selected at second stage, with one SEA selected with PPS within each sample CSA</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e of size in both cases is number households as listed in the 1990 census of population and Housing.</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total sample of 405 SEAs was drawn out of 9,000 rural SEA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o provision of replacement of both sample SEAs and sample household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ample households were selected at third stage from the listing stratified by farm size category using Linear Systematic Sampling (LSS) procedure with random start.</a:t>
            </a:r>
            <a:endParaRPr b="0" lang="en-US" sz="2200" spc="-1" strike="noStrike">
              <a:solidFill>
                <a:srgbClr val="ffffff"/>
              </a:solidFill>
              <a:latin typeface="Verdan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New CFS/PHS Sample Design</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ased on 2000 census data</a:t>
            </a:r>
            <a:endParaRPr b="0" lang="en-US" sz="2400" spc="-1" strike="noStrike">
              <a:solidFill>
                <a:srgbClr val="ffffff"/>
              </a:solidFill>
              <a:latin typeface="Verdana"/>
            </a:endParaRPr>
          </a:p>
          <a:p>
            <a:pPr marL="329040" indent="-329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tratified two-stage sample design is now being used</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As are the Primary Sampling Units (PSUs) selected at first stage with PPS</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of size is number of agricultural households as listed in the 2000 census of population and housing</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total sample of 410 SEAs were drawn out of the 12,788 agricultural SEAs as defined for the 2000 Zambia Census</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ple households are selected at the second stage from the listing stratified by farm size category (land area, number of animals, special crops criteria)</a:t>
            </a:r>
            <a:endParaRPr b="0" lang="en-US" sz="2400" spc="-1" strike="noStrike">
              <a:solidFill>
                <a:srgbClr val="ffffff"/>
              </a:solidFill>
              <a:latin typeface="Verdan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Other Features of New CFS /PHS Sample Design</a:t>
            </a:r>
            <a:endParaRPr b="0" lang="en-US" sz="4000" spc="-1" strike="noStrike">
              <a:solidFill>
                <a:srgbClr val="ccecff"/>
              </a:solidFill>
              <a:latin typeface="Arial"/>
            </a:endParaRPr>
          </a:p>
        </p:txBody>
      </p:sp>
      <p:sp>
        <p:nvSpPr>
          <p:cNvPr id="167" name="PlaceHolder 2"/>
          <p:cNvSpPr>
            <a:spLocks noGrp="1"/>
          </p:cNvSpPr>
          <p:nvPr>
            <p:ph/>
          </p:nvPr>
        </p:nvSpPr>
        <p:spPr>
          <a:xfrm>
            <a:off x="457200" y="1557000"/>
            <a:ext cx="8229600" cy="4924440"/>
          </a:xfrm>
          <a:prstGeom prst="rect">
            <a:avLst/>
          </a:prstGeom>
          <a:noFill/>
          <a:ln w="0">
            <a:noFill/>
          </a:ln>
        </p:spPr>
        <p:txBody>
          <a:bodyPr lIns="90000" rIns="90000" tIns="46800" bIns="46800" anchor="t">
            <a:normAutofit/>
          </a:bodyPr>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Includes a small fraction (5%) of urban SEAs, i.e, urban SEAs in which 70 percent or more households are agricultural according to the 2000 Zambia census data (about 586 urban SEAs in total)</a:t>
            </a:r>
            <a:endParaRPr b="0" lang="en-US" sz="2300" spc="-1" strike="noStrike">
              <a:solidFill>
                <a:srgbClr val="ffffff"/>
              </a:solidFill>
              <a:latin typeface="Verdana"/>
            </a:endParaRPr>
          </a:p>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Has provision for the replacement of any sample SEAs that may not be enumerated for one reason or another in order to maintain the effective sample size.</a:t>
            </a:r>
            <a:endParaRPr b="0" lang="en-US" sz="2300" spc="-1" strike="noStrike">
              <a:solidFill>
                <a:srgbClr val="ffffff"/>
              </a:solidFill>
              <a:latin typeface="Verdana"/>
            </a:endParaRPr>
          </a:p>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ight (8) crops were identified to receive special treatment at second sampling stage in order to improve the precision of survey estimates of crop area and production  (i.e., these are crops with limited geographical concentration whose CVs previously were relatively high due to the smaller number of observations – sorghum, rice, cotton, burley tobacco, Virginia tobacco, sunflower, soybeans, and paprika)</a:t>
            </a:r>
            <a:endParaRPr b="0" lang="en-US" sz="2300" spc="-1" strike="noStrike">
              <a:solidFill>
                <a:srgbClr val="ffffff"/>
              </a:solidFill>
              <a:latin typeface="Verdan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II.</a:t>
            </a:r>
            <a:r>
              <a:rPr b="0" lang="en-US" sz="4000" spc="-1" strike="noStrike">
                <a:solidFill>
                  <a:srgbClr val="ccecff"/>
                </a:solidFill>
                <a:latin typeface="Arial"/>
              </a:rPr>
              <a:t> </a:t>
            </a:r>
            <a:r>
              <a:rPr b="1" lang="en-US" sz="4000" spc="-1" strike="noStrike">
                <a:solidFill>
                  <a:srgbClr val="ccecff"/>
                </a:solidFill>
                <a:latin typeface="Arial"/>
              </a:rPr>
              <a:t>STRATIFICATION OF HOUSEHOLD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Previous sample design</a:t>
            </a:r>
            <a:endParaRPr b="0" lang="en-US" sz="2400" spc="-1" strike="noStrike">
              <a:solidFill>
                <a:srgbClr val="ffffff"/>
              </a:solidFill>
              <a:latin typeface="Verdana"/>
            </a:endParaRPr>
          </a:p>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d households listed in sample SEAs by two farm size categories:</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tegory A: 0 – 4.99 hectares</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tegory B: 5.0 – 19.99 hectares</a:t>
            </a:r>
            <a:endParaRPr b="0" lang="en-US" sz="2400" spc="-1" strike="noStrike">
              <a:solidFill>
                <a:srgbClr val="ffffff"/>
              </a:solidFill>
              <a:latin typeface="Verdan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ew sample design</a:t>
            </a:r>
            <a:endParaRPr b="0" lang="en-US" sz="2400" spc="-1" strike="noStrike">
              <a:solidFill>
                <a:srgbClr val="ffffff"/>
              </a:solidFill>
              <a:latin typeface="Verdana"/>
            </a:endParaRPr>
          </a:p>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atification of households listed in sample SEAs is based on</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rm size (land area) category</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umber of livestock or poultry raised criteria</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owing of special crops criteria</a:t>
            </a:r>
            <a:endParaRPr b="0" lang="en-US" sz="2400" spc="-1" strike="noStrike">
              <a:solidFill>
                <a:srgbClr val="ffffff"/>
              </a:solidFill>
              <a:latin typeface="Verdan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ification of households by farm size (land area)</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A: 0 – 1.99 hecta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B: 2.00 – 4.99 hecta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C: 5.00 – 19.99 hectar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 both the previous and new sample design, households with farm size category of 20 or more hectares were/are included in the special frame for large-scale farmers and are enumerated separately.</a:t>
            </a:r>
            <a:endParaRPr b="0" lang="en-US" sz="2800" spc="-1" strike="noStrike">
              <a:solidFill>
                <a:srgbClr val="ffffff"/>
              </a:solidFill>
              <a:latin typeface="Verdan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3:10:00Z</dcterms:created>
  <dc:creator>ximena</dc:creator>
  <dc:description/>
  <dc:language>en-US</dc:language>
  <cp:lastModifiedBy>ximena</cp:lastModifiedBy>
  <dcterms:modified xsi:type="dcterms:W3CDTF">2004-11-02T20:21:57Z</dcterms:modified>
  <cp:revision>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257998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11:30 room 3</vt:lpwstr>
  </property>
</Properties>
</file>